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3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2.png" ContentType="image/png"/>
  <Override PartName="/ppt/media/image30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48E3-396D-461C-ACDA-A6584D78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AB45B-8333-4EBF-8E5F-E8AB596C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F8067-BB25-4840-8BE3-2E7CAD48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DF90B-C26F-4153-B5C2-A9546754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EDA1-9A1D-485C-BD85-0E417102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6852-EF16-461E-80EA-BC8CFD55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9905-444F-4A84-99C4-FE99A46E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6F8B-6D08-47EF-9560-8D1D9546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0D3B-3D8F-4BBA-AD13-EF935E54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7F52-D8B5-470A-8C24-117944BF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EDD4-386D-4B6D-937F-629A1E76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E4EA2-5461-43AA-BA5C-5DB70A26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0474-0580-4FDC-BAD2-4E432537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10DA-ABFD-4CE8-A2E4-BEB2B4DC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6B01-5FB2-4B8C-A8EA-1AA8E827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7FE8-6ED8-4FB4-9328-4D160DFC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A09C-E9B9-4B88-AB4E-EF5EA21D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35AEF-9358-4F24-96A6-0784822B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54571-2BB6-4953-9971-09FF8E4D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1E70A-3A46-4A59-962B-769F03B1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742B2-3921-488E-AC78-14C95A78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EF4B4-4AAF-4A56-82E7-2B2DC2A1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104C8-F2C4-414D-8920-A447C702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74EA8-88F4-43F6-AB93-06BF2630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44CD-9007-4E32-8A84-2ECB916396A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65EF-7B33-4CD9-AD30-39DE0E271D6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4869000"/>
            <a:ext cx="2160360" cy="1512720"/>
          </a:xfrm>
          <a:prstGeom prst="rect">
            <a:avLst/>
          </a:prstGeom>
          <a:ln w="66600">
            <a:solidFill>
              <a:srgbClr val="00ffff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659640" y="404640"/>
            <a:ext cx="2259000" cy="1494000"/>
          </a:xfrm>
          <a:prstGeom prst="rect">
            <a:avLst/>
          </a:prstGeom>
          <a:ln w="66600">
            <a:solidFill>
              <a:srgbClr val="00ffff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588000" y="5013360"/>
            <a:ext cx="2400480" cy="1458720"/>
          </a:xfrm>
          <a:prstGeom prst="rect">
            <a:avLst/>
          </a:prstGeom>
          <a:ln w="66600">
            <a:solidFill>
              <a:srgbClr val="00ffff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1916280"/>
            <a:ext cx="77738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Monotype Corsiva"/>
              </a:rPr>
              <a:t>История развития пожарного дела</a:t>
            </a:r>
            <a:br>
              <a:rPr sz="6000"/>
            </a:br>
            <a:r>
              <a:rPr b="1" lang="en-US" sz="6000" spc="-1" strike="noStrike">
                <a:solidFill>
                  <a:srgbClr val="ffffcc"/>
                </a:solidFill>
                <a:latin typeface="Monotype Corsiva"/>
              </a:rPr>
              <a:t>в России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324000" y="260280"/>
            <a:ext cx="2089080" cy="1622520"/>
          </a:xfrm>
          <a:prstGeom prst="rect">
            <a:avLst/>
          </a:prstGeom>
          <a:ln w="6660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амоходный пожарный насос «Магирус», Германия, 1904 г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480360" cy="4711680"/>
          </a:xfrm>
          <a:prstGeom prst="rect">
            <a:avLst/>
          </a:prstGeom>
          <a:ln w="6660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Первые пожарные машины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4211640" cy="3159000"/>
          </a:xfrm>
          <a:prstGeom prst="rect">
            <a:avLst/>
          </a:prstGeom>
          <a:ln w="104760">
            <a:solidFill>
              <a:srgbClr val="80808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4932360" y="621648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вая в мире моторизированная пожарная маш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4005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на из первых пожарных маш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Эволюция пожарных машин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095640" cy="2063880"/>
          </a:xfrm>
          <a:prstGeom prst="rect">
            <a:avLst/>
          </a:prstGeom>
          <a:ln w="66600">
            <a:solidFill>
              <a:srgbClr val="993366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492360" y="2997360"/>
            <a:ext cx="2808360" cy="1801800"/>
          </a:xfrm>
          <a:prstGeom prst="rect">
            <a:avLst/>
          </a:prstGeom>
          <a:ln w="66600">
            <a:solidFill>
              <a:srgbClr val="993366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372360" y="5013360"/>
            <a:ext cx="2592360" cy="1536840"/>
          </a:xfrm>
          <a:prstGeom prst="rect">
            <a:avLst/>
          </a:prstGeom>
          <a:ln w="66600">
            <a:solidFill>
              <a:srgbClr val="993366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804000" y="981000"/>
            <a:ext cx="2075040" cy="2232000"/>
          </a:xfrm>
          <a:prstGeom prst="rect">
            <a:avLst/>
          </a:prstGeom>
          <a:ln w="66600">
            <a:solidFill>
              <a:srgbClr val="993366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6659640" y="3213000"/>
            <a:ext cx="248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аромобильная поворотная лестница. Германия, начало XX ве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179280" y="5022720"/>
            <a:ext cx="3529080" cy="1575000"/>
          </a:xfrm>
          <a:prstGeom prst="rect">
            <a:avLst/>
          </a:prstGeom>
          <a:ln w="66600">
            <a:solidFill>
              <a:srgbClr val="993366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250920" y="407664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мобиль с поворотной лестницей «Магирус». Германия, 191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483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ожарная каланча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4987800" cy="4599000"/>
          </a:xfrm>
          <a:prstGeom prst="rect">
            <a:avLst/>
          </a:prstGeom>
          <a:ln w="66600">
            <a:solidFill>
              <a:srgbClr val="00ffff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56360" y="189000"/>
            <a:ext cx="2771640" cy="2076480"/>
          </a:xfrm>
          <a:prstGeom prst="rect">
            <a:avLst/>
          </a:prstGeom>
          <a:ln w="66600">
            <a:solidFill>
              <a:srgbClr val="33cccc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227640" y="2708280"/>
            <a:ext cx="2665440" cy="1959120"/>
          </a:xfrm>
          <a:prstGeom prst="rect">
            <a:avLst/>
          </a:prstGeom>
          <a:ln w="66600">
            <a:solidFill>
              <a:srgbClr val="33cccc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6300720" y="2276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ные повоз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227640" y="4946760"/>
            <a:ext cx="2737080" cy="1650960"/>
          </a:xfrm>
          <a:prstGeom prst="rect">
            <a:avLst/>
          </a:prstGeom>
          <a:ln w="6660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XIX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век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16360" y="3860640"/>
            <a:ext cx="4211640" cy="2718000"/>
          </a:xfrm>
          <a:prstGeom prst="rect">
            <a:avLst/>
          </a:prstGeom>
          <a:ln w="66600">
            <a:solidFill>
              <a:srgbClr val="339966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4321080" cy="2778120"/>
          </a:xfrm>
          <a:prstGeom prst="rect">
            <a:avLst/>
          </a:prstGeom>
          <a:ln w="66600">
            <a:solidFill>
              <a:srgbClr val="339966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796000" y="2492280"/>
            <a:ext cx="2736720" cy="1095480"/>
          </a:xfrm>
          <a:prstGeom prst="rect">
            <a:avLst/>
          </a:prstGeom>
          <a:ln w="66600">
            <a:solidFill>
              <a:srgbClr val="00808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796000" y="476280"/>
            <a:ext cx="2736720" cy="1008000"/>
          </a:xfrm>
          <a:prstGeom prst="rect">
            <a:avLst/>
          </a:prstGeom>
          <a:ln w="66600">
            <a:solidFill>
              <a:srgbClr val="00808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5292720" y="191628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1557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струменты для тушения пожаров: багор, лопата, вед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258920" y="4363920"/>
            <a:ext cx="1873080" cy="1873440"/>
          </a:xfrm>
          <a:prstGeom prst="rect">
            <a:avLst/>
          </a:prstGeom>
          <a:ln w="66600">
            <a:solidFill>
              <a:srgbClr val="0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езд пожарного обоза Пречистенской части. (Неизвестный художник XIX века.) 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Ручные  пожарные насосы - “водоливные трубы”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5040360" cy="3781440"/>
          </a:xfrm>
          <a:prstGeom prst="rect">
            <a:avLst/>
          </a:prstGeom>
          <a:ln w="66600">
            <a:solidFill>
              <a:srgbClr val="00008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5651640" y="1773360"/>
            <a:ext cx="3492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оливная труба изготавливалась из листовой меди или дерева, внутри которой двигался поршень. Длина трубы достигала 1 м и заканчивалась узким наконечником, через который струя воды могла подаваться на расстояние до 7 м. Вода в трубу заливалась сверху ведр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учной насос на конной тяге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47640" y="1446120"/>
            <a:ext cx="5616720" cy="4145040"/>
          </a:xfrm>
          <a:prstGeom prst="rect">
            <a:avLst/>
          </a:prstGeom>
          <a:ln w="6660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43280" y="1268280"/>
            <a:ext cx="45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Заливные пожарные трубы”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были снабжены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ожаными рукав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медными стволами (брандспойт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да в насос поступала из специальных коробов. Дальность действия водяной струи была около 10 м. Для обслуживания одной заливной пожарной трубы требовалось около 50 человек, из них 12 человек в две смены качали коромысло насоса, 8 - обслуживали выкидные рукава и ствол, а 30 - в одну или две “нитки” подносили к трубе воду ведрами. Позднее трубы стали снабжаться водой с помощью специальных перекачных насосов, а также бочек емкостью 240 л ил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00 л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190760" cy="4753080"/>
          </a:xfrm>
          <a:prstGeom prst="rect">
            <a:avLst/>
          </a:prstGeom>
          <a:ln w="66600">
            <a:solidFill>
              <a:srgbClr val="80008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826920" y="404640"/>
            <a:ext cx="748836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Заливные пожарные трубы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Английская паровая машина фабрики “Шанд-Мейсон”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1773360"/>
            <a:ext cx="295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1863 году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для Санкт-Петербургской пожарной команды была приобретена английская паровая машина фабрики “Шанд-Мейсон”. Производительность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аровых пожарных насос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евышала 1000 л/мин; водяная струя подавалась на расстояние 40 м и боле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50920" y="1700280"/>
            <a:ext cx="5122800" cy="3595680"/>
          </a:xfrm>
          <a:prstGeom prst="rect">
            <a:avLst/>
          </a:prstGeom>
          <a:ln w="6660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XX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век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826920" y="1413000"/>
            <a:ext cx="3456000" cy="2220840"/>
          </a:xfrm>
          <a:prstGeom prst="rect">
            <a:avLst/>
          </a:prstGeom>
          <a:ln w="66600">
            <a:solidFill>
              <a:srgbClr val="00808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3743280" cy="2224080"/>
          </a:xfrm>
          <a:prstGeom prst="rect">
            <a:avLst/>
          </a:prstGeom>
          <a:ln w="66600">
            <a:solidFill>
              <a:srgbClr val="00808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716360" y="1413000"/>
            <a:ext cx="3543480" cy="2209680"/>
          </a:xfrm>
          <a:prstGeom prst="rect">
            <a:avLst/>
          </a:prstGeom>
          <a:ln w="66600">
            <a:solidFill>
              <a:srgbClr val="00808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859280" y="4149720"/>
            <a:ext cx="3384720" cy="2139840"/>
          </a:xfrm>
          <a:prstGeom prst="rect">
            <a:avLst/>
          </a:prstGeom>
          <a:ln w="66600">
            <a:solidFill>
              <a:srgbClr val="0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15:39:01Z</dcterms:created>
  <dc:creator>-</dc:creator>
  <dc:description/>
  <dc:language>en-US</dc:language>
  <cp:lastModifiedBy>-</cp:lastModifiedBy>
  <dcterms:modified xsi:type="dcterms:W3CDTF">2009-01-03T14:51:20Z</dcterms:modified>
  <cp:revision>36</cp:revision>
  <dc:subject/>
  <dc:title>История развития пожарной техники  в России  в XVII-XIX веках</dc:title>
</cp:coreProperties>
</file>