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16DF-E1F7-4129-AA45-9E55459C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EA71-190C-438F-805C-74CDD7F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AC5F-3C30-4A38-9986-440AFAB9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9BD6-1825-48B8-AAAA-4BF3CBE3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C88-4B95-49C8-AF48-A70E046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39DF-3BAA-462E-82C4-4C761EC7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A4F3-6837-49C4-AC80-F308CD1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277-2474-4F48-A843-68C5100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20ED-C42E-42B9-ACD3-CDA173C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566E-565C-4400-9554-D3D51A63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A158-0442-459D-A18F-654A51C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27EB-F38B-42F8-AE36-8836360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361-8381-42D1-8580-CED45EC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C25-582E-4E57-93F3-160D062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CB2F-57FC-499F-AA70-DBFCB42D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02A-F23E-4C66-BDD0-7918EE95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B982-9CDD-48EF-B40B-190F82BB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5C68-46BF-4719-8B5D-64AC643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B0DE-747C-4101-B83D-6575FE4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5819-424C-4005-867F-9BF0123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BFA6-F931-40A0-9B10-51602FD5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09CE-0E03-46D0-B904-62851A5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73A8-E054-4BC6-AF13-21BCE37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F114-FAA0-4357-B863-D291E93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BC27-14C5-4314-BFCB-F616E57391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458-F76F-4716-A557-87B126210B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160360" cy="1512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59640" y="404640"/>
            <a:ext cx="2259000" cy="1494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400480" cy="1458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3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История развития пожарного дела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в России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089080" cy="16225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амоходный пожарный насос «Магирус», Германия, 1904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80360" cy="4711680"/>
          </a:xfrm>
          <a:prstGeom prst="rect">
            <a:avLst/>
          </a:prstGeom>
          <a:ln w="6660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ервые пожарные машин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211640" cy="3159000"/>
          </a:xfrm>
          <a:prstGeom prst="rect">
            <a:avLst/>
          </a:prstGeom>
          <a:ln w="1047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4932360" y="62164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ая в мире моторизированная пожарная ма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з первых пожарных ма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волюция пожарных машин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095640" cy="206388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808360" cy="18018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72360" y="5013360"/>
            <a:ext cx="2592360" cy="153684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804000" y="981000"/>
            <a:ext cx="2075040" cy="2232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659640" y="3213000"/>
            <a:ext cx="24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обильная поворотная лестница. Германия, начало XX ве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9280" y="5022720"/>
            <a:ext cx="3529080" cy="1575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50920" y="4076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мобиль с поворотной лестницей «Магирус». Германия, 19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жарная каланч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987800" cy="4599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71640" cy="207648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65440" cy="195912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30072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ные повоз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27640" y="4946760"/>
            <a:ext cx="2737080" cy="165096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4211640" cy="271800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321080" cy="277812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96000" y="2492280"/>
            <a:ext cx="2736720" cy="10954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796000" y="476280"/>
            <a:ext cx="2736720" cy="100800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5292720" y="1916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55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струменты для тушения пожаров: багор, лопата, ве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258920" y="4363920"/>
            <a:ext cx="1873080" cy="18734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езд пожарного обоза Пречистенской части. (Неизвестный художник XIX века.)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учные  пожарные насосы - “водоливные трубы”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781440"/>
          </a:xfrm>
          <a:prstGeom prst="rect">
            <a:avLst/>
          </a:prstGeom>
          <a:ln w="66600">
            <a:solidFill>
              <a:srgbClr val="0000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651640" y="1773360"/>
            <a:ext cx="34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оливная труба изготавливалась из листовой меди или дерева, внутри которой двигался поршень. Длина трубы достигала 1 м и заканчивалась узким наконечником, через который струя воды могла подаваться на расстояние до 7 м. Вода в трубу заливалась сверху вед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учной насос на конной тяг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616720" cy="414504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5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были снабжены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жаными рукав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медными стволами (брандспойт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в насос поступала из специальных коробов. Дальность действия водяной струи была около 10 м. Для обслуживания одной заливной пожарной трубы требовалось около 50 человек, из них 12 человек в две смены качали коромысло насоса, 8 - обслуживали выкидные рукава и ствол, а 30 - в одну или две “нитки” подносили к трубе воду ведрами. Позднее трубы стали снабжаться водой с помощью специальных перекачных насосов, а также бочек емкостью 240 л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00 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90760" cy="4753080"/>
          </a:xfrm>
          <a:prstGeom prst="rect">
            <a:avLst/>
          </a:prstGeom>
          <a:ln w="66600">
            <a:solidFill>
              <a:srgbClr val="8000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826920" y="404640"/>
            <a:ext cx="7488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Английская паровая машина фабрики “Шанд-Мейсон”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773360"/>
            <a:ext cx="295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1863 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ля Санкт-Петербургской пожарной команды была приобретена английская паровая машина фабрики “Шанд-Мейсон”. Производительность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овых пожарных насо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вышала 1000 л/мин; водяная струя подавалась на расстояние 40 м и бо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0920" y="1700280"/>
            <a:ext cx="5122800" cy="359568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826920" y="1413000"/>
            <a:ext cx="3456000" cy="2220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743280" cy="22240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543480" cy="22096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384720" cy="2139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5:39:01Z</dcterms:created>
  <dc:creator>-</dc:creator>
  <dc:description/>
  <dc:language>en-US</dc:language>
  <cp:lastModifiedBy>-</cp:lastModifiedBy>
  <dcterms:modified xsi:type="dcterms:W3CDTF">2009-01-03T14:51:20Z</dcterms:modified>
  <cp:revision>36</cp:revision>
  <dc:subject/>
  <dc:title>История развития пожарной техники  в России  в XVII-XIX веках</dc:title>
</cp:coreProperties>
</file>