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D80-76B1-4068-9DB6-4A9072F4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CC0-8E00-4484-B176-BC01660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263-A491-43B1-B3D0-7C4F1ED7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691-8C03-49BF-BCA9-68E796D1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2459-37FA-4117-A627-90DE6A98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F0E-3327-4BEA-99F8-5E3FBD37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1FF-0DEA-4DC7-B6DA-F79E61B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EE8-5829-4197-ABDF-D243AA3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4525-EBAA-45EB-AE9A-6AF3098E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DCE8-BDAB-4B31-966D-79325202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83E-A218-4120-8310-6FD72C7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DDA-27C7-4B02-985D-66949A3D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06E-9270-4F17-A9E5-7A0A301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21E-8EEF-4535-B6F1-5CD9F4A7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8979-AC61-496F-B88A-F88B51D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FCD7-0AB7-4F9C-9FDF-0C01F1E3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AA6C-3454-4A88-9333-2F9736ED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53C-CFDE-4C98-8D14-F210AE11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148-1B15-4F7B-BF36-B549723E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534-FA18-4349-965B-F4356C76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6F6-A9EB-46B2-8E6F-CA76DAF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B4C-16FD-473A-B1F7-92EA7BF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E99-5A18-44FC-AEBD-AF78FA8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D11-5DD9-4130-B4B2-87ABB5B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956-6D84-48E8-9A8B-45AF18C20D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4A8-F8F8-460A-BFC4-3917201785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Умей предупреждать боле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Выполнила: Амалия Безбали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3 «Б» класс лицей № 2 г. Сург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Чаще бывай на свежем воздух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имой – катайся на коньках, лыжах, съезжай с гор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Летом – солнце поможет окрепнуть твоему организ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3883" r="0" b="9387"/>
          <a:stretch/>
        </p:blipFill>
        <p:spPr>
          <a:xfrm>
            <a:off x="685800" y="14479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Летом организм укрепляется за счет купания в речке, озере, пру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Играй в мяч, догонялки и другие подвижные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244"/>
          <a:stretch/>
        </p:blipFill>
        <p:spPr>
          <a:xfrm>
            <a:off x="685800" y="121932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Не стесняйся побегать босик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Выполняй ежедневно физические упраж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010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чистот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96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Питайся правильн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гигиен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13795" r="0" b="0"/>
          <a:stretch/>
        </p:blipFill>
        <p:spPr>
          <a:xfrm>
            <a:off x="380880" y="1219320"/>
            <a:ext cx="815364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Если хочешь быть здоров –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закаляйся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режим дн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7241" r="0" b="0"/>
          <a:stretch/>
        </p:blipFill>
        <p:spPr>
          <a:xfrm>
            <a:off x="685800" y="1143000"/>
            <a:ext cx="7924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Соблюдение режима сна – основа здорового образа жизни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5229" r="0" b="25491"/>
          <a:stretch/>
        </p:blipFill>
        <p:spPr>
          <a:xfrm>
            <a:off x="228600" y="1828800"/>
            <a:ext cx="87631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Береги психику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Эмоции положительные: вежливость, любовь, доброжелательность, благодарность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сочувствие, забота, радостное событи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3674"/>
          <a:stretch/>
        </p:blipFill>
        <p:spPr>
          <a:xfrm>
            <a:off x="685800" y="1843200"/>
            <a:ext cx="80773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моции отрицательные: страх, переутомление, боль, голод их вызывают грубость, зависть, равнодушие, бестактность, жестокость окружающих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19998"/>
          <a:stretch/>
        </p:blipFill>
        <p:spPr>
          <a:xfrm>
            <a:off x="457200" y="160020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Для снятия отрицательных эмоций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Посмотри на струйку воды, на зажженную свечку, огонь, прогуляйся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438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Не заводи вредных привычек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И помни: солнце, воздух и вода – наши лучшие друзь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15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Вирусы и микробы – виновники простудных заболева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Закаливание оказывает общеукрепляющее действие, улучшает кровообращение, повышает тонус нервной системы, нормализует обмен веществ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629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акаливание – это регулярная тренировка организм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838080" y="1828800"/>
            <a:ext cx="7467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Водные процедуры – это отличное закаливание. Начать можно с ванны и обливания ног и рук, игр с водой, а позже добавить к ним обливания из душа, постепенно понижая температуру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11971"/>
          <a:stretch/>
        </p:blipFill>
        <p:spPr>
          <a:xfrm>
            <a:off x="914400" y="1828800"/>
            <a:ext cx="73152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После водных процедур нужно растирать кожу сухим полотенц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8624" r="0" b="0"/>
          <a:stretch/>
        </p:blipFill>
        <p:spPr>
          <a:xfrm>
            <a:off x="457200" y="1523880"/>
            <a:ext cx="8229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Отличные игры в теплое время года –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то брызгалки: запаситесь водными пистолетами, автоматами или смастерите их сами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2606"/>
          <a:stretch/>
        </p:blipFill>
        <p:spPr>
          <a:xfrm>
            <a:off x="380880" y="1447920"/>
            <a:ext cx="830592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Ежедневно проветривай комнат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11334"/>
          <a:stretch/>
        </p:blipFill>
        <p:spPr>
          <a:xfrm>
            <a:off x="533520" y="1143000"/>
            <a:ext cx="81532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:)</cp:lastModifiedBy>
  <dcterms:modified xsi:type="dcterms:W3CDTF">2013-11-25T12:1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