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E90-2985-48F9-9AD4-B89350F7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2F3-F173-4187-8E32-E8C2BE27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0EC-97B6-40B8-B0FD-D91B0A74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C59-DB76-4B19-9DA7-9C2A4365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E7F3-CFB5-4123-A332-95F17D60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7A07-875A-428D-80D1-02079773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1D17-0672-4E37-9491-06773E5E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989F-A46C-42C0-B777-0205740E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493E-A850-4C61-B3DE-0E35E296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9272-144C-4906-B012-3505FE0B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8BCE-087F-40BA-AE01-BA8518F1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920-0542-413A-B0E5-FD13363A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CB71-6994-4DB9-A030-7DE3FC8A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4CAC-C750-4BB6-B48F-84CCCC78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7B26-8B27-4087-BAF8-28E34259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42F0-132C-4F50-AB21-3C79F16E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EB7C-8F05-4644-9D10-6401D171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704-9E6D-4B88-B465-708E3DB9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43A-97B2-44A3-BA44-D1182657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2EA-B50E-47C1-BDA7-DD58A29A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172-93DF-475B-AAA3-41897BC7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FDB-D863-4995-8908-C4EE07E0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6FE-D0E8-49CF-8204-6BC492AC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E40-1745-4077-910F-18D088BC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A848-770B-4E0E-8853-F9EE470831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F57E-4677-4096-9092-EFC3A477D9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Умей предупреждать болез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Выполнила: Амалия Безбалин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3 «Б» класс лицей № 2 г. Сург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Чаще бывай на свежем воздухе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Зимой – катайся на коньках, лыжах, съезжай с горк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39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Летом – солнце поможет окрепнуть твоему организ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3883" r="0" b="9387"/>
          <a:stretch/>
        </p:blipFill>
        <p:spPr>
          <a:xfrm>
            <a:off x="685800" y="1447920"/>
            <a:ext cx="7848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Летом организм укрепляется за счет купания в речке, озере, пруд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Играй в мяч, догонялки и другие подвижные иг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0" b="8244"/>
          <a:stretch/>
        </p:blipFill>
        <p:spPr>
          <a:xfrm>
            <a:off x="685800" y="1219320"/>
            <a:ext cx="784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Не стесняйся побегать босик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7732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Выполняй ежедневно физические упраж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0100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Соблюдай чистоту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6960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Питайся правильно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Соблюдай гигиену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0" t="13795" r="0" b="0"/>
          <a:stretch/>
        </p:blipFill>
        <p:spPr>
          <a:xfrm>
            <a:off x="380880" y="1219320"/>
            <a:ext cx="815364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Если хочешь быть здоров –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закаляйся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Соблюдай режим дн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7241" r="0" b="0"/>
          <a:stretch/>
        </p:blipFill>
        <p:spPr>
          <a:xfrm>
            <a:off x="685800" y="1143000"/>
            <a:ext cx="79246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Соблюдение режима сна – основа здорового образа жизни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5229" r="0" b="25491"/>
          <a:stretch/>
        </p:blipFill>
        <p:spPr>
          <a:xfrm>
            <a:off x="228600" y="1828800"/>
            <a:ext cx="87631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Береги психику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Эмоции положительные: вежливость, любовь, доброжелательность, благодарность,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сочувствие, забота, радостное событие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3674"/>
          <a:stretch/>
        </p:blipFill>
        <p:spPr>
          <a:xfrm>
            <a:off x="685800" y="1843200"/>
            <a:ext cx="807732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Эмоции отрицательные: страх, переутомление, боль, голод их вызывают грубость, зависть, равнодушие, бестактность, жестокость окружающих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0" b="19998"/>
          <a:stretch/>
        </p:blipFill>
        <p:spPr>
          <a:xfrm>
            <a:off x="457200" y="1600200"/>
            <a:ext cx="8381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Для снятия отрицательных эмоций: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Посмотри на струйку воды, на зажженную свечку, огонь, прогуляйся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438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Не заводи вредных привычек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И помни: солнце, воздух и вода – наши лучшие друзь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15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Вирусы и микробы – виновники простудных заболеван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39116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Закаливание оказывает общеукрепляющее действие, улучшает кровообращение, повышает тонус нервной системы, нормализует обмен веществ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1629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Закаливание – это регулярная тренировка организм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0" b="6931"/>
          <a:stretch/>
        </p:blipFill>
        <p:spPr>
          <a:xfrm>
            <a:off x="838080" y="1828800"/>
            <a:ext cx="7467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Водные процедуры – это отличное закаливание. Начать можно с ванны и обливания ног и рук, игр с водой, а позже добавить к ним обливания из душа, постепенно понижая температуру в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0" r="0" b="11971"/>
          <a:stretch/>
        </p:blipFill>
        <p:spPr>
          <a:xfrm>
            <a:off x="914400" y="1828800"/>
            <a:ext cx="73152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После водных процедур нужно растирать кожу сухим полотенце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8624" r="0" b="0"/>
          <a:stretch/>
        </p:blipFill>
        <p:spPr>
          <a:xfrm>
            <a:off x="457200" y="1523880"/>
            <a:ext cx="8229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Отличные игры в теплое время года –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это брызгалки: запаситесь водными пистолетами, автоматами или смастерите их сами.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2606"/>
          <a:stretch/>
        </p:blipFill>
        <p:spPr>
          <a:xfrm>
            <a:off x="380880" y="1447920"/>
            <a:ext cx="830592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Ежедневно проветривай комнат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11334"/>
          <a:stretch/>
        </p:blipFill>
        <p:spPr>
          <a:xfrm>
            <a:off x="533520" y="1143000"/>
            <a:ext cx="81532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:)</cp:lastModifiedBy>
  <dcterms:modified xsi:type="dcterms:W3CDTF">2013-11-25T12:11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