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C98-9917-4A71-9290-0A48021B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82B-FF3E-47A8-A514-268D4C0D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646-FA9A-4108-AB6F-62603170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388-3FCA-4123-BCB0-82E259A9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1C56-0065-4CEE-B369-F8D3AB79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FFC4-97AB-455C-89DC-CEDC1233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E1A1-3F80-43E8-8D0D-EFDFD4D5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FB9-95DC-482A-AE26-33001601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760C-FAC0-4677-A363-7A7724E5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ADAD-5226-4B70-A44E-65D31D8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6E01-330C-4600-8A04-4EEE28FB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2D6-2124-4579-A954-38E838EE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0A35-74EA-4457-A999-31BBB68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4E7A-505D-42D6-B6A3-DDF4BDB9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30D0-1CC0-4CCD-A484-83340756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AB6D-21A1-47CE-87B1-66E56ABF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CFA2-9353-42D3-89B0-3CCFB255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C4C-7252-42D9-A5DE-C887DCEB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F1A-CB6F-485A-8873-441C65C3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9F8-70E4-43EF-A0ED-FF775A6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5C8-0035-4DE1-89BD-FEC77F5B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C4C-D4B3-410F-B7C1-779C2209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F08-8860-433B-A743-BB1F081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231-777A-45A8-906B-EDFB7E0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13E-AB04-473D-A5F0-106300FE79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32F3-4CF5-434B-9A54-04F47E4D43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Умей предупреждать болез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Выполнила: Амалия Безбалин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omic Sans MS"/>
              </a:rPr>
              <a:t>3 «Б» класс лицей № 2 г. Сург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960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Чаще бывай на свежем воздухе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Зимой – катайся на коньках, лыжах, съезжай с гор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39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Летом – солнце поможет окрепнуть твоему организ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3883" r="0" b="9387"/>
          <a:stretch/>
        </p:blipFill>
        <p:spPr>
          <a:xfrm>
            <a:off x="685800" y="1447920"/>
            <a:ext cx="78487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Летом организм укрепляется за счет купания в речке, озере, пру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Играй в мяч, догонялки и другие подвижные иг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0" r="0" b="8244"/>
          <a:stretch/>
        </p:blipFill>
        <p:spPr>
          <a:xfrm>
            <a:off x="685800" y="1219320"/>
            <a:ext cx="784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Не стесняйся побегать босик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7732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Выполняй ежедневно физические упраж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0100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облюдай чистот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6960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Питайся правильно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облюдай гигиен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13795" r="0" b="0"/>
          <a:stretch/>
        </p:blipFill>
        <p:spPr>
          <a:xfrm>
            <a:off x="380880" y="1219320"/>
            <a:ext cx="815364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Если хочешь быть здоров –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закаляйся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облюдай режим дн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7241" r="0" b="0"/>
          <a:stretch/>
        </p:blipFill>
        <p:spPr>
          <a:xfrm>
            <a:off x="685800" y="1143000"/>
            <a:ext cx="79246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Соблюдение режима сна – основа здорового образа жизни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5229" r="0" b="25491"/>
          <a:stretch/>
        </p:blipFill>
        <p:spPr>
          <a:xfrm>
            <a:off x="228600" y="1828800"/>
            <a:ext cx="87631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Береги психику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Эмоции положительные: вежливость, любовь, доброжелательность, благодарность,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сочувствие, забота, радостное событие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3674"/>
          <a:stretch/>
        </p:blipFill>
        <p:spPr>
          <a:xfrm>
            <a:off x="685800" y="1843200"/>
            <a:ext cx="807732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Эмоции отрицательные: страх, переутомление, боль, голод их вызывают грубость, зависть, равнодушие, бестактность, жестокость окружающих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0" b="19998"/>
          <a:stretch/>
        </p:blipFill>
        <p:spPr>
          <a:xfrm>
            <a:off x="457200" y="1600200"/>
            <a:ext cx="8381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Для снятия отрицательных эмоций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Посмотри на струйку воды, на зажженную свечку, огонь, прогуляйся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438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Не заводи вредных привычек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И помни: солнце, воздух и вода – наши лучшие друзь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15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Вирусы и микробы – виновники простудных заболеван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39116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Закаливание оказывает общеукрепляющее действие, улучшает кровообращение, повышает тонус нервной системы, нормализует обмен веществ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1629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Закаливание – это регулярная тренировка организм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0" b="6931"/>
          <a:stretch/>
        </p:blipFill>
        <p:spPr>
          <a:xfrm>
            <a:off x="838080" y="1828800"/>
            <a:ext cx="7467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686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Водные процедуры – это отличное закаливание. Начать можно с ванны и обливания ног и рук, игр с водой, а позже добавить к ним обливания из душа, постепенно понижая температуру в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0" t="0" r="0" b="11971"/>
          <a:stretch/>
        </p:blipFill>
        <p:spPr>
          <a:xfrm>
            <a:off x="914400" y="1828800"/>
            <a:ext cx="73152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После водных процедур нужно растирать кожу сухим полотенце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8624" r="0" b="0"/>
          <a:stretch/>
        </p:blipFill>
        <p:spPr>
          <a:xfrm>
            <a:off x="457200" y="1523880"/>
            <a:ext cx="8229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Отличные игры в теплое время года –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это брызгалки: запаситесь водными пистолетами, автоматами или смастерите их сами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2606"/>
          <a:stretch/>
        </p:blipFill>
        <p:spPr>
          <a:xfrm>
            <a:off x="380880" y="1447920"/>
            <a:ext cx="830592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Ежедневно проветривай комнат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11334"/>
          <a:stretch/>
        </p:blipFill>
        <p:spPr>
          <a:xfrm>
            <a:off x="533520" y="1143000"/>
            <a:ext cx="81532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:)</cp:lastModifiedBy>
  <dcterms:modified xsi:type="dcterms:W3CDTF">2013-11-25T12:11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