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2.jpeg" ContentType="image/jpeg"/>
  <Override PartName="/ppt/media/image17.jpeg" ContentType="image/jpe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AC902-17BC-4E26-902B-3D1FF1F7F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FDD8B-5669-4CCC-AECC-12ED49A26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5A58A-677E-40F6-80EA-D23ACFF33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ED446-59C3-4B7A-9740-BDF5D92D5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89CD1-3BCC-48EA-94E8-2C88A2A0B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BC6D4-09C9-4567-908F-111F6C978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1A649-8F0D-4120-95B3-35DCD91C3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5649B-01F1-4E8C-93C3-36C0475F2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6CD41-BFE3-4A5B-87AB-3A2E832CA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057B1-C5D8-4F81-A84D-5C119853D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C33CD-AB75-41B4-B8A0-58366783C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14F8E-8DC4-40D6-98B6-545E32F6F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0E002-C351-4CCC-9162-BE32DEC34C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10920" y="1196640"/>
            <a:ext cx="4392360" cy="237636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3300"/>
                </a:solidFill>
                <a:latin typeface="Arial"/>
              </a:rPr>
              <a:t>Путешествие из Уруши </a:t>
            </a:r>
            <a:br>
              <a:rPr sz="4000"/>
            </a:br>
            <a:r>
              <a:rPr b="1" i="1" lang="en-US" sz="4000" spc="-1" strike="noStrike">
                <a:solidFill>
                  <a:srgbClr val="ff3300"/>
                </a:solidFill>
                <a:latin typeface="Arial"/>
              </a:rPr>
              <a:t>в город Благовещенс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411280" y="5157720"/>
            <a:ext cx="5205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Автор презент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32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уприянова Ольга Василь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32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лассный руководитель 6 «а» клас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32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МОУ СОШ пгт. Уруша Амурской области, 2010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5292720" y="549360"/>
            <a:ext cx="3240000" cy="43923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8532720" y="6308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468360" y="189000"/>
            <a:ext cx="8521560" cy="639108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03280" y="6092640"/>
            <a:ext cx="59976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 мы красивые такие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24000" y="404640"/>
            <a:ext cx="8569080" cy="612324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Морально настраиваемся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68360" y="260280"/>
            <a:ext cx="8229600" cy="629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Народу было много, нас было мало, площадь была  большая, поэтому  мы очень громко на всю площадь кричали сво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название      </a:t>
            </a:r>
            <a:r>
              <a:rPr b="1" lang="en-US" sz="3600" spc="-1" strike="noStrike">
                <a:solidFill>
                  <a:srgbClr val="6600ff"/>
                </a:solidFill>
                <a:latin typeface="Comic Sans MS"/>
              </a:rPr>
              <a:t>«Отряд «Дружный»,</a:t>
            </a:r>
            <a:r>
              <a:rPr b="1" lang="en-US" sz="3200" spc="-1" strike="noStrike">
                <a:solidFill>
                  <a:srgbClr val="6600ff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наш девиз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ff"/>
                </a:solidFill>
                <a:latin typeface="Comic Sans MS"/>
              </a:rPr>
              <a:t>«Мы ребята малыши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ff"/>
                </a:solidFill>
                <a:latin typeface="Comic Sans MS"/>
              </a:rPr>
              <a:t>                    </a:t>
            </a:r>
            <a:r>
              <a:rPr b="1" lang="en-US" sz="3200" spc="-1" strike="noStrike">
                <a:solidFill>
                  <a:srgbClr val="6600ff"/>
                </a:solidFill>
                <a:latin typeface="Comic Sans MS"/>
              </a:rPr>
              <a:t>родом мы из Уруш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ff"/>
                </a:solidFill>
                <a:latin typeface="Comic Sans MS"/>
              </a:rPr>
              <a:t>Мы работать не ленимся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ff"/>
                </a:solidFill>
                <a:latin typeface="Comic Sans MS"/>
              </a:rPr>
              <a:t>              </a:t>
            </a:r>
            <a:r>
              <a:rPr b="1" lang="en-US" sz="3200" spc="-1" strike="noStrike">
                <a:solidFill>
                  <a:srgbClr val="6600ff"/>
                </a:solidFill>
                <a:latin typeface="Comic Sans MS"/>
              </a:rPr>
              <a:t>успевать везде стремимс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ff"/>
                </a:solidFill>
                <a:latin typeface="Comic Sans MS"/>
              </a:rPr>
              <a:t>Как Тимур, помочь вам рад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ff"/>
                </a:solidFill>
                <a:latin typeface="Comic Sans MS"/>
              </a:rPr>
              <a:t>                 </a:t>
            </a:r>
            <a:r>
              <a:rPr b="1" lang="en-US" sz="3200" spc="-1" strike="noStrike">
                <a:solidFill>
                  <a:srgbClr val="6600ff"/>
                </a:solidFill>
                <a:latin typeface="Comic Sans MS"/>
              </a:rPr>
              <a:t>и не требуем награды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496908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5373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Наш командир пошёл сдаваться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95280" y="189000"/>
            <a:ext cx="5110200" cy="6524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5292360" y="1773000"/>
            <a:ext cx="4249800" cy="48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Эт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наш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Arial"/>
              </a:rPr>
              <a:t>Заслужен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награды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333360"/>
            <a:ext cx="9144000" cy="554364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6165720"/>
            <a:ext cx="822960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Фото на памят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79280" y="404640"/>
            <a:ext cx="8713800" cy="518508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11280" y="59500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Как здорово, что все мы здесь сегодня собралис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3635280" y="189000"/>
            <a:ext cx="5327640" cy="648000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468360" y="260280"/>
            <a:ext cx="2819520" cy="55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Нам надо помнить о тех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кто не вернулся с той войны, и кому мы обязаны своей жизнью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908000" y="0"/>
            <a:ext cx="5689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40872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4360" y="6381360"/>
            <a:ext cx="822960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Живые легенды среди нас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189000"/>
            <a:ext cx="8229600" cy="64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Наш тимуровский отряд «Дружный» занял первое место в смотре тимуровских отрядов в Сковородинском районе, и нас наградили поездкой на областной слёт. Правда, администрация Сковородинского района выделила деньги только на три путёвки для детей, но и это уже хорошо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Поехали те, кто внёс наиболее весомый вклад в работу отряда: командир отряда Мельник Кристина, Репина Таня и Каримов Шамшинг. А далее вы увидите историю нашего путешествия с самого начала и до конц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Мы поздравляем весь наш отряд с победой в смотре!!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324000" y="189000"/>
            <a:ext cx="8561160" cy="642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8785440" cy="64818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Кислородный коктейль нам не повредит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1619280" y="0"/>
            <a:ext cx="5834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56898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50920" y="6165360"/>
            <a:ext cx="82296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Как хорошо на свете жить! Мы едем домой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15640" y="836280"/>
            <a:ext cx="72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Использованные материал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640" y="2421000"/>
            <a:ext cx="7416720" cy="20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отографии из личного альбома Куприяновой О.В.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оны взяты с сайта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ida. ucoz.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узыкальное сопровожд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сня «Дорогою добр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24000" y="189000"/>
            <a:ext cx="8640720" cy="64087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Чтоб силёнок не лишиться, надо сильно подкрепиться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268360" y="189000"/>
            <a:ext cx="6680520" cy="621972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0" y="0"/>
            <a:ext cx="234000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7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Наш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Тан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ленитс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поскор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пое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стремится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8713800" cy="64800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9640" y="105228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Хорошо среди девчонок мне на полочке лежать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17544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4000" y="333360"/>
            <a:ext cx="367164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Мама, роди меня обратно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8569080" cy="64087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79280" y="5876640"/>
            <a:ext cx="482436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х, эти девочки меня с ума свели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8597880" cy="644832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9952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епетируем на набережной, позади Китай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24000" y="189000"/>
            <a:ext cx="8413560" cy="641808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404352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еред выступлени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1T04:59:25Z</dcterms:created>
  <dc:creator>Teacher</dc:creator>
  <dc:description/>
  <dc:language>en-US</dc:language>
  <cp:lastModifiedBy>Teacher</cp:lastModifiedBy>
  <dcterms:modified xsi:type="dcterms:W3CDTF">2010-12-20T15:43:17Z</dcterms:modified>
  <cp:revision>20</cp:revision>
  <dc:subject/>
  <dc:title>Путешествие из Уруши в Благовещенск на слёт тимуровских отрядов</dc:title>
</cp:coreProperties>
</file>