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5B6-6388-4BDD-B65C-96AE433B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B36-614A-464A-B726-CC283D31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017-A34F-4A3F-870B-07D48461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989-2605-41C7-BA55-8CD94256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273-728A-4841-8737-BAF0636B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A57-2939-4B14-A465-CB8AAA28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C93-7F17-4B88-9ABB-0E139DB1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807-9B5E-42E4-B81B-06750D66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5C7-6181-4AC4-9BD1-116A0CC9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0EE-8D92-4597-8BE4-553837EE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73C-8D4C-4230-826C-A3723A5A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A54-A3BC-4B8C-B510-0C8E762D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8CC3-C00F-47DB-9CF4-7446E7A45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4392360" cy="23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утешествие из Уруши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в город Благовещен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11280" y="5157720"/>
            <a:ext cx="5205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а Ольг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ный руководитель 6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СОШ пгт. Уруша Амурской области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240000" cy="43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521560" cy="639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6092640"/>
            <a:ext cx="5997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мы красивые так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2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орально настраива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29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роду было много, нас было мало, площадь была  большая, поэтому  мы очень громко на всю площадь кричали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звание      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«Отряд «Дружный»,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ш 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«Мы ребята малыш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родом мы из Ур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Мы работать не леним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успевать везде стрем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Как Тимур, помочь вам ра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и не требуем наград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Наш командир пошёл сдавать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5110200" cy="6524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292360" y="1773000"/>
            <a:ext cx="4249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служ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гра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16572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Фото на пам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ак здорово, что все мы здесь сегодня собра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7640" cy="6480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281952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ам надо помнить о те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то не вернулся с той войны, и кому мы обязаны своей жизнь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381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Живые легенды среди на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Наш тимуровский отряд «Дружный» занял первое место в смотре тимуровских отрядов в Сковородинском районе, и нас наградили поездкой на областной слёт. Правда, администрация Сковородинского района выделила деньги только на три путёвки для детей, но и это уже хорош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Поехали те, кто внёс наиболее весомый вклад в работу отряда: командир отряда Мельник Кристина, Репина Таня и Каримов Шамшинг. А далее вы увидите историю нашего путешествия с самого начала и до ко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Мы поздравляем весь наш отряд с победой в смотр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116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81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слородный коктейль нам не повред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9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61653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ак хорошо на свете жить! Мы едем дом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4167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графии из личного альбома Куприяновой О.В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ы взяты с сайт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ida. ucoz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ое сопров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ня «Дорогою доб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0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б силёнок не лишиться, надо сильно подкреп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6680520" cy="62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2340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аш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Та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лен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ск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трем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орошо среди девчонок мне на полочке ле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7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ма, роди меня обрат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5876640"/>
            <a:ext cx="4824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х, эти девочки меня с ума св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97880" cy="64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петируем на набережной, позади Кит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13560" cy="6418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 выступ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4:59:25Z</dcterms:created>
  <dc:creator>Teacher</dc:creator>
  <dc:description/>
  <dc:language>en-US</dc:language>
  <cp:lastModifiedBy>Teacher</cp:lastModifiedBy>
  <dcterms:modified xsi:type="dcterms:W3CDTF">2010-12-20T15:43:17Z</dcterms:modified>
  <cp:revision>20</cp:revision>
  <dc:subject/>
  <dc:title>Путешествие из Уруши в Благовещенск на слёт тимуровских отрядов</dc:title>
</cp:coreProperties>
</file>