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2E8-C15A-4FB0-8144-AC19DFFE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301-96B8-49E7-9C7E-72756C7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7EA-F00D-42E2-B24A-E2B3CB6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7CB-61C1-48BC-8BCD-AEC8B6A2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7D8-A755-4837-869F-E81F90DC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FBD-0E6B-4090-BF32-F26DBCBA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0C1-9DD3-46BD-969B-3440703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D6C-2F34-4A3E-B26E-9F22F0F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88E-05B8-4BA1-929F-8EF341A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39D-5C45-4B43-9DDA-B6CABBA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44F-2A1F-4961-B8D6-3FA90B8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7A6-5747-4BA6-BB09-6EAE2A2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248-89B5-46DF-A4F5-7E5A4737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4392360" cy="23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утешествие из Уруши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в город Благовеще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1280" y="5157720"/>
            <a:ext cx="52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ный руководитель 6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 пгт. Уруша Амурской области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240000" cy="43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521560" cy="63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6092640"/>
            <a:ext cx="5997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мы красивые та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рально настраива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роду было много, нас было мало, площадь была  большая, поэтому  мы очень громко на всю площадь кричали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звание      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«Отряд «Дружный»,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ш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«Мы ребята малыш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дом мы из Ур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Мы работать не леним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успевать везде стре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Как Тимур, помочь вам 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и не требуем наград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ш командир пошёл сдава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11020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92360" y="1773000"/>
            <a:ext cx="4249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слу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гра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16572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Фото на пам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 здорово, что все мы здесь сегодня собра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7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8195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ам надо помнить о те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то не вернулся с той войны, и кому мы обязаны своей жизн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381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ивые легенды среди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Наш тимуровский отряд «Дружный» занял первое место в смотре тимуровских отрядов в Сковородинском районе, и нас наградили поездкой на областной слёт. Правда, администрация Сковородинского района выделила деньги только на три путёвки для детей, но и это уже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ехали те, кто внёс наиболее весомый вклад в работу отряда: командир отряда Мельник Кристина, Репина Таня и Каримов Шамшинг. А далее вы увидите историю нашего путешествия с самого начала и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Мы поздравляем весь наш отряд с победой в смотр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лородный коктейль нам не повре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хорошо на свете жить! Мы едем до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4167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з личного альбома Куприяновой О.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ы взяты с сай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a. 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ня «Дорогою доб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силёнок не лишиться, надо сильно подкре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80520" cy="62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234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н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ск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трем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среди девчонок мне на полочке ле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7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ма, роди меня обра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5876640"/>
            <a:ext cx="482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х, эти девочки меня с ума с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9788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етируем на набережной, позади К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13560" cy="641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ыступ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4:59:25Z</dcterms:created>
  <dc:creator>Teacher</dc:creator>
  <dc:description/>
  <dc:language>en-US</dc:language>
  <cp:lastModifiedBy>Teacher</cp:lastModifiedBy>
  <dcterms:modified xsi:type="dcterms:W3CDTF">2010-12-20T15:43:17Z</dcterms:modified>
  <cp:revision>20</cp:revision>
  <dc:subject/>
  <dc:title>Путешествие из Уруши в Благовещенск на слёт тимуровских отрядов</dc:title>
</cp:coreProperties>
</file>