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0D81-54A2-4F7F-831A-6B7384DB22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1F4-FCD4-44FE-8410-63BF2E79B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65B4-2964-478E-8359-3B99039F3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4723-88A2-4B5C-B80E-A812F4651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1CE-45FA-4884-8360-7181068CE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9A5-ACFB-4F2F-86E8-A4BA12540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98C-389E-4E82-B233-BD054D065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DC58-7E5F-4295-924D-3B9BB1D10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1E2-C7D5-400B-B70B-8B13F2668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9A9-69B6-439E-815C-6EE917AE5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2FD3-5CE8-408A-816B-B71EAAC33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060-A92B-4027-9F69-64F240EDD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748-07DC-4D88-9C08-3BB16BAAB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760-1707-44B9-99B6-0EF4AEAE8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1B4-95B9-4DED-8676-A668D2AA3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2D90-A710-4AB6-A45B-AF7938A45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811-68DC-4413-961E-16776A334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50B-D566-48AE-839C-C7DAAF3B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28C-78C3-4C53-8172-6CDB9D0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331-96D6-4F65-B8C2-2D8DBB2F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E67-9AF1-4A1E-A2D7-6301A954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D6D-923F-44BD-9FB6-78A1EDF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5F8-1F70-4809-B4EB-AE11CCD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E7E-DFA8-49B6-955F-8449AC7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7BB-D21D-42EC-B89D-56DEEF4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C74-8017-4382-9E66-FBF69042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BB2-B498-49C1-A32D-3080AEE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2B6-91E4-4A25-A99F-3E2F9341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2DE-8BD0-4989-ADBA-F060784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BD7-47E2-479D-8295-1AEC57477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ffff"/>
                </a:solidFill>
                <a:uFillTx/>
                <a:latin typeface="Century Gothic"/>
              </a:rPr>
              <a:t>МИКРО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286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Arial Black"/>
              </a:rPr>
              <a:t>ОЧЕНЬ НУЖН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ffffff"/>
                </a:solidFill>
                <a:latin typeface="Arial Black"/>
              </a:rPr>
              <a:t>Z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ерна злаковых, мясо, молоч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онент более 100 ферментов; заживление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достаток влечет: нарушение роста, плохое заживление ран, нарушение вкуса, отсутствие аппет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Arial Black"/>
              </a:rPr>
              <a:t>Cu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800px-Korean"/>
          <p:cNvPicPr/>
          <p:nvPr/>
        </p:nvPicPr>
        <p:blipFill>
          <a:blip r:embed="rId2"/>
          <a:stretch/>
        </p:blipFill>
        <p:spPr>
          <a:xfrm>
            <a:off x="457200" y="3276720"/>
            <a:ext cx="4064040" cy="3047760"/>
          </a:xfrm>
          <a:prstGeom prst="rect">
            <a:avLst/>
          </a:prstGeom>
          <a:ln w="38160">
            <a:solidFill>
              <a:srgbClr val="ffffff"/>
            </a:solidFill>
            <a:prstDash val="dash"/>
            <a:miter/>
          </a:ln>
        </p:spPr>
      </p:pic>
      <p:pic>
        <p:nvPicPr>
          <p:cNvPr id="72" name="Picture 6" descr="800px-Triticum"/>
          <p:cNvPicPr/>
          <p:nvPr/>
        </p:nvPicPr>
        <p:blipFill>
          <a:blip r:embed="rId3"/>
          <a:stretch/>
        </p:blipFill>
        <p:spPr>
          <a:xfrm>
            <a:off x="4724280" y="3276720"/>
            <a:ext cx="4246560" cy="3352680"/>
          </a:xfrm>
          <a:prstGeom prst="rect">
            <a:avLst/>
          </a:prstGeom>
          <a:ln w="38160">
            <a:solidFill>
              <a:srgbClr val="ffffff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Arial Black"/>
              </a:rPr>
              <a:t>Cu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бобовые, морепродукты, продукты из муки грубого помола, орехи, сыр, зелень, гриб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аствует в биокатализ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29px-Tomatoes-on-the-bush"/>
          <p:cNvPicPr/>
          <p:nvPr/>
        </p:nvPicPr>
        <p:blipFill>
          <a:blip r:embed="rId2"/>
          <a:stretch/>
        </p:blipFill>
        <p:spPr>
          <a:xfrm>
            <a:off x="4952880" y="1143000"/>
            <a:ext cx="3922920" cy="5486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  <p:pic>
        <p:nvPicPr>
          <p:cNvPr id="77" name="Picture 5" descr="800px-Parsley_bush"/>
          <p:cNvPicPr/>
          <p:nvPr/>
        </p:nvPicPr>
        <p:blipFill>
          <a:blip r:embed="rId3"/>
          <a:stretch/>
        </p:blipFill>
        <p:spPr>
          <a:xfrm>
            <a:off x="304920" y="2590920"/>
            <a:ext cx="3733560" cy="2492280"/>
          </a:xfrm>
          <a:prstGeom prst="rect">
            <a:avLst/>
          </a:prstGeom>
          <a:ln w="38160">
            <a:solidFill>
              <a:srgbClr val="003300"/>
            </a:solidFill>
            <a:prstDash val="lgDash"/>
            <a:miter/>
          </a:ln>
        </p:spPr>
      </p:pic>
      <p:pic>
        <p:nvPicPr>
          <p:cNvPr id="78" name="Picture 6" descr="Eggs-5486"/>
          <p:cNvPicPr/>
          <p:nvPr/>
        </p:nvPicPr>
        <p:blipFill>
          <a:blip r:embed="rId4"/>
          <a:stretch/>
        </p:blipFill>
        <p:spPr>
          <a:xfrm>
            <a:off x="1600200" y="4267080"/>
            <a:ext cx="3174840" cy="2381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яйца, помидоры, грибы, салат, сыр, боб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глеводный обмен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достаток влечет изменение уровня глюкозы в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200" spc="-1" strike="noStrike" u="sng">
                <a:solidFill>
                  <a:srgbClr val="000000"/>
                </a:solidFill>
                <a:uFillTx/>
                <a:latin typeface="Arial Black"/>
              </a:rPr>
              <a:t>M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800px-Parsley_bush"/>
          <p:cNvPicPr/>
          <p:nvPr/>
        </p:nvPicPr>
        <p:blipFill>
          <a:blip r:embed="rId2"/>
          <a:stretch/>
        </p:blipFill>
        <p:spPr>
          <a:xfrm>
            <a:off x="228600" y="3124080"/>
            <a:ext cx="5257800" cy="3510000"/>
          </a:xfrm>
          <a:prstGeom prst="rect">
            <a:avLst/>
          </a:prstGeom>
          <a:ln w="38160">
            <a:solidFill>
              <a:srgbClr val="003300"/>
            </a:solidFill>
            <a:prstDash val="dash"/>
            <a:miter/>
          </a:ln>
        </p:spPr>
      </p:pic>
      <p:pic>
        <p:nvPicPr>
          <p:cNvPr id="83" name="Picture 5" descr="800px-Triticum"/>
          <p:cNvPicPr/>
          <p:nvPr/>
        </p:nvPicPr>
        <p:blipFill>
          <a:blip r:embed="rId3"/>
          <a:stretch/>
        </p:blipFill>
        <p:spPr>
          <a:xfrm>
            <a:off x="4114800" y="228600"/>
            <a:ext cx="4703760" cy="3529080"/>
          </a:xfrm>
          <a:prstGeom prst="rect">
            <a:avLst/>
          </a:prstGeom>
          <a:ln w="38160">
            <a:solidFill>
              <a:srgbClr val="0000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 Black"/>
              </a:rPr>
              <a:t>Приятного аппетита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ngwar-Gandal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engwar-Gandalf"/>
              </a:rPr>
              <a:t> </a:t>
            </a:r>
            <a:r>
              <a:rPr b="0" i="1" lang="en-US" sz="5400" spc="-1" strike="noStrike">
                <a:solidFill>
                  <a:srgbClr val="ffffff"/>
                </a:solidFill>
                <a:latin typeface="Cadeaulx™"/>
              </a:rPr>
              <a:t>Elijah</a:t>
            </a:r>
            <a:r>
              <a:rPr b="0" lang="en-US" sz="3200" spc="-1" strike="noStrike">
                <a:solidFill>
                  <a:srgbClr val="ffffff"/>
                </a:solidFill>
                <a:latin typeface="RUNEnglish 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ЕОБХОДИМ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РОЭЛЕМЕН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, P, Mg, Na, 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ИКРОЭЛЕМЕНТ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 любые элементы и неорганические соединения, нужные организму для нормального роста и  функцио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КАКИЕ ИМЕН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48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Century Gothic"/>
              </a:rPr>
              <a:t>Fe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200" spc="-1" strike="noStrike">
                <a:solidFill>
                  <a:srgbClr val="ffffff"/>
                </a:solidFill>
                <a:latin typeface="Century Gothic"/>
              </a:rPr>
              <a:t>M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800px-Triticum"/>
          <p:cNvPicPr/>
          <p:nvPr/>
        </p:nvPicPr>
        <p:blipFill>
          <a:blip r:embed="rId2"/>
          <a:stretch/>
        </p:blipFill>
        <p:spPr>
          <a:xfrm>
            <a:off x="380880" y="2743200"/>
            <a:ext cx="4780080" cy="35863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entury Gothic"/>
              </a:rPr>
              <a:t>F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бобовые, грибы, мясо, продукты из муки грубого помо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ходит в соста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гемоглобин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– нарушение образования эритроцитов, анемия, нарушение рост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9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1" i="1" lang="en-US" sz="277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Ulva_lactuca"/>
          <p:cNvPicPr/>
          <p:nvPr/>
        </p:nvPicPr>
        <p:blipFill>
          <a:blip r:embed="rId2"/>
          <a:stretch/>
        </p:blipFill>
        <p:spPr>
          <a:xfrm>
            <a:off x="4038480" y="457200"/>
            <a:ext cx="4521240" cy="3390840"/>
          </a:xfrm>
          <a:prstGeom prst="rect">
            <a:avLst/>
          </a:prstGeom>
          <a:ln w="38160">
            <a:solidFill>
              <a:srgbClr val="008000"/>
            </a:solidFill>
            <a:prstDash val="dash"/>
            <a:miter/>
          </a:ln>
        </p:spPr>
      </p:pic>
      <p:pic>
        <p:nvPicPr>
          <p:cNvPr id="60" name="Picture 5" descr="Eggs-5486"/>
          <p:cNvPicPr/>
          <p:nvPr/>
        </p:nvPicPr>
        <p:blipFill>
          <a:blip r:embed="rId3"/>
          <a:stretch/>
        </p:blipFill>
        <p:spPr>
          <a:xfrm>
            <a:off x="762120" y="3352680"/>
            <a:ext cx="4038480" cy="3029040"/>
          </a:xfrm>
          <a:prstGeom prst="rect">
            <a:avLst/>
          </a:prstGeom>
          <a:ln w="44280">
            <a:solidFill>
              <a:srgbClr val="0033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2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533160"/>
            <a:ext cx="6553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рыба, водоросли, яйц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ажнейший компонент гормоно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щитовидной желе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замедление развития центральной нервной сис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9525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800" spc="-1" strike="noStrike">
                <a:solidFill>
                  <a:srgbClr val="ffffff"/>
                </a:solidFill>
                <a:latin typeface="Century Gothic"/>
              </a:rPr>
              <a:t>F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20574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900" spc="-1" strike="noStrike">
                <a:solidFill>
                  <a:srgbClr val="ffffff"/>
                </a:solidFill>
                <a:latin typeface="Century Gothic"/>
              </a:rPr>
              <a:t>S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15600" spc="-1" strike="noStrike">
                <a:solidFill>
                  <a:srgbClr val="000000"/>
                </a:solidFill>
                <a:latin typeface="Century Gothic"/>
              </a:rPr>
              <a:t>S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лесные 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зубной эмали,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оста и процесса минер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мясо, орехи, чеснок, 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, функции щитовид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емия, нарушение роста и образования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jah</dc:creator>
  <dc:description/>
  <dc:language>en-US</dc:language>
  <cp:lastModifiedBy>Admin</cp:lastModifiedBy>
  <dcterms:modified xsi:type="dcterms:W3CDTF">2010-12-15T19:0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