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4FA-FDEA-4311-9DFC-E91767AA3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3E4-52F8-406D-B29B-BE988E4DE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3C6D-3313-4FBF-B9BF-FDB6E4BE0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4982-4BA4-4214-B774-EDD3EBE04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0B9-9F97-4124-9A5F-F42E913DE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4FC-2490-4C06-A188-AE611888A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E69-6C3B-4227-9C68-628AEF6B5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C8E-5B63-479E-874B-86EF46DA1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415F-8C02-494B-BE81-2D197F9B5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675-1DE9-4311-ADE4-950405408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636-21BE-48A5-BAA0-19D0BA360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589-1B72-4CBD-9593-794F27C32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626-21BB-4BFF-B218-6D4F69C7F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99D6-2F3B-494C-B9D1-BD38D3B64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9DF-57F1-4EB0-AC77-EA38CF57A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F63D-CE65-4AEF-ABAC-2C5C55DA8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EB8-CF3F-4AD2-BBD6-8BD6A319C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BD0-1C44-4668-86A7-80499F46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A86-0F10-446C-B106-48B26AEA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878-52AD-4422-BE67-F3A36FA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ECF-33CA-42EA-905D-70DF85C4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A21-70B8-473C-97C4-EA8CF457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7C7-84A8-4FD8-9B99-9E0A2A3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7C6-C621-4DB9-8A45-8B10D838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C29-0C2B-4338-AB87-EB68C0E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0F6-001D-4BB6-A4BC-9D259A4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790-2E50-4A7C-8660-FCD6AA42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E97-E742-4518-A467-13E988C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F84-D841-475A-819B-B0A6E23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449A-E012-4FB7-B81C-D7AEF574E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ffff"/>
                </a:solidFill>
                <a:uFillTx/>
                <a:latin typeface="Century Gothic"/>
              </a:rPr>
              <a:t>МИКРО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286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Arial Black"/>
              </a:rPr>
              <a:t>ОЧЕНЬ НУЖН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ffffff"/>
                </a:solidFill>
                <a:latin typeface="Arial Black"/>
              </a:rPr>
              <a:t>Z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ерна злаковых, мясо, молоч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онент более 100 ферментов; заживление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достаток влечет: нарушение роста, плохое заживление ран, нарушение вкуса, отсутствие аппет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Arial Black"/>
              </a:rPr>
              <a:t>Cu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800px-Korean"/>
          <p:cNvPicPr/>
          <p:nvPr/>
        </p:nvPicPr>
        <p:blipFill>
          <a:blip r:embed="rId2"/>
          <a:stretch/>
        </p:blipFill>
        <p:spPr>
          <a:xfrm>
            <a:off x="457200" y="3276720"/>
            <a:ext cx="4064040" cy="3047760"/>
          </a:xfrm>
          <a:prstGeom prst="rect">
            <a:avLst/>
          </a:prstGeom>
          <a:ln w="38160">
            <a:solidFill>
              <a:srgbClr val="ffffff"/>
            </a:solidFill>
            <a:prstDash val="dash"/>
            <a:miter/>
          </a:ln>
        </p:spPr>
      </p:pic>
      <p:pic>
        <p:nvPicPr>
          <p:cNvPr id="72" name="Picture 6" descr="800px-Triticum"/>
          <p:cNvPicPr/>
          <p:nvPr/>
        </p:nvPicPr>
        <p:blipFill>
          <a:blip r:embed="rId3"/>
          <a:stretch/>
        </p:blipFill>
        <p:spPr>
          <a:xfrm>
            <a:off x="4724280" y="3276720"/>
            <a:ext cx="4246560" cy="3352680"/>
          </a:xfrm>
          <a:prstGeom prst="rect">
            <a:avLst/>
          </a:prstGeom>
          <a:ln w="38160">
            <a:solidFill>
              <a:srgbClr val="ffffff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Arial Black"/>
              </a:rPr>
              <a:t>Cu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бобовые, морепродукты, продукты из муки грубого помола, орехи, сыр, зелень, гриб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аствует в биокатализ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29px-Tomatoes-on-the-bush"/>
          <p:cNvPicPr/>
          <p:nvPr/>
        </p:nvPicPr>
        <p:blipFill>
          <a:blip r:embed="rId2"/>
          <a:stretch/>
        </p:blipFill>
        <p:spPr>
          <a:xfrm>
            <a:off x="4952880" y="1143000"/>
            <a:ext cx="3922920" cy="5486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  <p:pic>
        <p:nvPicPr>
          <p:cNvPr id="77" name="Picture 5" descr="800px-Parsley_bush"/>
          <p:cNvPicPr/>
          <p:nvPr/>
        </p:nvPicPr>
        <p:blipFill>
          <a:blip r:embed="rId3"/>
          <a:stretch/>
        </p:blipFill>
        <p:spPr>
          <a:xfrm>
            <a:off x="304920" y="2590920"/>
            <a:ext cx="3733560" cy="2492280"/>
          </a:xfrm>
          <a:prstGeom prst="rect">
            <a:avLst/>
          </a:prstGeom>
          <a:ln w="38160">
            <a:solidFill>
              <a:srgbClr val="003300"/>
            </a:solidFill>
            <a:prstDash val="lgDash"/>
            <a:miter/>
          </a:ln>
        </p:spPr>
      </p:pic>
      <p:pic>
        <p:nvPicPr>
          <p:cNvPr id="78" name="Picture 6" descr="Eggs-5486"/>
          <p:cNvPicPr/>
          <p:nvPr/>
        </p:nvPicPr>
        <p:blipFill>
          <a:blip r:embed="rId4"/>
          <a:stretch/>
        </p:blipFill>
        <p:spPr>
          <a:xfrm>
            <a:off x="1600200" y="4267080"/>
            <a:ext cx="3174840" cy="2381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яйца, помидоры, грибы, салат, сыр, боб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глеводный обмен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достаток влечет изменение уровня глюкозы в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200" spc="-1" strike="noStrike" u="sng">
                <a:solidFill>
                  <a:srgbClr val="000000"/>
                </a:solidFill>
                <a:uFillTx/>
                <a:latin typeface="Arial Black"/>
              </a:rPr>
              <a:t>M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800px-Parsley_bush"/>
          <p:cNvPicPr/>
          <p:nvPr/>
        </p:nvPicPr>
        <p:blipFill>
          <a:blip r:embed="rId2"/>
          <a:stretch/>
        </p:blipFill>
        <p:spPr>
          <a:xfrm>
            <a:off x="228600" y="3124080"/>
            <a:ext cx="5257800" cy="3510000"/>
          </a:xfrm>
          <a:prstGeom prst="rect">
            <a:avLst/>
          </a:prstGeom>
          <a:ln w="38160">
            <a:solidFill>
              <a:srgbClr val="003300"/>
            </a:solidFill>
            <a:prstDash val="dash"/>
            <a:miter/>
          </a:ln>
        </p:spPr>
      </p:pic>
      <p:pic>
        <p:nvPicPr>
          <p:cNvPr id="83" name="Picture 5" descr="800px-Triticum"/>
          <p:cNvPicPr/>
          <p:nvPr/>
        </p:nvPicPr>
        <p:blipFill>
          <a:blip r:embed="rId3"/>
          <a:stretch/>
        </p:blipFill>
        <p:spPr>
          <a:xfrm>
            <a:off x="4114800" y="228600"/>
            <a:ext cx="4703760" cy="3529080"/>
          </a:xfrm>
          <a:prstGeom prst="rect">
            <a:avLst/>
          </a:prstGeom>
          <a:ln w="38160">
            <a:solidFill>
              <a:srgbClr val="0000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 Black"/>
              </a:rPr>
              <a:t>Приятного аппетита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ngwar-Gandal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engwar-Gandalf"/>
              </a:rPr>
              <a:t> </a:t>
            </a:r>
            <a:r>
              <a:rPr b="0" i="1" lang="en-US" sz="5400" spc="-1" strike="noStrike">
                <a:solidFill>
                  <a:srgbClr val="ffffff"/>
                </a:solidFill>
                <a:latin typeface="Cadeaulx™"/>
              </a:rPr>
              <a:t>Elijah</a:t>
            </a:r>
            <a:r>
              <a:rPr b="0" lang="en-US" sz="3200" spc="-1" strike="noStrike">
                <a:solidFill>
                  <a:srgbClr val="ffffff"/>
                </a:solidFill>
                <a:latin typeface="RUNEnglish 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ЕОБХОДИМ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РОЭЛЕМЕН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, P, Mg, Na, 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ИКРОЭЛЕМЕНТ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 любые элементы и неорганические соединения, нужные организму для нормального роста и  функцио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КАКИЕ ИМЕН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48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Century Gothic"/>
              </a:rPr>
              <a:t>Fe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200" spc="-1" strike="noStrike">
                <a:solidFill>
                  <a:srgbClr val="ffffff"/>
                </a:solidFill>
                <a:latin typeface="Century Gothic"/>
              </a:rPr>
              <a:t>M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800px-Triticum"/>
          <p:cNvPicPr/>
          <p:nvPr/>
        </p:nvPicPr>
        <p:blipFill>
          <a:blip r:embed="rId2"/>
          <a:stretch/>
        </p:blipFill>
        <p:spPr>
          <a:xfrm>
            <a:off x="380880" y="2743200"/>
            <a:ext cx="4780080" cy="35863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entury Gothic"/>
              </a:rPr>
              <a:t>F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бобовые, грибы, мясо, продукты из муки грубого помо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ходит в соста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гемоглобин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– нарушение образования эритроцитов, анемия, нарушение рост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9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1" i="1" lang="en-US" sz="277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Ulva_lactuca"/>
          <p:cNvPicPr/>
          <p:nvPr/>
        </p:nvPicPr>
        <p:blipFill>
          <a:blip r:embed="rId2"/>
          <a:stretch/>
        </p:blipFill>
        <p:spPr>
          <a:xfrm>
            <a:off x="4038480" y="457200"/>
            <a:ext cx="4521240" cy="3390840"/>
          </a:xfrm>
          <a:prstGeom prst="rect">
            <a:avLst/>
          </a:prstGeom>
          <a:ln w="38160">
            <a:solidFill>
              <a:srgbClr val="008000"/>
            </a:solidFill>
            <a:prstDash val="dash"/>
            <a:miter/>
          </a:ln>
        </p:spPr>
      </p:pic>
      <p:pic>
        <p:nvPicPr>
          <p:cNvPr id="60" name="Picture 5" descr="Eggs-5486"/>
          <p:cNvPicPr/>
          <p:nvPr/>
        </p:nvPicPr>
        <p:blipFill>
          <a:blip r:embed="rId3"/>
          <a:stretch/>
        </p:blipFill>
        <p:spPr>
          <a:xfrm>
            <a:off x="762120" y="3352680"/>
            <a:ext cx="4038480" cy="3029040"/>
          </a:xfrm>
          <a:prstGeom prst="rect">
            <a:avLst/>
          </a:prstGeom>
          <a:ln w="44280">
            <a:solidFill>
              <a:srgbClr val="0033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2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533160"/>
            <a:ext cx="6553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рыба, водоросли, яйц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ажнейший компонент гормоно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щитовидной желе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замедление развития центральной нервной сис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9525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800" spc="-1" strike="noStrike">
                <a:solidFill>
                  <a:srgbClr val="ffffff"/>
                </a:solidFill>
                <a:latin typeface="Century Gothic"/>
              </a:rPr>
              <a:t>F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20574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900" spc="-1" strike="noStrike">
                <a:solidFill>
                  <a:srgbClr val="ffffff"/>
                </a:solidFill>
                <a:latin typeface="Century Gothic"/>
              </a:rPr>
              <a:t>S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15600" spc="-1" strike="noStrike">
                <a:solidFill>
                  <a:srgbClr val="000000"/>
                </a:solidFill>
                <a:latin typeface="Century Gothic"/>
              </a:rPr>
              <a:t>S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лесные 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зубной эмали,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оста и процесса минер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мясо, орехи, чеснок, 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, функции щитовид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емия, нарушение роста и образования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jah</dc:creator>
  <dc:description/>
  <dc:language>en-US</dc:language>
  <cp:lastModifiedBy>Admin</cp:lastModifiedBy>
  <dcterms:modified xsi:type="dcterms:W3CDTF">2010-12-15T19:0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