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C3C8-80A0-46EC-9448-6F09A2EB1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3C67-71C6-450C-B49E-7EEF29767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50ED-D4D0-47BC-9E00-D8A408959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4B7-8531-43D3-9472-639DA40D0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27E6-DE1A-4B93-9C82-E908F30AF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1041-6AE1-493A-9747-676A5740C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C6B-7AF1-4495-B08E-075803EF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6D0-7742-4613-AC29-8B61F7B4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C9C-0ABF-41D9-B4AC-D589DBEE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19B-27E4-4679-BAE2-FA2B066A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8A1-ADFD-42F4-93F0-5A3845D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EF3-D3A8-4BC0-AFFA-63B60A36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F98-2C66-46B8-946B-DAA3DF06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19A-9383-48E2-92EB-F80E63CC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E29-2B0C-43E9-9D08-E1C6B54C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F87-A889-4DAF-9822-013976F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517-C823-4078-BB73-879EBD19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AD1-056D-4918-B49B-6ED95BD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FF3-10A1-4B10-B1ED-FD3E45384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 составлена Сырцовой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7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rc 4"/>
            <p:cNvSpPr/>
            <p:nvPr/>
          </p:nvSpPr>
          <p:spPr>
            <a:xfrm>
              <a:off x="2782800" y="677880"/>
              <a:ext cx="2359080" cy="3294000"/>
            </a:xfrm>
            <a:prstGeom prst="pie">
              <a:avLst/>
            </a:pr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>Денис</dc:creator>
  <dc:description/>
  <dc:language>en-US</dc:language>
  <cp:lastModifiedBy>Денис</cp:lastModifiedBy>
  <dcterms:modified xsi:type="dcterms:W3CDTF">2009-08-24T06:15:12Z</dcterms:modified>
  <cp:revision>3</cp:revision>
  <dc:subject/>
  <dc:title>Площадь круга</dc:title>
</cp:coreProperties>
</file>