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16C3-FB5F-4E59-8E85-D45610046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F74A-D7FA-449A-BACB-3F0C2853D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99B7-9F8C-4FBA-B749-D4D270FBC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B5F4-E5CA-4677-8596-FA0BD6231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9940-D957-4EB5-B4C0-7CB1C16DE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8DD3-69A3-44EE-9D8D-FFEFF32F8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C90-9A5E-449B-952F-7C6D01DF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A8F-1A07-448A-BDA2-B7F1D43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669-96C0-4E16-A760-62B3DC3B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101-96A0-410C-929C-85EAE8E7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E6F-8F6A-4D3B-9F04-A9CDE923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5DF-41F3-4A18-B887-68ED816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87E-56D2-471A-AE44-AEFC3F8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EF4-6D23-436A-B263-40D4A61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411-E948-4035-81CB-D9CC6BB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537-E252-44D3-9D9C-7C2B1F0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7C32-B1D3-4E50-A536-00A179B9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2C6-A363-4559-96A1-C9A2D3A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079-9371-47B6-89E8-B078DA964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Сырцовой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7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4"/>
            <p:cNvSpPr/>
            <p:nvPr/>
          </p:nvSpPr>
          <p:spPr>
            <a:xfrm>
              <a:off x="2782800" y="677880"/>
              <a:ext cx="2359080" cy="3294000"/>
            </a:xfrm>
            <a:prstGeom prst="pie">
              <a:avLst/>
            </a:pr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>Денис</dc:creator>
  <dc:description/>
  <dc:language>en-US</dc:language>
  <cp:lastModifiedBy>Денис</cp:lastModifiedBy>
  <dcterms:modified xsi:type="dcterms:W3CDTF">2009-08-24T06:15:12Z</dcterms:modified>
  <cp:revision>3</cp:revision>
  <dc:subject/>
  <dc:title>Площадь круга</dc:title>
</cp:coreProperties>
</file>