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AD35-816C-433F-BA6C-9D60621659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5050-C1CE-458B-BE8A-879C550BCB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C4F0-2786-439A-9CCA-D1949F03F9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7C39-78FE-4F5D-BFD8-D3E9774AF1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855F-A975-4D05-A7C6-42EF04ACAC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A0BD-DD7C-4E9C-910F-CBE97A1D0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7E4-68D6-4E2F-B2D3-723E2C05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FC8-4FC4-4EA7-B915-83727236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93C-53EA-4B18-8D86-C262D20D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FD6-0707-4477-BED7-0B357C40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CCB-225F-49D0-8068-07A35E0C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1FB-54FD-47CE-9B8A-E2CF1190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A30D-A263-4B5B-93AA-24D5846A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A66-FCA2-4FDA-8B83-E0A18819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EB4-D4E8-406F-BB66-EB294F12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E57-381F-4C77-B426-21E53064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C83-5317-46AF-8BC0-C3D351F7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57F-F81F-4FA3-B208-7CC4A2A9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143C-65D1-4643-BB01-CF7FF13B32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 составлена Сырцовой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j0223770"/>
          <p:cNvPicPr/>
          <p:nvPr/>
        </p:nvPicPr>
        <p:blipFill>
          <a:blip r:embed="rId2"/>
          <a:stretch/>
        </p:blipFill>
        <p:spPr>
          <a:xfrm>
            <a:off x="5076720" y="2997360"/>
            <a:ext cx="3097440" cy="270180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846000" y="1071720"/>
            <a:ext cx="613728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Площадь кру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еометрическая фигура называется круг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539640" y="1773360"/>
            <a:ext cx="4248360" cy="424800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292720" y="1916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3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6"/>
          <p:cNvSpPr/>
          <p:nvPr/>
        </p:nvSpPr>
        <p:spPr>
          <a:xfrm rot="1878000">
            <a:off x="552240" y="1039680"/>
            <a:ext cx="4608360" cy="3913200"/>
          </a:xfrm>
          <a:prstGeom prst="hexagon">
            <a:avLst>
              <a:gd name="adj" fmla="val 29441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879480" y="1058760"/>
            <a:ext cx="3952800" cy="3882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2874960" y="71604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 flipV="1">
            <a:off x="1801800" y="1337760"/>
            <a:ext cx="1060560" cy="15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791440" y="1364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929120" y="160668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836960" y="413712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17520" y="1353960"/>
            <a:ext cx="57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923200" y="15429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2000880" y="196056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794400" y="3854520"/>
            <a:ext cx="5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4149720" y="54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5925600" y="593640"/>
            <a:ext cx="210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9"/>
              <p:cNvSpPr txBox="1"/>
              <p:nvPr/>
            </p:nvSpPr>
            <p:spPr>
              <a:xfrm>
                <a:off x="6416640" y="1649520"/>
                <a:ext cx="1281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0"/>
              <p:cNvSpPr txBox="1"/>
              <p:nvPr/>
            </p:nvSpPr>
            <p:spPr>
              <a:xfrm>
                <a:off x="6362640" y="3849840"/>
                <a:ext cx="14414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1"/>
              <p:cNvSpPr txBox="1"/>
              <p:nvPr/>
            </p:nvSpPr>
            <p:spPr>
              <a:xfrm>
                <a:off x="6343560" y="2674800"/>
                <a:ext cx="1476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22"/>
              <p:cNvSpPr txBox="1"/>
              <p:nvPr/>
            </p:nvSpPr>
            <p:spPr>
              <a:xfrm>
                <a:off x="836640" y="5403960"/>
                <a:ext cx="66628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1211400" y="2268360"/>
                <a:ext cx="33350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8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7"/>
          <p:cNvGrpSpPr/>
          <p:nvPr/>
        </p:nvGrpSpPr>
        <p:grpSpPr>
          <a:xfrm>
            <a:off x="539640" y="677880"/>
            <a:ext cx="4608720" cy="4622760"/>
            <a:chOff x="539640" y="677880"/>
            <a:chExt cx="4608720" cy="4622760"/>
          </a:xfrm>
        </p:grpSpPr>
        <p:sp>
          <p:nvSpPr>
            <p:cNvPr id="77" name="Oval 2"/>
            <p:cNvSpPr/>
            <p:nvPr/>
          </p:nvSpPr>
          <p:spPr>
            <a:xfrm>
              <a:off x="539640" y="692280"/>
              <a:ext cx="4608720" cy="4608360"/>
            </a:xfrm>
            <a:prstGeom prst="ellipse">
              <a:avLst/>
            </a:prstGeom>
            <a:solidFill>
              <a:srgbClr val="99cc00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rc 4"/>
            <p:cNvSpPr/>
            <p:nvPr/>
          </p:nvSpPr>
          <p:spPr>
            <a:xfrm>
              <a:off x="2782800" y="677880"/>
              <a:ext cx="2359080" cy="3294000"/>
            </a:xfrm>
            <a:prstGeom prst="pie">
              <a:avLst/>
            </a:prstGeom>
            <a:solidFill>
              <a:srgbClr val="0000ff"/>
            </a:solidFill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5"/>
          <p:cNvSpPr/>
          <p:nvPr/>
        </p:nvSpPr>
        <p:spPr>
          <a:xfrm>
            <a:off x="5263920" y="51588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руговой с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327640" y="136224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круга, ограниченная двумя радиусами и дугой, соединяющий концы этих радиу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2844720" y="2413080"/>
                <a:ext cx="901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"/>
              <p:cNvSpPr txBox="1"/>
              <p:nvPr/>
            </p:nvSpPr>
            <p:spPr>
              <a:xfrm>
                <a:off x="3224160" y="3332160"/>
                <a:ext cx="730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1"/>
              <p:cNvSpPr txBox="1"/>
              <p:nvPr/>
            </p:nvSpPr>
            <p:spPr>
              <a:xfrm>
                <a:off x="5662440" y="3987720"/>
                <a:ext cx="24447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12:39Z</dcterms:created>
  <dc:creator>Денис</dc:creator>
  <dc:description/>
  <dc:language>en-US</dc:language>
  <cp:lastModifiedBy>Денис</cp:lastModifiedBy>
  <dcterms:modified xsi:type="dcterms:W3CDTF">2009-08-24T06:15:12Z</dcterms:modified>
  <cp:revision>3</cp:revision>
  <dc:subject/>
  <dc:title>Площадь круга</dc:title>
</cp:coreProperties>
</file>