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CC1-565F-4D36-B142-716EEF9C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CB6-A25B-4FC9-8087-D8AE685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5FA-ADA2-45B5-9AB7-07B0F8CF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6F9-4EF4-4116-8CEB-AC00D568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BFF-6A04-4CBF-B1D1-C649ECE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EA4-17DF-4101-A150-0EC75D05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FE3-4609-47DD-96E3-C564FB1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0B3-FCED-45A7-B45E-E1C2638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904-017A-4F16-B7FE-9DEC64E2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A29-DDF4-4EB3-A209-02B15DD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D91-7720-4278-A194-E5F2E3D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8ED-9745-499D-8B6C-C9EE74F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A68B-E706-4EFE-9170-2C39AB913D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anghui_triangle.gi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выполне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соновой Мари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ей 10 А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. Михайлов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10 г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3049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реугольник Паска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600" y="990360"/>
            <a:ext cx="6019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вершине треугольника стоит 1. Треугольник можно продолжать неограниченно. Он обладает симметрией относительно вертикальной оси, проходящей через его вершину. Вдоль диагоналей (насколько у треугольника могут быть диагонали, но не будем придираться, такая терминология встречается в публикациях), параллельных сторонам треугольника (на рисунке отмечены зелеными линиями) выстроены треугольные числа и их обобщения на случай пространств всех размерн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ba7c3e"/>
                </a:solidFill>
                <a:uFillTx/>
                <a:latin typeface="Tahoma"/>
                <a:hlinkClick r:id="rId1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угольник Яна Хуэя в китайском средневековом манускрипте, 1303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е упоминание треугольной последовательности биномиальных коэффициентов под название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eru-prastaar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тречается в комментарии индийского математика X века Халаюдхи к трудам другого математика, Пингалы. Треугольник исследуется также Омаром Хайямом около 1100 года, поэтому в Иране эту схему называют треугольником Хайяма. В 1303 году была выпущена книга «Яшмовое зеркало четырёх элементов» китайского математика Чжу Шицзе, в которой был изображен треугольник Паскаля на одной из иллюстраций; считается, что изобрёл его другой китайский математик, Ян Хуэй (поэтому китайцы называют его треугольником Яна Хуэя). На титульном листе учебника арифметики, написанном в 1529 г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м Апианом, астрономом из Ингольтштадского университета, также изображён треугольник Паскаля. А в 1653 г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в других источниках в 1655 году) вышла книга Блеза Паскаля «Трактат об арифметическом треугольник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048120" y="228600"/>
            <a:ext cx="30477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Yanghui_triangle"/>
          <p:cNvPicPr/>
          <p:nvPr/>
        </p:nvPicPr>
        <p:blipFill>
          <a:blip r:embed="rId1"/>
          <a:stretch/>
        </p:blipFill>
        <p:spPr>
          <a:xfrm>
            <a:off x="4114800" y="0"/>
            <a:ext cx="4410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28600" y="17370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 Яна Хуэя в китайском средневековом манускрипте, 1303 г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ое число каждой строки соответствует её номер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тье число каждой строки равно сумме номеров строк, ей предшествующи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тье число каждой строки является треуголь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е число каждой строки является тетраэдрическ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чисел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й восходящей диагонали, проведенной через строку треугольника с номером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− 1, есть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е число Фибоначч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ычесть из центрального числа в строке с чётным номером соседнее число из той же строки, то получится число Катал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чисел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й строки треугольника Паскаля равна 2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ые делители чисел треугольника Паскаля образуют симметричные самоподобные структур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 треугольнике Паскаля все нечётные числа окрасить в чёрный цвет, а чётные - в белый, то образуется треугольник Серпинско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{n-1\choose 0}+{n-2\choose 1}+{n-3\choose 2}+\ldots=F_n."/>
          <p:cNvPicPr/>
          <p:nvPr/>
        </p:nvPicPr>
        <p:blipFill>
          <a:blip r:embed="rId1"/>
          <a:stretch/>
        </p:blipFill>
        <p:spPr>
          <a:xfrm>
            <a:off x="1143000" y="3581280"/>
            <a:ext cx="3438360" cy="486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2971800" y="228600"/>
            <a:ext cx="30481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6858000" y="4724280"/>
            <a:ext cx="763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http://ru.wikipedia.org/wiki/%D0%A2%D1%80%D0%B5%D1%83%D0%B3%D0%BE%D0%BB%D1%8C%D0%BD%D0%B8%D0%BA_%D0%9F%D0%B0%D1%81%D0%BA%D0%B0%D0%BB%D1%8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2. Фукс Д., Фукс М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Арифметика биномиальных коэффициентов //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ва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— 1970. — № 6. — С. 17-25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. Weisstein, Eric W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Pascal's Triangle (англ.) на сайте Wolfram MathWorl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4. Абачиев С. К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дужная фрактальность треугольника Паскаля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arbuz.uzpak.uz/u_treug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276720" y="0"/>
            <a:ext cx="259056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сы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угольник Паскаля так прост, что выписать его сможет даже десятилетний ребенок. В тоже время он таит в себе неисчерпаемые сокровища и связывает воедино различные аспекты математики, не имеющие на первый взгляд между собой ничего общего. Столь необычные свойства позволяют считать треугольник Паскаля одной из наиболее изящных схем во всей математике.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тин Гардне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68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угольник Паска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арифметический треугольник, образованный биномиальными коэффициентами. Назван в честь Блеза Паска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очертить треугольник Паскаля, то получится равнобедренный треугольник. В этом треугольнике на вершине и по бокам стоят единицы. Каждое число равно сумме двух расположенных над ним чисел. Продолжать треугольник можно бесконечно. Строки треугольника симметричны относительно вертикальной оси. Имеет применение в теории вероятности и обладает занимательными свойств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800px-Треугольник_Паскаля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6782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тин Гарднер пишет в книге "Математические новеллы" (М., Мир, 1974): "Треугольник Паскаля так прост, что выписать его сможет даже десятилетний ребенок. В тоже время он таит в себе неисчерпаемые сокровища и связывает воедино различные аспекты математики, не имеющие на первый взгляд между собой ничего общего. Столь необычные свойства позволяют считать треугольник Паскаля одной из наиболее изящных схем во всей математике"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360" y="914040"/>
            <a:ext cx="7010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оложим, что вы входите в город как показано на схеме синей стрелкой, и можете двигаться только вперед, точнее, все время выбирая, вперед налево, или вперед направо. Узлы, в которые можно попасть только единственным образом, отмечены зелеными смайликами, точка, в которую можно попасть двумя способами, показана красным смаликом, а тремя, соответственно, розовым. Это один из вариантов построения треугольника, предложенный Гуго Штейнгаузом в его классическом "Математическом калейдоскопе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А еще проще объясняют устройство треугольника Паскаля слова: каждое число равно сумме двух расположенных над ним чисел. Все элементарно, но сколько в этом таится чудес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3880" y="1449360"/>
            <a:ext cx="5715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27T23:08:3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