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1BB-5F9A-4DCF-9FA1-7D04738E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5B8-98FF-4B85-B4BD-C63EB418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EA4-B7B1-45C2-814F-6D72766B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15D-9032-41BD-8687-A486E1CE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6AA-7841-4674-89D4-3BB963F2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C40-9A8E-4852-8129-5A31A457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B8A-73DE-403E-BB32-625D1E97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82C-9271-47CF-B05D-9067AA8B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C4A-A8AD-4435-9A0D-979F9DEB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CFC-DB64-4EA7-BB07-608B5C40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097-B451-495B-BF8E-487B970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279-DF74-4490-ABD7-620757BF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D18D-8089-45FD-BFE7-3E02C76D81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vizitka/&#1057;&#1084;&#1080;&#1088;&#1085;&#1086;&#1074;&#1072;%20&#1058;.&#1053;.%20&#1057;&#1084;&#1080;&#1088;&#1085;&#1086;&#1074;&#1072;%20&#1043;.&#1050;..doc" TargetMode="External"/><Relationship Id="rId2" Type="http://schemas.openxmlformats.org/officeDocument/2006/relationships/hyperlink" Target="file:///../student%20support/student%20samples/student%20presentation/&#1042;&#1086;&#1076;&#1072;%20&#1086;&#1089;&#1085;&#1086;&#1074;&#1085;&#1086;&#1077;%20&#1073;&#1086;&#1075;&#1072;&#1090;&#1089;&#1090;&#1074;&#1086;%20&#1085;&#1072;%20&#1089;&#1074;&#1077;&#1090;&#1077;.ppt#Slide 1" TargetMode="External"/><Relationship Id="rId3" Type="http://schemas.openxmlformats.org/officeDocument/2006/relationships/hyperlink" Target="file:///../student%20support/&#1041;&#1091;&#1082;&#1083;&#1077;&#1090;.pub" TargetMode="External"/><Relationship Id="rId4" Type="http://schemas.openxmlformats.org/officeDocument/2006/relationships/hyperlink" Target="file:///../evaluation%20tools/&#1057;&#1084;&#1080;&#1088;&#1085;&#1086;&#1074;&#1072;%20&#1058;.&#1053;.%20&#1057;&#1084;&#1080;&#1088;&#1085;&#1086;&#1074;&#1072;%20&#1043;.&#1050;..doc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1936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 средняя общеобразовательная школа №8 города Костр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4572000"/>
            <a:ext cx="8130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ы: Смирнова Т.Н.; Смирнова Г.К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533520" y="2209680"/>
            <a:ext cx="822960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48236" dir="18059258" blurRad="0" rotWithShape="0">
                    <a:srgbClr val="66ccff"/>
                  </a:outerShdw>
                </a:effectLst>
                <a:latin typeface="Arial"/>
              </a:rPr>
              <a:t>Вода - источник жизн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48236" dir="18059258" blurRad="0" rotWithShape="0">
                  <a:srgbClr val="66cc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241280" y="677880"/>
            <a:ext cx="59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355760" y="34596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НОТ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09480" y="1219320"/>
            <a:ext cx="78264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ая тема проекта может быть использована на уроках естествознания в начальной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а – основное богатство на све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состояния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свойства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человек использует свойства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аст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учащиеся 4 клас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ебный предм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естествозн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8580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ДАКТИЧЕСКАЯ Ц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46280" y="164160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учащихся представление об основных свойствах воды и использовании их челове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2666880"/>
            <a:ext cx="71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ТОДИЧЕСКИЕ ЗАД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3733920"/>
            <a:ext cx="7750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ить знания детей о воде, как источнике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знания об условиях превращения воды – переходе из одного состояния в друг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убить знания об основных свойствах воды, как жидкости и использовании этих свойств челове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74880" y="65088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ОПОЛАГАЮЩИЙ ВО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31800" y="2049480"/>
            <a:ext cx="80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Без чего не будет жизни на Земл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84080" y="2895480"/>
            <a:ext cx="76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НЫЕ ВОПРО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55480" y="4038480"/>
            <a:ext cx="8131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ему воду называют «веществом жизни»?                                           - В каких состояниях может находится вода в приро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ми основными свойствами обладает во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е значение имеют свойства воды для жизнедеятельности челове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520" y="345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МЫ ИССЛЕДОВАТЕЛЬСКИХ РАБО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84080" y="2430360"/>
            <a:ext cx="75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31800" y="2658960"/>
            <a:ext cx="775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яния воды в приро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свойства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воды для жизне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31800" y="7542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АПЫ И СРОКИ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31800" y="243036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981080"/>
            <a:ext cx="8016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а - основное богатство на свете ( 1 урок, 10 минут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состояния воды ( 1 урок, 10 минут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свойства воды ( 2 урок, 20 минут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человек использует свойства воды ( 2 урок, 10 мину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55480" y="22860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УКТУРА УМ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1143000"/>
            <a:ext cx="843588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Визитная карто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ы работ уча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резент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Бук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и оценивания (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презент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убликация, сайт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дактический матери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- Те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Карт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Кроссвор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е материа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-Список используемых информационных рес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708120" y="7542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ТАКТНАЯ ИНФОРМ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79520" y="2049480"/>
            <a:ext cx="7978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6019 город Костро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. 2-ая Глазковская, 27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. 22-01-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СОШ №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08120" y="4191120"/>
            <a:ext cx="790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торы про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ирнова Татьяна Никола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ирнова Галина Константин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3:00:50Z</dcterms:created>
  <dc:creator>u2</dc:creator>
  <dc:description/>
  <dc:language>en-US</dc:language>
  <cp:lastModifiedBy>Коля</cp:lastModifiedBy>
  <dcterms:modified xsi:type="dcterms:W3CDTF">2013-03-14T20:09:55Z</dcterms:modified>
  <cp:revision>15</cp:revision>
  <dc:subject/>
  <dc:title>Презентация PowerPoint</dc:title>
</cp:coreProperties>
</file>