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D82-195F-40DF-9ABA-F8553D8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B4F-7F16-4977-85E0-4FDA65B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947-FA5E-451D-ADA9-8AB496A3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88C-1577-413C-95F2-36A2CCFA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8BD-10EB-40CF-8BA4-F035255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ABD-0286-4051-9E74-4452F635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945-DCD6-49C7-8E33-F25FBB8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36B-0CCE-4C14-B063-A37C6211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5A4-C7D6-4D13-B151-10F2C7F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119-AF7C-4EED-A2F5-091279F9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AF4-3B93-413C-B722-2486751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4FF-0BF5-484C-A6C4-BCEBC4BA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DB2-6840-4048-95BE-6F914BCCB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vizitka/&#1057;&#1084;&#1080;&#1088;&#1085;&#1086;&#1074;&#1072;%20&#1058;.&#1053;.%20&#1057;&#1084;&#1080;&#1088;&#1085;&#1086;&#1074;&#1072;%20&#1043;.&#1050;..doc" TargetMode="External"/><Relationship Id="rId2" Type="http://schemas.openxmlformats.org/officeDocument/2006/relationships/hyperlink" Target="file:///../student%20support/student%20samples/student%20presentation/&#1042;&#1086;&#1076;&#1072;%20&#1086;&#1089;&#1085;&#1086;&#1074;&#1085;&#1086;&#1077;%20&#1073;&#1086;&#1075;&#1072;&#1090;&#1089;&#1090;&#1074;&#1086;%20&#1085;&#1072;%20&#1089;&#1074;&#1077;&#1090;&#1077;.ppt#Slide 1" TargetMode="External"/><Relationship Id="rId3" Type="http://schemas.openxmlformats.org/officeDocument/2006/relationships/hyperlink" Target="file:///../student%20support/&#1041;&#1091;&#1082;&#1083;&#1077;&#1090;.pub" TargetMode="External"/><Relationship Id="rId4" Type="http://schemas.openxmlformats.org/officeDocument/2006/relationships/hyperlink" Target="file:///../evaluation%20tools/&#1057;&#1084;&#1080;&#1088;&#1085;&#1086;&#1074;&#1072;%20&#1058;.&#1053;.%20&#1057;&#1084;&#1080;&#1088;&#1085;&#1086;&#1074;&#1072;%20&#1043;.&#1050;..doc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193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средняя общеобразовательная школа №8 города Костр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4572000"/>
            <a:ext cx="8130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: Смирнова Т.Н.; Смирнова Г.К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533520" y="2209680"/>
            <a:ext cx="822960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48236" dir="18059258" blurRad="0" rotWithShape="0">
                    <a:srgbClr val="66ccff"/>
                  </a:outerShdw>
                </a:effectLst>
                <a:latin typeface="Arial"/>
              </a:rPr>
              <a:t>Вода - источник жизн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48236" dir="18059258" blurRad="0" rotWithShape="0">
                  <a:srgbClr val="66cc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41280" y="67788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355760" y="34596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НОТ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9480" y="1219320"/>
            <a:ext cx="78264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ая тема проекта может быть использована на уроках естествознания в начальной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– основное богатство на све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остояния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человек использует свойства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ст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учащиеся 4 кла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ебный предм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естествозн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8580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ДАКТИЧЕСКАЯ Ц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46280" y="164160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учащихся представление об основных свойствах воды и использовании их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266688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ИЧЕСКИЕ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3733920"/>
            <a:ext cx="7750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ить знания детей о воде, как источнике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знания об условиях превращения воды – переходе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убить знания об основных свойствах воды, как жидкости и использовании этих свойств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74880" y="65088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31800" y="2049480"/>
            <a:ext cx="80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ез чего не будет жизни на Земл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84080" y="289548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НЫЕ ВОПРО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5480" y="4038480"/>
            <a:ext cx="8131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воду называют «веществом жизни»?                                           - В каких состояниях может находится вода в прир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ми основными свойствами обладает во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значение имеют свойства воды для жизнедеятельности челове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345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Ы ИССЛЕДОВАТЕЛЬСКИХ РАБО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84080" y="2430360"/>
            <a:ext cx="75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31800" y="2658960"/>
            <a:ext cx="775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ния воды в приро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воды для жизне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31800" y="7542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АПЫ И СРОКИ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31800" y="2430360"/>
            <a:ext cx="775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981080"/>
            <a:ext cx="801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- основное богатство на свете ( 1 урок, 10 минут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остояния воды ( 1 урок, 10 минут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воды ( 2 урок, 20 минут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человек использует свойства воды ( 2 урок, 10 мину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55480" y="22860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УКТУРА УМ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1143000"/>
            <a:ext cx="843588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Визитная карт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ы работ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резен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Бук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и оценивания (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презент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убликация, сайт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дактический матери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- Т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Карт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е материа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-Список используемых информационных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08120" y="7542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ТАКТНАЯ ИНФОРМ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79520" y="2049480"/>
            <a:ext cx="7978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6019 город Костро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. 2-ая Глазковская, 27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. 22-01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СОШ №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8120" y="4191120"/>
            <a:ext cx="790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ы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ирнова Татьян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ирнова Галина Константи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3:00:50Z</dcterms:created>
  <dc:creator>u2</dc:creator>
  <dc:description/>
  <dc:language>en-US</dc:language>
  <cp:lastModifiedBy>Коля</cp:lastModifiedBy>
  <dcterms:modified xsi:type="dcterms:W3CDTF">2013-03-14T20:09:55Z</dcterms:modified>
  <cp:revision>15</cp:revision>
  <dc:subject/>
  <dc:title>Презентация PowerPoint</dc:title>
</cp:coreProperties>
</file>