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53B-AAFE-43CA-8769-56C632AD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9C0-BA9C-444F-93FB-A39EFBAD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95D-0C52-494A-968C-C93E4978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BD4E-F7AE-42F8-B16E-554424E0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F3A22-4EA8-4772-840B-F254830E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BF304-A329-4A20-8F97-D4FCF8E7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669A0-3362-437F-9A5B-8F10002D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2F57E-8195-48E8-8F52-7081602A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155E9-9F05-4D87-BFE7-6C9932A7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1E371-4EB0-43FE-B1FB-6C940517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FB25B-125F-45BF-A314-CA9F49AD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DFE-9CF5-4375-A3C8-80DC6BD1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C0D1D-47AF-42E5-8AF2-293530D0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680AD-25CD-4C42-92A7-3A410353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1E778-0F23-44E0-B1B2-A0626ED0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6B1EC-E34F-4F27-A363-78384177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6DCCE-9D55-4C98-B5AF-CB7B7525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018-857D-47BC-A187-8F153439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B01-1164-422A-BC4C-D64C2C5A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B90-1785-47CF-963F-F80F2BD0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5FE-918E-473E-82B4-FA0429DE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3EE-1018-4FBB-ADA0-617EFD8B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ABD-3349-4129-9DE6-576EA290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17D-A8FF-46DE-B479-945710CB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9BDF-8AEC-40A9-ACC0-74C6910CCE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C1C3-0AAE-4FDD-9115-6371901594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755640" y="428760"/>
            <a:ext cx="77724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i="1" lang="ru-RU" sz="6000" spc="-1" strike="noStrike">
                <a:solidFill>
                  <a:srgbClr val="ffffff"/>
                </a:solidFill>
                <a:latin typeface="Tahoma"/>
              </a:rPr>
              <a:t>Вода – особенная жидкост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4780080"/>
            <a:ext cx="9156960" cy="1084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брые мысли делают мир чищ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ши добрые мысли могут изменить все вокруг. Самый прямой способ очищения мира – всегда держать наши мысли в чистот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а является «зеркалом души», только чистой душе соответствует чистая в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7" descr="priroda037[1]"/>
          <p:cNvPicPr/>
          <p:nvPr/>
        </p:nvPicPr>
        <p:blipFill>
          <a:blip r:embed="rId1"/>
          <a:stretch/>
        </p:blipFill>
        <p:spPr>
          <a:xfrm>
            <a:off x="468360" y="3933720"/>
            <a:ext cx="3816360" cy="26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priroda032[1]"/>
          <p:cNvPicPr/>
          <p:nvPr/>
        </p:nvPicPr>
        <p:blipFill>
          <a:blip r:embed="rId2"/>
          <a:stretch/>
        </p:blipFill>
        <p:spPr>
          <a:xfrm>
            <a:off x="4932360" y="3933720"/>
            <a:ext cx="3743280" cy="2662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84360" y="571680"/>
            <a:ext cx="7920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да – это совершенно особенная жидкость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не только основа всей биологической жизни на Земле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не только основа нашего организма. Вода – важнейший информационный носител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755640" y="0"/>
            <a:ext cx="7656480" cy="76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Цель исследова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оретически обосновать и экспериментально доказать гипотезу о воде как некой мыслящей инстанции, обменивающейся информацией с окружающим миром в условиях домашнего наблюд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Задачи исследования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ить научно-публицестическую литературу по данной тем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мотреть понятие «вода – мыслящая стихия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мотреть опыт кристаллизации вод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явить и экспериментально проверить свойства воды как информационного носите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бъект исследовани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формационное свойство в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редмет исследовани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формационное воздействие воды на окружающую сре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Гипотез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да является некоей мыслящей инстанцией, обменивающейся информацией с окружающим ми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ще с древних времен вода – это начало всех начал, стихия, из которой произошла жизн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5003640" y="1773360"/>
            <a:ext cx="37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еанами и морями занято почти 75 % нашей планеты. Вода, словно кровь жизни, циркулирует в стволах ветвях и листьях деревьев, в каждой травинке, в каждом цветке. На ¾ из воды состоит тело человека или любого  другого живого су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8" descr="priroda049[1]"/>
          <p:cNvPicPr/>
          <p:nvPr/>
        </p:nvPicPr>
        <p:blipFill>
          <a:blip r:embed="rId1"/>
          <a:stretch/>
        </p:blipFill>
        <p:spPr>
          <a:xfrm>
            <a:off x="684360" y="4194000"/>
            <a:ext cx="3816360" cy="2403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9" descr="abstraction011[1]"/>
          <p:cNvPicPr/>
          <p:nvPr/>
        </p:nvPicPr>
        <p:blipFill>
          <a:blip r:embed="rId2"/>
          <a:stretch/>
        </p:blipFill>
        <p:spPr>
          <a:xfrm>
            <a:off x="684360" y="1628640"/>
            <a:ext cx="3816360" cy="230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крытия ученых , наблюдения тибетских монахов, неожиданные и смелые гипотезы, уникальные результаты многолетних исследований перевернули привычные представления подвигая человечество к новому пониманию законов мироздания и открыли захватывающие перспективы: возможность программирования воды, лечение водой сложнейших заболеваний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правление пого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3212640"/>
            <a:ext cx="4537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едительные доказательства информационных свойств воды были найдены японским ученым Эмото Масару, ученый открыл способ сделать видимой для человеческого глаза способность воды запоминать информац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3" descr="Безимени-5"/>
          <p:cNvPicPr/>
          <p:nvPr/>
        </p:nvPicPr>
        <p:blipFill>
          <a:blip r:embed="rId1"/>
          <a:stretch/>
        </p:blipFill>
        <p:spPr>
          <a:xfrm>
            <a:off x="4788000" y="3213000"/>
            <a:ext cx="4032000" cy="338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ыт ученого показал, что вода имеет жизнь, каждое слово, каждая мелодия имеют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3" descr="Безимени-1"/>
          <p:cNvPicPr/>
          <p:nvPr/>
        </p:nvPicPr>
        <p:blipFill>
          <a:blip r:embed="rId1"/>
          <a:stretch/>
        </p:blipFill>
        <p:spPr>
          <a:xfrm>
            <a:off x="826920" y="1700280"/>
            <a:ext cx="2789280" cy="220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9" name="Picture 14" descr="Безимени-2"/>
          <p:cNvPicPr/>
          <p:nvPr/>
        </p:nvPicPr>
        <p:blipFill>
          <a:blip r:embed="rId2"/>
          <a:stretch/>
        </p:blipFill>
        <p:spPr>
          <a:xfrm>
            <a:off x="5148360" y="1700280"/>
            <a:ext cx="2879640" cy="2255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Безимени-3"/>
          <p:cNvPicPr/>
          <p:nvPr/>
        </p:nvPicPr>
        <p:blipFill>
          <a:blip r:embed="rId3"/>
          <a:stretch/>
        </p:blipFill>
        <p:spPr>
          <a:xfrm>
            <a:off x="771480" y="4292640"/>
            <a:ext cx="2863800" cy="230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Безимени-4"/>
          <p:cNvPicPr/>
          <p:nvPr/>
        </p:nvPicPr>
        <p:blipFill>
          <a:blip r:embed="rId4"/>
          <a:stretch/>
        </p:blipFill>
        <p:spPr>
          <a:xfrm>
            <a:off x="5148360" y="4265640"/>
            <a:ext cx="2835000" cy="2359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8"/>
          <p:cNvSpPr/>
          <p:nvPr/>
        </p:nvSpPr>
        <p:spPr>
          <a:xfrm>
            <a:off x="179280" y="3500280"/>
            <a:ext cx="1403280" cy="5050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4572000" y="3573360"/>
            <a:ext cx="1368360" cy="4320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чт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179280" y="6237360"/>
            <a:ext cx="2592360" cy="4316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бовь к человечеств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4643280" y="6165720"/>
            <a:ext cx="266544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частливого Рождества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по - английск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оказательство нашей гипотезы, мы провели эксперименты.</a:t>
            </a:r>
            <a:br>
              <a:rPr sz="24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перимент №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2920" y="2349360"/>
            <a:ext cx="40388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ы залили рис в двух стаканах с водой и в течении месяца первой говорили «любовь и спасибо», другой «война, голод». Через месяц рис в первом стакане стал бродить, издавая приятный запах, вода была светлого, почти прозрачного цвета, рис во втором - почернел, стал загнивать и издавать отвратительный зап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13" descr="IMG_0056"/>
          <p:cNvPicPr/>
          <p:nvPr/>
        </p:nvPicPr>
        <p:blipFill>
          <a:blip r:embed="rId1"/>
          <a:stretch/>
        </p:blipFill>
        <p:spPr>
          <a:xfrm>
            <a:off x="457200" y="2448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перимент №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038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отдельные стаканы с водой нами был посажен лук. В первом стакане вода была проведена через электромагнитное поле, а в другой – вода набиралась из крана. Через 2 недели корневая система лука во вором стакане стала загнивать, и вода приобрела мутный оттенок и тухлый запах, а корневая система лука в первом стакане была здорова, а перьевой ствол был густой и высокий, с ярким окрас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IMG_4190"/>
          <p:cNvPicPr/>
          <p:nvPr/>
        </p:nvPicPr>
        <p:blipFill>
          <a:blip r:embed="rId1"/>
          <a:stretch/>
        </p:blipFill>
        <p:spPr>
          <a:xfrm>
            <a:off x="4648320" y="1989000"/>
            <a:ext cx="4171680" cy="388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перимент №3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емкость с черноземом была посеяна рожь. При поливе первой емкости в воду транслировались слова «любовь и благодарность», а во второй – «разлом и преступление» через две недели мы получили результаты. В первой емкости выросла прекрасная зеленая рожь, а во второй – больная, жухлая трав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7" descr="IMG_0055"/>
          <p:cNvPicPr/>
          <p:nvPr/>
        </p:nvPicPr>
        <p:blipFill>
          <a:blip r:embed="rId1"/>
          <a:stretch/>
        </p:blipFill>
        <p:spPr>
          <a:xfrm>
            <a:off x="4643280" y="2565360"/>
            <a:ext cx="4038840" cy="3343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5:04:54Z</dcterms:created>
  <dc:creator>1</dc:creator>
  <dc:description/>
  <dc:language>en-US</dc:language>
  <cp:lastModifiedBy>Olimp</cp:lastModifiedBy>
  <dcterms:modified xsi:type="dcterms:W3CDTF">2008-03-03T15:53:36Z</dcterms:modified>
  <cp:revision>7</cp:revision>
  <dc:subject/>
  <dc:title>Тема исследования.  Вода – особенная жидкость</dc:title>
</cp:coreProperties>
</file>