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C0A-B27F-4FB4-AB46-85262922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23F-1466-42D0-9398-FD13E6AD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79D-5EFC-4FA4-919C-B4D9D8D4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15D-2045-4F62-A332-2AB2EEBA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E9D1D-267B-4DD4-A3AA-84B4B437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96E2E-D574-4820-A876-1D65AF44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E7151-C3EC-43F0-B34D-02B42852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33713-582C-4AF8-9A00-A8117D8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BD0D6-9221-4312-A548-5F3E8A7C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846D4-FD16-462B-B2E2-4C0B20E9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1632C-F6D3-42B4-BF65-B8D90A6C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817-F23F-45D1-9E06-F9412626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F5D20-B377-4C44-84F9-275A3E56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138A9-BAD7-4945-B4F7-02289A9C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FC7D2-2132-49A4-BF06-97B2AECF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769EB-65A2-460D-BFA9-93397AC8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4F9D4-F4CD-4E8D-8410-4D5D4179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C14-B9F8-440A-859C-79DE5068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FB7-E05D-4074-880D-844A917C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7BE-D874-4DEB-B262-9E0A88DE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955-E8B1-44F8-9618-B929CA66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C66-F4DB-4CDA-B045-1BA53BD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2DC-46B4-4886-8AF7-6C508693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2BC-20A0-4694-9E38-47AD733D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D3D9-4A18-4003-A068-F8CEA3B47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A42A-149E-47F8-8272-C37E6DC2CF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755640" y="428760"/>
            <a:ext cx="77724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Вода – особенная жидкост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4780080"/>
            <a:ext cx="9156960" cy="1084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брые мысли делают мир чищ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и добрые мысли могут изменить все вокруг. Самый прямой способ очищения мира – всегда держать наши мысли в чисто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а является «зеркалом души», только чистой душе соответствует чистая в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priroda037[1]"/>
          <p:cNvPicPr/>
          <p:nvPr/>
        </p:nvPicPr>
        <p:blipFill>
          <a:blip r:embed="rId1"/>
          <a:stretch/>
        </p:blipFill>
        <p:spPr>
          <a:xfrm>
            <a:off x="468360" y="3933720"/>
            <a:ext cx="381636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priroda032[1]"/>
          <p:cNvPicPr/>
          <p:nvPr/>
        </p:nvPicPr>
        <p:blipFill>
          <a:blip r:embed="rId2"/>
          <a:stretch/>
        </p:blipFill>
        <p:spPr>
          <a:xfrm>
            <a:off x="4932360" y="3933720"/>
            <a:ext cx="3743280" cy="266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4360" y="571680"/>
            <a:ext cx="7920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да – это совершенно особенная жидкость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не только основа всей биологической жизни на Земле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не только основа нашего организма. Вода – важнейший информационный носител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755640" y="0"/>
            <a:ext cx="7656480" cy="76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Цель исследова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оретически обосновать и экспериментально доказать гипотезу о воде как некой мыслящей инстанции, обменивающейся информацией с окружающим миром в условиях домашнего наблю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Задачи исследования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научно-публицестическую литературу по данной те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отреть понятие «вода – мыслящая стихия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мотреть опыт кристаллизации вод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явить и экспериментально проверить свойства воды как информационного носите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бъект исследовани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онное свойство в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едмет исследовани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онное воздействие воды на окружающую сре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Гипотез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а является некоей мыслящей инстанцией, обменивающейся информацией с окружающим ми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ще с древних времен вода – это начало всех начал, стихия, из которой произошла жизн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5003640" y="1773360"/>
            <a:ext cx="37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еанами и морями занято почти 75 % нашей планеты. Вода, словно кровь жизни, циркулирует в стволах ветвях и листьях деревьев, в каждой травинке, в каждом цветке. На ¾ из воды состоит тело человека или любого  другого живого су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28" descr="priroda049[1]"/>
          <p:cNvPicPr/>
          <p:nvPr/>
        </p:nvPicPr>
        <p:blipFill>
          <a:blip r:embed="rId1"/>
          <a:stretch/>
        </p:blipFill>
        <p:spPr>
          <a:xfrm>
            <a:off x="684360" y="4194000"/>
            <a:ext cx="3816360" cy="240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9" descr="abstraction011[1]"/>
          <p:cNvPicPr/>
          <p:nvPr/>
        </p:nvPicPr>
        <p:blipFill>
          <a:blip r:embed="rId2"/>
          <a:stretch/>
        </p:blipFill>
        <p:spPr>
          <a:xfrm>
            <a:off x="684360" y="1628640"/>
            <a:ext cx="3816360" cy="230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ия ученых , наблюдения тибетских монахов, неожиданные и смелые гипотезы, уникальные результаты многолетних исследований перевернули привычные представления подвигая человечество к новому пониманию законов мироздания и открыли захватывающие перспективы: возможность программирования воды, лечение водой сложнейших заболеваний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равление пого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3212640"/>
            <a:ext cx="4537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ельные доказательства информационных свойств воды были найдены японским ученым Эмото Масару, ученый открыл способ сделать видимой для человеческого глаза способность воды запоминать информац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3" descr="Безимени-5"/>
          <p:cNvPicPr/>
          <p:nvPr/>
        </p:nvPicPr>
        <p:blipFill>
          <a:blip r:embed="rId1"/>
          <a:stretch/>
        </p:blipFill>
        <p:spPr>
          <a:xfrm>
            <a:off x="4788000" y="3213000"/>
            <a:ext cx="4032000" cy="338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ыт ученого показал, что вода имеет жизнь, каждое слово, каждая мелодия имеют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3" descr="Безимени-1"/>
          <p:cNvPicPr/>
          <p:nvPr/>
        </p:nvPicPr>
        <p:blipFill>
          <a:blip r:embed="rId1"/>
          <a:stretch/>
        </p:blipFill>
        <p:spPr>
          <a:xfrm>
            <a:off x="826920" y="1700280"/>
            <a:ext cx="278928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14" descr="Безимени-2"/>
          <p:cNvPicPr/>
          <p:nvPr/>
        </p:nvPicPr>
        <p:blipFill>
          <a:blip r:embed="rId2"/>
          <a:stretch/>
        </p:blipFill>
        <p:spPr>
          <a:xfrm>
            <a:off x="5148360" y="1700280"/>
            <a:ext cx="2879640" cy="2255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Безимени-3"/>
          <p:cNvPicPr/>
          <p:nvPr/>
        </p:nvPicPr>
        <p:blipFill>
          <a:blip r:embed="rId3"/>
          <a:stretch/>
        </p:blipFill>
        <p:spPr>
          <a:xfrm>
            <a:off x="771480" y="4292640"/>
            <a:ext cx="2863800" cy="2305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Безимени-4"/>
          <p:cNvPicPr/>
          <p:nvPr/>
        </p:nvPicPr>
        <p:blipFill>
          <a:blip r:embed="rId4"/>
          <a:stretch/>
        </p:blipFill>
        <p:spPr>
          <a:xfrm>
            <a:off x="5148360" y="4265640"/>
            <a:ext cx="2835000" cy="2359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8"/>
          <p:cNvSpPr/>
          <p:nvPr/>
        </p:nvSpPr>
        <p:spPr>
          <a:xfrm>
            <a:off x="179280" y="3500280"/>
            <a:ext cx="1403280" cy="5050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4572000" y="3573360"/>
            <a:ext cx="1368360" cy="432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чт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79280" y="6237360"/>
            <a:ext cx="2592360" cy="43164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бовь к человечеств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4643280" y="6165720"/>
            <a:ext cx="2665440" cy="5032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астливого Рождества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о - английск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оказательство нашей гипотезы, мы провели эксперименты.</a:t>
            </a:r>
            <a:br>
              <a:rPr sz="24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2920" y="2349360"/>
            <a:ext cx="40388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залили рис в двух стаканах с водой и в течении месяца первой говорили «любовь и спасибо», другой «война, голод». Через месяц рис в первом стакане стал бродить, издавая приятный запах, вода была светлого, почти прозрачного цвета, рис во втором - почернел, стал загнивать и издавать отвратительный зап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13" descr="IMG_0056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 №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38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отдельные стаканы с водой нами был посажен лук. В первом стакане вода была проведена через электромагнитное поле, а в другой – вода набиралась из крана. Через 2 недели корневая система лука во вором стакане стала загнивать, и вода приобрела мутный оттенок и тухлый запах, а корневая система лука в первом стакане была здорова, а перьевой ствол был густой и высокий, с ярким окрас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IMG_4190"/>
          <p:cNvPicPr/>
          <p:nvPr/>
        </p:nvPicPr>
        <p:blipFill>
          <a:blip r:embed="rId1"/>
          <a:stretch/>
        </p:blipFill>
        <p:spPr>
          <a:xfrm>
            <a:off x="4648320" y="1989000"/>
            <a:ext cx="4171680" cy="388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сперимент №3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емкость с черноземом была посеяна рожь. При поливе первой емкости в воду транслировались слова «любовь и благодарность», а во второй – «разлом и преступление» через две недели мы получили результаты. В первой емкости выросла прекрасная зеленая рожь, а во второй – больная, жухлая трав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7" descr="IMG_0055"/>
          <p:cNvPicPr/>
          <p:nvPr/>
        </p:nvPicPr>
        <p:blipFill>
          <a:blip r:embed="rId1"/>
          <a:stretch/>
        </p:blipFill>
        <p:spPr>
          <a:xfrm>
            <a:off x="4643280" y="2565360"/>
            <a:ext cx="4038840" cy="3343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5:04:54Z</dcterms:created>
  <dc:creator>1</dc:creator>
  <dc:description/>
  <dc:language>en-US</dc:language>
  <cp:lastModifiedBy>Olimp</cp:lastModifiedBy>
  <dcterms:modified xsi:type="dcterms:W3CDTF">2008-03-03T15:53:36Z</dcterms:modified>
  <cp:revision>7</cp:revision>
  <dc:subject/>
  <dc:title>Тема исследования.  Вода – особенная жидкость</dc:title>
</cp:coreProperties>
</file>