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B37E-13A1-4CCC-87A5-C355EA6D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378A-C29C-4221-877A-FDD7DA27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2FD6-8611-44F1-93BA-EFF848FF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D0C0-E480-4CAE-BDC0-12FF0D6E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C281B-455B-439A-9A61-82786028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04C96-2A6C-4557-94BB-E50A2FED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18419-9D62-4A52-96E0-7998B231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4D0E9-E79A-4DC6-BBE7-0EFA649B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71179-61B3-4786-833A-5576DDB8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FCD4D-E0FA-4072-9AF5-FB87A3A7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E65B6-927E-4655-ABF4-A3AFB0D8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E255-6BB7-4488-910A-21559859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0C88C-F771-48DE-B9DF-C8A2B3AB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12F45-46FF-4511-86AE-FC12B23D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86675-53C1-4E32-9352-CF5CE792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69D6B-AAC7-4DD0-8C12-67C37143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E21E4-6034-4068-B65A-BCD57EFA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BF37-F61E-4E93-AFA0-789EA4DA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85ED-780D-48A0-B019-26BDF918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284C-7237-4866-97BB-B8360EE3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C98-799E-411B-B4CA-947378D6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F730-9625-454D-B45E-9FB64573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C45-2EFA-4142-A340-3C0D1B7D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584B-C785-43F3-82A6-8F137A5B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75E7-443A-42D5-879B-F9561F53EA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CEF2-62B5-4766-896A-FA02FBFD26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755640" y="428760"/>
            <a:ext cx="77724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i="1" lang="ru-RU" sz="6000" spc="-1" strike="noStrike">
                <a:solidFill>
                  <a:srgbClr val="ffffff"/>
                </a:solidFill>
                <a:latin typeface="Tahoma"/>
              </a:rPr>
              <a:t>Вода – особенная жидкост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4780080"/>
            <a:ext cx="9156960" cy="1084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брые мысли делают мир чищ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ши добрые мысли могут изменить все вокруг. Самый прямой способ очищения мира – всегда держать наши мысли в чистот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а является «зеркалом души», только чистой душе соответствует чистая в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7" descr="priroda037[1]"/>
          <p:cNvPicPr/>
          <p:nvPr/>
        </p:nvPicPr>
        <p:blipFill>
          <a:blip r:embed="rId1"/>
          <a:stretch/>
        </p:blipFill>
        <p:spPr>
          <a:xfrm>
            <a:off x="468360" y="3933720"/>
            <a:ext cx="3816360" cy="266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priroda032[1]"/>
          <p:cNvPicPr/>
          <p:nvPr/>
        </p:nvPicPr>
        <p:blipFill>
          <a:blip r:embed="rId2"/>
          <a:stretch/>
        </p:blipFill>
        <p:spPr>
          <a:xfrm>
            <a:off x="4932360" y="3933720"/>
            <a:ext cx="3743280" cy="2662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84360" y="571680"/>
            <a:ext cx="7920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да – это совершенно особенная жидкость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то не только основа всей биологической жизни на Земле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то не только основа нашего организма. Вода – важнейший информационный носител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755640" y="0"/>
            <a:ext cx="7656480" cy="76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Цель исследова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оретически обосновать и экспериментально доказать гипотезу о воде как некой мыслящей инстанции, обменивающейся информацией с окружающим миром в условиях домашнего наблюд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Задачи исследования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ить научно-публицестическую литературу по данной тем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мотреть понятие «вода – мыслящая стихия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мотреть опыт кристаллизации вод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явить и экспериментально проверить свойства воды как информационного носите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бъект исследования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формационное свойство в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редмет исследования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формационное воздействие воды на окружающую сре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Гипотез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да является некоей мыслящей инстанцией, обменивающейся информацией с окружающим ми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ще с древних времен вода – это начало всех начал, стихия, из которой произошла жизн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5003640" y="1773360"/>
            <a:ext cx="37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еанами и морями занято почти 75 % нашей планеты. Вода, словно кровь жизни, циркулирует в стволах ветвях и листьях деревьев, в каждой травинке, в каждом цветке. На ¾ из воды состоит тело человека или любого  другого живого сущ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28" descr="priroda049[1]"/>
          <p:cNvPicPr/>
          <p:nvPr/>
        </p:nvPicPr>
        <p:blipFill>
          <a:blip r:embed="rId1"/>
          <a:stretch/>
        </p:blipFill>
        <p:spPr>
          <a:xfrm>
            <a:off x="684360" y="4194000"/>
            <a:ext cx="3816360" cy="2403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9" descr="abstraction011[1]"/>
          <p:cNvPicPr/>
          <p:nvPr/>
        </p:nvPicPr>
        <p:blipFill>
          <a:blip r:embed="rId2"/>
          <a:stretch/>
        </p:blipFill>
        <p:spPr>
          <a:xfrm>
            <a:off x="684360" y="1628640"/>
            <a:ext cx="3816360" cy="2303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крытия ученых , наблюдения тибетских монахов, неожиданные и смелые гипотезы, уникальные результаты многолетних исследований перевернули привычные представления подвигая человечество к новому пониманию законов мироздания и открыли захватывающие перспективы: возможность программирования воды, лечение водой сложнейших заболеваний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правление пого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3212640"/>
            <a:ext cx="4537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бедительные доказательства информационных свойств воды были найдены японским ученым Эмото Масару, ученый открыл способ сделать видимой для человеческого глаза способность воды запоминать информац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3" descr="Безимени-5"/>
          <p:cNvPicPr/>
          <p:nvPr/>
        </p:nvPicPr>
        <p:blipFill>
          <a:blip r:embed="rId1"/>
          <a:stretch/>
        </p:blipFill>
        <p:spPr>
          <a:xfrm>
            <a:off x="4788000" y="3213000"/>
            <a:ext cx="4032000" cy="3384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ыт ученого показал, что вода имеет жизнь, каждое слово, каждая мелодия имеют жиз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3" descr="Безимени-1"/>
          <p:cNvPicPr/>
          <p:nvPr/>
        </p:nvPicPr>
        <p:blipFill>
          <a:blip r:embed="rId1"/>
          <a:stretch/>
        </p:blipFill>
        <p:spPr>
          <a:xfrm>
            <a:off x="826920" y="1700280"/>
            <a:ext cx="2789280" cy="220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9" name="Picture 14" descr="Безимени-2"/>
          <p:cNvPicPr/>
          <p:nvPr/>
        </p:nvPicPr>
        <p:blipFill>
          <a:blip r:embed="rId2"/>
          <a:stretch/>
        </p:blipFill>
        <p:spPr>
          <a:xfrm>
            <a:off x="5148360" y="1700280"/>
            <a:ext cx="2879640" cy="2255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Безимени-3"/>
          <p:cNvPicPr/>
          <p:nvPr/>
        </p:nvPicPr>
        <p:blipFill>
          <a:blip r:embed="rId3"/>
          <a:stretch/>
        </p:blipFill>
        <p:spPr>
          <a:xfrm>
            <a:off x="771480" y="4292640"/>
            <a:ext cx="2863800" cy="230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Безимени-4"/>
          <p:cNvPicPr/>
          <p:nvPr/>
        </p:nvPicPr>
        <p:blipFill>
          <a:blip r:embed="rId4"/>
          <a:stretch/>
        </p:blipFill>
        <p:spPr>
          <a:xfrm>
            <a:off x="5148360" y="4265640"/>
            <a:ext cx="2835000" cy="2359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8"/>
          <p:cNvSpPr/>
          <p:nvPr/>
        </p:nvSpPr>
        <p:spPr>
          <a:xfrm>
            <a:off x="179280" y="3500280"/>
            <a:ext cx="1403280" cy="5050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4572000" y="3573360"/>
            <a:ext cx="1368360" cy="4320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чт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179280" y="6237360"/>
            <a:ext cx="2592360" cy="4316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бовь к человечеств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4643280" y="6165720"/>
            <a:ext cx="266544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частливого Рождества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по - английск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оказательство нашей гипотезы, мы провели эксперименты.</a:t>
            </a:r>
            <a:br>
              <a:rPr sz="24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сперимент №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2920" y="2349360"/>
            <a:ext cx="40388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ы залили рис в двух стаканах с водой и в течении месяца первой говорили «любовь и спасибо», другой «война, голод». Через месяц рис в первом стакане стал бродить, издавая приятный запах, вода была светлого, почти прозрачного цвета, рис во втором - почернел, стал загнивать и издавать отвратительный зап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13" descr="IMG_0056"/>
          <p:cNvPicPr/>
          <p:nvPr/>
        </p:nvPicPr>
        <p:blipFill>
          <a:blip r:embed="rId1"/>
          <a:stretch/>
        </p:blipFill>
        <p:spPr>
          <a:xfrm>
            <a:off x="457200" y="2448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сперимент №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038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отдельные стаканы с водой нами был посажен лук. В первом стакане вода была проведена через электромагнитное поле, а в другой – вода набиралась из крана. Через 2 недели корневая система лука во вором стакане стала загнивать, и вода приобрела мутный оттенок и тухлый запах, а корневая система лука в первом стакане была здорова, а перьевой ствол был густой и высокий, с ярким окрас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IMG_4190"/>
          <p:cNvPicPr/>
          <p:nvPr/>
        </p:nvPicPr>
        <p:blipFill>
          <a:blip r:embed="rId1"/>
          <a:stretch/>
        </p:blipFill>
        <p:spPr>
          <a:xfrm>
            <a:off x="4648320" y="1989000"/>
            <a:ext cx="4171680" cy="388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сперимент №3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емкость с черноземом была посеяна рожь. При поливе первой емкости в воду транслировались слова «любовь и благодарность», а во второй – «разлом и преступление» через две недели мы получили результаты. В первой емкости выросла прекрасная зеленая рожь, а во второй – больная, жухлая трав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7" descr="IMG_0055"/>
          <p:cNvPicPr/>
          <p:nvPr/>
        </p:nvPicPr>
        <p:blipFill>
          <a:blip r:embed="rId1"/>
          <a:stretch/>
        </p:blipFill>
        <p:spPr>
          <a:xfrm>
            <a:off x="4643280" y="2565360"/>
            <a:ext cx="4038840" cy="3343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5:04:54Z</dcterms:created>
  <dc:creator>1</dc:creator>
  <dc:description/>
  <dc:language>en-US</dc:language>
  <cp:lastModifiedBy>Olimp</cp:lastModifiedBy>
  <dcterms:modified xsi:type="dcterms:W3CDTF">2008-03-03T15:53:36Z</dcterms:modified>
  <cp:revision>7</cp:revision>
  <dc:subject/>
  <dc:title>Тема исследования.  Вода – особенная жидкость</dc:title>
</cp:coreProperties>
</file>