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0DE-9719-4C11-9C98-ACD83DD2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36E-AB85-4F9F-8597-63F8723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6CA-E6E7-43FD-9536-1A8C953B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C7C-84EF-4EEF-A1A9-89A9114B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6C5-63EE-414D-A0E5-F7A60919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AA6-C284-4D79-BCDE-E2D10B3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AFA8-BB7A-4584-9329-37D7380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43AA-ABEC-475F-8416-F7F59C0C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144-7328-4871-8557-C5BE287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FD46-8C25-4EB2-B609-3E779C5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34E-43F9-4EA5-985A-6630C178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C4C-64B6-4BFC-AE2F-7C43E4D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20D-921B-47A9-AB59-F2AB4E6E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B2B1-A93B-4C05-A27C-AD7B1F1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AEEE-D52E-46AE-86A9-700113A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E169-06E3-41A2-916C-AAE4ABCF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4BD1-0CA8-455B-8748-259A7FC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6E8-17D9-444A-BCBE-66DE489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1EA-BF96-4078-A580-FD0E8F4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8DE-E7B1-428F-B3FF-81C8E205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3E1-E8FF-4A15-8F3A-2EEC3DAF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C1B-34CB-424A-87EB-6192446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CCD-BAA4-450C-AA07-C3AA048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6FE-801E-4C49-8777-0C66C1B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A534-CE61-45F5-B4A3-3D7AC7349C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389-CBB3-4B8F-A235-2495890CFE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ЮВЕНАЛЬНАЯ ЮСТИЦИЯ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яя ювенальную юстицию, мы лишь затрачиваем огромное количество средств и не можем и не сможем увидеть какого-либо экономического или социального эфф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674720"/>
            <a:ext cx="4191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совершеннолетние, сегодня не попавшие в сферу внимания правоохранительных и судебных органов, имеют более высокие шансы стать благополучными и добропорядочными гражданами, успешными, создающими семьи и способствующими росту собственного и национального благо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я ювенальной  юстиции не повлияет на уменьшения преступ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714680"/>
            <a:ext cx="464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нно ювенальная юстиция дает возможность существенно уменьшить число преступлений. Дело в том, что задача ювенального суда — не только наказать юного преступника, но и разобраться в причинах, толкнувших его на преступление, и предотвратить его дальнейшее криминальное повед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начнут подавать в суд на своих родителей и, тем самым, злоупотреблять своими пра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533240"/>
            <a:ext cx="321804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ти и сегодня вправе подавать в суд на своих роди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Ювенальные суды в данном вопросе положения в корне не изменят и позволят всего лишь более внимательно и более профессионально разбирать подобные дела, а ювенальные судьи – получат возможность более вдумчиво относиться к пониманию того, что происходит в семье и как помочь ребёнку и его семье в восстановлении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созданием ювенальных судов возрастёт количество решений о лишении родительских п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44936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 сведениям Уполномоченного по правам ребёнка в городе Москве, с 2004 по 2008 год количество московских семей, в которых родители были лишены родительских прав возросло с 1 426 до 2 32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аким образом, статистика свидетельствует не просто о неэффективности действующей системы, но и о её разрушительном действ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Ювенальные суды «на Западе» часто допускают ошибки при решении вопросов, связанных с передачей ребёнка одному из родителей. Ряд сюжетов в российских СМИ это наглядно демонстрир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1549800"/>
            <a:ext cx="495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ынешней судебной и правоприменительной практике существует множество решений российских судов, в которых ребёнок, будучи признанным «бывшим членом семьи», подвергается принудительному выселению из квартиры, принадлежащей его отцу. Данное положение создаётся, в том числе, и по причине непрофессионализма неспециалистов-судей, поскольку такое решение ювенальный судья, «узкий специалист», просто не мог бы принять, поскольку это являлось бы решением, в корне противоречащим норме статьи 3 Конвенции о правах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Ювенальный суд окажется вне рамок обычного правосудия, предполагающего состязательный характер, то есть что родители не смогут защититься ни самостоятельно, ни с помощью адвоката, а на решение ювенального суда некуда будет пожалова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59840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самом деле легко убедиться, что эти опасения несостоятельны, — достаточно прочесть законопроект о ювенальном суде, где сказано, что такие суды создаются в рамках судебной системы общей юрисдикции, где прописаны порядок подотчетности ювенальных судов и порядок обжалования их ре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1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ы опеки смогут отбирать детей у род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522440"/>
            <a:ext cx="4191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ники ювенальной юстиции, которые предлагают ввести ее в России, как раз и говорят о том, что не органы опеки должны отбирать детей, а суды должны это решать. Суды могут более разумно и взвешено подходить к тем ситуациям, когда детей действительно необходимо изымать из опасной для жизни ср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ТОЛЬКО ЦИФР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 числа осужденных с применением ювенальных технологий  по приговору модельного ювенального суда города Таганрога повторно совершили преступление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4 год 3,5 % несовершеннолетни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5 году-3,5 %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6 - 5,4%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7- 4,5% несовершеннолетн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Ростовской области в течении последних восьми этот процент сниз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19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до 4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проц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по Ростовской обла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ло осуждено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2092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ростка, из них 1085 человек прошли через ювенальные су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ли в судах общей юрисдикции 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центах случаев к малолетним преступникам было применено наказание в виде лишения свободы, то в ювенальных судах таких было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сего 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ерез руки социального работника прошли 911 несовершеннолет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30 человек получили необходимую психологическую помощ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5 смогли найти работ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56 вновь пошли учить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 были направлены на лечение к нарколог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0 семей смогли наладить свои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, если в среднем по России 30-40% однажды осужденных подростков снова попадают на скамью подсудимых, то в тех 15 судах Ростовской области, которые работают с применением ювенальных технологий, средний процент рецидива - 10-1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венальная юстиция – это реально работающий инстру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ТО ТАКОЕ ЮВЕНАЛЬНАЯ ЮСТИЦИ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Ювенальная юсти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Juvenile Justice – в переводе с англ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правосудие для несовершеннолетних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льные тенденции в профилактике безнадзорности, сокращения уровня преступности несовершеннолетних – всё это сухие цифры, за которыми стоят истории конкретных семей, и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сколько эффективно будет функционировать ювенальная юстиция зависит от конкретных людей: законодателей, исполнителей, социальных работников, педагогов и психологов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ЧТО ДЕЛАТЬ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о заниматься правовым просвещением — и родителей, и педагогов, и работников органов опе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работать опыт других стран уже имеющих Ювенальную юстиц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зять самое лучше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и  не повторять 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ужно, чтобы общество глубоко осознало проблему защиты семей и 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лжно быть широкое общественное обсужд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ы ведь очень многое можем сделать и реши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лько активность наша должна быть конструктивной, а не сводиться к истеричным лозунгам и призывам уничтожить всех, кто за ювенальную юстици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ЮВЕНАЛЬНОЙ ЮСТИЦИИ 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ОССИИ – БЫТЬ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венальная юстиция не ущемляет ничьих прав, а наоборот помогает решить многие пробл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1206360"/>
            <a:ext cx="701064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лагодарим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Немного из истории ювенальной юстиции в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Российская модель ювенальной юстиции» была очень удач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 70% несовершеннолетних правонарушителей «детские» суды отправляли не в тюрьмы, а под надзор попечителей, наблюдавших за их поведением. Да и сам суд рассматривался как «орган государственного попечения о несовершеннолетних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ако в 1918 Совнарком России решил отменить эту практик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гда и появились комиссии по несовершеннолетним, которым фактически подчинялись суды, выносившие решения по «детским» делам. Участие юристов в таких комиссиях было сведено к миниму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 России</a:t>
            </a: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система детских судов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явилась в 1910 г.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эксперты считают, что эти акты надолго «задали тон» системе советского правосудия в отношении детей. И не в последнюю очередь, именно поэтому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сегодня проблема организации системы ювенальной юстиции является одной из наиболее актуальных проблем Российской Федерации в области защиты прав де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Ювенальная юстиция – </a:t>
            </a:r>
            <a:br>
              <a:rPr sz="36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«Зачем это нужно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чом российского государства является ежегодный рост количества правонарушений, совершаемых детьми и подростками. Отмечается рост насильственных и корыстных преступлений, преступность несовершеннолетних постепенно приобретает организованный и групповой характер. Почти каждое третье правонарушение совершается неработающими и неучащиемися подростками. Значительное число подростков совершают общественно опасные деяния до достижения возраста уголовной ответ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за 2008 год в России убито в своих семьях около 2 000 детей и пропало без вести более 10 000 детей, стало социальными сиротами более 100 000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задачи и ц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ЮВЕНАЛЬНОЙ ЮСТ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5562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заимодействие всех органов и организаций, специализирующихся на работе с несовершеннолетними, является основой функционирования системы ювенальной юст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держание и цель ювенальной юстиции – сохранение или реабилитация личности ребенка при осознанной неотвратимости наказания за содея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ая задача и ювенальной юстиции состоит в том, чтобы вывести несовершеннолетних из общей системы карательной юстиции. Именно на это направлены положения многочисленных международных договоров, участником которых является Ро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личительным признаком и сущностью ювенальной юстиции являются приоритет интересов развития личности несовершеннолетнего и его социализац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оссии в целом сформирована нормативно-правовая база, обеспечивающая защиту прав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приняты все нормативные правовые акты, создающие правовую базу для надлежащего осуществления правосудия в отношении несовершеннолетних с учетом условий их жизни и воспитания, а также уровня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зидент РФ Д.Медведев в 2009 году однозначно признаёт, что полноценная система защиты прав ребёнка в России не соз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На совещании по вопросам борьбы с преступлениями против детей Президент РФ дословно сказал: «Нам необходима нормальная система защиты детства во всех смыслах этого слова. Сегодня такой системы в стране просто нет…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12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здание ювенальных судов способно разрушить всю систему российского правосуд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598760"/>
            <a:ext cx="351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громное количество примеров существования ювенальных судов в большинстве стран цивилизованного мира свидетельствует о том, что такие суды не просто не разрушают их систему правосудия, но и заметно повышают её эффективно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ena</cp:lastModifiedBy>
  <dcterms:modified xsi:type="dcterms:W3CDTF">2002-02-25T07:07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