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7CB-A77E-42B6-AED4-C90DBAC3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B61-A94D-4F69-BAD5-7389CA76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47A-5E8D-4CC5-BE2B-47E81240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12D-7D75-4CA3-9F92-828C9902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BCBB-72DD-44B9-99D8-6E74E77B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A5FA-40CB-440E-B282-AB633466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77B0-2F83-42E7-AAA2-D7CD2BAB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B06D-D9C5-4279-BCDA-3C2B68D4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1C55-FC7C-4BFD-ACB7-4A0C657C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92ED-5859-44C8-A5A3-40FDE3C6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6EE2-4B6E-49C6-B9EE-2BFA796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270-3C57-45DC-9895-500AAB01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1D3F-F4D4-4782-AC51-34B8A739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2C5A-C112-4085-A7BB-3A09D183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AD1F-79B8-4C16-AB73-BA926EAB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19CD-E779-4D17-8D78-B90C7EC1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5D0F-FB0E-4735-B190-0DDD91D1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729-F697-43CF-B3E2-213A10BD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BC1-4F54-4AED-B345-505398A8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592-13AE-401C-84A6-4B87570F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0F0-E138-4715-8298-D02B2883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F1B-8E7E-4F53-88AB-192B0B21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31C-F7DD-4119-B4E1-B64B310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D96-8984-444A-9CED-DAB1D8F3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2D21-545C-49AB-833F-96AC630F2E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7EE5-1605-4F06-B765-B1099AFFD3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ЮВЕНАЛЬНАЯ ЮСТИЦИЯ 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яя ювенальную юстицию, мы лишь затрачиваем огромное количество средств и не можем и не сможем увидеть какого-либо экономического или социального эффек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674720"/>
            <a:ext cx="4191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совершеннолетние, сегодня не попавшие в сферу внимания правоохранительных и судебных органов, имеют более высокие шансы стать благополучными и добропорядочными гражданами, успешными, создающими семьи и способствующими росту собственного и национального благосостоя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ения ювенальной  юстиции не повлияет на уменьшения преступ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1714680"/>
            <a:ext cx="464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менно ювенальная юстиция дает возможность существенно уменьшить число преступлений. Дело в том, что задача ювенального суда — не только наказать юного преступника, но и разобраться в причинах, толкнувших его на преступление, и предотвратить его дальнейшее криминальное повед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и начнут подавать в суд на своих родителей и, тем самым, злоупотреблять своими прав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533240"/>
            <a:ext cx="321804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ти и сегодня вправе подавать в суд на своих роди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Ювенальные суды в данном вопросе положения в корне не изменят и позволят всего лишь более внимательно и более профессионально разбирать подобные дела, а ювенальные судьи – получат возможность более вдумчиво относиться к пониманию того, что происходит в семье и как помочь ребёнку и его семье в восстановлении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созданием ювенальных судов возрастёт количество решений о лишении родительских пра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449360"/>
            <a:ext cx="38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 сведениям Уполномоченного по правам ребёнка в городе Москве, с 2004 по 2008 год количество московских семей, в которых родители были лишены родительских прав возросло с 1 426 до 2 32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аким образом, статистика свидетельствует не просто о неэффективности действующей системы, но и о её разрушительном действ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Ювенальные суды «на Западе» часто допускают ошибки при решении вопросов, связанных с передачей ребёнка одному из родителей. Ряд сюжетов в российских СМИ это наглядно демонстриру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1549800"/>
            <a:ext cx="4952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нынешней судебной и правоприменительной практике существует множество решений российских судов, в которых ребёнок, будучи признанным «бывшим членом семьи», подвергается принудительному выселению из квартиры, принадлежащей его отцу. Данное положение создаётся, в том числе, и по причине непрофессионализма неспециалистов-судей, поскольку такое решение ювенальный судья, «узкий специалист», просто не мог бы принять, поскольку это являлось бы решением, в корне противоречащим норме статьи 3 Конвенции о правах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Ювенальный суд окажется вне рамок обычного правосудия, предполагающего состязательный характер, то есть что родители не смогут защититься ни самостоятельно, ни с помощью адвоката, а на решение ювенального суда некуда будет пожаловать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598400"/>
            <a:ext cx="3657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самом деле легко убедиться, что эти опасения несостоятельны, — достаточно прочесть законопроект о ювенальном суде, где сказано, что такие суды создаются в рамках судебной системы общей юрисдикции, где прописаны порядок подотчетности ювенальных судов и порядок обжалования их реш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1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ы опеки смогут отбирать детей у родите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1522440"/>
            <a:ext cx="4191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торонники ювенальной юстиции, которые предлагают ввести ее в России, как раз и говорят о том, что не органы опеки должны отбирать детей, а суды должны это решать. Суды могут более разумно и взвешено подходить к тем ситуациям, когда детей действительно необходимо изымать из опасной для жизни сре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ТОЛЬКО ЦИФРЫ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 числа осужденных с применением ювенальных технологий  по приговору модельного ювенального суда города Таганрога повторно совершили преступление толь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04 год 3,5 % несовершеннолетни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2005 году-3,5 %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2006 - 5,4%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07- 4,5% несовершеннолетн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Ростовской области в течении последних восьми этот процент снизил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 19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 до 4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 проце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казатели по Ростовской обла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ыло осуждено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2092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ростка, из них 1085 человек прошли через ювенальные су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если в судах общей юрисдикции 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9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центах случаев к малолетним преступникам было применено наказание в виде лишения свободы, то в ювенальных судах таких было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сего 9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через руки социального работника прошли 911 несовершеннолетн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30 человек получили необходимую психологическую помощ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05 смогли найти работ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56 вновь пошли учить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 были направлены на лечение к нарколог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80 семей смогли наладить свои отнош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, если в среднем по России 30-40% однажды осужденных подростков снова попадают на скамью подсудимых, то в тех 15 судах Ростовской области, которые работают с применением ювенальных технологий, средний процент рецидива - 10-11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венальная юстиция – это реально работающий инстру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ЧТО ТАКОЕ ЮВЕНАЛЬНАЯ ЮСТИЦИЯ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Ювенальная юсти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Juvenile Justice – в переводе с англ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правосудие для несовершеннолетних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ожительные тенденции в профилактике безнадзорности, сокращения уровня преступности несовершеннолетних – всё это сухие цифры, за которыми стоят истории конкретных семей, и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сколько эффективно будет функционировать ювенальная юстиция зависит от конкретных людей: законодателей, исполнителей, социальных работников, педагогов и психологов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ЧТО ДЕЛАТЬ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о заниматься правовым просвещением — и родителей, и педагогов, и работников органов опе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оработать опыт других стран уже имеющих Ювенальную юстиц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взять самое лучшее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и  не повторять 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ужно, чтобы общество глубоко осознало проблему защиты семей и де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Должно быть широкое общественное обсуждени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ы ведь очень многое можем сделать и решит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олько активность наша должна быть конструктивной, а не сводиться к истеричным лозунгам и призывам уничтожить всех, кто за ювенальную юстици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ЮВЕНАЛЬНОЙ ЮСТИЦИИ В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ОССИИ – БЫТЬ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Ювенальная юстиция не ущемляет ничьих прав, а наоборот помогает решить многие пробл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1206360"/>
            <a:ext cx="701064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лагодарим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Немного из истории ювенальной юстиции в Росси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Российская модель ювенальной юстиции» была очень удачн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 70% несовершеннолетних правонарушителей «детские» суды отправляли не в тюрьмы, а под надзор попечителей, наблюдавших за их поведением. Да и сам суд рассматривался как «орган государственного попечения о несовершеннолетних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ако в 1918 Совнарком России решил отменить эту практик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гда и появились комиссии по несовершеннолетним, которым фактически подчинялись суды, выносившие решения по «детским» делам. Участие юристов в таких комиссиях было сведено к миниму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В России</a:t>
            </a: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система детских судов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появилась в 1910 г.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эксперты считают, что эти акты надолго «задали тон» системе советского правосудия в отношении детей. И не в последнюю очередь, именно поэтому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сегодня проблема организации системы ювенальной юстиции является одной из наиболее актуальных проблем Российской Федерации в области защиты прав де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Ювенальная юстиция – </a:t>
            </a:r>
            <a:br>
              <a:rPr sz="36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«Зачем это нужно?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ичом российского государства является ежегодный рост количества правонарушений, совершаемых детьми и подростками. Отмечается рост насильственных и корыстных преступлений, преступность несовершеннолетних постепенно приобретает организованный и групповой характер. Почти каждое третье правонарушение совершается неработающими и неучащиемися подростками. Значительное число подростков совершают общественно опасные деяния до достижения возраста уголовной ответств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за 2008 год в России убито в своих семьях около 2 000 детей и пропало без вести более 10 000 детей, стало социальными сиротами более 100 000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5257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ы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задачи и цел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ЮВЕНАЛЬНОЙ ЮСТИ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556280"/>
            <a:ext cx="693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заимодействие всех органов и организаций, специализирующихся на работе с несовершеннолетними, является основой функционирования системы ювенальной юсти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держание и цель ювенальной юстиции – сохранение или реабилитация личности ребенка при осознанной неотвратимости наказания за содеян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ная задача и ювенальной юстиции состоит в том, чтобы вывести несовершеннолетних из общей системы карательной юстиции. Именно на это направлены положения многочисленных международных договоров, участником которых является Росс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тличительным признаком и сущностью ювенальной юстиции являются приоритет интересов развития личности несовершеннолетнего и его социализац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России в целом сформирована нормативно-правовая база, обеспечивающая защиту прав ребё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настоящее время приняты все нормативные правовые акты, создающие правовую базу для надлежащего осуществления правосудия в отношении несовершеннолетних с учетом условий их жизни и воспитания, а также уровня психического развит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езидент РФ Д.Медведев в 2009 году однозначно признаёт, что полноценная система защиты прав ребёнка в России не созд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На совещании по вопросам борьбы с преступлениями против детей Президент РФ дословно сказал: «Нам необходима нормальная система защиты детства во всех смыслах этого слова. Сегодня такой системы в стране просто нет…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ЗА» и «ПРОТИВ»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ргумент       Контраргу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12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здание ювенальных судов способно разрушить всю систему российского правосуд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1598760"/>
            <a:ext cx="351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громное количество примеров существования ювенальных судов в большинстве стран цивилизованного мира свидетельствует о том, что такие суды не просто не разрушают их систему правосудия, но и заметно повышают её эффективнос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lena</cp:lastModifiedBy>
  <dcterms:modified xsi:type="dcterms:W3CDTF">2002-02-25T07:07:2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