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EF6D-C35E-4175-93D0-CFEBE1518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BA71-04E0-46F8-BF01-14C004466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390B-D933-4E67-B174-B700186B8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0F93-4325-4CD1-84DE-58248EA09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ECF3A-C192-4D41-86BC-DA33E3E0B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DF678-B3AF-453D-9FFA-7656251F7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573F3-BBE9-41E0-BF22-4A8485C66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F44ED-F385-477C-88F8-2F4E02CB0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3EDEA-639D-47DB-BC6F-D15CC0414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61FE8-557C-42DC-B3EC-CDCC256D1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2F57F-07DA-4666-821F-9BCE210F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C206-7E3E-4AE8-A801-226AA2DA3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8C996-BD65-46D2-ADFF-DF67C9B1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47B47-EF72-4F1D-835B-8F6B2BE9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94FB8-1C71-49A2-85DA-1CEEC4C5E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90987-324F-4EFF-AB9F-4200AADC0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865C6-B4DD-42D4-BE40-2BE7BF79A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5156-4A56-4E00-B539-F4F13321D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5698-21F8-4E10-84CB-7CE1B27A3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69DC-4A19-4766-8363-7E856D9FB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93F9-BAF5-4F24-AE27-23903D67F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D75C-4109-48F8-B19D-59020611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7377-50C4-4CA8-B4E4-A2E389CE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F8F0-73A9-4D71-9164-EACAE74C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9BB24-4F4E-4218-8535-64BD942F5B9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B9686-20E2-4EC7-86FB-BB1888286C8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ЮВЕНАЛЬНАЯ ЮСТИЦИЯ </a:t>
            </a:r>
            <a:br>
              <a:rPr sz="5400"/>
            </a:b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«за» и «против»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«ЗА» и «ПРОТИВ»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Аргумент        Контраргумент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недряя ювенальную юстицию, мы лишь затрачиваем огромное количество средств и не можем и не сможем увидеть какого-либо экономического или социального эффек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1674720"/>
            <a:ext cx="41911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Несовершеннолетние, сегодня не попавшие в сферу внимания правоохранительных и судебных органов, имеют более высокие шансы стать благополучными и добропорядочными гражданами, успешными, создающими семьи и способствующими росту собственного и национального благосостоя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«ЗА» и «ПРОТИВ»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Аргумент       Контраргумент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886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ведения ювенальной  юстиции не повлияет на уменьшения преступн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4191120" y="1714680"/>
            <a:ext cx="46479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Именно ювенальная юстиция дает возможность существенно уменьшить число преступлений. Дело в том, что задача ювенального суда — не только наказать юного преступника, но и разобраться в причинах, толкнувших его на преступление, и предотвратить его дальнейшее криминальное поведени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«ЗА» и «ПРОТИВ»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Аргумент        Контраргумент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4267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ети начнут подавать в суд на своих родителей и, тем самым, злоупотреблять своими права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1533240"/>
            <a:ext cx="321804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Дети и сегодня вправе подавать в суд на своих родителе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Ювенальные суды в данном вопросе положения в корне не изменят и позволят всего лишь более внимательно и более профессионально разбирать подобные дела, а ювенальные судьи – получат возможность более вдумчиво относиться к пониманию того, что происходит в семье и как помочь ребёнку и его семье в восстановлении отношени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«ЗА» и «ПРОТИВ»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Аргумент       Контраргумент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886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 созданием ювенальных судов возрастёт количество решений о лишении родительских пра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4800600" y="1449360"/>
            <a:ext cx="38098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 сведениям Уполномоченного по правам ребёнка в городе Москве, с 2004 по 2008 год количество московских семей, в которых родители были лишены родительских прав возросло с 1 426 до 2 326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Таким образом, статистика свидетельствует не просто о неэффективности действующей системы, но и о её разрушительном действ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«ЗА» и «ПРОТИВ»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Аргумент       Контраргумент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191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Ювенальные суды «на Западе» часто допускают ошибки при решении вопросов, связанных с передачей ребёнка одному из родителей. Ряд сюжетов в российских СМИ это наглядно демонстрирую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4191120" y="1549800"/>
            <a:ext cx="49528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В нынешней судебной и правоприменительной практике существует множество решений российских судов, в которых ребёнок, будучи признанным «бывшим членом семьи», подвергается принудительному выселению из квартиры, принадлежащей его отцу. Данное положение создаётся, в том числе, и по причине непрофессионализма неспециалистов-судей, поскольку такое решение ювенальный судья, «узкий специалист», просто не мог бы принять, поскольку это являлось бы решением, в корне противоречащим норме статьи 3 Конвенции о правах ребён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«ЗА» и «ПРОТИВ»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Аргумент       Контраргумент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52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Ювенальный суд окажется вне рамок обычного правосудия, предполагающего состязательный характер, то есть что родители не смогут защититься ни самостоятельно, ни с помощью адвоката, а на решение ювенального суда некуда будет пожаловатьс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4495680" y="1598400"/>
            <a:ext cx="36576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На самом деле легко убедиться, что эти опасения несостоятельны, — достаточно прочесть законопроект о ювенальном суде, где сказано, что такие суды создаются в рамках судебной системы общей юрисдикции, где прописаны порядок подотчетности ювенальных судов и порядок обжалования их решени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«ЗА» и «ПРОТИВ»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Аргумент       Контраргумент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514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рганы опеки смогут отбирать детей у родителе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4267080" y="1522440"/>
            <a:ext cx="41911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Сторонники ювенальной юстиции, которые предлагают ввести ее в России, как раз и говорят о том, что не органы опеки должны отбирать детей, а суды должны это решать. Суды могут более разумно и взвешено подходить к тем ситуациям, когда детей действительно необходимо изымать из опасной для жизни сред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ТОЛЬКО ЦИФРЫ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з числа осужденных с применением ювенальных технологий  по приговору модельного ювенального суда города Таганрога повторно совершили преступление тольк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2004 год 3,5 % несовершеннолетних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 2005 году-3,5 %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 2006 - 5,4%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2007- 4,5% несовершеннолетних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 Ростовской области в течении последних восьми этот процент снизилс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 19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5 до 4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5 процент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532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Показатели по Ростовской област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было осуждено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2092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дростка, из них 1085 человек прошли через ювенальные суд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если в судах общей юрисдикции в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9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роцентах случаев к малолетним преступникам было применено наказание в виде лишения свободы, то в ювенальных судах таких было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сего 9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через руки социального работника прошли 911 несовершеннолетних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330 человек получили необходимую психологическую помощ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05 смогли найти работу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56 вновь пошли учитьс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30 были направлены на лечение к наркологу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80 семей смогли наладить свои отношени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результате, если в среднем по России 30-40% однажды осужденных подростков снова попадают на скамью подсудимых, то в тех 15 судах Ростовской области, которые работают с применением ювенальных технологий, средний процент рецидива - 10-11%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Ювенальная юстиция – это реально работающий инструмен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ЧТО ТАКОЕ ЮВЕНАЛЬНАЯ ЮСТИЦИЯ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Tahoma"/>
              </a:rPr>
              <a:t>Ювенальная юстици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(Juvenile Justice – в переводе с англ.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«правосудие для несовершеннолетних»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оложительные тенденции в профилактике безнадзорности, сокращения уровня преступности несовершеннолетних – всё это сухие цифры, за которыми стоят истории конкретных семей, и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насколько эффективно будет функционировать ювенальная юстиция зависит от конкретных людей: законодателей, исполнителей, социальных работников, педагогов и психологов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839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ЧТО ДЕЛАТЬ?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еобходимо заниматься правовым просвещением — и родителей, и педагогов, и работников органов опек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оработать опыт других стран уже имеющих Ювенальную юстицию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взять самое лучшее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и  не повторять их ошибок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8320" y="236232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Нужно, чтобы общество глубоко осознало проблему защиты семей и дет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Должно быть широкое общественное обсуждени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Мы ведь очень многое можем сделать и решить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Только активность наша должна быть конструктивной, а не сводиться к истеричным лозунгам и призывам уничтожить всех, кто за ювенальную юстицию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ЮВЕНАЛЬНОЙ ЮСТИЦИИ В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РОССИИ – БЫТЬ!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Ювенальная юстиция не ущемляет ничьих прав, а наоборот помогает решить многие проблем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371600" y="3200400"/>
            <a:ext cx="7010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838080" y="1206360"/>
            <a:ext cx="7010640" cy="46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Благодарим за внимание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167652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Немного из истории ювенальной юстиции в России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91440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«Российская модель ювенальной юстиции» была очень удачно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о 70% несовершеннолетних правонарушителей «детские» суды отправляли не в тюрьмы, а под надзор попечителей, наблюдавших за их поведением. Да и сам суд рассматривался как «орган государственного попечения о несовершеннолетних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днако в 1918 Совнарком России решил отменить эту практик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огда и появились комиссии по несовершеннолетним, которым фактически подчинялись суды, выносившие решения по «детским» делам. Участие юристов в таких комиссиях было сведено к минимум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В России</a:t>
            </a:r>
            <a:r>
              <a:rPr b="1" lang="en-US" sz="8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система детских судов </a:t>
            </a:r>
            <a:br>
              <a:rPr sz="3600"/>
            </a:b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появилась в 1910 г.</a:t>
            </a: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ногие эксперты считают, что эти акты надолго «задали тон» системе советского правосудия в отношении детей. И не в последнюю очередь, именно поэтому </a:t>
            </a: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сегодня проблема организации системы ювенальной юстиции является одной из наиболее актуальных проблем Российской Федерации в области защиты прав дете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Ювенальная юстиция – </a:t>
            </a:r>
            <a:br>
              <a:rPr sz="36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«Зачем это нужно?»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ичом российского государства является ежегодный рост количества правонарушений, совершаемых детьми и подростками. Отмечается рост насильственных и корыстных преступлений, преступность несовершеннолетних постепенно приобретает организованный и групповой характер. Почти каждое третье правонарушение совершается неработающими и неучащиемися подростками. Значительное число подростков совершают общественно опасные деяния до достижения возраста уголовной ответствен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олько за 2008 год в России убито в своих семьях около 2 000 детей и пропало без вести более 10 000 детей, стало социальными сиротами более 100 000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133360" y="609480"/>
            <a:ext cx="5257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сновы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задачи и цел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ЮВЕНАЛЬНОЙ ЮСТИ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1556280"/>
            <a:ext cx="69339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Взаимодействие всех органов и организаций, специализирующихся на работе с несовершеннолетними, является основой функционирования системы ювенальной юстиц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Содержание и цель ювенальной юстиции – сохранение или реабилитация личности ребенка при осознанной неотвратимости наказания за содеянно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Основная задача и ювенальной юстиции состоит в том, чтобы вывести несовершеннолетних из общей системы карательной юстиции. Именно на это направлены положения многочисленных международных договоров, участником которых является Росс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отличительным признаком и сущностью ювенальной юстиции являются приоритет интересов развития личности несовершеннолетнего и его социализац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«ЗА» и «ПРОТИВ»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Аргумент       Контраргумент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В России в целом сформирована нормативно-правовая база, обеспечивающая защиту прав ребён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В настоящее время приняты все нормативные правовые акты, создающие правовую базу для надлежащего осуществления правосудия в отношении несовершеннолетних с учетом условий их жизни и воспитания, а также уровня психического развит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резидент РФ Д.Медведев в 2009 году однозначно признаёт, что полноценная система защиты прав ребёнка в России не создан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(На совещании по вопросам борьбы с преступлениями против детей Президент РФ дословно сказал: «Нам необходима нормальная система защиты детства во всех смыслах этого слова. Сегодня такой системы в стране просто нет…»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«ЗА» и «ПРОТИВ»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Аргумент       Контраргумент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1244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Создание ювенальных судов способно разрушить всю систему российского правосуд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4876920" y="1598760"/>
            <a:ext cx="3510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Огромное количество примеров существования ювенальных судов в большинстве стран цивилизованного мира свидетельствует о том, что такие суды не просто не разрушают их систему правосудия, но и заметно повышают её эффективность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lena</cp:lastModifiedBy>
  <dcterms:modified xsi:type="dcterms:W3CDTF">2002-02-25T07:07:27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