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FD27-1826-4692-896C-A67B66015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ая работа предстоит учителям и руководителям образовательных учреждений, и, конечн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ть необходимость поддержки  и с вашей стороны, уважаемые родители. Не случайно, мы приводим на слайде Обращение к родителям (СОШ №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Неверно думать, что если у вас нет специального образования, вы не сможете помочь своему ребенку подготовиться к ЕГ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Вы можете помочь в организации самоподготовки: предлагайте  раз в неделю выполнить один из тестов типовых вариантов ЕГЭ. Пользуясь инструкцией  по выполнению теста и таблицей ответов, вы сможете проверить задания А 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Ваша поддержка важна ему для формирования как психологической готовности к экзамену, так и позитивного отношения к новой форме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BFA-AE8A-4E40-A6E5-7DFA9518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0C8-B083-4EBA-98CF-67C6D6ED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45F-2159-4520-B80E-873E47A2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21F-25F0-4E18-9D51-CF0FFDE2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1DB-D00B-496E-8BCA-A67A56C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E71-B6D9-4DA9-BF88-A94A5BEA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1EC-6A13-404F-B6D8-88CE04F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B20-D41F-439B-9B7C-6CB7FB9F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E85-EE1E-449A-A210-71A1A164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47F-424F-4E7E-A532-C5C5BD97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DDE-6802-41DE-B42D-570434D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747-0622-4736-90DC-3F276145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9E9A-FAE5-4B92-9B2E-1A7DE2F4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0" y="274680"/>
            <a:ext cx="55436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щие положения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706480" cy="5730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666880" y="1219320"/>
            <a:ext cx="55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сударственная (итоговая) аттестация выпускников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лассов общеобразовательных учреждений Саратовской области, независимо от формы получения образования, после освоения ими общеобразовательных программ основного общего образования является обяза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71680" y="3929040"/>
            <a:ext cx="7858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 государственной (итоговой)  аттестации допускаются обучающиеся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лассов, освоившие общеобразовательные программы основного общего образования и имеющие положительные годовые отметки по предметам учебного плана общеобразовательного учреждения, а также обучающиеся, имеющие одну неудовлетворительную годовую отметку, с обязательной сдачей экзамена по этому предмет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 домашних не меш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Хорошо бы ввести в интерьер для занятий желтые и фиолетовые цвета, поскольку они повышают интеллектуальную активность 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остаточно повесить на стену картину, сшить покрывало или подушки, или просто развесить над столом листы цветной бумаг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3815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те внимание на питание ребенка: во время интенсивного умственного напряжения ему необходима питательная и разнообразная пища, сбалансированный комплекс витами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е продукты, как рыба, творог, орехи, курага стимулируют работу головного моз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4067280" cy="3467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2634" t="7652" r="3945" b="0"/>
          <a:stretch/>
        </p:blipFill>
        <p:spPr>
          <a:xfrm>
            <a:off x="228600" y="4267080"/>
            <a:ext cx="44197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85680" y="42840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Мы – контрольно – 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проведения письменных экзаменов по русскому языку и алгебре, устных экзаменов предметов по выбору выпускника за курс основной школы используются контрольно-измерительные материалы, разработанные Министерством образования и науки Р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354040" cy="503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071880" y="1500120"/>
            <a:ext cx="110952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4429080" y="1500120"/>
            <a:ext cx="1143000" cy="176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5819760" y="1500120"/>
            <a:ext cx="110952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7143840" y="1500120"/>
            <a:ext cx="11430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706480" cy="5730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214800" y="642960"/>
            <a:ext cx="5286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ца, не явившиеся на государственную (итоговую)  аттестацию (хотя бы по одному предмету) по неуважительным причинам не допускаются до повторной аттестации и считаются не прошедшими государственную (итоговую)  аттес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642960" y="4000680"/>
            <a:ext cx="764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ускники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лассов, получившие на государственной (итоговой) аттестации не более двух неудовлетворительных отметок, допускаются к повторной государственной (итоговой) аттестации по этим предметам. Форма прохождения аттестации для обязательных письменных экзаменов определяется учащимися  совместно с их родителями (законными представ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99920" y="642960"/>
            <a:ext cx="49294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кзам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2835000" cy="3852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285920" y="2214720"/>
            <a:ext cx="742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экзаменов – 10 часов утра по местном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 время проведения экзамена запрещается использование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бильных телеф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 нарушение порядка проведения экзамена  выпускник удаляется из аудитории и составляется протокол о наруш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928800" y="49291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роки и единое расписание проведения ГИА ежегодно определяются Рособрнадзо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85680" y="428400"/>
            <a:ext cx="600084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Апелляционная комисс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34800" y="420840"/>
            <a:ext cx="2657520" cy="3584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28760" y="242892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пелляционная комиссия осуществляет свою работу в период проведения государственной (итоговой) аттестации выпускников общеобразовательных учреждений (далее – выпуск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пелляцией признается аргументированно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исьменное заяв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 нарушении процедуры проведения  экза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 несогласии с выставленной отме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пелляция о нарушении процедуры проведения экзамена может быть подана выпускником или родителями (законными представителями)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 день проведения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рок завершения приема апелляций после официального объявления результатов экзамена и ознакомления с ним выпускника составляет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три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33520" y="-10670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99640" y="1412640"/>
            <a:ext cx="62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Неверно думать, что если у вас нет специального образования, вы не сможете помочь своему ребенку подготовиться к Г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ы можете помочь в организации самоподготовки: предлагайте  раз в неделю выполнить один из тестов типовых вариантов ГИА. Пользуясь инструкцией  по выполнению теста и таблицей ответов, вы сможете проверить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аша поддержка важна ему для формирования как психологической готовности к экзамену, так и позитивного отношения к новой форме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Уважаемые родител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ак помочь детям подготовиться к экзаме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е главное в ходе подготовки к экзаменам — это снизить напряжение и тревожность ребенка, а также обеспечить подходящие условия для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бадривайте детей, хвалите их за то, что они делают хорошо. Повышайте их уверенность в себе, так как чем больше ребенок боится неудачи, тем более вероятность допущения ошиб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 повышайте тревожность ребенка накануне экзаменов — это может отрицательно сказаться на результате экзамена. Ребенку всегда передается волнение родителей, и если взрослые в ответственный момент могут справиться со своими эмоциями, то ребенок, в силу возрастных особенностей может эмоционально «сорвать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</cp:lastModifiedBy>
  <dcterms:modified xsi:type="dcterms:W3CDTF">2010-05-18T06:32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