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638-C43B-451A-8169-7F27F80C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2CA-BDE1-4C32-A17B-C021FF8A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199-0CED-4F03-869B-872AE61F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06E-7FAF-48EC-8451-A5ACF341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03A-3A70-432A-9F39-876E9A66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50C-C562-4159-BBA7-22912C99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477-48CC-4943-A6E3-1538960B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989-F74C-4CC3-B90D-E7C88E10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6B5-1AF0-47C8-A466-446FBA94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D94-7483-4470-9FE8-C955AB88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885-8BBC-4048-BE0E-EB3BF99A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8E6-E166-4094-BFAC-7371E204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E75F-382B-478C-B32D-5A2A304D9644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Добро пожаловать в программу автоматической корректировки заработной платы</a:t>
            </a:r>
            <a:br>
              <a:rPr sz="3200"/>
            </a:br>
            <a:br>
              <a:rPr sz="1000"/>
            </a:b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ожалуйста, ответьте на следующий вопрос</a:t>
            </a:r>
            <a:br>
              <a:rPr sz="3200"/>
            </a:br>
            <a:br>
              <a:rPr sz="3200"/>
            </a:br>
            <a:r>
              <a:rPr b="0" lang="sv-SE" sz="3200" spc="-1" strike="noStrike">
                <a:solidFill>
                  <a:srgbClr val="ff0000"/>
                </a:solidFill>
                <a:latin typeface="Times New Roman"/>
              </a:rPr>
              <a:t>Ваша зарплата будет зависеть</a:t>
            </a:r>
            <a:br>
              <a:rPr sz="3200"/>
            </a:br>
            <a:r>
              <a:rPr b="0" lang="sv-SE" sz="3200" spc="-1" strike="noStrike">
                <a:solidFill>
                  <a:srgbClr val="ff0000"/>
                </a:solidFill>
                <a:latin typeface="Times New Roman"/>
              </a:rPr>
              <a:t> от этого от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028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ач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Удовлетворены ли Вы размером Вашей заработной плат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976480" y="608184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Нажмите на кнопку с Вашим от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Удовлетворены ли Вы размером Вашей заработной плат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76480" y="609588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Нажмите на кнопку с Вашим от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Удовлетворены ли Вы размером Вашей заработной плат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76480" y="608184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Нажмите на кнопку с Вашим от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Отлично!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Продолжайте трудитьс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С уважени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искренне Ваш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Ваш Руководите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В бухгалтер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7960" y="48736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Нажмите на кнопку внизу для отправки результатов тестирования в бухгалтер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Благодарю за помощь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В следующем году мы повторим корректировку Вашей зарпл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Работ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Andrey</cp:lastModifiedBy>
  <dcterms:modified xsi:type="dcterms:W3CDTF">2013-07-06T06:14:28Z</dcterms:modified>
  <cp:revision>30</cp:revision>
  <dc:subject/>
  <dc:title>Anser du att du har tillräckligt hög lön?</dc:title>
</cp:coreProperties>
</file>