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BC2-BEAD-4C6B-948F-C653AAE0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CFB-2397-4436-A0E7-472F6CAD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FAB-4316-4EEF-BA04-E48041E3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BDD-3A7C-48FD-ABEA-094FDA31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F62-694B-4FFB-B42B-D50956E1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230-2FDB-4A04-AC9B-2F27FCE6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F0D-FE19-47E9-8054-9BFE0B9D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CEA-ED88-4D69-BC80-F67A0005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F9B-610C-4D67-8F31-6416FF69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F514-9FF4-4509-B6E3-19D92CED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A9B-C072-41EB-9A7B-BF674F83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568-2D49-4178-8983-52193324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3411-A3AC-4943-8E63-020EB9389B11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Times New Roman"/>
              </a:rPr>
              <a:t>Добро пожаловать в программу автоматической корректировки заработной платы</a:t>
            </a:r>
            <a:br>
              <a:rPr sz="3200"/>
            </a:br>
            <a:br>
              <a:rPr sz="1000"/>
            </a:b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Пожалуйста, ответьте на следующий вопрос</a:t>
            </a:r>
            <a:br>
              <a:rPr sz="3200"/>
            </a:br>
            <a:br>
              <a:rPr sz="3200"/>
            </a:br>
            <a:r>
              <a:rPr b="0" lang="sv-SE" sz="3200" spc="-1" strike="noStrike">
                <a:solidFill>
                  <a:srgbClr val="ff0000"/>
                </a:solidFill>
                <a:latin typeface="Times New Roman"/>
              </a:rPr>
              <a:t>Ваша зарплата будет зависеть</a:t>
            </a:r>
            <a:br>
              <a:rPr sz="3200"/>
            </a:br>
            <a:r>
              <a:rPr b="0" lang="sv-SE" sz="3200" spc="-1" strike="noStrike">
                <a:solidFill>
                  <a:srgbClr val="ff0000"/>
                </a:solidFill>
                <a:latin typeface="Times New Roman"/>
              </a:rPr>
              <a:t> от этого от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028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Нач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imes New Roman"/>
              </a:rPr>
              <a:t>Удовлетворены ли Вы размером Вашей заработной платы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>
            <a:hlinkClick r:id="" action="ppaction://hlinkshowjump?jump=nextslide"/>
          </p:cNvPr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976480" y="608184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Нажмите на кнопку с Вашим отве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imes New Roman"/>
              </a:rPr>
              <a:t>Удовлетворены ли Вы размером Вашей заработной платы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>
            <a:hlinkClick r:id="" action="ppaction://hlinkshowjump?jump=nextslide"/>
          </p:cNvPr>
          <p:cNvSpPr/>
          <p:nvPr/>
        </p:nvSpPr>
        <p:spPr>
          <a:xfrm>
            <a:off x="1752480" y="4419720"/>
            <a:ext cx="1371600" cy="1218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976480" y="609588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Нажмите на кнопку с Вашим отве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imes New Roman"/>
              </a:rPr>
              <a:t>Удовлетворены ли Вы размером Вашей заработной платы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410080" y="4267080"/>
            <a:ext cx="1371600" cy="1219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976480" y="608184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Times New Roman"/>
              </a:rPr>
              <a:t>Нажмите на кнопку с Вашим отве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Отлично!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Продолжайте трудиться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С уважение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искренне Ваш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Ваш Руководител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429000" y="5867280"/>
            <a:ext cx="228600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В бухгалтер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37960" y="48736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Times New Roman"/>
              </a:rPr>
              <a:t>Нажмите на кнопку внизу для отправки результатов тестирования в бухгалтер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Благодарю за помощь</a:t>
            </a:r>
            <a:br>
              <a:rPr sz="4400"/>
            </a:b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В следующем году мы повторим корректировку Вашей зарпл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>
            <a:hlinkClick r:id="" action="ppaction://hlinkshowjump?jump=endshow"/>
          </p:cNvPr>
          <p:cNvSpPr/>
          <p:nvPr/>
        </p:nvSpPr>
        <p:spPr>
          <a:xfrm>
            <a:off x="3200400" y="5715000"/>
            <a:ext cx="26668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imes New Roman"/>
              </a:rPr>
              <a:t>Работ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8:50:22Z</dcterms:created>
  <dc:creator>ITiS</dc:creator>
  <dc:description/>
  <dc:language>en-US</dc:language>
  <cp:lastModifiedBy>Andrey</cp:lastModifiedBy>
  <dcterms:modified xsi:type="dcterms:W3CDTF">2013-07-06T06:14:28Z</dcterms:modified>
  <cp:revision>30</cp:revision>
  <dc:subject/>
  <dc:title>Anser du att du har tillräckligt hög lön?</dc:title>
</cp:coreProperties>
</file>