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58B-BDC9-417C-B038-9C77A73C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CC1-7205-44CA-9843-B83A1014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DF3-8061-46CC-AFA6-898920F3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D8A-94FD-4704-B4CE-C4FA12CA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D83-C7C1-4378-B4A7-61B36481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8D9-88FE-40C6-89C3-DC319F1A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0F6-CDFB-4499-88BC-12E1E8CD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BC0-54BC-4BB0-825B-EAF77276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8CB-3A2A-4AA2-93A7-66FE7660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F3F-C2A4-47E0-A428-BEFB1368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A23-8828-4CF0-A5C4-D86FB583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96C-2175-46D4-8F71-3E03AEA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3B59-11F2-4861-BA91-1F5DB18C5A2E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Добро пожаловать в программу автоматической корректировки заработной платы</a:t>
            </a:r>
            <a:br>
              <a:rPr sz="3200"/>
            </a:br>
            <a:br>
              <a:rPr sz="1000"/>
            </a:b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Пожалуйста, ответьте на следующий вопрос</a:t>
            </a:r>
            <a:br>
              <a:rPr sz="3200"/>
            </a:br>
            <a:br>
              <a:rPr sz="3200"/>
            </a:br>
            <a:r>
              <a:rPr b="0" lang="sv-SE" sz="3200" spc="-1" strike="noStrike">
                <a:solidFill>
                  <a:srgbClr val="ff0000"/>
                </a:solidFill>
                <a:latin typeface="Times New Roman"/>
              </a:rPr>
              <a:t>Ваша зарплата будет зависеть</a:t>
            </a:r>
            <a:br>
              <a:rPr sz="3200"/>
            </a:br>
            <a:r>
              <a:rPr b="0" lang="sv-SE" sz="3200" spc="-1" strike="noStrike">
                <a:solidFill>
                  <a:srgbClr val="ff0000"/>
                </a:solidFill>
                <a:latin typeface="Times New Roman"/>
              </a:rPr>
              <a:t> от этого от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028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ач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Удовлетворены ли Вы размером Вашей заработной плат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976480" y="608184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Нажмите на кнопку с Вашим отве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Удовлетворены ли Вы размером Вашей заработной плат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976480" y="609588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Нажмите на кнопку с Вашим отве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Удовлетворены ли Вы размером Вашей заработной плат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76480" y="608184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Нажмите на кнопку с Вашим отве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Отлично!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Продолжайте трудитьс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С уважение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искренне Ваш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Ваш Руководител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В бухгалтер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7960" y="48736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Нажмите на кнопку внизу для отправки результатов тестирования в бухгалтер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Благодарю за помощь</a:t>
            </a:r>
            <a:br>
              <a:rPr sz="4400"/>
            </a:b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В следующем году мы повторим корректировку Вашей зарпл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>
            <a:hlinkClick r:id="" action="ppaction://hlinkshowjump?jump=endshow"/>
          </p:cNvPr>
          <p:cNvSpPr/>
          <p:nvPr/>
        </p:nvSpPr>
        <p:spPr>
          <a:xfrm>
            <a:off x="3200400" y="5715000"/>
            <a:ext cx="26668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Работ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Andrey</cp:lastModifiedBy>
  <dcterms:modified xsi:type="dcterms:W3CDTF">2013-07-06T06:14:28Z</dcterms:modified>
  <cp:revision>30</cp:revision>
  <dc:subject/>
  <dc:title>Anser du att du har tillräckligt hög lön?</dc:title>
</cp:coreProperties>
</file>