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76CA-38E7-4410-A340-FEAEAE669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B3A1-9D72-4357-83F6-636FA2799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4F63-4420-482D-92AE-26EB0A263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77D1-D536-4702-AC52-8AEA955CE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7D05-DC12-426D-93A6-A72AC9771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AA6C-D1E8-4F93-992D-2BB6C3AEF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7342-8F66-4EF5-98E9-94FF02B9A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DBAC-8CE8-4B85-B362-69B392CB3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1E50-12B9-48AB-9928-34225FD2B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E5F4-F465-4983-8D39-4456FF17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5DF1-8FF9-4AF1-9F1B-CD861FB7D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FFC0-7CD6-425C-BD7C-6C2907B65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28F57-FBF9-4C5B-87B0-D471C3E0DE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360" y="1700280"/>
            <a:ext cx="77752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ОСОБЕННОСТИ ЛОГОПЕДИЧЕСКОЙ РАБОТЫ  ПО УСТРАНЕНИЮ ДИСГРАФИИ НА ПОЧВЕ НАРУШЕНИЯ ЯЗЫКОВОГО АНАЛИЗА И СИНТЕЗ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ПОЛНИЛА УЧИТЕЛЬ-ЛОГОПЕ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У «КОРКАТОВСКИЙ ЛИЦЕЙ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НИСИМОВА Л.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УМК учителя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 методическое пособие для учителя-логопеда по программе «Коррекция дисграфии на почве нарушения языкового анализа и синтеза» (2006  г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2843280" y="1484280"/>
            <a:ext cx="3300480" cy="48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20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УМК обучающегося – </a:t>
            </a:r>
            <a:r>
              <a:rPr b="1" lang="ru-RU" sz="2800" spc="-1" strike="noStrike">
                <a:solidFill>
                  <a:srgbClr val="0d0d0d"/>
                </a:solidFill>
                <a:latin typeface="Calibri"/>
              </a:rPr>
              <a:t>рабочие тетради «Учусь работать с текстом. Альбом упражнений по коррекции дисграфии на почве нарушения языкового анализа и синтеза» в 3-х частях (2007 г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168280"/>
            <a:ext cx="8229600" cy="39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2843280" y="2168640"/>
            <a:ext cx="3097080" cy="39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исграфия на почве нарушения языкового анализа и синтеза 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Схема 6" descr=""/>
          <p:cNvPicPr/>
          <p:nvPr/>
        </p:nvPicPr>
        <p:blipFill>
          <a:blip r:embed="rId1"/>
          <a:stretch/>
        </p:blipFill>
        <p:spPr>
          <a:xfrm>
            <a:off x="2189160" y="1468440"/>
            <a:ext cx="5632560" cy="284148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5"/>
          <p:cNvSpPr/>
          <p:nvPr/>
        </p:nvSpPr>
        <p:spPr>
          <a:xfrm>
            <a:off x="331920" y="4508640"/>
            <a:ext cx="4032000" cy="2060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Verdana"/>
              </a:rPr>
              <a:t>Проявляется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искажения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труктуры: слова (и слога) -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опуски согласных и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ласных букв, перестановк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букв, вставки букв, пропуски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добавления, перестановк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лог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16"/>
          <p:cNvSpPr/>
          <p:nvPr/>
        </p:nvSpPr>
        <p:spPr>
          <a:xfrm>
            <a:off x="4500720" y="4530600"/>
            <a:ext cx="4500360" cy="2060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Verdana"/>
              </a:rPr>
              <a:t>Проявляется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искажениях структуры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едложения – слитное написание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лов (предлоги), раздельное написание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лов (приставки и корни слов), несоблю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дение границ предложения, написание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сех слов в предложении слитно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Наиболее распространены следующие ошиб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1) пропуски согласных при их стечении </a:t>
            </a:r>
            <a:r>
              <a:rPr b="0" lang="ru-RU" sz="2700" spc="-1" strike="noStrike">
                <a:solidFill>
                  <a:srgbClr val="c00000"/>
                </a:solidFill>
                <a:latin typeface="Calibri"/>
              </a:rPr>
              <a:t>(ДОЖИ – ДОЖДИ, ДЕКИ – ДЕНЬКИ, СОСТАЛЯЮТ – СОСТАВЛЯЮТ)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2) пропуски гласных </a:t>
            </a:r>
            <a:r>
              <a:rPr b="0" lang="ru-RU" sz="2700" spc="-1" strike="noStrike">
                <a:solidFill>
                  <a:srgbClr val="c00000"/>
                </a:solidFill>
                <a:latin typeface="Calibri"/>
              </a:rPr>
              <a:t>(ДЕВЧКИ – ДЕВОЧКИ, ПОШЛ – ПОШЛИ, ТЧКА – ТАЧКА, РАСКАЧИВЕТ – РАСКАЧИВАЕТ)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3) перестановки букв </a:t>
            </a:r>
            <a:r>
              <a:rPr b="0" lang="ru-RU" sz="2700" spc="-1" strike="noStrike">
                <a:solidFill>
                  <a:srgbClr val="c00000"/>
                </a:solidFill>
                <a:latin typeface="Calibri"/>
              </a:rPr>
              <a:t>(ПАКЕЛЬКИ – КАПЕЛЬКИ, КУЛКА – КУКЛА)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4) добавление букв </a:t>
            </a:r>
            <a:r>
              <a:rPr b="0" lang="ru-RU" sz="2700" spc="-1" strike="noStrike">
                <a:solidFill>
                  <a:srgbClr val="c00000"/>
                </a:solidFill>
                <a:latin typeface="Calibri"/>
              </a:rPr>
              <a:t>(ВЕСНАЯ – ВЕСНА)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5) пропуски, добавления, перестановки слогов </a:t>
            </a:r>
            <a:r>
              <a:rPr b="0" lang="ru-RU" sz="2700" spc="-1" strike="noStrike">
                <a:solidFill>
                  <a:srgbClr val="c00000"/>
                </a:solidFill>
                <a:latin typeface="Calibri"/>
              </a:rPr>
              <a:t>(ВЕСИПЕД – ВЕЛОСИПЕД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оррекционная работа при дисграфии на почве нарушения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языкового анализа и синтез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8229600" cy="1011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388800" y="2919240"/>
            <a:ext cx="8364600" cy="1024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3"/>
          <a:stretch/>
        </p:blipFill>
        <p:spPr>
          <a:xfrm>
            <a:off x="388800" y="4508640"/>
            <a:ext cx="8364600" cy="10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Специфические ошибк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3"/>
          <p:cNvSpPr/>
          <p:nvPr/>
        </p:nvSpPr>
        <p:spPr>
          <a:xfrm>
            <a:off x="1116000" y="1336680"/>
            <a:ext cx="6696000" cy="1727280"/>
          </a:xfrm>
          <a:prstGeom prst="rect">
            <a:avLst/>
          </a:prstGeom>
          <a:solidFill>
            <a:srgbClr val="ac3ec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1.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Ошибки на уровне буквы и слога (звукобуквенный и слоговой анализ и синтез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4"/>
          <p:cNvSpPr/>
          <p:nvPr/>
        </p:nvSpPr>
        <p:spPr>
          <a:xfrm>
            <a:off x="1119240" y="3111480"/>
            <a:ext cx="6697440" cy="1655640"/>
          </a:xfrm>
          <a:prstGeom prst="rect">
            <a:avLst/>
          </a:prstGeom>
          <a:solidFill>
            <a:srgbClr val="ac3ec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2.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Ошибки на уровне слова (слоговой и морфологический анализ и синтез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5"/>
          <p:cNvSpPr/>
          <p:nvPr/>
        </p:nvSpPr>
        <p:spPr>
          <a:xfrm>
            <a:off x="1116000" y="4730760"/>
            <a:ext cx="6696000" cy="1728720"/>
          </a:xfrm>
          <a:prstGeom prst="rect">
            <a:avLst/>
          </a:prstGeom>
          <a:solidFill>
            <a:srgbClr val="ac3ec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3.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Ошибки на уровне словосочетания, предложения и текста (языковой анализ и синтез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1. Коррекция специфических ошибок на уровне буквы и слог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и построении занятий по развитию звукового анализа и синтеза принято придерживаться основных этапов фор¬мирования простых и сложных форм звукового анализа (по Ткаченко Т.А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ростые формы звукового анализа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деление первого ударного гласного в слов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деление первого согласного в слове, последнего соглас¬ного в слов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деление гласного из середины слов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пределение места звука в слове  (звук в начале, середине, конце слова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Сложные формы звукового анализа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пределение последовательности звуке  в слов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пределение количества звук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пределение места звука относительно других звук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2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Коррекция специфических ошибок слогового анализа и синтеза на уровне слова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00040" y="107136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1 этап Подготовительный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Невербальный уровень)  Концентрация внимания. Работа над ритмической стороной речи. Работа по развитию переключения и координаци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2. Этап. Коррекционный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Вербальный уровень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ровень гласных. Детей знакомят с гласными звуками и буквами, со слогообразующей ролью гласного, с обозначе¬нием гласных при помощи символ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ровень слогов. Детей знакомят с открытыми и закры¬тыми слогами, с обозначением слогов при помощи схе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ровень слов. На начальном периоде обучения нужно ис¬пользовать слова, в которых написание аналогично звуча¬нию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-двусложные слова с открытыми слогами: ва-та, ли-с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-трёхсложные слова с открытыми слогами: ма-ши-н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-односложные слова с закрытым слогом: мак, бак, рот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-двусложные слова с закрытым слогом на конце слова: ли¬-мон, ка-бан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-двусложные слова с со стечением в середине слова: бан-ка, руч-ка, ноч-к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-двусложные слова с закрытым слогом на конце слова и стечением согласных в середине: чай-ник, кап-кан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-трехсложные слова с закрытым слогом на конце слова: ли- мо-над, ко-ри-дор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-трехсложные слова со стечением согласных и закрытым слогом на конце: ав-то-бус, ав-то-мат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-трехсложные слова с двумя стечениями согласных: мат-реш-ка, гар-мош-к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-односложные слова со стечением согласных: флаг, взгляд, лифт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-двухсложные слова с двумя стечениями: звез-да, круж-к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-четырехсложные слова: че-ре-па-ха, пи-ра-ми-д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Calibri"/>
              </a:rPr>
              <a:t>3.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Коррекция специфических ошибок слогового анализа и синтеза на уровне слов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витие языкового анализа и синтеза на уровне словосо¬четания, предложения и текста предусматривает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накомство с предложением - определение основных признаков предложения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ифференциацию набора отдельных слов и предложе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ифференциацию словосочетания и предложе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витие анализа структуры предложения – определение границ предложения, определение последовательности слов в предложении, определение места слов в предложе¬ни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накомство с предлогами — определение их значения, зна¬комство с написанием предлогов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накомство с приставками - определение их значе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накомство с написанием приставок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иференциацию предлогов и приставок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накомство с текстом — определение основных признаков текст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ифференциацию отдельных предложений и тек¬ста; определение последовательности предложений в тек¬ст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0000"/>
                </a:solidFill>
                <a:latin typeface="Calibri"/>
              </a:rPr>
              <a:t>Система коррекции дисграфии на почве нарушения языкового анализа и синтеза </a:t>
            </a:r>
            <a:br>
              <a:rPr sz="2900"/>
            </a:br>
            <a:r>
              <a:rPr b="1" lang="ru-RU" sz="2900" spc="-1" strike="noStrike">
                <a:solidFill>
                  <a:srgbClr val="ff0000"/>
                </a:solidFill>
                <a:latin typeface="Calibri"/>
              </a:rPr>
              <a:t>в логопункте лицея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звание программы – Коррекция дисграфии у младших школьников, обусловленной нарушением языкового анализа и синтез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(составлена в соответствии с программой Е.В. Мазановой, 2006 г.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бочая программа  рассчитана на 60 ч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2 р. в нед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0T17:16:18Z</dcterms:created>
  <dc:creator>Ludmila</dc:creator>
  <dc:description/>
  <dc:language>en-US</dc:language>
  <cp:lastModifiedBy>Ludmila</cp:lastModifiedBy>
  <dcterms:modified xsi:type="dcterms:W3CDTF">2012-03-15T16:48:58Z</dcterms:modified>
  <cp:revision>23</cp:revision>
  <dc:subject/>
  <dc:title>Презентация PowerPoint</dc:title>
</cp:coreProperties>
</file>