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4EE-7577-456A-AE0C-F0156070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312-259F-4F9D-BE79-BD44662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DE8-1DF1-489C-968E-3C77AD0C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E69-8E39-4A5E-963A-06A2BAF4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758-ABCA-42A6-9663-EFB7C14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7F4-439D-44AC-B6BE-390F9A6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81C-932F-4FCF-8612-1A0B5F4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F77-E407-4445-8EEC-460AFD8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986-47CE-45FF-A787-2266BDD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C08-BF1C-4FC7-8B1B-194507F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4B6-59F0-435C-B702-5501945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F28-3631-4FED-B30D-8881FAF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890-BDDF-42B2-A1E2-815427F48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ОБЕННОСТИ ЛОГОПЕДИЧЕСКОЙ РАБОТЫ  ПО УСТРАНЕНИЮ ДИСГРАФИИ НА ПОЧВЕ НАРУШЕНИЯ ЯЗЫКОВОГО АНАЛИЗА И СИНТЕ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КОРКАТОВСКИЙ ЛИЦ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СИМОВА Л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МК учите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методическое пособие для учителя-логопеда по программе «Коррекция дисграфии на почве нарушения языкового анализа и синтеза» (2006  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3004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МК обучающегося –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рабочие тетради «Учусь работать с текстом. Альбом упражнений по коррекции дисграфии на почве нарушения языкового анализа и синтеза» в 3-х частях (2007 г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6828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843280" y="2168640"/>
            <a:ext cx="3097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графия на почве нарушения языкового анализа и синтез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хема 6" descr=""/>
          <p:cNvPicPr/>
          <p:nvPr/>
        </p:nvPicPr>
        <p:blipFill>
          <a:blip r:embed="rId1"/>
          <a:stretch/>
        </p:blipFill>
        <p:spPr>
          <a:xfrm>
            <a:off x="2189160" y="1468440"/>
            <a:ext cx="5632560" cy="2841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5"/>
          <p:cNvSpPr/>
          <p:nvPr/>
        </p:nvSpPr>
        <p:spPr>
          <a:xfrm>
            <a:off x="331920" y="4508640"/>
            <a:ext cx="4032000" cy="2060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уктуры: слова (и слога)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пуски согласных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асных букв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кв, вставки букв, пропуск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бавления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4500720" y="4530600"/>
            <a:ext cx="4500360" cy="2060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 структур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ложения – слит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едлоги), раздель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иставки и корни слов), несоблю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ние границ предложения,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ех слов в предложении слитн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иболее распространены следующие ошиб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пропуски согласных при их стечении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ОЖИ – ДОЖДИ, ДЕКИ – ДЕНЬКИ, СОСТАЛЯЮТ – СОСТАВЛЯЮ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) пропуски гласных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ЕВЧКИ – ДЕВОЧКИ, ПОШЛ – ПОШЛИ, ТЧКА – ТАЧКА, РАСКАЧИВЕТ – РАСКАЧИВАЕ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) перестановки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ПАКЕЛЬКИ – КАПЕЛЬКИ, КУЛКА – КУКЛ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) добавление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НАЯ – ВЕСН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) пропуски, добавления, перестановки слого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ИПЕД – ВЕЛОСИПЕД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онная работа при дисграфии на почве наруш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кового анализа и синте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88800" y="2919240"/>
            <a:ext cx="8364600" cy="102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88800" y="4508640"/>
            <a:ext cx="83646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ецифически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116000" y="1336680"/>
            <a:ext cx="6696000" cy="172728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буквы и слога (звукобуквенный и слогово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119240" y="3111480"/>
            <a:ext cx="6697440" cy="165564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а (слоговой и морфологически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116000" y="4730760"/>
            <a:ext cx="6696000" cy="172872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осочетания, предложения и текста (языковой анализ и синтез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оррекция специфических ошибок на уровне буквы и сло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троении занятий по развитию звукового анализа и синтеза принято придерживаться основных этапов фор¬мирования простых и сложных форм звукового анализа (по Ткаченко Т.А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ст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ударного глас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согласного в слове, последнего соглас¬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гласного из середины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в слове  (звук в начале, середине, конце слов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ожн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последовательности звуке 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количества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относительно други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0713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 этап Подготовитель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евербальный уровень)  Концентрация внимания. Работа над ритмической стороной речи. Работа по развитию переключения и координ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Этап. Коррекцион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ербальный уровень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гласных. Детей знакомят с гласными звуками и буквами, со слогообразующей ролью гласного, с обозначе¬нием гласных при помощи симв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гов. Детей знакомят с открытыми и закры¬тыми слогами, с обозначением слогов при помощи сх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в. На начальном периоде обучения нужно ис¬пользовать слова, в которых написание аналогично звуча¬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открытыми слогами: ва-та, ли-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ёхсложные слова с открытыми слогами: ма-ши-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 закрытым слогом: мак, бак, ро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: ли¬-мон, ка-б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со стечением в середине слова: бан-ка, руч-ка, ноч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 и стечением согласных в середине: чай-ник, кап-кан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закрытым слогом на конце слова: ли- мо-над, ко-ри-до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о стечением согласных и закрытым слогом на конце: ав-то-бус, ав-то-ма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двумя стечениями согласных: мат-реш-ка, гар-мош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о стечением согласных: флаг, взгляд, лиф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хсложные слова с двумя стечениями: звез-да, круж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четырехсложные слова: че-ре-па-ха, пи-ра-ми-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языкового анализа и синтеза на уровне словосо¬четания, предложения и текста предусматр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жением - определение основных признаков предлож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набора отдельных слов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словосочетания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анализа структуры предложения – определение границ предложения, определение последовательности слов в предложении, определение места слов в предложе¬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гами — определение их значения, зна¬комство с написанием пред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иставками - определение их 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написанием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еренциацию предлогов и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текстом — определение основных признаков текс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отдельных предложений и тек¬ста; определение последовательности предложений в тек¬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Система коррекции дисграфии на почве нарушения языкового анализа и синтеза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 логопункте лице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программы – Коррекция дисграфии у младших школьников, обусловленной нарушением языкового анализа и син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лена в соответствии с программой Е.В. Мазановой, 2006 г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программа  рассчитана на 60 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 р. в не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7:16:18Z</dcterms:created>
  <dc:creator>Ludmila</dc:creator>
  <dc:description/>
  <dc:language>en-US</dc:language>
  <cp:lastModifiedBy>Ludmila</cp:lastModifiedBy>
  <dcterms:modified xsi:type="dcterms:W3CDTF">2012-03-15T16:48:58Z</dcterms:modified>
  <cp:revision>23</cp:revision>
  <dc:subject/>
  <dc:title>Презентация PowerPoint</dc:title>
</cp:coreProperties>
</file>