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8A34-F82A-4713-AFA1-7DCC64014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FB44-7FB4-46E6-B1F4-1DF84CBA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632E-83EA-44AE-B67F-4F2B89403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B470-F849-41CF-8153-256D745A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A886-3679-4D1B-A7AA-D88068E9A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69D1-4595-4464-B484-3EF7D101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540D-B5DC-45E3-9564-7D9EC054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6DEA-F16A-4B2F-B9AA-5824CCDA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F6B6-3065-471F-ACBE-E998F35D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F26F-2042-411C-A598-4939D812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34E5-964F-4263-869F-2D6DC309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2360-1AAE-48BA-A35B-992D6F13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08A1-177C-41AE-BEAF-55E66387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C916-1317-4F61-BE93-0112A3B8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7706-86C2-4ADE-BC49-6486F1EF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4312-9D76-47C9-8420-A241AB6B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32BB-529A-4535-BB33-680AEA319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642F-08C8-49E3-9C6E-E75E6021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448B-8205-4FD1-B47F-9FE7B8DF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FEF7-9A2D-454B-9279-B78C7740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D958-6946-420D-8E85-3DE1A857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9269-4662-41D9-968A-2DDD8AD9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19DD-D617-44A2-8FCE-59F5543F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284B-E8F3-46CF-AE25-860593BA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08F1-D81C-4D9C-B8DA-0FDE4AEBAE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FD67-D3DF-4B50-A56E-9B1DD93BD7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5"/>
          <p:cNvSpPr txBox="1"/>
          <p:nvPr/>
        </p:nvSpPr>
        <p:spPr>
          <a:xfrm>
            <a:off x="250920" y="1341360"/>
            <a:ext cx="8624880" cy="21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ловарь - русской </a:t>
            </a:r>
            <a:endParaRPr b="0" lang="en-US" sz="6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чи государь</a:t>
            </a:r>
            <a:endParaRPr b="0" lang="en-US" sz="66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857240" y="4357800"/>
            <a:ext cx="5905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99"/>
                </a:solidFill>
                <a:latin typeface="Times New Roman"/>
              </a:rPr>
              <a:t>Работу выполнили: Вандышева Ир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99"/>
                </a:solidFill>
                <a:latin typeface="Times New Roman"/>
              </a:rPr>
              <a:t>                                 </a:t>
            </a:r>
            <a:r>
              <a:rPr b="1" lang="ru-RU" sz="2400" spc="-1" strike="noStrike">
                <a:solidFill>
                  <a:srgbClr val="ff6699"/>
                </a:solidFill>
                <a:latin typeface="Times New Roman"/>
              </a:rPr>
              <a:t>Лукиных А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99"/>
                </a:solidFill>
                <a:latin typeface="Times New Roman"/>
              </a:rPr>
              <a:t>                                 </a:t>
            </a:r>
            <a:r>
              <a:rPr b="1" lang="ru-RU" sz="2400" spc="-1" strike="noStrike">
                <a:solidFill>
                  <a:srgbClr val="ff6699"/>
                </a:solidFill>
                <a:latin typeface="Times New Roman"/>
              </a:rPr>
              <a:t>Королева Маш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99"/>
                </a:solidFill>
                <a:latin typeface="Times New Roman"/>
              </a:rPr>
              <a:t>                                                     </a:t>
            </a:r>
            <a:r>
              <a:rPr b="1" lang="ru-RU" sz="2400" spc="-1" strike="noStrike">
                <a:solidFill>
                  <a:srgbClr val="ff6699"/>
                </a:solidFill>
                <a:latin typeface="Times New Roman"/>
              </a:rPr>
              <a:t>4 б кл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62160" y="990360"/>
            <a:ext cx="47242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Times New Roman"/>
              </a:rPr>
              <a:t>Словарь</a:t>
            </a:r>
            <a:r>
              <a:rPr b="0" lang="ru-RU" sz="2400" spc="-1" strike="noStrike">
                <a:solidFill>
                  <a:srgbClr val="00cc00"/>
                </a:solidFill>
                <a:latin typeface="Times New Roman"/>
              </a:rPr>
              <a:t> 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это справочная книга,  которая содержит слова,  расположенные в определенном порядке, объясняет значения описываемых предметов, дает различную информацию о них или их перевод на другой язы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3" descr="098_009"/>
          <p:cNvPicPr/>
          <p:nvPr/>
        </p:nvPicPr>
        <p:blipFill>
          <a:blip r:embed="rId1"/>
          <a:stretch/>
        </p:blipFill>
        <p:spPr>
          <a:xfrm>
            <a:off x="228600" y="1066680"/>
            <a:ext cx="3809880" cy="480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8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Словари – сокровищница национального языка.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62160" y="1844280"/>
            <a:ext cx="5181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Словари и справочники помогают людям не только правильно писать слова, определять их значения, объяснять происхождение слов,но и расширяют кругозор, дают новые сведения из разных областей науки, техники, искусства и литературы, повышают языковую культур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4" descr="116_005"/>
          <p:cNvPicPr/>
          <p:nvPr/>
        </p:nvPicPr>
        <p:blipFill>
          <a:blip r:embed="rId1"/>
          <a:stretch/>
        </p:blipFill>
        <p:spPr>
          <a:xfrm>
            <a:off x="228600" y="2362320"/>
            <a:ext cx="3733920" cy="3733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7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cc00"/>
                </a:solidFill>
                <a:latin typeface="Times New Roman"/>
              </a:rPr>
              <a:t>При посещении школьной библиотеки мы познакомились с разнообразными словарями, справочниками, энциклопедиям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DSC01989"/>
          <p:cNvPicPr/>
          <p:nvPr/>
        </p:nvPicPr>
        <p:blipFill>
          <a:blip r:embed="rId1"/>
          <a:stretch/>
        </p:blipFill>
        <p:spPr>
          <a:xfrm>
            <a:off x="1547640" y="2708280"/>
            <a:ext cx="604872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468360" y="42192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cc00"/>
                </a:solidFill>
                <a:latin typeface="Times New Roman"/>
              </a:rPr>
              <a:t>Учитывая подбор слов и характер и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Times New Roman"/>
              </a:rPr>
              <a:t>объяснения, все словари подразделяются на три основных тип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 flipH="1">
            <a:off x="1618920" y="1844640"/>
            <a:ext cx="865080" cy="1152720"/>
          </a:xfrm>
          <a:prstGeom prst="line">
            <a:avLst/>
          </a:prstGeom>
          <a:ln w="381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4356000" y="1844640"/>
            <a:ext cx="0" cy="2376360"/>
          </a:xfrm>
          <a:prstGeom prst="line">
            <a:avLst/>
          </a:prstGeom>
          <a:ln w="381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9"/>
          <p:cNvSpPr/>
          <p:nvPr/>
        </p:nvSpPr>
        <p:spPr>
          <a:xfrm>
            <a:off x="6012000" y="1844640"/>
            <a:ext cx="1081080" cy="1079640"/>
          </a:xfrm>
          <a:prstGeom prst="line">
            <a:avLst/>
          </a:prstGeom>
          <a:ln w="381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179280" y="3141720"/>
            <a:ext cx="2737080" cy="1224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11"/>
          <p:cNvSpPr/>
          <p:nvPr/>
        </p:nvSpPr>
        <p:spPr>
          <a:xfrm>
            <a:off x="2843280" y="4292640"/>
            <a:ext cx="3025800" cy="1224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олк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12"/>
          <p:cNvSpPr/>
          <p:nvPr/>
        </p:nvSpPr>
        <p:spPr>
          <a:xfrm>
            <a:off x="5508720" y="3068640"/>
            <a:ext cx="3024000" cy="1224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энциклопед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755640" y="3429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язык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cc00"/>
                </a:solidFill>
                <a:latin typeface="Times New Roman"/>
              </a:rPr>
              <a:t>ЯЗЫКОВЫЕ</a:t>
            </a:r>
            <a:endParaRPr b="1" lang="en-US" sz="6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Орфографический словарь русского язы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Фразеологический словарь русского язы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Словарь синонимов русского язы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Словарь антонимов русского язы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Словарь ударе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Словарь сокращений русского язы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рописная или строчная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Слитно или раздельно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Словарь иностранных слов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4" descr="book37"/>
          <p:cNvPicPr/>
          <p:nvPr/>
        </p:nvPicPr>
        <p:blipFill>
          <a:blip r:embed="rId1"/>
          <a:stretch/>
        </p:blipFill>
        <p:spPr>
          <a:xfrm>
            <a:off x="6732720" y="5157720"/>
            <a:ext cx="20318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350"/>
                            </p:stCondLst>
                            <p:childTnLst>
                              <p:par>
                                <p:cTn id="2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8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350"/>
                            </p:stCondLst>
                            <p:childTnLst>
                              <p:par>
                                <p:cTn id="2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8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350"/>
                            </p:stCondLst>
                            <p:childTnLst>
                              <p:par>
                                <p:cTn id="2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8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7350"/>
                            </p:stCondLst>
                            <p:childTnLst>
                              <p:par>
                                <p:cTn id="2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8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9350"/>
                            </p:stCondLst>
                            <p:childTnLst>
                              <p:par>
                                <p:cTn id="2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8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1350"/>
                            </p:stCondLst>
                            <p:childTnLst>
                              <p:par>
                                <p:cTn id="2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8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335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8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35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8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735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8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cc00"/>
                </a:solidFill>
                <a:latin typeface="Times New Roman"/>
              </a:rPr>
              <a:t>ТОЛКОВЫЕ</a:t>
            </a:r>
            <a:endParaRPr b="1" lang="en-US" sz="6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Times New Roman"/>
              </a:rPr>
              <a:t>Ожегов С.И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00"/>
                </a:solidFill>
                <a:latin typeface="Times New Roman"/>
              </a:rPr>
              <a:t>(«Толковый словарь русского языка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Times New Roman"/>
              </a:rPr>
              <a:t>Даль В. И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00"/>
                </a:solidFill>
                <a:latin typeface="Times New Roman"/>
              </a:rPr>
              <a:t>(«Толковый словарь живог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00"/>
                </a:solidFill>
                <a:latin typeface="Times New Roman"/>
              </a:rPr>
              <a:t>великорусского язык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4" descr="словарь"/>
          <p:cNvPicPr/>
          <p:nvPr/>
        </p:nvPicPr>
        <p:blipFill>
          <a:blip r:embed="rId1"/>
          <a:stretch/>
        </p:blipFill>
        <p:spPr>
          <a:xfrm>
            <a:off x="6227640" y="371628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350"/>
                            </p:stCondLst>
                            <p:childTnLst>
                              <p:par>
                                <p:cTn id="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8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35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8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35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8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735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8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935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8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Times New Roman"/>
              </a:rPr>
              <a:t>ЭНЦИКЛОПЕДИЧЕСКИЕ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8" name="Line 4"/>
          <p:cNvSpPr/>
          <p:nvPr/>
        </p:nvSpPr>
        <p:spPr>
          <a:xfrm flipH="1">
            <a:off x="1763640" y="1413000"/>
            <a:ext cx="1152720" cy="1511280"/>
          </a:xfrm>
          <a:prstGeom prst="line">
            <a:avLst/>
          </a:prstGeom>
          <a:ln w="381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5"/>
          <p:cNvSpPr/>
          <p:nvPr/>
        </p:nvSpPr>
        <p:spPr>
          <a:xfrm>
            <a:off x="5580000" y="1341360"/>
            <a:ext cx="1225440" cy="1584360"/>
          </a:xfrm>
          <a:prstGeom prst="line">
            <a:avLst/>
          </a:prstGeom>
          <a:ln w="381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395280" y="2997360"/>
            <a:ext cx="3240000" cy="1366560"/>
          </a:xfrm>
          <a:prstGeom prst="roundRect">
            <a:avLst>
              <a:gd name="adj" fmla="val 16667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611280" y="335772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Times New Roman"/>
              </a:rPr>
              <a:t>ОТРАСЛЕ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8"/>
          <p:cNvSpPr/>
          <p:nvPr/>
        </p:nvSpPr>
        <p:spPr>
          <a:xfrm>
            <a:off x="4932360" y="2997360"/>
            <a:ext cx="3240000" cy="1366560"/>
          </a:xfrm>
          <a:prstGeom prst="roundRect">
            <a:avLst>
              <a:gd name="adj" fmla="val 16667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5219640" y="3429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Times New Roman"/>
              </a:rPr>
              <a:t>ОБЩ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10" descr=""/>
          <p:cNvPicPr/>
          <p:nvPr/>
        </p:nvPicPr>
        <p:blipFill>
          <a:blip r:embed="rId1"/>
          <a:stretch/>
        </p:blipFill>
        <p:spPr>
          <a:xfrm>
            <a:off x="4859280" y="4365720"/>
            <a:ext cx="3570480" cy="2354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"/>
          <p:cNvPicPr/>
          <p:nvPr/>
        </p:nvPicPr>
        <p:blipFill>
          <a:blip r:embed="rId2"/>
          <a:stretch/>
        </p:blipFill>
        <p:spPr>
          <a:xfrm>
            <a:off x="2050920" y="4437000"/>
            <a:ext cx="1649520" cy="2232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Копия DSC02318"/>
          <p:cNvPicPr/>
          <p:nvPr/>
        </p:nvPicPr>
        <p:blipFill>
          <a:blip r:embed="rId3"/>
          <a:stretch/>
        </p:blipFill>
        <p:spPr>
          <a:xfrm>
            <a:off x="395280" y="4365720"/>
            <a:ext cx="171936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9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ff6699"/>
                </a:solidFill>
                <a:latin typeface="Times New Roman"/>
              </a:rPr>
              <a:t>Словари, справочники зачастую становятся нашими помощниками  в подготовке к урокам – именно они,  дают нам чёткое и ясное представление, опираясь на которое мы отправляемся в дальнейший поиск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4" descr="110_002"/>
          <p:cNvPicPr/>
          <p:nvPr/>
        </p:nvPicPr>
        <p:blipFill>
          <a:blip r:embed="rId1"/>
          <a:stretch/>
        </p:blipFill>
        <p:spPr>
          <a:xfrm>
            <a:off x="6516720" y="4476600"/>
            <a:ext cx="224640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cc00"/>
                </a:solidFill>
                <a:latin typeface="Times New Roman"/>
              </a:rPr>
              <a:t>РЕЗУЛЬТАТ РАБОТЫ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Times New Roman"/>
              </a:rPr>
              <a:t>«Словарь настроений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99"/>
                </a:solidFill>
                <a:latin typeface="Times New Roman"/>
              </a:rPr>
              <a:t>(составители ученики 4б класс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6699"/>
                </a:solidFill>
                <a:latin typeface="Times New Roman"/>
              </a:rPr>
              <a:t>ВЫВОД</a:t>
            </a:r>
            <a:endParaRPr b="1" lang="en-US" sz="6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00"/>
                </a:solidFill>
                <a:latin typeface="Times New Roman"/>
              </a:rPr>
              <a:t>СЛОВАРЬ </a:t>
            </a:r>
            <a:r>
              <a:rPr b="1" lang="ru-RU" sz="3600" spc="-1" strike="noStrike">
                <a:solidFill>
                  <a:srgbClr val="ff9900"/>
                </a:solidFill>
                <a:latin typeface="Times New Roman"/>
              </a:rPr>
              <a:t>– это вселенная в алфавитном порядке, работа со словарями экономит время, энергию и расширяет кругозор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cc00"/>
                </a:solidFill>
                <a:latin typeface="Times New Roman"/>
              </a:rPr>
              <a:t>Цель работы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Выявить, какую роль играют словари в жизни человек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99"/>
                </a:solidFill>
                <a:latin typeface="Times New Roman"/>
              </a:rPr>
              <a:t>Потиха З.А. Лингвистические словари и работа с ними. – М:. «Просвещение», 1997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99"/>
                </a:solidFill>
                <a:latin typeface="Times New Roman"/>
              </a:rPr>
              <a:t>Сергеев В.Н. Словари – наши друзья и помощники. – М:. «Просвещение», 1994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755640" y="404640"/>
            <a:ext cx="604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Литерату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9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9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4"/>
          <p:cNvSpPr txBox="1"/>
          <p:nvPr/>
        </p:nvSpPr>
        <p:spPr>
          <a:xfrm>
            <a:off x="179280" y="1700280"/>
            <a:ext cx="878544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1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Наши задачи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Дать определение понятию «словарь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Выяснить, для чего служат словар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Ознакомиться с классификацией словар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Составить словарь – настрое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Times New Roman"/>
              </a:rPr>
              <a:t>«Не тот образованный человек, который все знает (это не возможно!), а тот, кто знает, где можно найти ответ на возникший вопрос»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395280" y="620640"/>
            <a:ext cx="0" cy="5832720"/>
          </a:xfrm>
          <a:prstGeom prst="line">
            <a:avLst/>
          </a:prstGeom>
          <a:ln w="475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8604360" y="620640"/>
            <a:ext cx="0" cy="5832720"/>
          </a:xfrm>
          <a:prstGeom prst="line">
            <a:avLst/>
          </a:prstGeom>
          <a:ln w="475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395280" y="620640"/>
            <a:ext cx="8209080" cy="0"/>
          </a:xfrm>
          <a:prstGeom prst="line">
            <a:avLst/>
          </a:prstGeom>
          <a:ln w="475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395280" y="6453360"/>
            <a:ext cx="8209080" cy="0"/>
          </a:xfrm>
          <a:prstGeom prst="line">
            <a:avLst/>
          </a:prstGeom>
          <a:ln w="475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39640" y="90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Словар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равочная книга,  содержащая собрание слов,   расположенных по определенному принципу,  и дающая сведения об их значениях,  употреблении  происхождении,  переводе на др. язык и т. п. (лингвистические словари) или информацию о понятиях и предметах,  ими обозначаемых  о деятелях в каких-либо областях науки  культуры и др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Новый энциклопедический словарь. М.  2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58560" y="692280"/>
            <a:ext cx="8785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Словарь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ловник,  словотолковник,  словотолк,  словарик,  словарчик; словаришка; словарища; речник,  лексикон; сборник слов,  речений какого-либо языка  с толкованием или с переводом. Словари бывают общие и частные,  обиходные и научные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Даль В. И. Толковый словарь живого великорусского язык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8497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Словар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брание слов (обычно в алфавитном порядке),  устойчивых выражений, с пояснениями,  толкованиями или с переводом на другой язык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Ожегов С. И. и Шведова Н. Ю. «Толковый словарь русского языка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Словар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– книга,  содержащая перечень слов,  обычно с пояснениями,  толкованиями или переводом на другой язык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 Словарь современного русского литературного языка: в 17 т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Словар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– книга,  содержащая перечень слов,  расположенных по тому или иному принципу (например, по алфавиту),  с теми или иными объяснениями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Толковый словарь русского языка: В 4 т. / Под ред. Д. Н. Ушаков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09:24:52Z</dcterms:created>
  <dc:creator>NACH. CHKOLA</dc:creator>
  <dc:description/>
  <dc:language>en-US</dc:language>
  <cp:lastModifiedBy>comp</cp:lastModifiedBy>
  <dcterms:modified xsi:type="dcterms:W3CDTF">2010-05-30T17:02:44Z</dcterms:modified>
  <cp:revision>15</cp:revision>
  <dc:subject/>
  <dc:title>Слайд 1</dc:title>
</cp:coreProperties>
</file>