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F08-9438-4286-B35E-EEEDD02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837-E32B-444D-8462-6AD52FE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905-2EA4-4AB7-A3A9-2C4CD73E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ED0-A44A-42D0-A1FB-83D6F56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AB25-D30A-4804-99ED-F844DB0E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0384-A845-4460-9A58-829A29A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93EF-64B0-4728-9B59-81F260B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E5E-9BB7-4A47-A41A-DABC5E9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146-B596-4BE8-AA96-43C6F13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C31B-1B48-4A0D-8994-A023AB8A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949C-5173-4462-A601-A548DAB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088-B7ED-47F0-86D1-939ED69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0691-C1F2-4A0C-80BB-B3C59B8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AD18-DD27-4999-A516-A7875E5F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083F-9497-47FF-8FAF-C6C1CC62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53D-5715-4B2E-8552-8E0D4F45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D11-9ED4-4619-9EEE-78F23F8A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CF9-DA90-4A62-9E43-5F107B7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342-5B1B-43B0-AC05-404323E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6E3-A325-46AD-AEED-7025D9D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593-3F67-46ED-83F3-6D71009A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8A1-0E0F-4BB5-959B-329E04A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F1C-AEDD-4C59-8DE8-44D8EC2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08E-BE58-4C0A-99FE-0AB5BCC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0F3-A749-46CF-AFAA-5A93CA1915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532-21B9-4005-A7BA-3989F5F5E1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250920" y="1341360"/>
            <a:ext cx="8624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ь - русской 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и государь</a:t>
            </a:r>
            <a:endParaRPr b="0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857240" y="4357800"/>
            <a:ext cx="590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Работу выполнили: Вандышева И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Лукиных А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Королева Ма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4 б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6216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Словарь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это справочная книга,  которая содержит слова,  расположенные в определенном порядке, объясняет значения описываемых предметов, дает различную информацию о них или их перевод на другой язы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98_009"/>
          <p:cNvPicPr/>
          <p:nvPr/>
        </p:nvPicPr>
        <p:blipFill>
          <a:blip r:embed="rId1"/>
          <a:stretch/>
        </p:blipFill>
        <p:spPr>
          <a:xfrm>
            <a:off x="228600" y="106668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ловари – сокровищница национального язык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62160" y="1844280"/>
            <a:ext cx="518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и и справочники помогают людям не только правильно писать слова, определять их значения, объяснять происхождение слов,но и расширяют кругозор, дают новые сведения из разных областей науки, техники, искусства и литературы, повышают языковую культ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116_005"/>
          <p:cNvPicPr/>
          <p:nvPr/>
        </p:nvPicPr>
        <p:blipFill>
          <a:blip r:embed="rId1"/>
          <a:stretch/>
        </p:blipFill>
        <p:spPr>
          <a:xfrm>
            <a:off x="22860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 посещении школьной библиотеки мы познакомились с разнообразными словарями, справочниками, энциклопед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DSC01989"/>
          <p:cNvPicPr/>
          <p:nvPr/>
        </p:nvPicPr>
        <p:blipFill>
          <a:blip r:embed="rId1"/>
          <a:stretch/>
        </p:blipFill>
        <p:spPr>
          <a:xfrm>
            <a:off x="1547640" y="2708280"/>
            <a:ext cx="60487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68360" y="421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Учитывая подбор слов и характер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объяснения, все словари подразделяются на три основных тип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1618920" y="1844640"/>
            <a:ext cx="865080" cy="115272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356000" y="1844640"/>
            <a:ext cx="0" cy="23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6012000" y="1844640"/>
            <a:ext cx="1081080" cy="1079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179280" y="3141720"/>
            <a:ext cx="273708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2843280" y="4292640"/>
            <a:ext cx="30258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л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5508720" y="3068640"/>
            <a:ext cx="30240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нциклопед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75564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язы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ЯЗЫ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рфограф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Фразеолог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ин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ант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уда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окращений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писная или строчна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итно или раздельн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иностранных сл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book37"/>
          <p:cNvPicPr/>
          <p:nvPr/>
        </p:nvPicPr>
        <p:blipFill>
          <a:blip r:embed="rId1"/>
          <a:stretch/>
        </p:blipFill>
        <p:spPr>
          <a:xfrm>
            <a:off x="6732720" y="5157720"/>
            <a:ext cx="2031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5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35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35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35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35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35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8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35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ТОЛ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Ожегов С.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Даль В. 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жив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словарь"/>
          <p:cNvPicPr/>
          <p:nvPr/>
        </p:nvPicPr>
        <p:blipFill>
          <a:blip r:embed="rId1"/>
          <a:stretch/>
        </p:blipFill>
        <p:spPr>
          <a:xfrm>
            <a:off x="6227640" y="3716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5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5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35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35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ЭНЦИКЛОПЕДИЧЕСКИЕ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 flipH="1">
            <a:off x="1763640" y="1413000"/>
            <a:ext cx="1152720" cy="15112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5580000" y="1341360"/>
            <a:ext cx="1225440" cy="1584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9528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1128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ТРАС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93236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1964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570480" cy="23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16495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Копия DSC02318"/>
          <p:cNvPicPr/>
          <p:nvPr/>
        </p:nvPicPr>
        <p:blipFill>
          <a:blip r:embed="rId3"/>
          <a:stretch/>
        </p:blipFill>
        <p:spPr>
          <a:xfrm>
            <a:off x="395280" y="4365720"/>
            <a:ext cx="1719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6699"/>
                </a:solidFill>
                <a:latin typeface="Times New Roman"/>
              </a:rPr>
              <a:t>Словари, справочники зачастую становятся нашими помощниками  в подготовке к урокам – именно они,  дают нам чёткое и ясное представление, опираясь на которое мы отправляемся в дальнейший поиск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110_002"/>
          <p:cNvPicPr/>
          <p:nvPr/>
        </p:nvPicPr>
        <p:blipFill>
          <a:blip r:embed="rId1"/>
          <a:stretch/>
        </p:blipFill>
        <p:spPr>
          <a:xfrm>
            <a:off x="6516720" y="4476600"/>
            <a:ext cx="2246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Times New Roman"/>
              </a:rPr>
              <a:t>РЕЗУЛЬТАТ РАБОТЫ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«Словарь настроений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(составители ученики 4б клас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99"/>
                </a:solidFill>
                <a:latin typeface="Times New Roman"/>
              </a:rPr>
              <a:t>ВЫВОД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СЛОВАРЬ 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– это вселенная в алфавитном порядке, работа со словарями экономит время, энергию и расширяет кругозо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Цель работы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Выявить, какую роль играют словари в жизни челове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Потиха З.А. Лингвистические словари и работа с ними. – М:. «Просвещение», 1997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Сергеев В.Н. Словари – наши друзья и помощники. – М:. «Просвещение», 1994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755640" y="404640"/>
            <a:ext cx="60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9280" y="170028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Наши 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Дать определение понятию «словарь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ыяснить, для чего служат слова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знакомиться с классификацией слова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ставить словарь – настро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Не тот образованный человек, который все знает (это не возможно!), а тот, кто знает, где можно найти ответ на возникший вопрос»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9528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60436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95280" y="62064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5280" y="645336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очная книга,  содержащая собрание слов,   расположенных по определенному принципу,  и дающая сведения об их значениях,  употреблении  происхождении,  переводе на др. язык и т. п. (лингвистические словари) или информацию о понятиях и предметах,  ими обозначаемых  о деятелях в каких-либо областях науки  культуры и др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Новый энциклопедический словарь. М. 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8560" y="692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ник,  словотолковник,  словотолк,  словарик,  словарчик; словаришка; словарища; речник,  лексикон; сборник слов,  речений какого-либо языка  с толкованием или с переводом. Словари бывают общие и частные,  обиходные и научные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аль В. И. Толковый словарь живого 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9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рание слов (обычно в алфавитном порядке),  устойчивых выражений, с пояснениями,  толкованиями или с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жегов С. И. и Шведова Н. Ю. 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обычно с пояснениями,  толкованиями или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Словарь современного русского литературного языка: в 17 т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расположенных по тому или иному принципу (например, по алфавиту),  с теми или иными объяснениями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олковый словарь русского языка: В 4 т. / Под ред. Д. Н. Ушако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9:24:52Z</dcterms:created>
  <dc:creator>NACH. CHKOLA</dc:creator>
  <dc:description/>
  <dc:language>en-US</dc:language>
  <cp:lastModifiedBy>comp</cp:lastModifiedBy>
  <dcterms:modified xsi:type="dcterms:W3CDTF">2010-05-30T17:02:44Z</dcterms:modified>
  <cp:revision>15</cp:revision>
  <dc:subject/>
  <dc:title>Слайд 1</dc:title>
</cp:coreProperties>
</file>