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F89B-C911-42B9-AA99-7639D65001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B8CF-D56F-498D-9A97-6CC186A3E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полагание: Сегодня мы выясним, какие средства обучения существовали ранее и какие распространены сейчас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8367-BE9D-4081-B9FD-2ED16EF6E7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ожите, пожалуйста, тетради и попробуйте самостоятельно ответить на следующие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6C79-8513-4672-8610-4763C75FB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литература поможет Вам подготовиться к экзаменационному вопр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203-BD34-46DC-A22A-7BE5CA78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CEE-E35B-4D06-8C8C-5084CB52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8E3-18CA-481A-9A83-D2C33E20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712-B54F-4DCE-A3C2-AFB625F6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C4A-F876-4A6F-A355-5718B86F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67F-2DFF-4F28-8591-3DC13F7C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507-FF7B-4095-AD78-582859B1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795-D72A-4952-A9B2-D009BE1F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AAF-8186-418A-80F3-63CA2389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3F6-4320-4B81-885E-72953D4C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8AE-D40C-4362-ADBE-63644972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702-186D-47E8-A283-A22CE63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9D6D-4DFB-4E2C-B273-BF27856BEF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essons-tva.info/edu/telecom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q=1944884931&amp;p=1&amp;ag=ih&amp;qs=text%3D%25D4%25C5%25CC%25C5%25CB%25CF%25CE%25C6%25C5%25D2%25C5%25CE%25C3%25C9%25C9%26stype%3Dimag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Medium"/>
              </a:rPr>
              <a:t>Аудиовизуальные  технологии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388620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занятия: «Компьютерные телекоммуникации в образован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коммуникативных навы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26920" y="1878120"/>
            <a:ext cx="748836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тельская работа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1393920"/>
            <a:ext cx="9144000" cy="546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3203640" y="2421000"/>
            <a:ext cx="50814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умений поиска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1452600"/>
            <a:ext cx="91440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"/>
            <p:cNvSpPr/>
            <p:nvPr/>
          </p:nvSpPr>
          <p:spPr>
            <a:xfrm>
              <a:off x="395280" y="404640"/>
              <a:ext cx="8424720" cy="619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"/>
            <p:cNvSpPr/>
            <p:nvPr/>
          </p:nvSpPr>
          <p:spPr>
            <a:xfrm>
              <a:off x="0" y="0"/>
              <a:ext cx="1547640" cy="134136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Franklin Gothic Medium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дополнительные возможности дают телекоммуникации учебному процес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еодолеть нежелание учителей использовать дополнительные возможности, открывающиеся с появлением компьютеров в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 к ле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жаспирова Г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, Петров К. В.  Технические средства обучения и методика их использования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ые сети и телекоммуникации. Онлайн учебни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ресур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essons-tva.info/edu/telecom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 обращения: 28.09.20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поч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е конферен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сти современных ИКТ в области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ередача, прием, обработка и хранение информации компьютерными средствами (с помощью модема), либо по традиционным телефонным линиям, либо с помощью спутниковой связ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нная поч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0" t="0" r="0" b="11690"/>
          <a:stretch/>
        </p:blipFill>
        <p:spPr>
          <a:xfrm>
            <a:off x="0" y="958680"/>
            <a:ext cx="9144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леконферен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во время телеконферен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867040"/>
            <a:ext cx="5715000" cy="399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pic1_300_189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50920" y="1116000"/>
            <a:ext cx="8893080" cy="574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l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Обучение для будуще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2847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еративная консуль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42920" y="1295280"/>
            <a:ext cx="7201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станционное обучение и повышение квалиф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еративный 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8:01:40Z</dcterms:created>
  <dc:creator>Карабанов А. В.</dc:creator>
  <dc:description/>
  <dc:language>en-US</dc:language>
  <cp:lastModifiedBy>Дарья</cp:lastModifiedBy>
  <dcterms:modified xsi:type="dcterms:W3CDTF">2012-10-15T15:13:58Z</dcterms:modified>
  <cp:revision>66</cp:revision>
  <dc:subject>Аудиовизуальные и технические средства обучения</dc:subject>
  <dc:title>Лекция 9</dc:title>
</cp:coreProperties>
</file>