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1544-8D09-4ADC-B14A-56F065596A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C0D4-B00C-4AC7-B370-E9131ADAAA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полагание: Сегодня мы выясним, какие средства обучения существовали ранее и какие распространены сейчас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5E75-D98C-48D1-92D1-07A7782A5D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ожите, пожалуйста, тетради и попробуйте самостоятельно ответить на следующие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3C94-D19B-49AC-955B-36E1FCEF3A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литература поможет Вам подготовиться к экзаменационному вопро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E35-2DA3-4D87-9863-8B248533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BC4-CAC4-477E-9B23-EDF5A688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C4B-FE06-4670-99F9-1D57433D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1D9-8BB6-4A4D-A8B4-B57BB5C0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1EF-487E-4E71-AFD5-253464E1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399-A3EE-40DD-AF51-2E32EE5E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34E-36D5-410F-8244-70C3EB4C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2A8-CA37-4365-93FF-77FFFF02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78E-B47D-45B7-98FE-C1138402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9E7-5780-43D5-804D-87DE30D5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567-50D3-4D36-ADB3-CD9E4F2D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68D-34D3-444E-A7A0-19C09D65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28E4-B56F-42ED-8A86-8A6967423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essons-tva.info/edu/telecom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q=1944884931&amp;p=1&amp;ag=ih&amp;qs=text%3D%25D4%25C5%25CC%25C5%25CB%25CF%25CE%25C6%25C5%25D2%25C5%25CE%25C3%25C9%25C9%26stype%3Dimage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Medium"/>
              </a:rPr>
              <a:t>Аудиовизуальные  технологии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0920" y="3886200"/>
            <a:ext cx="777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занятия: «Компьютерные телекоммуникации в образован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ние коммуникативных навы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26920" y="1878120"/>
            <a:ext cx="748836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следовательская работа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1393920"/>
            <a:ext cx="9144000" cy="546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3203640" y="2421000"/>
            <a:ext cx="50814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ние умений поиска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1452600"/>
            <a:ext cx="91440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4"/>
            <p:cNvSpPr/>
            <p:nvPr/>
          </p:nvSpPr>
          <p:spPr>
            <a:xfrm>
              <a:off x="395280" y="404640"/>
              <a:ext cx="8424720" cy="619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"/>
            <p:cNvSpPr/>
            <p:nvPr/>
          </p:nvSpPr>
          <p:spPr>
            <a:xfrm>
              <a:off x="0" y="0"/>
              <a:ext cx="1547640" cy="134136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Franklin Gothic Medium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ные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дополнительные возможности дают телекоммуникации учебному процес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еодолеть нежелание учителей использовать дополнительные возможности, открывающиеся с появлением компьютеров в шк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 к ле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джаспирова Г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, Петров К. В.  Технические средства обучения и методика их использования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ные сети и телекоммуникации. Онлайн учебни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ресур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essons-tva.info/edu/telecom.ht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 обращения: 28.09.20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ные телекоммуник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поч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е конферен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сти современных ИКТ в области 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ьютерные телекоммуник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ередача, прием, обработка и хранение информации компьютерными средствами (с помощью модема), либо по традиционным телефонным линиям, либо с помощью спутниковой связ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онная поч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0" t="0" r="0" b="11690"/>
          <a:stretch/>
        </p:blipFill>
        <p:spPr>
          <a:xfrm>
            <a:off x="0" y="958680"/>
            <a:ext cx="914400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леконферен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во время телеконференц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867040"/>
            <a:ext cx="5715000" cy="3990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pic1_300_189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250920" y="1116000"/>
            <a:ext cx="8893080" cy="5742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l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Обучение для будуще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2847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еративная консуль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042920" y="1295280"/>
            <a:ext cx="7201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станционное обучение и повышение квалифик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еративный 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08:01:40Z</dcterms:created>
  <dc:creator>Карабанов А. В.</dc:creator>
  <dc:description/>
  <dc:language>en-US</dc:language>
  <cp:lastModifiedBy>Дарья</cp:lastModifiedBy>
  <dcterms:modified xsi:type="dcterms:W3CDTF">2012-10-15T15:13:58Z</dcterms:modified>
  <cp:revision>66</cp:revision>
  <dc:subject>Аудиовизуальные и технические средства обучения</dc:subject>
  <dc:title>Лекция 9</dc:title>
</cp:coreProperties>
</file>