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4200-7B27-4E8A-8028-54ABDD47E6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F256-E8AB-4AB4-8090-DA5E664F0C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полагание: Сегодня мы выясним, какие средства обучения существовали ранее и какие распространены сейчас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D4DA-1C9B-43A4-AE2E-DF2A8A4509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ожите, пожалуйста, тетради и попробуйте самостоятельно ответить на следующие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48D4-B2C6-4C13-B36F-364A09BD4F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литература поможет Вам подготовиться к экзаменационному вопро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53BD-7991-4748-96CA-EB2D2006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27C-3502-41BB-B835-1BC6D671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7ED-E1C3-4813-BA3F-F8A1CA1B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17FB-4EEB-4522-892E-623E77DC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F1F5-A97E-4E09-A670-56CCD614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F13E-FCB5-4C33-9DDC-116CCD1C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8A8-DF7A-462A-839C-9C9EB758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5A5-04F6-486A-99B2-799C4931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16C-388B-4794-94DC-A754B6F5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0D3C-9BC9-43C2-ACF4-1295F1EE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0FF-EF89-4E1C-AEAB-74F66C50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E837-AD75-4B13-B99E-786F3E55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8D12-15DC-4F94-9953-6ADB3AE276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essons-tva.info/edu/telecom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q=1944884931&amp;p=1&amp;ag=ih&amp;qs=text%3D%25D4%25C5%25CC%25C5%25CB%25CF%25CE%25C6%25C5%25D2%25C5%25CE%25C3%25C9%25C9%26stype%3Dimage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Medium"/>
              </a:rPr>
              <a:t>Аудиовизуальные  технологии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0920" y="3886200"/>
            <a:ext cx="7777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занятия: «Компьютерные телекоммуникации в образован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ирование коммуникативных навы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826920" y="1878120"/>
            <a:ext cx="748836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следовательская работа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1393920"/>
            <a:ext cx="9144000" cy="546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3203640" y="2421000"/>
            <a:ext cx="50814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ирование умений поиска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1452600"/>
            <a:ext cx="91440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8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4"/>
            <p:cNvSpPr/>
            <p:nvPr/>
          </p:nvSpPr>
          <p:spPr>
            <a:xfrm>
              <a:off x="395280" y="404640"/>
              <a:ext cx="8424720" cy="6193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5"/>
            <p:cNvSpPr/>
            <p:nvPr/>
          </p:nvSpPr>
          <p:spPr>
            <a:xfrm>
              <a:off x="0" y="0"/>
              <a:ext cx="1547640" cy="134136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000000"/>
                  </a:solidFill>
                  <a:latin typeface="Franklin Gothic Medium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ные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дополнительные возможности дают телекоммуникации учебному процесс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еодолеть нежелание учителей использовать дополнительные возможности, открывающиеся с появлением компьютеров в шк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 к ле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джаспирова Г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, Петров К. В.  Технические средства обучения и методика их использования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ьютерные сети и телекоммуникации. Онлайн учебник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ресур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essons-tva.info/edu/telecom.ht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а обращения: 28.09.20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ьютерные телекоммуник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поч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е конферен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ости современных ИКТ в области образ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ьютерные телекоммуник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ередача, прием, обработка и хранение информации компьютерными средствами (с помощью модема), либо по традиционным телефонным линиям, либо с помощью спутниковой связ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лектронная поч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rcRect l="0" t="0" r="0" b="11690"/>
          <a:stretch/>
        </p:blipFill>
        <p:spPr>
          <a:xfrm>
            <a:off x="0" y="958680"/>
            <a:ext cx="914400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леконферен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во время телеконференци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867040"/>
            <a:ext cx="5715000" cy="3990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pic1_300_189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250920" y="1116000"/>
            <a:ext cx="8893080" cy="5742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l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Обучение для будущег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3419640" y="3860640"/>
            <a:ext cx="2847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еративная консуль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042920" y="1295280"/>
            <a:ext cx="7201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станционное обучение и повышение квалифик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1427040"/>
            <a:ext cx="9144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еративный обмен информа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08:01:40Z</dcterms:created>
  <dc:creator>Карабанов А. В.</dc:creator>
  <dc:description/>
  <dc:language>en-US</dc:language>
  <cp:lastModifiedBy>Дарья</cp:lastModifiedBy>
  <dcterms:modified xsi:type="dcterms:W3CDTF">2012-10-15T15:13:58Z</dcterms:modified>
  <cp:revision>66</cp:revision>
  <dc:subject>Аудиовизуальные и технические средства обучения</dc:subject>
  <dc:title>Лекция 9</dc:title>
</cp:coreProperties>
</file>