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7734-9776-463B-B9CC-06F1CDA4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7EE-B88B-4634-870E-99CE429E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4335-D402-4B77-AA43-9DC2EC0A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D9B-8793-44DB-A677-B926F20C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75A-54BC-4097-9767-87298DB6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3EB-0067-4E33-B8DF-D9F4D548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796-0F22-428E-A089-64307BCB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5C7F-A818-49AA-916B-543B1DD6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B18-A708-4B02-AE5A-BF1ADA64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6E7-C26E-40C3-83ED-D970D805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D7B-ABDC-4637-80D0-1C5E0EE4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ADC-1A89-47CC-8C2D-F5EB6F4E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EDCA-A8EE-4855-A708-C31E3DAF7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1844640"/>
            <a:ext cx="6624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ямоугольный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угольник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26920" y="170028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один из внешних углов раве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ота, проведенная к боковой стороне, равна 5 см. Найдите основание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189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йство медианы прямоугольного тре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95640" y="765000"/>
            <a:ext cx="3384000" cy="3439080"/>
            <a:chOff x="2195640" y="765000"/>
            <a:chExt cx="3384000" cy="3439080"/>
          </a:xfrm>
        </p:grpSpPr>
        <p:sp>
          <p:nvSpPr>
            <p:cNvPr id="122" name=""/>
            <p:cNvSpPr/>
            <p:nvPr/>
          </p:nvSpPr>
          <p:spPr>
            <a:xfrm>
              <a:off x="2534400" y="1076400"/>
              <a:ext cx="2658240" cy="2649240"/>
            </a:xfrm>
            <a:prstGeom prst="rtTriangl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95640" y="76500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41960" y="357012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95640" y="362268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40880" y="3517200"/>
              <a:ext cx="192600" cy="20844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55640" y="4292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прямоугольном треугольнике , медиана, проведенная из вершины прямого угла, равна половине гипотен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556000" y="2276280"/>
            <a:ext cx="122400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131640" y="155736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208320" y="164628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173120" y="259884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237200" y="2674800"/>
            <a:ext cx="7128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08360" y="184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2924280"/>
            <a:ext cx="21564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9920" y="2814480"/>
            <a:ext cx="21600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492360" y="5734080"/>
                <a:ext cx="16560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" name=""/>
          <p:cNvGrpSpPr/>
          <p:nvPr/>
        </p:nvGrpSpPr>
        <p:grpSpPr>
          <a:xfrm>
            <a:off x="2195640" y="765000"/>
            <a:ext cx="3384000" cy="3439080"/>
            <a:chOff x="2195640" y="765000"/>
            <a:chExt cx="3384000" cy="3439080"/>
          </a:xfrm>
        </p:grpSpPr>
        <p:sp>
          <p:nvSpPr>
            <p:cNvPr id="138" name=""/>
            <p:cNvSpPr/>
            <p:nvPr/>
          </p:nvSpPr>
          <p:spPr>
            <a:xfrm>
              <a:off x="2534400" y="1076400"/>
              <a:ext cx="2658240" cy="2649240"/>
            </a:xfrm>
            <a:prstGeom prst="rtTriangl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95640" y="76500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41960" y="357012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95640" y="362268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40880" y="3517200"/>
              <a:ext cx="192600" cy="20844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556000" y="2276280"/>
            <a:ext cx="122400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131640" y="155736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208320" y="164628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173120" y="259884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37200" y="2674800"/>
            <a:ext cx="7128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184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916360" y="333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83664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сли медиана треугольника равна половине стороны, к которой она проведена. то этот треугольник прямоуго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10040" y="3235320"/>
            <a:ext cx="2658960" cy="2649600"/>
          </a:xfrm>
          <a:prstGeom prst="rtTriangle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7280" y="2852640"/>
            <a:ext cx="3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18320" y="5729400"/>
            <a:ext cx="3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5781600"/>
            <a:ext cx="3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132000" y="4435200"/>
            <a:ext cx="122400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708000" y="371628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784680" y="380520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749840" y="475776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812840" y="483408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40035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5083200"/>
            <a:ext cx="21600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16280" y="4973760"/>
            <a:ext cx="21600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2627280" y="476280"/>
            <a:ext cx="3384360" cy="3438720"/>
            <a:chOff x="2627280" y="476280"/>
            <a:chExt cx="3384360" cy="3438720"/>
          </a:xfrm>
        </p:grpSpPr>
        <p:sp>
          <p:nvSpPr>
            <p:cNvPr id="164" name=""/>
            <p:cNvSpPr/>
            <p:nvPr/>
          </p:nvSpPr>
          <p:spPr>
            <a:xfrm>
              <a:off x="2966040" y="787680"/>
              <a:ext cx="2658600" cy="2648880"/>
            </a:xfrm>
            <a:prstGeom prst="rtTriangl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27280" y="47628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73960" y="328104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27280" y="333360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72520" y="3228120"/>
              <a:ext cx="192600" cy="20844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2987640" y="1987560"/>
            <a:ext cx="122400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64000" y="1268280"/>
            <a:ext cx="7128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639600" y="135720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05480" y="230976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668840" y="238608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1555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1160" y="990720"/>
            <a:ext cx="162000" cy="88920"/>
          </a:xfrm>
          <a:custGeom>
            <a:avLst/>
            <a:gdLst/>
            <a:ahLst/>
            <a:rect l="l" t="t" r="r" b="b"/>
            <a:pathLst>
              <a:path w="102" h="56">
                <a:moveTo>
                  <a:pt x="0" y="45"/>
                </a:moveTo>
                <a:cubicBezTo>
                  <a:pt x="10" y="48"/>
                  <a:pt x="30" y="54"/>
                  <a:pt x="30" y="54"/>
                </a:cubicBezTo>
                <a:cubicBezTo>
                  <a:pt x="88" y="51"/>
                  <a:pt x="102" y="56"/>
                  <a:pt x="10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16360" y="112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47242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ти угол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rot="8136000">
            <a:off x="2916000" y="1545840"/>
            <a:ext cx="2658960" cy="2649600"/>
          </a:xfrm>
          <a:prstGeom prst="rtTriangle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43480" y="2444760"/>
            <a:ext cx="3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51200" y="2622600"/>
            <a:ext cx="3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91040" y="453960"/>
            <a:ext cx="3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0600" y="1017360"/>
            <a:ext cx="132480" cy="188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983480" y="2719440"/>
            <a:ext cx="149760" cy="25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893120" y="2724480"/>
            <a:ext cx="14976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684960" y="2741040"/>
            <a:ext cx="14976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3586680" y="2732400"/>
            <a:ext cx="14976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33880" y="28908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201920" y="1936080"/>
            <a:ext cx="254160" cy="4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220640" y="2070720"/>
            <a:ext cx="254520" cy="4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2600" y="2709720"/>
            <a:ext cx="66600" cy="162000"/>
          </a:xfrm>
          <a:custGeom>
            <a:avLst/>
            <a:gdLst/>
            <a:ahLst/>
            <a:rect l="l" t="t" r="r" b="b"/>
            <a:pathLst>
              <a:path w="42" h="102">
                <a:moveTo>
                  <a:pt x="42" y="0"/>
                </a:moveTo>
                <a:cubicBezTo>
                  <a:pt x="0" y="14"/>
                  <a:pt x="0" y="65"/>
                  <a:pt x="0" y="10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2421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79640" y="4437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ти угол В, угол А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987640" y="1484280"/>
            <a:ext cx="2087640" cy="2879640"/>
          </a:xfrm>
          <a:prstGeom prst="rtTriangle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2987280" y="3284280"/>
            <a:ext cx="208908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43360" y="4076640"/>
            <a:ext cx="114480" cy="101520"/>
          </a:xfrm>
          <a:custGeom>
            <a:avLst/>
            <a:gdLst/>
            <a:ahLst/>
            <a:rect l="l" t="t" r="r" b="b"/>
            <a:pathLst>
              <a:path w="72" h="64">
                <a:moveTo>
                  <a:pt x="72" y="0"/>
                </a:moveTo>
                <a:cubicBezTo>
                  <a:pt x="4" y="7"/>
                  <a:pt x="53" y="6"/>
                  <a:pt x="12" y="20"/>
                </a:cubicBezTo>
                <a:cubicBezTo>
                  <a:pt x="1" y="37"/>
                  <a:pt x="0" y="43"/>
                  <a:pt x="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65520" y="4146480"/>
            <a:ext cx="101880" cy="196920"/>
          </a:xfrm>
          <a:custGeom>
            <a:avLst/>
            <a:gdLst/>
            <a:ahLst/>
            <a:rect l="l" t="t" r="r" b="b"/>
            <a:pathLst>
              <a:path w="64" h="124">
                <a:moveTo>
                  <a:pt x="64" y="0"/>
                </a:moveTo>
                <a:cubicBezTo>
                  <a:pt x="53" y="1"/>
                  <a:pt x="42" y="0"/>
                  <a:pt x="32" y="4"/>
                </a:cubicBezTo>
                <a:cubicBezTo>
                  <a:pt x="25" y="7"/>
                  <a:pt x="23" y="23"/>
                  <a:pt x="20" y="28"/>
                </a:cubicBezTo>
                <a:cubicBezTo>
                  <a:pt x="0" y="69"/>
                  <a:pt x="4" y="70"/>
                  <a:pt x="4" y="1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987640" y="692280"/>
            <a:ext cx="0" cy="367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1268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0" y="414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8360" y="414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04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997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4208400"/>
            <a:ext cx="144360" cy="14436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3573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396800">
            <a:off x="3276360" y="3141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53737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ти угол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916360" y="765000"/>
            <a:ext cx="3168360" cy="3311640"/>
          </a:xfrm>
          <a:prstGeom prst="triangle">
            <a:avLst>
              <a:gd name="adj" fmla="val 50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765000"/>
            <a:ext cx="0" cy="331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6840" y="3922560"/>
            <a:ext cx="144360" cy="14292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212640" y="3486240"/>
            <a:ext cx="1289160" cy="55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401000">
            <a:off x="3244680" y="3363840"/>
            <a:ext cx="144720" cy="14436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27640" y="148428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1130400"/>
            <a:ext cx="171720" cy="137880"/>
          </a:xfrm>
          <a:custGeom>
            <a:avLst/>
            <a:gdLst/>
            <a:ahLst/>
            <a:rect l="l" t="t" r="r" b="b"/>
            <a:pathLst>
              <a:path w="108" h="87">
                <a:moveTo>
                  <a:pt x="0" y="44"/>
                </a:moveTo>
                <a:cubicBezTo>
                  <a:pt x="14" y="87"/>
                  <a:pt x="0" y="69"/>
                  <a:pt x="68" y="64"/>
                </a:cubicBezTo>
                <a:cubicBezTo>
                  <a:pt x="73" y="56"/>
                  <a:pt x="83" y="52"/>
                  <a:pt x="88" y="44"/>
                </a:cubicBezTo>
                <a:cubicBezTo>
                  <a:pt x="91" y="38"/>
                  <a:pt x="89" y="30"/>
                  <a:pt x="92" y="24"/>
                </a:cubicBezTo>
                <a:cubicBezTo>
                  <a:pt x="96" y="15"/>
                  <a:pt x="108" y="0"/>
                  <a:pt x="1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11280" y="4005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11640" y="2602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56360" y="386064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11640" y="4076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71640" y="314172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35280" y="4797360"/>
            <a:ext cx="511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=DC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ти: 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47640" y="1125360"/>
            <a:ext cx="5904000" cy="2519640"/>
          </a:xfrm>
          <a:prstGeom prst="rtTriangle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771640" y="1557360"/>
            <a:ext cx="215640" cy="287280"/>
            <a:chOff x="2771640" y="1557360"/>
            <a:chExt cx="215640" cy="287280"/>
          </a:xfrm>
        </p:grpSpPr>
        <p:sp>
          <p:nvSpPr>
            <p:cNvPr id="222" name=""/>
            <p:cNvSpPr/>
            <p:nvPr/>
          </p:nvSpPr>
          <p:spPr>
            <a:xfrm flipH="1">
              <a:off x="2771640" y="1557360"/>
              <a:ext cx="14472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842920" y="1628640"/>
              <a:ext cx="144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219640" y="2637000"/>
            <a:ext cx="215640" cy="287280"/>
            <a:chOff x="5219640" y="2637000"/>
            <a:chExt cx="215640" cy="287280"/>
          </a:xfrm>
        </p:grpSpPr>
        <p:sp>
          <p:nvSpPr>
            <p:cNvPr id="225" name=""/>
            <p:cNvSpPr/>
            <p:nvPr/>
          </p:nvSpPr>
          <p:spPr>
            <a:xfrm flipH="1">
              <a:off x="5219640" y="2637000"/>
              <a:ext cx="14472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290920" y="2708280"/>
              <a:ext cx="144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547640" y="3429000"/>
            <a:ext cx="216000" cy="21600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547640" y="2349000"/>
            <a:ext cx="288000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27640" y="234936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99120" y="2425680"/>
            <a:ext cx="114120" cy="31680"/>
          </a:xfrm>
          <a:custGeom>
            <a:avLst/>
            <a:gdLst/>
            <a:ahLst/>
            <a:rect l="l" t="t" r="r" b="b"/>
            <a:pathLst>
              <a:path w="72" h="20">
                <a:moveTo>
                  <a:pt x="0" y="0"/>
                </a:moveTo>
                <a:cubicBezTo>
                  <a:pt x="27" y="18"/>
                  <a:pt x="38" y="20"/>
                  <a:pt x="72" y="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29280" y="2463840"/>
            <a:ext cx="190440" cy="73080"/>
          </a:xfrm>
          <a:custGeom>
            <a:avLst/>
            <a:gdLst/>
            <a:ahLst/>
            <a:rect l="l" t="t" r="r" b="b"/>
            <a:pathLst>
              <a:path w="120" h="46">
                <a:moveTo>
                  <a:pt x="0" y="0"/>
                </a:moveTo>
                <a:cubicBezTo>
                  <a:pt x="3" y="8"/>
                  <a:pt x="0" y="21"/>
                  <a:pt x="8" y="24"/>
                </a:cubicBezTo>
                <a:cubicBezTo>
                  <a:pt x="36" y="33"/>
                  <a:pt x="63" y="37"/>
                  <a:pt x="92" y="40"/>
                </a:cubicBezTo>
                <a:cubicBezTo>
                  <a:pt x="109" y="46"/>
                  <a:pt x="100" y="44"/>
                  <a:pt x="120" y="4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5840" y="2444760"/>
            <a:ext cx="142920" cy="71280"/>
          </a:xfrm>
          <a:custGeom>
            <a:avLst/>
            <a:gdLst/>
            <a:ahLst/>
            <a:rect l="l" t="t" r="r" b="b"/>
            <a:pathLst>
              <a:path w="90" h="45">
                <a:moveTo>
                  <a:pt x="0" y="28"/>
                </a:moveTo>
                <a:cubicBezTo>
                  <a:pt x="25" y="45"/>
                  <a:pt x="56" y="40"/>
                  <a:pt x="80" y="24"/>
                </a:cubicBezTo>
                <a:cubicBezTo>
                  <a:pt x="90" y="9"/>
                  <a:pt x="88" y="17"/>
                  <a:pt x="8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25840" y="2432160"/>
            <a:ext cx="196920" cy="153720"/>
          </a:xfrm>
          <a:custGeom>
            <a:avLst/>
            <a:gdLst/>
            <a:ahLst/>
            <a:rect l="l" t="t" r="r" b="b"/>
            <a:pathLst>
              <a:path w="124" h="97">
                <a:moveTo>
                  <a:pt x="0" y="92"/>
                </a:moveTo>
                <a:cubicBezTo>
                  <a:pt x="47" y="89"/>
                  <a:pt x="64" y="97"/>
                  <a:pt x="96" y="76"/>
                </a:cubicBezTo>
                <a:cubicBezTo>
                  <a:pt x="112" y="51"/>
                  <a:pt x="103" y="21"/>
                  <a:pt x="124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81760" y="3454560"/>
            <a:ext cx="71640" cy="190440"/>
          </a:xfrm>
          <a:custGeom>
            <a:avLst/>
            <a:gdLst/>
            <a:ahLst/>
            <a:rect l="l" t="t" r="r" b="b"/>
            <a:pathLst>
              <a:path w="45" h="120">
                <a:moveTo>
                  <a:pt x="45" y="0"/>
                </a:moveTo>
                <a:cubicBezTo>
                  <a:pt x="38" y="5"/>
                  <a:pt x="26" y="5"/>
                  <a:pt x="21" y="12"/>
                </a:cubicBezTo>
                <a:cubicBezTo>
                  <a:pt x="0" y="42"/>
                  <a:pt x="1" y="87"/>
                  <a:pt x="1" y="1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5636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16000" y="3645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58920" y="620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716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4720" y="350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84720" y="184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5300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ти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050920" y="404640"/>
            <a:ext cx="5042160" cy="4542480"/>
            <a:chOff x="2050920" y="404640"/>
            <a:chExt cx="5042160" cy="4542480"/>
          </a:xfrm>
        </p:grpSpPr>
        <p:sp>
          <p:nvSpPr>
            <p:cNvPr id="43" name=""/>
            <p:cNvSpPr/>
            <p:nvPr/>
          </p:nvSpPr>
          <p:spPr>
            <a:xfrm>
              <a:off x="2556000" y="836640"/>
              <a:ext cx="3960720" cy="3672000"/>
            </a:xfrm>
            <a:prstGeom prst="rtTriangl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50920" y="40464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588000" y="429264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50920" y="436572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65360" y="4219560"/>
              <a:ext cx="287280" cy="2890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йства прямоугольного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556000" y="1341360"/>
            <a:ext cx="4176720" cy="3941640"/>
            <a:chOff x="2556000" y="1341360"/>
            <a:chExt cx="4176720" cy="3941640"/>
          </a:xfrm>
        </p:grpSpPr>
        <p:sp>
          <p:nvSpPr>
            <p:cNvPr id="51" name=""/>
            <p:cNvSpPr/>
            <p:nvPr/>
          </p:nvSpPr>
          <p:spPr>
            <a:xfrm>
              <a:off x="2974320" y="1707840"/>
              <a:ext cx="3280680" cy="3116520"/>
            </a:xfrm>
            <a:prstGeom prst="rtTriangl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6000" y="1341360"/>
              <a:ext cx="41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15840" y="4641120"/>
              <a:ext cx="41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56000" y="4701600"/>
              <a:ext cx="41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81880" y="4579200"/>
              <a:ext cx="237960" cy="2451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547640" y="58053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умма острых углов равна 9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771640" y="0"/>
            <a:ext cx="3455640" cy="3598200"/>
            <a:chOff x="2771640" y="0"/>
            <a:chExt cx="3455640" cy="3598200"/>
          </a:xfrm>
        </p:grpSpPr>
        <p:sp>
          <p:nvSpPr>
            <p:cNvPr id="58" name=""/>
            <p:cNvSpPr/>
            <p:nvPr/>
          </p:nvSpPr>
          <p:spPr>
            <a:xfrm>
              <a:off x="3117600" y="328680"/>
              <a:ext cx="2714760" cy="2795400"/>
            </a:xfrm>
            <a:prstGeom prst="rtTriangl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71640" y="0"/>
              <a:ext cx="34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81320" y="2961000"/>
              <a:ext cx="34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71640" y="3016800"/>
              <a:ext cx="34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24080" y="2904480"/>
              <a:ext cx="196560" cy="2199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008000" y="371628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равнобедренном прямоугольном треугольнике острые углы равны 4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486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530064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в прямоугольном треугольнике один из углов равен 4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то этот треугольник равнобедр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124000" y="0"/>
            <a:ext cx="4319280" cy="4012560"/>
            <a:chOff x="2124000" y="0"/>
            <a:chExt cx="4319280" cy="4012560"/>
          </a:xfrm>
        </p:grpSpPr>
        <p:sp>
          <p:nvSpPr>
            <p:cNvPr id="67" name=""/>
            <p:cNvSpPr/>
            <p:nvPr/>
          </p:nvSpPr>
          <p:spPr>
            <a:xfrm>
              <a:off x="2556360" y="374040"/>
              <a:ext cx="3393000" cy="3180600"/>
            </a:xfrm>
            <a:prstGeom prst="rtTriangl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24000" y="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12360" y="336780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24000" y="34311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64640" y="3304440"/>
              <a:ext cx="245880" cy="250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826920" y="429264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тет прямоугольного треугольника, лежащий против угла в 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равен половине гипотен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6480" y="3300480"/>
            <a:ext cx="66600" cy="237960"/>
          </a:xfrm>
          <a:custGeom>
            <a:avLst/>
            <a:gdLst/>
            <a:ahLst/>
            <a:rect l="l" t="t" r="r" b="b"/>
            <a:pathLst>
              <a:path w="42" h="150">
                <a:moveTo>
                  <a:pt x="42" y="0"/>
                </a:moveTo>
                <a:cubicBezTo>
                  <a:pt x="4" y="57"/>
                  <a:pt x="0" y="76"/>
                  <a:pt x="0" y="15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3141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716360" y="5661000"/>
                <a:ext cx="1800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124000" y="5877000"/>
                <a:ext cx="2087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124000" y="0"/>
            <a:ext cx="4319280" cy="4012560"/>
            <a:chOff x="2124000" y="0"/>
            <a:chExt cx="4319280" cy="4012560"/>
          </a:xfrm>
        </p:grpSpPr>
        <p:sp>
          <p:nvSpPr>
            <p:cNvPr id="78" name=""/>
            <p:cNvSpPr/>
            <p:nvPr/>
          </p:nvSpPr>
          <p:spPr>
            <a:xfrm>
              <a:off x="2556360" y="374040"/>
              <a:ext cx="3393000" cy="3180600"/>
            </a:xfrm>
            <a:prstGeom prst="rtTriangl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24000" y="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12360" y="336780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24000" y="34311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64640" y="3304440"/>
              <a:ext cx="245880" cy="250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55640" y="407664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катет прямоугольного треугольника равен половине гипотенузы. То угол, лежащий против этого катета, равен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547640" y="5734080"/>
                <a:ext cx="1800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716360" y="5877000"/>
                <a:ext cx="1590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708360" y="5950080"/>
                <a:ext cx="647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268360" y="333360"/>
            <a:ext cx="4319280" cy="4012560"/>
            <a:chOff x="2268360" y="333360"/>
            <a:chExt cx="4319280" cy="4012560"/>
          </a:xfrm>
        </p:grpSpPr>
        <p:sp>
          <p:nvSpPr>
            <p:cNvPr id="88" name=""/>
            <p:cNvSpPr/>
            <p:nvPr/>
          </p:nvSpPr>
          <p:spPr>
            <a:xfrm>
              <a:off x="2700720" y="707400"/>
              <a:ext cx="3393000" cy="3180600"/>
            </a:xfrm>
            <a:prstGeom prst="rtTriangl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68360" y="3333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56720" y="37011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68360" y="376452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09000" y="3637800"/>
              <a:ext cx="245880" cy="250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705040" y="942840"/>
            <a:ext cx="225360" cy="119160"/>
          </a:xfrm>
          <a:custGeom>
            <a:avLst/>
            <a:gdLst/>
            <a:ahLst/>
            <a:rect l="l" t="t" r="r" b="b"/>
            <a:pathLst>
              <a:path w="142" h="75">
                <a:moveTo>
                  <a:pt x="0" y="33"/>
                </a:moveTo>
                <a:cubicBezTo>
                  <a:pt x="14" y="75"/>
                  <a:pt x="97" y="46"/>
                  <a:pt x="117" y="45"/>
                </a:cubicBezTo>
                <a:cubicBezTo>
                  <a:pt x="126" y="42"/>
                  <a:pt x="138" y="24"/>
                  <a:pt x="138" y="24"/>
                </a:cubicBezTo>
                <a:cubicBezTo>
                  <a:pt x="142" y="8"/>
                  <a:pt x="141" y="16"/>
                  <a:pt x="141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1125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184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08360" y="4869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=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556000" y="333360"/>
            <a:ext cx="4319280" cy="4012560"/>
            <a:chOff x="2556000" y="333360"/>
            <a:chExt cx="4319280" cy="4012560"/>
          </a:xfrm>
        </p:grpSpPr>
        <p:sp>
          <p:nvSpPr>
            <p:cNvPr id="98" name=""/>
            <p:cNvSpPr/>
            <p:nvPr/>
          </p:nvSpPr>
          <p:spPr>
            <a:xfrm>
              <a:off x="2988360" y="707400"/>
              <a:ext cx="3393000" cy="3180600"/>
            </a:xfrm>
            <a:prstGeom prst="rtTriangl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56000" y="3333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44360" y="37011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56000" y="376452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96640" y="3637800"/>
              <a:ext cx="245880" cy="25020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V="1">
            <a:off x="2987640" y="2204640"/>
            <a:ext cx="158436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653800">
            <a:off x="4298760" y="2095560"/>
            <a:ext cx="214200" cy="21600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700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72120" y="3700440"/>
            <a:ext cx="95400" cy="181080"/>
          </a:xfrm>
          <a:custGeom>
            <a:avLst/>
            <a:gdLst/>
            <a:ahLst/>
            <a:rect l="l" t="t" r="r" b="b"/>
            <a:pathLst>
              <a:path w="60" h="114">
                <a:moveTo>
                  <a:pt x="60" y="3"/>
                </a:moveTo>
                <a:cubicBezTo>
                  <a:pt x="48" y="4"/>
                  <a:pt x="33" y="0"/>
                  <a:pt x="24" y="9"/>
                </a:cubicBezTo>
                <a:cubicBezTo>
                  <a:pt x="0" y="33"/>
                  <a:pt x="6" y="88"/>
                  <a:pt x="6" y="11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77080" y="3624120"/>
            <a:ext cx="99720" cy="252720"/>
          </a:xfrm>
          <a:custGeom>
            <a:avLst/>
            <a:gdLst/>
            <a:ahLst/>
            <a:rect l="l" t="t" r="r" b="b"/>
            <a:pathLst>
              <a:path w="63" h="159">
                <a:moveTo>
                  <a:pt x="63" y="0"/>
                </a:moveTo>
                <a:cubicBezTo>
                  <a:pt x="53" y="15"/>
                  <a:pt x="38" y="24"/>
                  <a:pt x="21" y="30"/>
                </a:cubicBezTo>
                <a:cubicBezTo>
                  <a:pt x="18" y="40"/>
                  <a:pt x="12" y="47"/>
                  <a:pt x="9" y="57"/>
                </a:cubicBezTo>
                <a:cubicBezTo>
                  <a:pt x="7" y="91"/>
                  <a:pt x="0" y="125"/>
                  <a:pt x="0" y="15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342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515772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2556000" y="333360"/>
            <a:ext cx="4319280" cy="4012560"/>
            <a:chOff x="2556000" y="333360"/>
            <a:chExt cx="4319280" cy="4012560"/>
          </a:xfrm>
        </p:grpSpPr>
        <p:sp>
          <p:nvSpPr>
            <p:cNvPr id="111" name=""/>
            <p:cNvSpPr/>
            <p:nvPr/>
          </p:nvSpPr>
          <p:spPr>
            <a:xfrm>
              <a:off x="2988360" y="707400"/>
              <a:ext cx="3393000" cy="3180600"/>
            </a:xfrm>
            <a:prstGeom prst="rtTriangl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0" y="3333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44360" y="37011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56000" y="376452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96640" y="3637800"/>
              <a:ext cx="245880" cy="25020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780000" y="393372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,2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545800">
            <a:off x="4355280" y="2060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,4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5229360"/>
            <a:ext cx="49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ти углы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6:43:08Z</dcterms:created>
  <dc:creator>User</dc:creator>
  <dc:description/>
  <dc:language>en-US</dc:language>
  <cp:lastModifiedBy>Admin</cp:lastModifiedBy>
  <dcterms:modified xsi:type="dcterms:W3CDTF">2011-10-27T15:39:05Z</dcterms:modified>
  <cp:revision>5</cp:revision>
  <dc:subject/>
  <dc:title>Слайд 1</dc:title>
</cp:coreProperties>
</file>