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D53-5191-4E47-8A08-58A577EC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BB6-48C5-4A4A-892A-D2C37AE8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BE6-9A80-4550-A0B6-BED97954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832-F989-49FD-AFD0-A57EC26F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A8B-3B0E-4B31-BDF6-A73BEAE9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C5F-CE4F-41D3-8BB3-0B441CD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27E-6EA8-42F6-A93A-B27037B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8EA-CC5D-4420-8B48-A1C619A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25A-A4AA-4E9C-85B4-55566F42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5D8-2ACA-4525-B355-A0DFF72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638-789F-4B5F-A77B-7697AF6F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E28-CF8B-45AB-95A1-CFAE079D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2FCB-C2D8-4E36-8693-C2D23C24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1844640"/>
            <a:ext cx="662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ямоугольный 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реугольник</a:t>
            </a:r>
            <a:endParaRPr b="0" lang="en-US" sz="1800" spc="1" strike="noStrike">
              <a:ln w="12600">
                <a:solidFill>
                  <a:srgbClr val="663300"/>
                </a:solidFill>
                <a:miter/>
              </a:ln>
              <a:solidFill>
                <a:srgbClr val="66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26920" y="170028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внобедренном треугольнике один из внешних углов раве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та, проведенная к боковой стороне, равна 5 см. Найдите основание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189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йство медианы прямоугольного треуг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22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4292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прямоугольном треугольнике , медиана, проведенная из вершины прямого угла, равна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24280"/>
            <a:ext cx="215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9920" y="281448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734080"/>
                <a:ext cx="1656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" name=""/>
          <p:cNvGrpSpPr/>
          <p:nvPr/>
        </p:nvGrpSpPr>
        <p:grpSpPr>
          <a:xfrm>
            <a:off x="2195640" y="765000"/>
            <a:ext cx="3384000" cy="3439080"/>
            <a:chOff x="2195640" y="765000"/>
            <a:chExt cx="3384000" cy="3439080"/>
          </a:xfrm>
        </p:grpSpPr>
        <p:sp>
          <p:nvSpPr>
            <p:cNvPr id="138" name=""/>
            <p:cNvSpPr/>
            <p:nvPr/>
          </p:nvSpPr>
          <p:spPr>
            <a:xfrm>
              <a:off x="2534400" y="1076400"/>
              <a:ext cx="2658240" cy="264924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5640" y="7650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41960" y="357012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5640" y="36226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0880" y="351720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556000" y="227628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131640" y="155736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08320" y="16462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173120" y="259884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37200" y="267480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84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16360" y="333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83664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сли медиана треугольника равна половине стороны, к которой она проведена. то этот треугольник прямоуго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10040" y="323532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285264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8320" y="57294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78160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32000" y="4435200"/>
            <a:ext cx="122400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08000" y="37162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784680" y="380520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49840" y="4757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812840" y="483408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4003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508320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16280" y="4973760"/>
            <a:ext cx="216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627280" y="476280"/>
            <a:ext cx="3384360" cy="3438720"/>
            <a:chOff x="2627280" y="476280"/>
            <a:chExt cx="3384360" cy="3438720"/>
          </a:xfrm>
        </p:grpSpPr>
        <p:sp>
          <p:nvSpPr>
            <p:cNvPr id="164" name=""/>
            <p:cNvSpPr/>
            <p:nvPr/>
          </p:nvSpPr>
          <p:spPr>
            <a:xfrm>
              <a:off x="2966040" y="787680"/>
              <a:ext cx="2658600" cy="264888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7280" y="47628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73960" y="328104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27280" y="3333600"/>
              <a:ext cx="33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72520" y="3228120"/>
              <a:ext cx="192600" cy="20844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2987640" y="1987560"/>
            <a:ext cx="1224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64000" y="1268280"/>
            <a:ext cx="71280" cy="2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639600" y="1357200"/>
            <a:ext cx="7164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05480" y="230976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668840" y="2386080"/>
            <a:ext cx="71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5559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1160" y="990720"/>
            <a:ext cx="162000" cy="88920"/>
          </a:xfrm>
          <a:custGeom>
            <a:avLst/>
            <a:gdLst/>
            <a:ahLst/>
            <a:rect l="l" t="t" r="r" b="b"/>
            <a:pathLst>
              <a:path w="102" h="56">
                <a:moveTo>
                  <a:pt x="0" y="45"/>
                </a:moveTo>
                <a:cubicBezTo>
                  <a:pt x="10" y="48"/>
                  <a:pt x="30" y="54"/>
                  <a:pt x="30" y="54"/>
                </a:cubicBezTo>
                <a:cubicBezTo>
                  <a:pt x="88" y="51"/>
                  <a:pt x="102" y="56"/>
                  <a:pt x="10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112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4724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rot="8136000">
            <a:off x="2916000" y="1545840"/>
            <a:ext cx="2658960" cy="264960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3480" y="2444760"/>
            <a:ext cx="3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1200" y="262260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1040" y="453960"/>
            <a:ext cx="3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0600" y="1017360"/>
            <a:ext cx="132480" cy="188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4983480" y="2719440"/>
            <a:ext cx="14976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893120" y="272448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684960" y="2741040"/>
            <a:ext cx="14976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3586680" y="2732400"/>
            <a:ext cx="14976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33880" y="28908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01920" y="1936080"/>
            <a:ext cx="25416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220640" y="2070720"/>
            <a:ext cx="254520" cy="4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2600" y="2709720"/>
            <a:ext cx="66600" cy="162000"/>
          </a:xfrm>
          <a:custGeom>
            <a:avLst/>
            <a:gdLst/>
            <a:ahLst/>
            <a:rect l="l" t="t" r="r" b="b"/>
            <a:pathLst>
              <a:path w="42" h="102">
                <a:moveTo>
                  <a:pt x="42" y="0"/>
                </a:moveTo>
                <a:cubicBezTo>
                  <a:pt x="0" y="14"/>
                  <a:pt x="0" y="65"/>
                  <a:pt x="0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421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9640" y="443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ол В, угол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87640" y="1484280"/>
            <a:ext cx="2087640" cy="287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987280" y="3284280"/>
            <a:ext cx="2089080" cy="10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43360" y="4076640"/>
            <a:ext cx="114480" cy="101520"/>
          </a:xfrm>
          <a:custGeom>
            <a:avLst/>
            <a:gdLst/>
            <a:ahLst/>
            <a:rect l="l" t="t" r="r" b="b"/>
            <a:pathLst>
              <a:path w="72" h="64">
                <a:moveTo>
                  <a:pt x="72" y="0"/>
                </a:moveTo>
                <a:cubicBezTo>
                  <a:pt x="4" y="7"/>
                  <a:pt x="53" y="6"/>
                  <a:pt x="12" y="20"/>
                </a:cubicBezTo>
                <a:cubicBezTo>
                  <a:pt x="1" y="37"/>
                  <a:pt x="0" y="43"/>
                  <a:pt x="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65520" y="4146480"/>
            <a:ext cx="101880" cy="196920"/>
          </a:xfrm>
          <a:custGeom>
            <a:avLst/>
            <a:gdLst/>
            <a:ahLst/>
            <a:rect l="l" t="t" r="r" b="b"/>
            <a:pathLst>
              <a:path w="64" h="124">
                <a:moveTo>
                  <a:pt x="64" y="0"/>
                </a:moveTo>
                <a:cubicBezTo>
                  <a:pt x="53" y="1"/>
                  <a:pt x="42" y="0"/>
                  <a:pt x="32" y="4"/>
                </a:cubicBezTo>
                <a:cubicBezTo>
                  <a:pt x="25" y="7"/>
                  <a:pt x="23" y="23"/>
                  <a:pt x="20" y="28"/>
                </a:cubicBezTo>
                <a:cubicBezTo>
                  <a:pt x="0" y="69"/>
                  <a:pt x="4" y="70"/>
                  <a:pt x="4" y="1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87640" y="692280"/>
            <a:ext cx="0" cy="367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1268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600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4149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0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9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4208400"/>
            <a:ext cx="144360" cy="14436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3573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396800">
            <a:off x="3276360" y="3141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537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уго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16360" y="765000"/>
            <a:ext cx="3168360" cy="331164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76500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6840" y="3922560"/>
            <a:ext cx="144360" cy="14292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212640" y="3486240"/>
            <a:ext cx="128916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401000">
            <a:off x="3244680" y="3363840"/>
            <a:ext cx="144720" cy="14436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27640" y="1484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1130400"/>
            <a:ext cx="171720" cy="137880"/>
          </a:xfrm>
          <a:custGeom>
            <a:avLst/>
            <a:gdLst/>
            <a:ahLst/>
            <a:rect l="l" t="t" r="r" b="b"/>
            <a:pathLst>
              <a:path w="108" h="87">
                <a:moveTo>
                  <a:pt x="0" y="44"/>
                </a:moveTo>
                <a:cubicBezTo>
                  <a:pt x="14" y="87"/>
                  <a:pt x="0" y="69"/>
                  <a:pt x="68" y="64"/>
                </a:cubicBezTo>
                <a:cubicBezTo>
                  <a:pt x="73" y="56"/>
                  <a:pt x="83" y="52"/>
                  <a:pt x="88" y="44"/>
                </a:cubicBezTo>
                <a:cubicBezTo>
                  <a:pt x="91" y="38"/>
                  <a:pt x="89" y="30"/>
                  <a:pt x="92" y="24"/>
                </a:cubicBezTo>
                <a:cubicBezTo>
                  <a:pt x="96" y="15"/>
                  <a:pt x="108" y="0"/>
                  <a:pt x="1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4005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60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3860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11640" y="40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71640" y="314172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35280" y="479736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DC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ти: 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47640" y="1125360"/>
            <a:ext cx="5904000" cy="2519640"/>
          </a:xfrm>
          <a:prstGeom prst="rtTriangle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771640" y="1557360"/>
            <a:ext cx="215640" cy="287280"/>
            <a:chOff x="2771640" y="1557360"/>
            <a:chExt cx="215640" cy="287280"/>
          </a:xfrm>
        </p:grpSpPr>
        <p:sp>
          <p:nvSpPr>
            <p:cNvPr id="222" name=""/>
            <p:cNvSpPr/>
            <p:nvPr/>
          </p:nvSpPr>
          <p:spPr>
            <a:xfrm flipH="1">
              <a:off x="2771640" y="155736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2920" y="162864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637000"/>
            <a:ext cx="215640" cy="287280"/>
            <a:chOff x="5219640" y="2637000"/>
            <a:chExt cx="215640" cy="287280"/>
          </a:xfrm>
        </p:grpSpPr>
        <p:sp>
          <p:nvSpPr>
            <p:cNvPr id="225" name=""/>
            <p:cNvSpPr/>
            <p:nvPr/>
          </p:nvSpPr>
          <p:spPr>
            <a:xfrm flipH="1">
              <a:off x="5219640" y="2637000"/>
              <a:ext cx="14472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90920" y="2708280"/>
              <a:ext cx="14436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47640" y="3429000"/>
            <a:ext cx="2160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47640" y="2349000"/>
            <a:ext cx="288000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2349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99120" y="2425680"/>
            <a:ext cx="114120" cy="3168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27" y="18"/>
                  <a:pt x="38" y="20"/>
                  <a:pt x="72" y="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29280" y="2463840"/>
            <a:ext cx="190440" cy="73080"/>
          </a:xfrm>
          <a:custGeom>
            <a:avLst/>
            <a:gdLst/>
            <a:ahLst/>
            <a:rect l="l" t="t" r="r" b="b"/>
            <a:pathLst>
              <a:path w="120" h="46">
                <a:moveTo>
                  <a:pt x="0" y="0"/>
                </a:moveTo>
                <a:cubicBezTo>
                  <a:pt x="3" y="8"/>
                  <a:pt x="0" y="21"/>
                  <a:pt x="8" y="24"/>
                </a:cubicBezTo>
                <a:cubicBezTo>
                  <a:pt x="36" y="33"/>
                  <a:pt x="63" y="37"/>
                  <a:pt x="92" y="40"/>
                </a:cubicBezTo>
                <a:cubicBezTo>
                  <a:pt x="109" y="46"/>
                  <a:pt x="100" y="44"/>
                  <a:pt x="120" y="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5840" y="2444760"/>
            <a:ext cx="142920" cy="71280"/>
          </a:xfrm>
          <a:custGeom>
            <a:avLst/>
            <a:gdLst/>
            <a:ahLst/>
            <a:rect l="l" t="t" r="r" b="b"/>
            <a:pathLst>
              <a:path w="90" h="45">
                <a:moveTo>
                  <a:pt x="0" y="28"/>
                </a:moveTo>
                <a:cubicBezTo>
                  <a:pt x="25" y="45"/>
                  <a:pt x="56" y="40"/>
                  <a:pt x="80" y="24"/>
                </a:cubicBezTo>
                <a:cubicBezTo>
                  <a:pt x="90" y="9"/>
                  <a:pt x="88" y="17"/>
                  <a:pt x="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5840" y="2432160"/>
            <a:ext cx="196920" cy="153720"/>
          </a:xfrm>
          <a:custGeom>
            <a:avLst/>
            <a:gdLst/>
            <a:ahLst/>
            <a:rect l="l" t="t" r="r" b="b"/>
            <a:pathLst>
              <a:path w="124" h="97">
                <a:moveTo>
                  <a:pt x="0" y="92"/>
                </a:moveTo>
                <a:cubicBezTo>
                  <a:pt x="47" y="89"/>
                  <a:pt x="64" y="97"/>
                  <a:pt x="96" y="76"/>
                </a:cubicBezTo>
                <a:cubicBezTo>
                  <a:pt x="112" y="51"/>
                  <a:pt x="103" y="21"/>
                  <a:pt x="12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81760" y="3454560"/>
            <a:ext cx="71640" cy="190440"/>
          </a:xfrm>
          <a:custGeom>
            <a:avLst/>
            <a:gdLst/>
            <a:ahLst/>
            <a:rect l="l" t="t" r="r" b="b"/>
            <a:pathLst>
              <a:path w="45" h="120">
                <a:moveTo>
                  <a:pt x="45" y="0"/>
                </a:moveTo>
                <a:cubicBezTo>
                  <a:pt x="38" y="5"/>
                  <a:pt x="26" y="5"/>
                  <a:pt x="21" y="12"/>
                </a:cubicBezTo>
                <a:cubicBezTo>
                  <a:pt x="0" y="42"/>
                  <a:pt x="1" y="87"/>
                  <a:pt x="1" y="1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36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62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716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35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50920" y="404640"/>
            <a:ext cx="5042160" cy="4542480"/>
            <a:chOff x="2050920" y="404640"/>
            <a:chExt cx="5042160" cy="4542480"/>
          </a:xfrm>
        </p:grpSpPr>
        <p:sp>
          <p:nvSpPr>
            <p:cNvPr id="43" name=""/>
            <p:cNvSpPr/>
            <p:nvPr/>
          </p:nvSpPr>
          <p:spPr>
            <a:xfrm>
              <a:off x="2556000" y="836640"/>
              <a:ext cx="3960720" cy="36720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0920" y="404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588000" y="429264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50920" y="436572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65360" y="4219560"/>
              <a:ext cx="287280" cy="2890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йства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56000" y="1341360"/>
            <a:ext cx="4176720" cy="3941640"/>
            <a:chOff x="2556000" y="1341360"/>
            <a:chExt cx="4176720" cy="3941640"/>
          </a:xfrm>
        </p:grpSpPr>
        <p:sp>
          <p:nvSpPr>
            <p:cNvPr id="51" name=""/>
            <p:cNvSpPr/>
            <p:nvPr/>
          </p:nvSpPr>
          <p:spPr>
            <a:xfrm>
              <a:off x="2974320" y="1707840"/>
              <a:ext cx="3280680" cy="311652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134136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5840" y="464112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56000" y="4701600"/>
              <a:ext cx="41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81880" y="4579200"/>
              <a:ext cx="237960" cy="245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47640" y="5805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умма острых углов равна 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771640" y="0"/>
            <a:ext cx="3455640" cy="3598200"/>
            <a:chOff x="2771640" y="0"/>
            <a:chExt cx="3455640" cy="3598200"/>
          </a:xfrm>
        </p:grpSpPr>
        <p:sp>
          <p:nvSpPr>
            <p:cNvPr id="58" name=""/>
            <p:cNvSpPr/>
            <p:nvPr/>
          </p:nvSpPr>
          <p:spPr>
            <a:xfrm>
              <a:off x="3117600" y="328680"/>
              <a:ext cx="2714760" cy="27954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71640" y="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81320" y="29610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3016800"/>
              <a:ext cx="34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2904480"/>
              <a:ext cx="196560" cy="2199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008000" y="371628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авнобедренном прямоугольном треугольнике острые углы равны 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486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об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530064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в прямоугольном треугольнике один из углов равен 4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то этот треугольник равнобед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67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6920" y="429264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тет прямоугольного треугольника, лежащий против угла в 3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6480" y="3300480"/>
            <a:ext cx="66600" cy="237960"/>
          </a:xfrm>
          <a:custGeom>
            <a:avLst/>
            <a:gdLst/>
            <a:ahLst/>
            <a:rect l="l" t="t" r="r" b="b"/>
            <a:pathLst>
              <a:path w="42" h="150">
                <a:moveTo>
                  <a:pt x="42" y="0"/>
                </a:moveTo>
                <a:cubicBezTo>
                  <a:pt x="4" y="57"/>
                  <a:pt x="0" y="76"/>
                  <a:pt x="0" y="1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31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716360" y="566100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124000" y="5877000"/>
                <a:ext cx="2087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124000" y="0"/>
            <a:ext cx="4319280" cy="4012560"/>
            <a:chOff x="2124000" y="0"/>
            <a:chExt cx="4319280" cy="4012560"/>
          </a:xfrm>
        </p:grpSpPr>
        <p:sp>
          <p:nvSpPr>
            <p:cNvPr id="78" name=""/>
            <p:cNvSpPr/>
            <p:nvPr/>
          </p:nvSpPr>
          <p:spPr>
            <a:xfrm>
              <a:off x="2556360" y="37404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24000" y="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2360" y="336780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24000" y="343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4640" y="330444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755640" y="407664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катет прямоугольного треугольника равен половине гипотенузы. То угол, лежащий против этого катета, равен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547640" y="5734080"/>
                <a:ext cx="18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716360" y="5877000"/>
                <a:ext cx="1590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B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708360" y="5950080"/>
                <a:ext cx="647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68360" y="333360"/>
            <a:ext cx="4319280" cy="4012560"/>
            <a:chOff x="2268360" y="333360"/>
            <a:chExt cx="4319280" cy="4012560"/>
          </a:xfrm>
        </p:grpSpPr>
        <p:sp>
          <p:nvSpPr>
            <p:cNvPr id="88" name=""/>
            <p:cNvSpPr/>
            <p:nvPr/>
          </p:nvSpPr>
          <p:spPr>
            <a:xfrm>
              <a:off x="2700720" y="707400"/>
              <a:ext cx="3393000" cy="3180600"/>
            </a:xfrm>
            <a:prstGeom prst="rtTriangl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6836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72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6836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9000" y="3637800"/>
              <a:ext cx="245880" cy="250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705040" y="942840"/>
            <a:ext cx="225360" cy="119160"/>
          </a:xfrm>
          <a:custGeom>
            <a:avLst/>
            <a:gdLst/>
            <a:ahLst/>
            <a:rect l="l" t="t" r="r" b="b"/>
            <a:pathLst>
              <a:path w="142" h="75">
                <a:moveTo>
                  <a:pt x="0" y="33"/>
                </a:moveTo>
                <a:cubicBezTo>
                  <a:pt x="14" y="75"/>
                  <a:pt x="97" y="46"/>
                  <a:pt x="117" y="45"/>
                </a:cubicBezTo>
                <a:cubicBezTo>
                  <a:pt x="126" y="42"/>
                  <a:pt x="138" y="24"/>
                  <a:pt x="138" y="24"/>
                </a:cubicBezTo>
                <a:cubicBezTo>
                  <a:pt x="142" y="8"/>
                  <a:pt x="141" y="16"/>
                  <a:pt x="1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0360" y="112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184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8360" y="486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С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98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987640" y="2204640"/>
            <a:ext cx="158436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653800">
            <a:off x="4298760" y="2095560"/>
            <a:ext cx="214200" cy="2160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7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72120" y="3700440"/>
            <a:ext cx="95400" cy="181080"/>
          </a:xfrm>
          <a:custGeom>
            <a:avLst/>
            <a:gdLst/>
            <a:ahLst/>
            <a:rect l="l" t="t" r="r" b="b"/>
            <a:pathLst>
              <a:path w="60" h="114">
                <a:moveTo>
                  <a:pt x="60" y="3"/>
                </a:moveTo>
                <a:cubicBezTo>
                  <a:pt x="48" y="4"/>
                  <a:pt x="33" y="0"/>
                  <a:pt x="24" y="9"/>
                </a:cubicBezTo>
                <a:cubicBezTo>
                  <a:pt x="0" y="33"/>
                  <a:pt x="6" y="88"/>
                  <a:pt x="6" y="1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77080" y="3624120"/>
            <a:ext cx="99720" cy="252720"/>
          </a:xfrm>
          <a:custGeom>
            <a:avLst/>
            <a:gdLst/>
            <a:ahLst/>
            <a:rect l="l" t="t" r="r" b="b"/>
            <a:pathLst>
              <a:path w="63" h="159">
                <a:moveTo>
                  <a:pt x="63" y="0"/>
                </a:moveTo>
                <a:cubicBezTo>
                  <a:pt x="53" y="15"/>
                  <a:pt x="38" y="24"/>
                  <a:pt x="21" y="30"/>
                </a:cubicBezTo>
                <a:cubicBezTo>
                  <a:pt x="18" y="40"/>
                  <a:pt x="12" y="47"/>
                  <a:pt x="9" y="57"/>
                </a:cubicBezTo>
                <a:cubicBezTo>
                  <a:pt x="7" y="91"/>
                  <a:pt x="0" y="125"/>
                  <a:pt x="0" y="1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5157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556000" y="333360"/>
            <a:ext cx="4319280" cy="4012560"/>
            <a:chOff x="2556000" y="333360"/>
            <a:chExt cx="4319280" cy="4012560"/>
          </a:xfrm>
        </p:grpSpPr>
        <p:sp>
          <p:nvSpPr>
            <p:cNvPr id="111" name=""/>
            <p:cNvSpPr/>
            <p:nvPr/>
          </p:nvSpPr>
          <p:spPr>
            <a:xfrm>
              <a:off x="2988360" y="707400"/>
              <a:ext cx="3393000" cy="3180600"/>
            </a:xfrm>
            <a:prstGeom prst="rtTriangle">
              <a:avLst/>
            </a:prstGeom>
            <a:solidFill>
              <a:srgbClr val="cc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56000" y="3333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44360" y="370116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56000" y="3764520"/>
              <a:ext cx="43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6640" y="3637800"/>
              <a:ext cx="245880" cy="250200"/>
            </a:xfrm>
            <a:prstGeom prst="rect">
              <a:avLst/>
            </a:prstGeom>
            <a:solidFill>
              <a:srgbClr val="cc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780000" y="3933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,2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545800">
            <a:off x="4355280" y="206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,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5229360"/>
            <a:ext cx="49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йти углы треуголь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43:08Z</dcterms:created>
  <dc:creator>User</dc:creator>
  <dc:description/>
  <dc:language>en-US</dc:language>
  <cp:lastModifiedBy>Admin</cp:lastModifiedBy>
  <dcterms:modified xsi:type="dcterms:W3CDTF">2011-10-27T15:39:05Z</dcterms:modified>
  <cp:revision>5</cp:revision>
  <dc:subject/>
  <dc:title>Слайд 1</dc:title>
</cp:coreProperties>
</file>