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4DC-A4A3-45B2-837D-11ACED57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591-0DA3-4657-B892-F708D436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CA5-C38D-4014-9645-618D2397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62D-E459-4705-888E-44BA93C4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17E1-43AC-4FBD-8D4C-D039BA66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4533-8A3E-462F-9356-2A7FB84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A0C-E166-4F3D-84E7-003049E2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16D-E067-4279-8E64-3F00B1D6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F0B-DEE7-411C-A4D4-E9BF0876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999E-19EC-4D35-80ED-1979515C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7A9F-7BCC-42E2-81F7-91BBCCC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1B8-6715-471F-A3E4-CDD6D3B6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8AD7-1972-4270-880E-347C44D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5D55-C2CB-4619-AAE9-C8AE1A0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539F-B5E1-4D8B-817D-319B7D28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3B76-4456-45E6-AEE6-817E5C78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E53-1F2D-45E7-BD53-EBB1DF8F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557-C8E8-4E8D-B01B-7299BD4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F0C-6862-4934-9488-7E7FE3FB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BFE-A193-419E-AA34-C7503F92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6F1-2443-48D9-B8EA-788EE8F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189-A03D-4F9F-89C9-608BA35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065-6090-4B9C-93F1-130A09AA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4B3-6909-49FA-AEF4-2A4AA22C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prstGeom prst="pie">
                <a:avLst/>
              </a:prstGeom>
              <a:gradFill rotWithShape="0">
                <a:gsLst>
                  <a:gs pos="0">
                    <a:srgbClr val="a64c4c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5963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no Pro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no Pro"/>
              </a:rPr>
              <a:t>Проект по теме </a:t>
            </a:r>
            <a:br>
              <a:rPr sz="4000"/>
            </a:br>
            <a:r>
              <a:rPr b="1" i="1" lang="ru-RU" sz="6000" spc="-1" strike="noStrike">
                <a:solidFill>
                  <a:srgbClr val="660033"/>
                </a:solidFill>
                <a:latin typeface="Arno Pro"/>
              </a:rPr>
              <a:t>«Руководство </a:t>
            </a:r>
            <a:br>
              <a:rPr sz="6000"/>
            </a:br>
            <a:r>
              <a:rPr b="1" i="1" lang="ru-RU" sz="6000" spc="-1" strike="noStrike">
                <a:solidFill>
                  <a:srgbClr val="660033"/>
                </a:solidFill>
                <a:latin typeface="Arno Pro"/>
              </a:rPr>
              <a:t>     молодому ритору»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429080" y="53578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Выполнили обучающиеся 2а класса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МОУ Гимназия №1 им. В.Я.Шишк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д руководством Захаровой Н.В.</a:t>
            </a:r>
            <a:r>
              <a:rPr b="0" lang="ru-RU" sz="2000" spc="-1" strike="noStrike">
                <a:solidFill>
                  <a:srgbClr val="000000"/>
                </a:solidFill>
                <a:latin typeface="Arno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673440" y="63864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г. Бежецк 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7160" y="571680"/>
            <a:ext cx="7848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"/>
              </a:rPr>
              <a:t>Критерии успех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ходе работы над проектом повторили и обобщили изученный материал по оформлению устной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Создали книгу, в которой в сжатой форме отразили основные практические рекомендации человеку, работающему над своим краснореч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Участники проекта получили удовольствие от свое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Продукт проекта может быть использован другими учащимися гимна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572080" y="2571840"/>
            <a:ext cx="3297240" cy="3666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50920" y="554040"/>
            <a:ext cx="773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«Риторика есть наука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красно говорить и пис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Кто в сей науке искусен, тот называется ритор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159160" y="62866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no Pro"/>
              </a:rPr>
              <a:t>Михаил Васильевич Ломоно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no Pro"/>
              </a:rPr>
              <a:t>Древняя Греция</a:t>
            </a:r>
            <a:br>
              <a:rPr sz="4400"/>
            </a:b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no Pro"/>
              </a:rPr>
              <a:t>2500 лет назад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7920" y="285228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2951280" cy="23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013200" cy="23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6012000" y="407880"/>
            <a:ext cx="298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829080" y="122040"/>
            <a:ext cx="98139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"/>
              </a:rPr>
              <a:t>ЭТАПЫ РАБОТЫ НАД ПРОЕКТОМ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476280"/>
            <a:ext cx="92487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1 этап. Подготовка к разработке про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вторили изученный материал по темам «Как мы говорим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и «Учусь слуша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вторили составные части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Разбились на творческие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пределили круг обязанностей каждо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6310440" y="3789360"/>
            <a:ext cx="2625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95996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no Pro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                </a:t>
            </a:r>
            <a:br>
              <a:rPr sz="24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2 этап. Создание проект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8520" y="271476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пределили содержание глав и создали заголов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формили главы книги, вступление и оглав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тобрали иллюстрации к страницам и обложке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Изображение 062"/>
          <p:cNvPicPr/>
          <p:nvPr/>
        </p:nvPicPr>
        <p:blipFill>
          <a:blip r:embed="rId1"/>
          <a:stretch/>
        </p:blipFill>
        <p:spPr>
          <a:xfrm>
            <a:off x="5905440" y="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Изображение 061"/>
          <p:cNvPicPr/>
          <p:nvPr/>
        </p:nvPicPr>
        <p:blipFill>
          <a:blip r:embed="rId2"/>
          <a:stretch/>
        </p:blipFill>
        <p:spPr>
          <a:xfrm>
            <a:off x="0" y="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Изображение 065"/>
          <p:cNvPicPr/>
          <p:nvPr/>
        </p:nvPicPr>
        <p:blipFill>
          <a:blip r:embed="rId3"/>
          <a:stretch/>
        </p:blipFill>
        <p:spPr>
          <a:xfrm>
            <a:off x="5905440" y="4429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1280" y="83628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3 этап. Сборка проекта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На заготовленные листы прикрепили тексты с содержа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разделов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формили  рису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Изображение 106"/>
          <p:cNvPicPr/>
          <p:nvPr/>
        </p:nvPicPr>
        <p:blipFill>
          <a:blip r:embed="rId1"/>
          <a:stretch/>
        </p:blipFill>
        <p:spPr>
          <a:xfrm>
            <a:off x="3995640" y="3068640"/>
            <a:ext cx="4923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929160" y="1428840"/>
            <a:ext cx="7061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которой рассказывается о т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что от темпа и громкости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зависит, поймут ли тебя слушатели</a:t>
            </a:r>
            <a:r>
              <a:rPr b="1" lang="ru-RU" sz="2400" spc="-1" strike="noStrike">
                <a:solidFill>
                  <a:srgbClr val="000000"/>
                </a:solidFill>
                <a:latin typeface="Arno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Изображение 099"/>
          <p:cNvPicPr/>
          <p:nvPr/>
        </p:nvPicPr>
        <p:blipFill>
          <a:blip r:embed="rId1"/>
          <a:stretch/>
        </p:blipFill>
        <p:spPr>
          <a:xfrm>
            <a:off x="5722920" y="2276640"/>
            <a:ext cx="3265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4200" y="1484280"/>
            <a:ext cx="521496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о том, что иногда бывает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не что сказать, а как сказ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651640" y="2205000"/>
            <a:ext cx="33145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749920" cy="10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которой узнае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о твоих молчаливых помощни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Изображение 101"/>
          <p:cNvPicPr/>
          <p:nvPr/>
        </p:nvPicPr>
        <p:blipFill>
          <a:blip r:embed="rId1"/>
          <a:stretch/>
        </p:blipFill>
        <p:spPr>
          <a:xfrm>
            <a:off x="5632560" y="2276640"/>
            <a:ext cx="3265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2:44:50Z</dcterms:created>
  <dc:creator>1</dc:creator>
  <dc:description/>
  <cp:keywords/>
  <dc:language>en-US</dc:language>
  <cp:lastModifiedBy>USER</cp:lastModifiedBy>
  <dcterms:modified xsi:type="dcterms:W3CDTF">2009-03-04T16:41:3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