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7CF-ADD2-47EE-BBBC-DDD5630F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BE2-83F5-4AC4-BE01-AE144374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051-42A7-4E65-83B6-989E82B2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2C1-3BA7-4F2E-B794-BD23BB6A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AE23-41C2-48A6-928B-D3E32FE1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D76D-8878-4A87-B4A3-377E22DA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0327-4FD7-4FC7-AD52-B6749C5E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C7B5-2EB2-4E30-A3E2-4483B0B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CFD-E699-45F8-A999-416C5CBD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E1F-A72A-4D7C-8BF5-FCF94926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BB57-3417-42A4-B4EA-411D704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35E-62D2-4118-A0C1-1797B955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40AF-2E71-4B0F-A21C-185EA29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E375-90D0-40AD-BB7B-E63307B6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D877-18FB-47D3-AFA1-49532E7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60F5-C047-4C5C-91E9-D501E35A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D505-0CD9-4000-9591-1DD91504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58F-CE8F-4FC8-8391-26A5A01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31A-3D07-477B-B170-4C776832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7DC-1AF0-4069-A009-086529BB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0E1-5E52-485B-A05C-244B2A3D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B03-2827-4FAC-AA71-F315895C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D2B-B1E0-4A52-BDE5-902DA4EA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526-BCEB-4111-8B16-6A13100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1663560" y="3327480"/>
            <a:ext cx="7480440" cy="30877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11200" y="504036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prstGeom prst="pie">
                <a:avLst/>
              </a:prstGeom>
              <a:gradFill rotWithShape="0">
                <a:gsLst>
                  <a:gs pos="0">
                    <a:srgbClr val="a64c4c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1699920"/>
            <a:ext cx="75963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no Pro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no Pro"/>
              </a:rPr>
              <a:t>Проект по теме </a:t>
            </a:r>
            <a:br>
              <a:rPr sz="4000"/>
            </a:br>
            <a:r>
              <a:rPr b="1" i="1" lang="ru-RU" sz="6000" spc="-1" strike="noStrike">
                <a:solidFill>
                  <a:srgbClr val="660033"/>
                </a:solidFill>
                <a:latin typeface="Arno Pro"/>
              </a:rPr>
              <a:t>«Руководство </a:t>
            </a:r>
            <a:br>
              <a:rPr sz="6000"/>
            </a:br>
            <a:r>
              <a:rPr b="1" i="1" lang="ru-RU" sz="6000" spc="-1" strike="noStrike">
                <a:solidFill>
                  <a:srgbClr val="660033"/>
                </a:solidFill>
                <a:latin typeface="Arno Pro"/>
              </a:rPr>
              <a:t>     молодому ритору»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429080" y="53578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Выполнили обучающиеся 2а класса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МОУ Гимназия №1 им. В.Я.Шишк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д руководством Захаровой Н.В.</a:t>
            </a:r>
            <a:r>
              <a:rPr b="0" lang="ru-RU" sz="2000" spc="-1" strike="noStrike">
                <a:solidFill>
                  <a:srgbClr val="000000"/>
                </a:solidFill>
                <a:latin typeface="Arno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673440" y="63864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г. Бежецк 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7160" y="571680"/>
            <a:ext cx="7848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"/>
              </a:rPr>
              <a:t>Критерии успех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ходе работы над проектом повторили и обобщили изученный материал по оформлению устной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Создали книгу, в которой в сжатой форме отразили основные практические рекомендации человеку, работающему над своим краснореч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Участники проекта получили удовольствие от свое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Продукт проекта может быть использован другими учащимися гимна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572080" y="2571840"/>
            <a:ext cx="3297240" cy="3666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50920" y="554040"/>
            <a:ext cx="773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«Риторика есть наука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красно говорить и пис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Кто в сей науке искусен, тот называется ритор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159160" y="628668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no Pro"/>
              </a:rPr>
              <a:t>Михаил Васильевич Ломоно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Arno Pro"/>
              </a:rPr>
              <a:t>Древняя Греция</a:t>
            </a:r>
            <a:br>
              <a:rPr sz="4400"/>
            </a:b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no Pro"/>
              </a:rPr>
              <a:t>2500 лет назад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7920" y="285228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2951280" cy="23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013200" cy="23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6012000" y="407880"/>
            <a:ext cx="2989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829080" y="122040"/>
            <a:ext cx="981396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"/>
              </a:rPr>
              <a:t>ЭТАПЫ РАБОТЫ НАД ПРОЕКТОМ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476280"/>
            <a:ext cx="92487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1 этап. Подготовка к разработке про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вторили изученный материал по темам «Как мы говорим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и «Учусь слуша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вторили составные части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Разбились на творческие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пределили круг обязанностей каждо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6310440" y="3789360"/>
            <a:ext cx="26254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95996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no Pro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                </a:t>
            </a:r>
            <a:br>
              <a:rPr sz="24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2 этап. Создание проект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28520" y="271476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пределили содержание глав и создали заголов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формили главы книги, вступление и оглав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тобрали иллюстрации к страницам и обложке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Изображение 062"/>
          <p:cNvPicPr/>
          <p:nvPr/>
        </p:nvPicPr>
        <p:blipFill>
          <a:blip r:embed="rId1"/>
          <a:stretch/>
        </p:blipFill>
        <p:spPr>
          <a:xfrm>
            <a:off x="5905440" y="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Изображение 061"/>
          <p:cNvPicPr/>
          <p:nvPr/>
        </p:nvPicPr>
        <p:blipFill>
          <a:blip r:embed="rId2"/>
          <a:stretch/>
        </p:blipFill>
        <p:spPr>
          <a:xfrm>
            <a:off x="0" y="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Изображение 065"/>
          <p:cNvPicPr/>
          <p:nvPr/>
        </p:nvPicPr>
        <p:blipFill>
          <a:blip r:embed="rId3"/>
          <a:stretch/>
        </p:blipFill>
        <p:spPr>
          <a:xfrm>
            <a:off x="5905440" y="44290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1280" y="83628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3 этап. Сборка проекта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На заготовленные листы прикрепили тексты с содержа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разделов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формили  рису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Изображение 106"/>
          <p:cNvPicPr/>
          <p:nvPr/>
        </p:nvPicPr>
        <p:blipFill>
          <a:blip r:embed="rId1"/>
          <a:stretch/>
        </p:blipFill>
        <p:spPr>
          <a:xfrm>
            <a:off x="3995640" y="3068640"/>
            <a:ext cx="4923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929160" y="1428840"/>
            <a:ext cx="7061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которой рассказывается о т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что от темпа и громкости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зависит, поймут ли тебя слушатели</a:t>
            </a:r>
            <a:r>
              <a:rPr b="1" lang="ru-RU" sz="2400" spc="-1" strike="noStrike">
                <a:solidFill>
                  <a:srgbClr val="000000"/>
                </a:solidFill>
                <a:latin typeface="Arno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Изображение 099"/>
          <p:cNvPicPr/>
          <p:nvPr/>
        </p:nvPicPr>
        <p:blipFill>
          <a:blip r:embed="rId1"/>
          <a:stretch/>
        </p:blipFill>
        <p:spPr>
          <a:xfrm>
            <a:off x="5722920" y="2276640"/>
            <a:ext cx="3265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4200" y="1484280"/>
            <a:ext cx="521496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о том, что иногда бывает ва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не что сказать, а как сказ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651640" y="2205000"/>
            <a:ext cx="33145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749920" cy="10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которой узнае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о твоих молчаливых помощни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Изображение 101"/>
          <p:cNvPicPr/>
          <p:nvPr/>
        </p:nvPicPr>
        <p:blipFill>
          <a:blip r:embed="rId1"/>
          <a:stretch/>
        </p:blipFill>
        <p:spPr>
          <a:xfrm>
            <a:off x="5632560" y="2276640"/>
            <a:ext cx="3265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2:44:50Z</dcterms:created>
  <dc:creator>1</dc:creator>
  <dc:description/>
  <cp:keywords/>
  <dc:language>en-US</dc:language>
  <cp:lastModifiedBy>USER</cp:lastModifiedBy>
  <dcterms:modified xsi:type="dcterms:W3CDTF">2009-03-04T16:41:3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