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DD9-4B20-49AC-9E09-A860877B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CA5-1369-4B3F-9AE0-54410F1D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CA1-4911-4068-BE46-BF8DA34D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C52-E84E-42CD-8529-27FF29D6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18FF-3003-40DA-A760-93E4E1F0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F110-BFF1-46AE-9E82-CBF677C0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B9FF-58D8-450E-B289-159C3FD8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B6DF-42DC-45F3-84A7-9028E1A1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8993-91B1-4763-9A74-F1829B8E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AE61-A332-4F3A-9193-B0532554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3CA9-B85D-43F6-A688-2998EE0C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D7F-F8F2-4549-A4B9-19705D50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7EFC-2908-472D-98AE-0B9C6DEF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5BAB-66FF-4D76-B544-77FF3794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4A42-CCDD-4F02-9BCB-E1D094A0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423E-0DB0-4E00-B3A8-9B389697E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C8EC-89AF-415A-880E-4B889DF7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CA9-CD35-46C4-BAEA-4551325E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608-E98C-45B3-8415-246FD748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6F9-CC4A-43B0-A3EF-2C04C1E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772-A264-4814-A5BE-943B8849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28C-D061-4784-A533-CC5E8E49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4CB-D240-439D-A609-31C290E1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22C-74B4-46E8-AFF5-39515C0B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901800" y="3378240"/>
            <a:ext cx="5359320" cy="242568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cc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700200" y="510372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781200" y="5281560"/>
                <a:ext cx="117360" cy="367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3960" y="5159520"/>
                <a:ext cx="115920" cy="363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7840" y="5183280"/>
                <a:ext cx="414000" cy="55440"/>
              </a:xfrm>
              <a:prstGeom prst="pie">
                <a:avLst/>
              </a:prstGeom>
              <a:solidFill>
                <a:srgbClr val="33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Freeform 22"/>
            <p:cNvSpPr/>
            <p:nvPr/>
          </p:nvSpPr>
          <p:spPr>
            <a:xfrm>
              <a:off x="601560" y="3022560"/>
              <a:ext cx="671760" cy="216864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Freeform 23"/>
          <p:cNvSpPr/>
          <p:nvPr/>
        </p:nvSpPr>
        <p:spPr>
          <a:xfrm>
            <a:off x="600120" y="3164040"/>
            <a:ext cx="560520" cy="202248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817720" y="628668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>
            <a:off x="1663560" y="3327480"/>
            <a:ext cx="7480440" cy="30877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65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66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prstGeom prst="pi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ffffcc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75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ffffcc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511200" y="5040360"/>
                <a:ext cx="287280" cy="77760"/>
              </a:xfrm>
              <a:prstGeom prst="pie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fffff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prstGeom prst="pie">
                <a:avLst/>
              </a:prstGeom>
              <a:gradFill rotWithShape="0">
                <a:gsLst>
                  <a:gs pos="0">
                    <a:srgbClr val="b36666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84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prstGeom prst="pie">
                <a:avLst/>
              </a:prstGeom>
              <a:gradFill rotWithShape="0">
                <a:gsLst>
                  <a:gs pos="0">
                    <a:srgbClr val="a64c4c"/>
                  </a:gs>
                  <a:gs pos="100000">
                    <a:srgbClr val="ff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1699920"/>
            <a:ext cx="75963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no Pro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Arno Pro"/>
              </a:rPr>
              <a:t>Проект по теме </a:t>
            </a:r>
            <a:br>
              <a:rPr sz="4000"/>
            </a:br>
            <a:r>
              <a:rPr b="1" i="1" lang="ru-RU" sz="6000" spc="-1" strike="noStrike">
                <a:solidFill>
                  <a:srgbClr val="660033"/>
                </a:solidFill>
                <a:latin typeface="Arno Pro"/>
              </a:rPr>
              <a:t>«Руководство </a:t>
            </a:r>
            <a:br>
              <a:rPr sz="6000"/>
            </a:br>
            <a:r>
              <a:rPr b="1" i="1" lang="ru-RU" sz="6000" spc="-1" strike="noStrike">
                <a:solidFill>
                  <a:srgbClr val="660033"/>
                </a:solidFill>
                <a:latin typeface="Arno Pro"/>
              </a:rPr>
              <a:t>     молодому ритору»</a:t>
            </a:r>
            <a:endParaRPr b="0" lang="en-US" sz="6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429080" y="53578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Выполнили обучающиеся 2а класса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МОУ Гимназия №1 им. В.Я.Шишк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под руководством Захаровой Н.В.</a:t>
            </a:r>
            <a:r>
              <a:rPr b="0" lang="ru-RU" sz="2000" spc="-1" strike="noStrike">
                <a:solidFill>
                  <a:srgbClr val="000000"/>
                </a:solidFill>
                <a:latin typeface="Arno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673440" y="63864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г. Бежецк 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7160" y="571680"/>
            <a:ext cx="7848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no Pro"/>
              </a:rPr>
              <a:t>Критерии успех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В ходе работы над проектом повторили и обобщили изученный материал по оформлению устной ре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Создали книгу, в которой в сжатой форме отразили основные практические рекомендации человеку, работающему над своим краснореч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Участники проекта получили удовольствие от свое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Продукт проекта может быть использован другими учащимися гимназ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1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77572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572080" y="2571840"/>
            <a:ext cx="3297240" cy="3666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50920" y="554040"/>
            <a:ext cx="7734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«Риторика есть наука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красно говорить и писать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no Pro"/>
              </a:rPr>
              <a:t>Кто в сей науке искусен, тот называется ритор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5159160" y="628668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no Pro"/>
              </a:rPr>
              <a:t>Михаил Васильевич Ломонос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Arno Pro"/>
              </a:rPr>
              <a:t>Древняя Греция</a:t>
            </a:r>
            <a:br>
              <a:rPr sz="4400"/>
            </a:b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no Pro"/>
              </a:rPr>
              <a:t>2500 лет назад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7920" y="2852280"/>
            <a:ext cx="877572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500120" y="1857240"/>
            <a:ext cx="2951280" cy="231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3013200" cy="230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3"/>
          <a:stretch/>
        </p:blipFill>
        <p:spPr>
          <a:xfrm>
            <a:off x="6012000" y="407880"/>
            <a:ext cx="29890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829080" y="122040"/>
            <a:ext cx="981396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no Pro"/>
              </a:rPr>
              <a:t>ЭТАПЫ РАБОТЫ НАД ПРОЕКТОМ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476280"/>
            <a:ext cx="924876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     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1 этап. Подготовка к разработке проек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Повторили изученный материал по темам «Как мы говорим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и «Учусь слуша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Повторили составные части кни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Разбились на творческие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пределили круг обязанностей каждой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6310440" y="3789360"/>
            <a:ext cx="26254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795996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no Pro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                  </a:t>
            </a:r>
            <a:br>
              <a:rPr sz="2400"/>
            </a:b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2 этап. Создание проект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28520" y="271476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пределили содержание глав и создали заголов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формили главы книги, вступление и оглав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тобрали иллюстрации к страницам и обложке кни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Изображение 062"/>
          <p:cNvPicPr/>
          <p:nvPr/>
        </p:nvPicPr>
        <p:blipFill>
          <a:blip r:embed="rId1"/>
          <a:stretch/>
        </p:blipFill>
        <p:spPr>
          <a:xfrm>
            <a:off x="5905440" y="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Изображение 061"/>
          <p:cNvPicPr/>
          <p:nvPr/>
        </p:nvPicPr>
        <p:blipFill>
          <a:blip r:embed="rId2"/>
          <a:stretch/>
        </p:blipFill>
        <p:spPr>
          <a:xfrm>
            <a:off x="0" y="0"/>
            <a:ext cx="2428920" cy="304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Изображение 065"/>
          <p:cNvPicPr/>
          <p:nvPr/>
        </p:nvPicPr>
        <p:blipFill>
          <a:blip r:embed="rId3"/>
          <a:stretch/>
        </p:blipFill>
        <p:spPr>
          <a:xfrm>
            <a:off x="5905440" y="44290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1280" y="83628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3 этап. Сборка проекта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На заготовленные листы прикрепили тексты с содержа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разделов книг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no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Оформили  рису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Изображение 106"/>
          <p:cNvPicPr/>
          <p:nvPr/>
        </p:nvPicPr>
        <p:blipFill>
          <a:blip r:embed="rId1"/>
          <a:stretch/>
        </p:blipFill>
        <p:spPr>
          <a:xfrm>
            <a:off x="3995640" y="3068640"/>
            <a:ext cx="4923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4 этап. Презентация глав книги.</a:t>
            </a: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929160" y="1428840"/>
            <a:ext cx="70614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Глава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в которой рассказывается о т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что от темпа и громкости ре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зависит, поймут ли тебя слушатели</a:t>
            </a:r>
            <a:r>
              <a:rPr b="1" lang="ru-RU" sz="2400" spc="-1" strike="noStrike">
                <a:solidFill>
                  <a:srgbClr val="000000"/>
                </a:solidFill>
                <a:latin typeface="Arno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Изображение 099"/>
          <p:cNvPicPr/>
          <p:nvPr/>
        </p:nvPicPr>
        <p:blipFill>
          <a:blip r:embed="rId1"/>
          <a:stretch/>
        </p:blipFill>
        <p:spPr>
          <a:xfrm>
            <a:off x="5722920" y="2276640"/>
            <a:ext cx="3265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4 этап. Презентация глав книги.</a:t>
            </a: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4200" y="1484280"/>
            <a:ext cx="5214960" cy="35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no Pro"/>
              </a:rPr>
              <a:t>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Глава 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о том, что иногда бывает ва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не что сказать, а как сказ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Изображение 100"/>
          <p:cNvPicPr/>
          <p:nvPr/>
        </p:nvPicPr>
        <p:blipFill>
          <a:blip r:embed="rId1"/>
          <a:stretch/>
        </p:blipFill>
        <p:spPr>
          <a:xfrm>
            <a:off x="5651640" y="2205000"/>
            <a:ext cx="33145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no Pro"/>
              </a:rPr>
              <a:t>4 этап. Презентация глав книги.</a:t>
            </a:r>
            <a:br>
              <a:rPr sz="2800"/>
            </a:b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5749920" cy="10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Глава 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в которой узнае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no Pro"/>
              </a:rPr>
              <a:t>о твоих молчаливых помощни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Изображение 101"/>
          <p:cNvPicPr/>
          <p:nvPr/>
        </p:nvPicPr>
        <p:blipFill>
          <a:blip r:embed="rId1"/>
          <a:stretch/>
        </p:blipFill>
        <p:spPr>
          <a:xfrm>
            <a:off x="5632560" y="2276640"/>
            <a:ext cx="32652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2:44:50Z</dcterms:created>
  <dc:creator>1</dc:creator>
  <dc:description/>
  <cp:keywords/>
  <dc:language>en-US</dc:language>
  <cp:lastModifiedBy>USER</cp:lastModifiedBy>
  <dcterms:modified xsi:type="dcterms:W3CDTF">2009-03-04T16:41:38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</Properties>
</file>