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C39-BED4-4903-81FA-342D1F8C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BE4-0ABD-4BE9-91DF-33E6DF7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691-F608-4EDD-81DD-098BC75E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9EB-D00D-41AA-9D12-50137A3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5F7F0-30C5-424B-A000-C6C9E4C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5CB73-6816-4D06-A362-0ED427F3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51B4E-6F1E-4834-BD38-4170FECD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AF32-DD86-42F0-AB2E-4AFB32EA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2F8A-1730-4A80-950C-AE78DF2A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86E42-0402-460F-ABA9-839C15F4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3593B-0AB1-4D67-B13B-E123EB2A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3B5-C620-4E86-B321-E97DB87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975D6-859D-4B4F-B6A1-199D09F7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1EA5C-9DFF-4E8E-9A7F-CB8EB30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31330-FB0D-425E-B352-E68F89B1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46CB-D70D-4B9D-BF54-02CAB2B9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A255F-EED8-4658-94E8-F3F60591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2F46-8499-4C77-8BC3-677F64DD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4F5B-0EF7-4A5A-8706-E97EB7A3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3946-C66B-4FC9-A213-2CBA2EF8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6BCA-B282-4DE3-B985-D47FC7A0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6F9B-8D8D-43DB-B792-83B84320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260-8127-4C8C-BB1C-5E40D82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7A2E-492D-4560-9B7E-FC6BF4C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98B4-403A-4C4C-8FA6-542BB4F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C10B-5A0A-410C-BB8B-BEDCA1A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1443-ECC9-4FFB-A7BA-39AF266F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C663-9B0C-47A2-8D0E-3B92AA1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1945-1767-4120-A853-5524D31D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8F74-5EAF-48E3-9813-53F433F3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A729F-316D-48C6-A633-9ACD0519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1BD1E-20B1-4232-8B8B-0E1CFFAA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1485B-3BFA-4329-B6BB-D0B818A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053-9732-4C06-A320-A68FD7C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010BD-81E2-4F84-8199-398EF7A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A60D3-8E88-41D5-B89F-C221317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84617-21CF-408F-AC51-B483A977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4A832A-EE67-4D9D-8DDB-7F99B0A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FBDE85-20F2-407E-AC99-ABDADDE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51D64-C5AF-48D9-941D-333453FC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EA58A-5013-43EA-B0B2-FC0FEA2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80B18-CD12-49D6-A0F6-87F44006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CA092-BE4A-46BD-B299-BFBF1BAB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0A8-DB94-4A3C-966E-7F13FEC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4DA-6214-4CBD-BD58-D33D526B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77E-1E9C-4CA8-AE43-BB3AE99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396-76E4-4A02-A92D-68B1B27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067-F85F-480B-8943-10A465E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C1CB-1B1D-40D1-9E05-86B0A989AF0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AF09-AC84-473E-BFA0-D8741926469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686-AD85-4C21-BD12-70F3AD0BADA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EF55-503D-47B1-B268-D704A972866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0" y="3885840"/>
            <a:ext cx="417672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бачёва Елена Юрьев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«Гимназия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1187280" y="1268280"/>
            <a:ext cx="6769440" cy="1160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72" name="Прямоугольник 4" descr=""/>
          <p:cNvPicPr/>
          <p:nvPr/>
        </p:nvPicPr>
        <p:blipFill>
          <a:blip r:embed="rId1"/>
          <a:stretch/>
        </p:blipFill>
        <p:spPr>
          <a:xfrm>
            <a:off x="1633680" y="396720"/>
            <a:ext cx="6162480" cy="287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www.radioteos.ru/nj/wp-content/uploads/2012/08/%D0%A1%D0%B5%D1%80%D0%B4%D1%86%D0%B5-300x225.jpg"/>
          <p:cNvPicPr/>
          <p:nvPr/>
        </p:nvPicPr>
        <p:blipFill>
          <a:blip r:embed="rId2"/>
          <a:stretch/>
        </p:blipFill>
        <p:spPr>
          <a:xfrm>
            <a:off x="285840" y="3571920"/>
            <a:ext cx="404820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0012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такт с инфицированной кровь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защищенный половой конт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матери к ребенк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2"/>
          <p:cNvGraphicFramePr/>
          <p:nvPr/>
        </p:nvGraphicFramePr>
        <p:xfrm>
          <a:off x="2286000" y="3286080"/>
          <a:ext cx="4905360" cy="2838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86080"/>
                    <a:ext cx="490536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опадании зараженной крови в кровоток незараженного челове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инъекциях бывшим в употреблении шприце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вливании зараженных продуктов крови, пересадке органов и тканей, содержащих ВИЧ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медицинских манипуляциях и косметических процедурах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опадании зараженной крови на открытую рану или слизистые оболочк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незащищенном половом контак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3217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ование одноразовых или стерильных инструментов при пирсинге, татуировках, маникюре, педикюре, инъекции лекарст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каз от употребления наркотиков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ование презервативов при сексуальных контакт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255600" y="420840"/>
            <a:ext cx="8577360" cy="1011240"/>
          </a:xfrm>
          <a:prstGeom prst="rect">
            <a:avLst/>
          </a:prstGeom>
          <a:ln w="0">
            <a:noFill/>
          </a:ln>
        </p:spPr>
      </p:pic>
      <p:pic>
        <p:nvPicPr>
          <p:cNvPr id="194" name="Содержимое 11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8242560" cy="481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71680" y="1397160"/>
          <a:ext cx="8143560" cy="453204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45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мар –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еносчик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Ч-инфекци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ИЧ передаетс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Через поцелу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</a:tbl>
          </a:graphicData>
        </a:graphic>
      </p:graphicFrame>
      <p:pic>
        <p:nvPicPr>
          <p:cNvPr id="196" name="Picture 15" descr="французский поцелуй"/>
          <p:cNvPicPr/>
          <p:nvPr/>
        </p:nvPicPr>
        <p:blipFill>
          <a:blip r:embed="rId3"/>
          <a:stretch/>
        </p:blipFill>
        <p:spPr>
          <a:xfrm>
            <a:off x="4643280" y="2857680"/>
            <a:ext cx="4081680" cy="27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Комар"/>
          <p:cNvPicPr/>
          <p:nvPr/>
        </p:nvPicPr>
        <p:blipFill>
          <a:blip r:embed="rId4"/>
          <a:stretch/>
        </p:blipFill>
        <p:spPr>
          <a:xfrm>
            <a:off x="571680" y="26431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ВИЧ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НЕ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ЕРЕДАЕТСЯ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ЧЕРЕЗ ПОТ, МОЧУ, БЫТОВЫЕ ПРИБОРЫ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следование на ВИЧ-инфекцию производится добровольн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водится консультирование по аспектам жизни с ВИЧ-инфекцией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нализ можно пройти анонимно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иагноз никому не сообщается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еловек с ВИЧ-инфекцией может заниматься любой деятельностью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язательно должны проходить обследование на ВИЧ-инфекцию доноры крови, органов, ткан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60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Object 4"/>
          <p:cNvGraphicFramePr/>
          <p:nvPr/>
        </p:nvGraphicFramePr>
        <p:xfrm>
          <a:off x="1285920" y="1928880"/>
          <a:ext cx="6929280" cy="335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1928880"/>
                    <a:ext cx="692928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686800" cy="5857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Красная лента- символ борьбы со СПИДом"/>
          <p:cNvPicPr/>
          <p:nvPr/>
        </p:nvPicPr>
        <p:blipFill>
          <a:blip r:embed="rId3"/>
          <a:stretch/>
        </p:blipFill>
        <p:spPr>
          <a:xfrm>
            <a:off x="4786200" y="3214800"/>
            <a:ext cx="3946680" cy="2786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00040" y="1071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medinfa.ru/17/spi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aidsomsk.ru/index.php?option=com_content&amp;view=article&amp;id=42&amp;Itemid=6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eurolab.ua/aids/2876/2881/35489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hivrussia.ru/stat/2012-3.s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сердце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dioteos.ru/nj/?p=21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комар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zveri911.ru/komar.ph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поцелуй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lovler.net/article/26/%D1%84%D1%80%D0%B0%D0%BD%D1%86%D1%83%D0%B7%D1%81%D0%BA%D0%B8%D0%B9-%D0%BF%D0%BE%D1%86%D0%B5%D0%BB%D1%83%D0%B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– красная ленточка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mchsmedia.ru/focus/5025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 можно заразиться ВИЧ-инфекцией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при рукопожати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при прикосновении к больному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при поцелуя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) при внутривенном введении наркотик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) при переливании крови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) при укусах насекомых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) при использовании общей бритвы, маникюрных инструментов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) при пользовании с ВИЧ-инфицированным общей посудой, санитарным узлом, ванной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) при половом контакте без презерватива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е ответы: В(если есть ранки на слизистой оболочке), Г, Д, Ж (например, плохо обработаны), И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357200" y="285840"/>
            <a:ext cx="65534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 вы знаете о СПИДе?</a:t>
            </a:r>
            <a:endParaRPr b="1" lang="en-US" sz="4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235692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ПИД снижает сопротивляемость организма к инфекциям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Да;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Н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й ответ: 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ак человек может узнать, что у него ВИЧ-инфекция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дав кровь на анализ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Почувствовав недомогание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Если человек заботится о своем здоровье, он почувствует это в первые часы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Правильный ответ: А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0004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Через какой промежуток времени результаты анализа будут достоверными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через 1 час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через 1 меся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 Через 3 месяца.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(Правильный ответ: В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ВИ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РУ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МУНОДЕФИЦИТА ЧЕЛО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ПИ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НДРОМ ПРИОБРЕТЕННОГО ИММУНОДЕФИЦИТА ЧЕЛОВЕ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78 по 1984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85 по 1987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88 по 1992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93 по 1995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с 1996 по 2000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силий борьбы с эпидемией была создана ОБЪЕДИНЁННАЯ ПРОГРАММА ООН ПО СПИД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вительство России выделяет все больше средств для борьбы с вирусом ВИЧ, разрабатываются новые лекарства, активно проводятся исследования структуры вируса и способов его уничтож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2002 году создана Федеральная целевая программа «Предупреждение и борьба с заболеваниями социального характера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иск лекарств и вакцины;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изация комплексной профилактической    системы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здание условий достойной жизни для ВИЧ-положительных  людей и соблюдение прав человека по отношению к ни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спечение доступности лечения и достоверной информации о жизни с ВИЧ/СПИДом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зможность получения социальной и психологической поддержки обще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3:34:06Z</dcterms:created>
  <dc:creator>Лена</dc:creator>
  <dc:description/>
  <dc:language>en-US</dc:language>
  <cp:lastModifiedBy>GYMNAZIA2</cp:lastModifiedBy>
  <dcterms:modified xsi:type="dcterms:W3CDTF">2006-12-31T19:41:14Z</dcterms:modified>
  <cp:revision>29</cp:revision>
  <dc:subject/>
  <dc:title>Слайд 1</dc:title>
</cp:coreProperties>
</file>