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E31E-F23B-43AF-959B-89204CB7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AF42-642D-4405-933A-38C2303A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809-E839-4D6C-9415-94EA9C3C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6ED2-39C7-479C-BC56-94DAB32C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86168-2260-4A8D-9BBA-74DBAB86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F2F3B-4784-41CB-9D56-C8E56DBF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4A5D3-40C0-4E27-B5BB-B7D40FBF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0B277-249E-4CB8-9742-C11AE5C1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86DF9-4AD2-4A57-93AF-70E22B47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22D19-1B10-4D29-A7EB-D5BD4DAE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DFC7F-2DAB-4BE1-A384-DF03349B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D8A-E192-4DB1-BE40-18CCDEAE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A448A-9DD5-4351-AC72-557F0E2B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63175-A51E-4C61-A909-6F6B5F0E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DECA3-2C7B-4DB8-A352-05EB6C75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018CF-36CA-49E1-AEB8-6AE5628B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A6D5A-72F1-4DFA-93AB-D281C0A0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E3279-310A-4915-8518-EFE57C52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555E1-C7C8-49DC-99FD-C1A7F910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C9025-7EAD-4365-AFA4-F4AA4208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1448C-10EE-4D4F-96B9-585F487E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A58A6-7E81-4FCD-97D9-C3C2B05F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A68E-C8EB-4E3A-886C-936D0B6A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A2ACA-4274-4B75-A2CC-6C3EB104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040C-CA8E-4BEC-8C11-8B7456F1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945B6-9B41-4E54-AB89-40391018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4AA7C-FA51-4B0A-94AE-A0931D16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D48FC-B7BB-4C17-96C8-89AE51B5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A20DD-92BA-4F17-BD32-7BE3D5EC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01D77-60B7-4204-BC02-A83CF810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76F746-37C8-439B-A6F2-0C26BC50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3A6376-77DE-4113-ACB4-0321BC05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9F681-0E93-42E3-9175-2E41A579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482-34B4-496F-9AE0-10F7C5F6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2B04D0-8C73-44F5-928E-743C6950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CD67C8-EA55-4860-B8A6-39A69351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FB2A52-C91F-4DA6-B1DD-464F071F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DFA5D6-EB8F-4CD5-BB99-29B5E8A7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5D64A5-3F79-4AD3-8ED5-DB82C2DC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BBE92C-85C7-4903-B612-39DB2161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C79EE0-037D-422F-AEA3-5EA73B34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434698-0237-4B4F-8161-59543F08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1E51FE-1936-42B7-921D-8806788B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2C72-13D2-45E6-B27C-514D7503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001-44DB-4F78-9BE8-B7FF791B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6DA-A842-401C-B729-8B8127A5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0116-AFAF-449E-B269-01578A1E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9AA-D3D1-4EDC-A413-CDC10FC3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9AB6-2300-40F4-8F9A-17EE37E19EE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2656-C16A-4699-9E33-FDB4B6C095B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5B7E-2F34-41EE-9DB0-3A14035FC68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7F09-637A-44FA-A504-503938D92A5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0" y="3885840"/>
            <a:ext cx="417672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бачёва Елена Юрьевна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лог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ОУ «Гимназия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1187280" y="1268280"/>
            <a:ext cx="6769440" cy="1160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 </a:t>
            </a:r>
            <a:endParaRPr b="0" lang="en-US" sz="44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pic>
        <p:nvPicPr>
          <p:cNvPr id="172" name="Прямоугольник 4" descr=""/>
          <p:cNvPicPr/>
          <p:nvPr/>
        </p:nvPicPr>
        <p:blipFill>
          <a:blip r:embed="rId1"/>
          <a:stretch/>
        </p:blipFill>
        <p:spPr>
          <a:xfrm>
            <a:off x="1633680" y="396720"/>
            <a:ext cx="6162480" cy="2876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http://www.radioteos.ru/nj/wp-content/uploads/2012/08/%D0%A1%D0%B5%D1%80%D0%B4%D1%86%D0%B5-300x225.jpg"/>
          <p:cNvPicPr/>
          <p:nvPr/>
        </p:nvPicPr>
        <p:blipFill>
          <a:blip r:embed="rId2"/>
          <a:stretch/>
        </p:blipFill>
        <p:spPr>
          <a:xfrm>
            <a:off x="285840" y="3571920"/>
            <a:ext cx="4048200" cy="3036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0012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такт с инфицированной кровью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защищенный половой конта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 матери к ребенк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Object 2"/>
          <p:cNvGraphicFramePr/>
          <p:nvPr/>
        </p:nvGraphicFramePr>
        <p:xfrm>
          <a:off x="2286000" y="3286080"/>
          <a:ext cx="4905360" cy="2838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3286080"/>
                    <a:ext cx="490536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00040" y="1500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попадании зараженной крови в кровоток незараженного человек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инъекциях бывшим в употреблении шприцем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вливании зараженных продуктов крови, пересадке органов и тканей, содержащих ВИЧ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медицинских манипуляциях и косметических процедурах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попадании зараженной крови на открытую рану или слизистые оболочк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незащищенном половом контакт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321760" cy="1354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спользование одноразовых или стерильных инструментов при пирсинге, татуировках, маникюре, педикюре, инъекции лекарств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каз от употребления наркотиков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спользование презервативов при сексуальных контакта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2" descr=""/>
          <p:cNvPicPr/>
          <p:nvPr/>
        </p:nvPicPr>
        <p:blipFill>
          <a:blip r:embed="rId1"/>
          <a:stretch/>
        </p:blipFill>
        <p:spPr>
          <a:xfrm>
            <a:off x="255600" y="420840"/>
            <a:ext cx="8577360" cy="1011240"/>
          </a:xfrm>
          <a:prstGeom prst="rect">
            <a:avLst/>
          </a:prstGeom>
          <a:ln w="0">
            <a:noFill/>
          </a:ln>
        </p:spPr>
      </p:pic>
      <p:pic>
        <p:nvPicPr>
          <p:cNvPr id="194" name="Содержимое 11" descr=""/>
          <p:cNvPicPr/>
          <p:nvPr/>
        </p:nvPicPr>
        <p:blipFill>
          <a:blip r:embed="rId2"/>
          <a:stretch/>
        </p:blipFill>
        <p:spPr>
          <a:xfrm>
            <a:off x="450720" y="1474920"/>
            <a:ext cx="8242560" cy="481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571680" y="1397160"/>
          <a:ext cx="8143560" cy="4532040"/>
        </p:xfrm>
        <a:graphic>
          <a:graphicData uri="http://schemas.openxmlformats.org/drawingml/2006/table">
            <a:tbl>
              <a:tblPr/>
              <a:tblGrid>
                <a:gridCol w="4071600"/>
                <a:gridCol w="4071960"/>
              </a:tblGrid>
              <a:tr h="45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омар –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еносчик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ИЧ-инфекци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ИЧ передаетс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ерез поцелу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</a:tbl>
          </a:graphicData>
        </a:graphic>
      </p:graphicFrame>
      <p:pic>
        <p:nvPicPr>
          <p:cNvPr id="196" name="Picture 15" descr="французский поцелуй"/>
          <p:cNvPicPr/>
          <p:nvPr/>
        </p:nvPicPr>
        <p:blipFill>
          <a:blip r:embed="rId3"/>
          <a:stretch/>
        </p:blipFill>
        <p:spPr>
          <a:xfrm>
            <a:off x="4643280" y="2857680"/>
            <a:ext cx="4081680" cy="2714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Комар"/>
          <p:cNvPicPr/>
          <p:nvPr/>
        </p:nvPicPr>
        <p:blipFill>
          <a:blip r:embed="rId4"/>
          <a:stretch/>
        </p:blipFill>
        <p:spPr>
          <a:xfrm>
            <a:off x="571680" y="2643120"/>
            <a:ext cx="409572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ВИЧ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НЕ 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ПЕРЕДАЕТСЯ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ЧЕРЕЗ ПОТ, МОЧУ, БЫТОВЫЕ ПРИБОРЫ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785880"/>
            <a:ext cx="82296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следование на ВИЧ-инфекцию производится добровольно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водится консультирование по аспектам жизни с ВИЧ-инфекцией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нализ можно пройти анонимно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иагноз никому не сообщается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еловек с ВИЧ-инфекцией может заниматься любой деятельностью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язательно должны проходить обследование на ВИЧ-инфекцию доноры крови, органов, ткане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60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Object 4"/>
          <p:cNvGraphicFramePr/>
          <p:nvPr/>
        </p:nvGraphicFramePr>
        <p:xfrm>
          <a:off x="1285920" y="1928880"/>
          <a:ext cx="6929280" cy="3357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1928880"/>
                    <a:ext cx="6929280" cy="33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2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686800" cy="5857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Красная лента- символ борьбы со СПИДом"/>
          <p:cNvPicPr/>
          <p:nvPr/>
        </p:nvPicPr>
        <p:blipFill>
          <a:blip r:embed="rId3"/>
          <a:stretch/>
        </p:blipFill>
        <p:spPr>
          <a:xfrm>
            <a:off x="4786200" y="3214800"/>
            <a:ext cx="3946680" cy="2786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00040" y="1071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medinfa.ru/17/spi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aidsomsk.ru/index.php?option=com_content&amp;view=article&amp;id=42&amp;Itemid=6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eurolab.ua/aids/2876/2881/35489/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hivrussia.ru/stat/2012-3.shtm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– сердце: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dioteos.ru/nj/?p=2197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– комар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zveri911.ru/komar.php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– поцелуй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lovler.net/article/26/%D1%84%D1%80%D0%B0%D0%BD%D1%86%D1%83%D0%B7%D1%81%D0%BA%D0%B8%D0%B9-%D0%BF%D0%BE%D1%86%D0%B5%D0%BB%D1%83%D0%B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– красная ленточка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mchsmedia.ru/focus/50258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85716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Как можно заразиться ВИЧ-инфекцией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при рукопожати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при прикосновении к больному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 при поцелуях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) при внутривенном введении наркотиков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) при переливании кров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) при укусах насекомых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) при использовании общей бритвы, маникюрных инструментов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) при пользовании с ВИЧ-инфицированным общей посудой, санитарным узлом, ванной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) при половом контакте без презерватива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(Правильные ответы: В(если есть ранки на слизистой оболочке), Г, Д, Ж (например, плохо обработаны), И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1357200" y="285840"/>
            <a:ext cx="6553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Что вы знаете о СПИДе?</a:t>
            </a:r>
            <a:endParaRPr b="1" lang="en-US" sz="4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95280" y="2356920"/>
            <a:ext cx="822960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СПИД снижает сопротивляемость организма к инфекциям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Да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Нет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(Правильный ответ: А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Как человек может узнать, что у него ВИЧ-инфекция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Сдав кровь на анализ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Почувствовав недомогание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 Если человек заботится о своем здоровье, он почувствует это в первые часы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(Правильный ответ: А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00040" y="1500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Через какой промежуток времени результаты анализа будут достоверными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) через 1 час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) через 1 месяц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) Через 3 месяца.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(Правильный ответ: В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ВИ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ИРУС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ММУНОДЕФИЦИТА ЧЕЛОВЕ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СПИ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ИНДРОМ ПРИОБРЕТЕННОГО ИММУНОДЕФИЦИТА ЧЕЛОВЕ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с 1978 по 1984 г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с 1985 по 1987 г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с 1988 по 1992 г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с 1993 по 1995 г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с 1996 по 2000 г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4287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ля усилий борьбы с эпидемией была создана ОБЪЕДИНЁННАЯ ПРОГРАММА ООН ПО СПИД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авительство России выделяет все больше средств для борьбы с вирусом ВИЧ, разрабатываются новые лекарства, активно проводятся исследования структуры вируса и способов его уничтож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2002 году создана Федеральная целевая программа «Предупреждение и борьба с заболеваниями социального характера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иск лекарств и вакцины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рганизация комплексной профилактической    системы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здание условий достойной жизни для ВИЧ-положительных  людей и соблюдение прав человека по отношению к ним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еспечение доступности лечения и достоверной информации о жизни с ВИЧ/СПИДом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озможность получения социальной и психологической поддержки обществ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3:34:06Z</dcterms:created>
  <dc:creator>Лена</dc:creator>
  <dc:description/>
  <dc:language>en-US</dc:language>
  <cp:lastModifiedBy>GYMNAZIA2</cp:lastModifiedBy>
  <dcterms:modified xsi:type="dcterms:W3CDTF">2006-12-31T19:41:14Z</dcterms:modified>
  <cp:revision>29</cp:revision>
  <dc:subject/>
  <dc:title>Слайд 1</dc:title>
</cp:coreProperties>
</file>