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F3D-F1BE-4322-8BB4-F413DC56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331-5987-4B0A-A5D0-DA21A9F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406-AABD-40EC-93BB-0C72AF2D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50D-6018-404D-9B27-5B572361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A403C-54F6-42D5-9E30-06D7EE47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3D4FB-0913-41E8-B5D9-DE054516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0F234-764C-41D2-9BD4-69DF5686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DC289-9A15-4CE4-B270-8203C8F7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F34A7-21DE-43C0-8CA7-108139A6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D27C4-67A6-4913-BA40-46B7787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D22D8-4919-4F95-B5CB-AF2F0FC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656-5A84-4AE8-B7AD-B020834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2F64F-1EA9-4DD9-896C-AF9A97A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DDFE-AD54-4FD1-8FA2-1E46F65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48738-0C48-4E33-A2FF-45615360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8EA20-46D6-438E-963D-3F602C6D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C6C4-3630-41E9-9787-0BBC919D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2009-B526-4BCB-A2C2-D83390BD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F915-ECE1-4F1F-B394-E27A105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CBB6-8B52-479D-AA69-01F62D91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F5FD-5992-4AFA-8D89-C3886B5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1DFFF-C627-4779-936A-7664D35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64E-6486-477B-BC35-01716F50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C7E0-2601-4083-8E03-72E625D7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E61B-B9E9-411F-877F-1B3FAC0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B90F-A49C-4217-AD08-D795C78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97DB-9AE8-4CA1-B870-440FF18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B095-0106-425B-BDED-E8D16FF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4354-BEC4-472E-BDFB-BEB2C82E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8C44-C095-421A-A7BE-4CAD888E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0D3D3-E344-43BE-A476-7FE64CDB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DEA52-4CCD-4010-B7D3-30117AB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52FF4-8703-434F-A3C8-DCD1328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717-DB40-45D0-BC7C-28ECD696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B57E8-3BF4-4144-8B2D-CC28AFCF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78931-C156-4503-84A5-AD7518D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7BF1E-FB6F-4D9C-A806-571E4752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04F4A-D2E7-44B6-8166-73BEA8F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3DBD8-E3BE-428D-ACC8-04CBEDB0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86180-F144-4A58-A847-A620B5D0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1CF9F-8FD0-439A-AA5E-15E56F49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5D2E3-7EBE-4F4F-8FA4-00504B5E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1D7B9-A990-4410-A3BB-FEC004D2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E04-3543-493B-8C50-1716CDB7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415-29B2-48C6-9B36-724C159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2A8-B997-4E82-9E68-1DA27CEF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98B-77A8-447D-AB21-BED06ABC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926-7A68-4C13-987E-6653599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E21-77C2-48C1-9471-4620F4122E5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37C4-DC78-4974-9593-AD5E8C43F62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E300-6D68-4CA7-BE63-86A065D237D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FD6F-7C7E-440A-B434-C4E0B647FF9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0" y="3885840"/>
            <a:ext cx="4176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бачёва Елена Юрьевна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«Гимназия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1187280" y="1268280"/>
            <a:ext cx="6769440" cy="1160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72" name="Прямоугольник 4" descr=""/>
          <p:cNvPicPr/>
          <p:nvPr/>
        </p:nvPicPr>
        <p:blipFill>
          <a:blip r:embed="rId1"/>
          <a:stretch/>
        </p:blipFill>
        <p:spPr>
          <a:xfrm>
            <a:off x="1633680" y="396720"/>
            <a:ext cx="6162480" cy="287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www.radioteos.ru/nj/wp-content/uploads/2012/08/%D0%A1%D0%B5%D1%80%D0%B4%D1%86%D0%B5-300x225.jpg"/>
          <p:cNvPicPr/>
          <p:nvPr/>
        </p:nvPicPr>
        <p:blipFill>
          <a:blip r:embed="rId2"/>
          <a:stretch/>
        </p:blipFill>
        <p:spPr>
          <a:xfrm>
            <a:off x="285840" y="3571920"/>
            <a:ext cx="404820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001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такт с инфицированной кровь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защищенный половой конта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 матери к ребенк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2"/>
          <p:cNvGraphicFramePr/>
          <p:nvPr/>
        </p:nvGraphicFramePr>
        <p:xfrm>
          <a:off x="2286000" y="3286080"/>
          <a:ext cx="4905360" cy="28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286080"/>
                    <a:ext cx="490536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опадании зараженной крови в кровоток незараженного человек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инъекциях бывшим в употреблении шприце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вливании зараженных продуктов крови, пересадке органов и тканей, содержащих ВИЧ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медицинских манипуляциях и косметических процедурах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опадании зараженной крови на открытую рану или слизистые оболочк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незащищенном половом контак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3217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ование одноразовых или стерильных инструментов при пирсинге, татуировках, маникюре, педикюре, инъекции лекарст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каз от употребления наркотико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ование презервативов при сексуальных контакт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55600" y="420840"/>
            <a:ext cx="8577360" cy="101124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11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8242560" cy="481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571680" y="1397160"/>
          <a:ext cx="8143560" cy="453204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45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мар –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еносчик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Ч-инфек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Ч передаетс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рез поцелу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5" descr="французский поцелуй"/>
          <p:cNvPicPr/>
          <p:nvPr/>
        </p:nvPicPr>
        <p:blipFill>
          <a:blip r:embed="rId3"/>
          <a:stretch/>
        </p:blipFill>
        <p:spPr>
          <a:xfrm>
            <a:off x="4643280" y="2857680"/>
            <a:ext cx="4081680" cy="2714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Комар"/>
          <p:cNvPicPr/>
          <p:nvPr/>
        </p:nvPicPr>
        <p:blipFill>
          <a:blip r:embed="rId4"/>
          <a:stretch/>
        </p:blipFill>
        <p:spPr>
          <a:xfrm>
            <a:off x="571680" y="264312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ИЧ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НЕ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ЕРЕДАЕТСЯ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ЧЕРЕЗ ПОТ, МОЧУ, БЫТОВЫЕ ПРИБОРЫ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78588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следование на ВИЧ-инфекцию производится добровольно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водится консультирование по аспектам жизни с ВИЧ-инфекцие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нализ можно пройти анонимно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агноз никому не сообщается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еловек с ВИЧ-инфекцией может заниматься любой деятельностью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язательно должны проходить обследование на ВИЧ-инфекцию доноры крови, органов, ткан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60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Object 4"/>
          <p:cNvGraphicFramePr/>
          <p:nvPr/>
        </p:nvGraphicFramePr>
        <p:xfrm>
          <a:off x="1285920" y="1928880"/>
          <a:ext cx="6929280" cy="335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1928880"/>
                    <a:ext cx="692928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686800" cy="5857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Красная лента- символ борьбы со СПИДом"/>
          <p:cNvPicPr/>
          <p:nvPr/>
        </p:nvPicPr>
        <p:blipFill>
          <a:blip r:embed="rId3"/>
          <a:stretch/>
        </p:blipFill>
        <p:spPr>
          <a:xfrm>
            <a:off x="4786200" y="3214800"/>
            <a:ext cx="394668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1071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medinfa.ru/17/spi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aidsomsk.ru/index.php?option=com_content&amp;view=article&amp;id=42&amp;Itemid=6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eurolab.ua/aids/2876/2881/35489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hivrussia.ru/stat/2012-3.s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сердце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dioteos.ru/nj/?p=21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комар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zveri911.ru/komar.php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поцелуй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lovler.net/article/26/%D1%84%D1%80%D0%B0%D0%BD%D1%86%D1%83%D0%B7%D1%81%D0%BA%D0%B8%D0%B9-%D0%BF%D0%BE%D1%86%D0%B5%D0%BB%D1%83%D0%B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красная ленточка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mchsmedia.ru/focus/5025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 можно заразиться ВИЧ-инфекцией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при рукопожат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при прикосновении к больному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при поцелуя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при внутривенном введении наркотик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) при переливании кров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) при укусах насекомы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) при использовании общей бритвы, маникюрных инструмент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) при пользовании с ВИЧ-инфицированным общей посудой, санитарным узлом, ванно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) при половом контакте без презерватива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е ответы: В(если есть ранки на слизистой оболочке), Г, Д, Ж (например, плохо обработаны), И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357200" y="285840"/>
            <a:ext cx="6553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 вы знаете о СПИДе?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235692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ПИД снижает сопротивляемость организма к инфекциям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Да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Н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й ответ: 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ак человек может узнать, что у него ВИЧ-инфекция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дав кровь на анализ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Почувствовав недомогание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Если человек заботится о своем здоровье, он почувствует это в первые часы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й ответ: 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Через какой промежуток времени результаты анализа будут достоверными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через 1 час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через 1 меся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 Через 3 месяца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(Правильный ответ: В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РУС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МУНОДЕФИЦИТА ЧЕЛОВЕ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П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ИНДРОМ ПРИОБРЕТЕННОГО ИММУНОДЕФИЦИТА ЧЕЛОВЕ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78 по 1984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85 по 1987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88 по 1992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93 по 1995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96 по 2000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усилий борьбы с эпидемией была создана ОБЪЕДИНЁННАЯ ПРОГРАММА ООН ПО СПИД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вительство России выделяет все больше средств для борьбы с вирусом ВИЧ, разрабатываются новые лекарства, активно проводятся исследования структуры вируса и способов его уничтож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2002 году создана Федеральная целевая программа «Предупреждение и борьба с заболеваниями социального характера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иск лекарств и вакцины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изация комплексной профилактической    систем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ние условий достойной жизни для ВИЧ-положительных  людей и соблюдение прав человека по отношению к ни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ение доступности лечения и достоверной информации о жизни с ВИЧ/СПИД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зможность получения социальной и психологической поддержки обще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34:06Z</dcterms:created>
  <dc:creator>Лена</dc:creator>
  <dc:description/>
  <dc:language>en-US</dc:language>
  <cp:lastModifiedBy>GYMNAZIA2</cp:lastModifiedBy>
  <dcterms:modified xsi:type="dcterms:W3CDTF">2006-12-31T19:41:14Z</dcterms:modified>
  <cp:revision>29</cp:revision>
  <dc:subject/>
  <dc:title>Слайд 1</dc:title>
</cp:coreProperties>
</file>