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C43-1B66-4737-9705-1EB9906A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406-9423-47E5-AD6F-315FEA61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ABF-5EC9-427A-B2B8-048BFBF5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1C1-D14B-4192-BBFC-C5AB1B0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1B1-ABFF-43D5-B35A-07DA159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25A-27B8-4914-A261-7BAD95E5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515-81E3-4766-B28D-C273272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8F8-6703-48B0-983F-AB0D9219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58C-1E76-482A-906E-A6B48CDE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341-13BA-487B-A4EB-818F655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892-0A83-46AD-8C04-38138E3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A06-D8ED-4ACE-823D-0A45F25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107-6E67-4275-BD89-9A4CF82E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ubini.swarthmore.edu/~ENVS2/S2007/wjohnso2/gif/Greek_Phalanx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apsta.webs.com/Picture1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ile.ru/transient/259/spartans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4/log-strim.4/0_bd96_3eb6d575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lanetaskazok.ru/images/stories/uznaika/kniga_komandirov/img_0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academic.ru/pictures/dewiki/78/Noble_Persian_horseman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28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620640"/>
            <a:ext cx="784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Марафонская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битв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ерсидские войска не рискнули высадиться на берег           и корабли отплыли назад в Персию.                                Афиняне первыми одержали победу над персами, показав, что персы не являются непобед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056720" cy="44481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7236000" y="2924280"/>
            <a:ext cx="1584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лесница пе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победы над персами в Марафонской битве Мильтиад отправил в Афины гонца с радостной вестью. Расстояние 42 километра 195 метров                          (от Марафона до Афин) – марафонская диста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060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онец из Марафона в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465440" cy="4465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лный комплект презентаций и проверочных работ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 курсу                                              Истории Древнего мира                     для 5 класса                                                  Вы можете скачать на сайт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5400720" cy="4090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рафонская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070000"/>
            <a:ext cx="6769080" cy="478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907920"/>
            <a:ext cx="4788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арий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оздал огромное государство и мечтал захватить весь мир. Персидские послы прибывали в греческие полисы и требовали подчинения своему царю («земли и воды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4252680" cy="568980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4572000" cy="2209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48120"/>
            <a:ext cx="2828880" cy="3809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76500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ногие греческие полисы подчинились персидской власти.  Но афиняне сбросили персидских послов со скалы,    а спартанцы бросили персидских послов в колодец, сказав: «На дне много земли и воды, возьмите сколько хотите с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124360" cy="3313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77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Летом 490 года до н.э. гонец принес в Афины весть о высадке персидской армии около селения Мара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9 из 6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92200"/>
            <a:ext cx="7705800" cy="5234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79736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должность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АТЕГ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Народное собрание избрал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ильтиад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Афиняне послали за помощью в другие греческие полисы. Спартанцы обещали помочь позже, остальные полисы в помощи отказали (прислал помощь только город Плате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133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льти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246120" cy="396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ойдя до Марафона, Мильтиад занял холмы, преградив путь персам на Афины. Главная сила персидской армии – конница – не могла сражаться на неровной местности. Прошло несколько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4608360" cy="4389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5003640" y="2276640"/>
            <a:ext cx="1584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ерсидский вса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443700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рсы посадили часть войск на корабли и планировали напасть на Афины, оставшиеся без защиты своих войск. Тогда Мильтиад вывел афинян  на равнину и построил для боя. Греки построилис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фаланго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ровными рядами, сомкнув щиты и выставив вперед длинные коп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3068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роение войск - фала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624720" cy="37782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94028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держав первый удар персидских войск, афиняне ударили им во фланги. Персы обратились в бегство и начали спешно садиться на корабли. Они планировали успеть доплыть до Афин и захватить их, но опоздали. Афиняне успели вернуться на защиту родного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449520" cy="41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5219640" cy="4093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nazar63</cp:lastModifiedBy>
  <dcterms:modified xsi:type="dcterms:W3CDTF">2013-10-26T14:23:47Z</dcterms:modified>
  <cp:revision>343</cp:revision>
  <dc:subject/>
  <dc:title>Марафонская битва</dc:title>
</cp:coreProperties>
</file>