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2DC-DAB3-4A84-82BE-DDD780B6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D75-2D95-41C2-BB57-70F63BF9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01F-4C92-40D6-803C-1FF95FC6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917-B1C1-4C43-A8F0-990D8D1C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576-FBD0-4417-8643-6FE0CF08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36D-9D5E-472A-9C40-7B1B0F26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02C-251F-47A2-B425-DA8B69C7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B5F-448E-4727-A319-ADD435FC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641-63B4-4851-BA0C-F897D67F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FA2-DDE5-4408-923C-8E910438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CBE1-53F6-4710-A6A1-00D800DD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D5F5-2400-4660-AABF-18A4F153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537B-E517-4E2F-A9CE-807F6565E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ubini.swarthmore.edu/~ENVS2/S2007/wjohnso2/gif/Greek_Phalanx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apsta.webs.com/Picture13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xile.ru/transient/259/spartans.gif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4/log-strim.4/0_bd96_3eb6d575_X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lanetaskazok.ru/images/stories/uznaika/kniga_komandirov/img_006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e.academic.ru/pictures/dewiki/78/Noble_Persian_horseman.pn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02800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26920" y="620640"/>
            <a:ext cx="784872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99cc">
                    <a:alpha val="95000"/>
                  </a:srgbClr>
                </a:solidFill>
                <a:latin typeface="Arial"/>
              </a:rPr>
              <a:t>Марафонская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99cc">
                  <a:alpha val="95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99cc">
                    <a:alpha val="95000"/>
                  </a:srgbClr>
                </a:solidFill>
                <a:latin typeface="Arial"/>
              </a:rPr>
              <a:t>битва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99cc">
                  <a:alpha val="95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ерсидские войска не рискнули высадиться на берег           и корабли отплыли назад в Персию.                                Афиняне первыми одержали победу над персами, показав, что персы не являются непобедим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7056720" cy="444816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7236000" y="2924280"/>
            <a:ext cx="1584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олесница пе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сле победы над персами в Марафонской битве Мильтиад отправил в Афины гонца с радостной вестью. Расстояние 42 километра 195 метров                          (от Марафона до Афин) – марафонская дистан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2060640"/>
            <a:ext cx="158436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Гонец из Марафона в 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465440" cy="4465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3290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олный комплект презентаций и проверочных работ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о курсу                                              Истории Древнего мира                     для 5 класса                                                  Вы можете скачать на сайт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зучить параграф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Ответить на вопросы в конце параграфа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5400720" cy="409068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8497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Угроза пораб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Марафонская би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2070000"/>
            <a:ext cx="6769080" cy="478800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 Угроза порабо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907920"/>
            <a:ext cx="4788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Дарий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I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создал огромное государство и мечтал захватить весь мир. Персидские послы прибывали в греческие полисы и требовали подчинения своему царю («земли и воды»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907920"/>
            <a:ext cx="4252680" cy="5689800"/>
          </a:xfrm>
          <a:prstGeom prst="rect">
            <a:avLst/>
          </a:prstGeom>
          <a:ln w="34920">
            <a:solidFill>
              <a:srgbClr val="ff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0" y="4365720"/>
            <a:ext cx="4572000" cy="220968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3048120"/>
            <a:ext cx="2828880" cy="38098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. Угроза пораб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765000"/>
            <a:ext cx="67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ногие греческие полисы подчинились персидской власти.  Но афиняне сбросили персидских послов со скалы,    а спартанцы бросили персидских послов в колодец, сказав: «На дне много земли и воды, возьмите сколько хотите сам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2124360" cy="3313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8770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Летом 490 года до н.э. гонец принес в Афины весть о высадке персидской армии около селения Мараф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а 19 из 69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592200"/>
            <a:ext cx="7705800" cy="52340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797360"/>
            <a:ext cx="878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 должность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АТЕГА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Народное собрание избрало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ильтиада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. Афиняне послали за помощью в другие греческие полисы. Спартанцы обещали помочь позже, остальные полисы в помощи отказали (прислал помощь только город Плате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2133720"/>
            <a:ext cx="1584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ильти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836640"/>
            <a:ext cx="3246120" cy="39607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ойдя до Марафона, Мильтиад занял холмы, преградив путь персам на Афины. Главная сила персидской армии – конница – не могла сражаться на неровной местности. Прошло несколько д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692280"/>
            <a:ext cx="4608360" cy="438948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5003640" y="2276640"/>
            <a:ext cx="158436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ерсидский вса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443700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ерсы посадили часть войск на корабли и планировали напасть на Афины, оставшиеся без защиты своих войск. Тогда Мильтиад вывел афинян  на равнину и построил для боя. Греки построились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фалангой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– ровными рядами, сомкнув щиты и выставив вперед длинные коп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77080" y="3068640"/>
            <a:ext cx="158436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строение войск - фала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6624720" cy="37782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4940280"/>
            <a:ext cx="878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ыдержав первый удар персидских войск, афиняне ударили им во фланги. Персы обратились в бегство и начали спешно садиться на корабли. Они планировали успеть доплыть до Афин и захватить их, но опоздали. Афиняне успели вернуться на защиту родного гор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449520" cy="4105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780000" y="692280"/>
            <a:ext cx="5219640" cy="40939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7:03:27Z</dcterms:created>
  <dc:creator>Нафор Маточ</dc:creator>
  <dc:description/>
  <dc:language>en-US</dc:language>
  <cp:lastModifiedBy>nazar63</cp:lastModifiedBy>
  <dcterms:modified xsi:type="dcterms:W3CDTF">2013-10-26T14:23:47Z</dcterms:modified>
  <cp:revision>343</cp:revision>
  <dc:subject/>
  <dc:title>Марафонская битва</dc:title>
</cp:coreProperties>
</file>