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72343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453-655D-43AE-A335-F2E57E4D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399-0402-4840-A571-2BAFB736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20F-4BC4-460B-B2B4-8B4C3464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376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260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28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376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260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CE9-94BC-4E17-9765-AEB2A11C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ACB4-E39E-44BD-8E76-531B391A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6C9A-E779-4553-8405-3B51C496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C739-9C26-4795-960E-93EE08ED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1109-D71A-4828-9F64-C085AC41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693A-B1B3-40F2-95D3-C7BCFF59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85280" y="277920"/>
            <a:ext cx="8750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D4FB-1547-4CB2-9644-A1E86C61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9F18-8A1A-4B50-8AB6-224F9D9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B93-285A-49D7-BB04-C4C2694F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D72F-AADE-40B5-A9D8-8D7273C4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CE9B-B293-4A9D-8C20-258EF20D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0A9F-AEA2-4359-AF22-8ABD3985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FC20-EB06-4E53-9081-6C6243E8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4376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0260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528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4376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0260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889B-78EF-4E36-A58B-FDE0BEA9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6F48-9D82-4A98-842F-D305A86A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3711-C467-4E26-A587-1E2A8EA6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AE14-C017-4105-83C4-30DD3DAC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01C3-2BF2-43AA-B7C6-494EA804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17F4C-D70D-4463-8520-D5CAF052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854-7C90-4161-A6D7-F1D3C8EA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85280" y="277920"/>
            <a:ext cx="8750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4114-B1E2-4CEC-BC9A-AE198566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A690-178B-4F7B-A6FD-DDC2A34D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C6DC-D9DF-4411-B655-896D8BF9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20E1-4251-4F25-B832-0E1DE605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C836-749C-454C-9431-0FA246D8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2620C-7750-4932-9382-FA04A1E1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4376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0260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528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4376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0260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E475-4896-4A85-93F7-639A3727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BC053-1B3A-422C-9FB9-7FA599CC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C5AB3-4FFE-4847-B4AC-4F36C4EB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32C5-7698-4B02-BAB4-4EF22653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B25-1181-47F1-8488-F98964DD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A7EC2-143B-449D-AB2F-E23D9A99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FB64-B46E-4439-A3F8-6E790746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85280" y="277920"/>
            <a:ext cx="8750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5AAD8-F65C-4F35-9F6E-B166DE85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C5D0-B516-4A6E-A184-5A693F50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DEC6-1B80-4C83-A150-66FA98AE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CECA-14D7-487A-A631-FF98F1BE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3C1CD-A2A4-43BA-9D27-EEB21C5C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8C96-3461-4B60-A9A2-61317D92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4376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0260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8528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4376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0260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55AB6-2BD7-4003-92F5-2D83CC50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A4DF6-06A7-459D-89BE-CF4FA1AF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1AD-A46B-4B07-A9B2-F3F63E00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4A72-A449-4499-BB0A-899BB19C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40725-D736-4D9C-9838-1B8F005C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D9B1-7CB7-4652-A4BD-7B7270C7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E0299-4239-401E-ACE3-8F4861AB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85280" y="277920"/>
            <a:ext cx="8750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777A7-1644-48A0-A5B5-F09FFBAE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AAB76-E651-460C-85D9-8A857D68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89328-1247-47A9-9308-DC68413E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63A9-8533-467F-B676-7675ACEB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ACBBA-60F7-4591-A821-50D3CD7A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C86BC-57CB-4D52-B301-96979725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85280" y="277920"/>
            <a:ext cx="8750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7A5-76D2-413B-A8FD-E37AFE96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4376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0260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528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4376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0260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CC4E-6451-4601-B94C-709E622B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C8E-48D5-470F-999C-937624C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68F-A236-4CEF-93A3-2D1986EB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78E-C4E4-4E6B-BF7B-6DC05538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304920"/>
            <a:ext cx="8505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1752480"/>
            <a:ext cx="8505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47640" y="1566720"/>
            <a:ext cx="84614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7640" y="6172200"/>
            <a:ext cx="842652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47640" y="6244920"/>
            <a:ext cx="210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20640" y="6244920"/>
            <a:ext cx="307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67440" y="6244920"/>
            <a:ext cx="210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EF92-E6F9-4EC9-A1A1-8CB0C3C011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8280" y="990720"/>
            <a:ext cx="826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28280" y="6248520"/>
            <a:ext cx="202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20640" y="6248520"/>
            <a:ext cx="307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67080" y="6248520"/>
            <a:ext cx="202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A915-24B0-4283-8A23-697BB65FD4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8640" y="2394000"/>
            <a:ext cx="826452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856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320640" y="6244920"/>
            <a:ext cx="307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9674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1BEF-BC85-403C-A422-E6030DC40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85640" y="6243480"/>
            <a:ext cx="226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320640" y="6248520"/>
            <a:ext cx="307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967440" y="6243480"/>
            <a:ext cx="226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9EF2-14ED-47FE-92D8-9D9238BC5A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4640" y="228600"/>
            <a:ext cx="875052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640" y="6172200"/>
            <a:ext cx="87505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1523520"/>
            <a:ext cx="8105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485640" y="6243480"/>
            <a:ext cx="226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4"/>
          </p:nvPr>
        </p:nvSpPr>
        <p:spPr>
          <a:xfrm>
            <a:off x="3320640" y="6243480"/>
            <a:ext cx="307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5"/>
          </p:nvPr>
        </p:nvSpPr>
        <p:spPr>
          <a:xfrm>
            <a:off x="6967440" y="6243480"/>
            <a:ext cx="226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87FE-A9E4-497D-ABC5-C2F0EF31989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640" y="1219320"/>
            <a:ext cx="842652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06720" y="3962520"/>
            <a:ext cx="69231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club-extreme.narod.ru/" TargetMode="External"/><Relationship Id="rId3" Type="http://schemas.openxmlformats.org/officeDocument/2006/relationships/hyperlink" Target="http://www.club-extreme.narod.ru/" TargetMode="External"/><Relationship Id="rId4" Type="http://schemas.openxmlformats.org/officeDocument/2006/relationships/hyperlink" Target="http://www.club-extreme.narod.ru/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kozlov.ru/" TargetMode="External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0840" y="115560"/>
            <a:ext cx="880416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24cb"/>
                </a:solidFill>
                <a:latin typeface="Arial"/>
              </a:rPr>
              <a:t>Проблемы современной</a:t>
            </a:r>
            <a:br>
              <a:rPr sz="3600"/>
            </a:br>
            <a:r>
              <a:rPr b="1" i="1" lang="en-US" sz="3600" spc="-1" strike="noStrike">
                <a:solidFill>
                  <a:srgbClr val="0d24cb"/>
                </a:solidFill>
                <a:latin typeface="Arial"/>
              </a:rPr>
              <a:t> молодежи и пути их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205240" y="5373720"/>
            <a:ext cx="45165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0d2f8"/>
                </a:solidFill>
                <a:latin typeface="Arial"/>
              </a:rPr>
              <a:t>Как мало прожи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0d2f8"/>
                </a:solidFill>
                <a:latin typeface="Arial"/>
              </a:rPr>
              <a:t>как много пережи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613800" y="0"/>
            <a:ext cx="10800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9440" y="189000"/>
            <a:ext cx="8278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Garamond"/>
              </a:rPr>
              <a:t>Исследование отношения молодежи школы к </a:t>
            </a:r>
            <a:br>
              <a:rPr sz="2000"/>
            </a:br>
            <a:r>
              <a:rPr b="1" i="1" lang="en-US" sz="2000" spc="-1" strike="noStrike">
                <a:solidFill>
                  <a:srgbClr val="996600"/>
                </a:solidFill>
                <a:latin typeface="Garamond"/>
              </a:rPr>
              <a:t>общечеловеческим ценностям и проблемам</a:t>
            </a:r>
            <a:r>
              <a:rPr b="1" lang="en-US" sz="2000" spc="-1" strike="noStrike">
                <a:solidFill>
                  <a:srgbClr val="996600"/>
                </a:solidFill>
                <a:latin typeface="Garamond"/>
              </a:rPr>
              <a:t>.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85280" y="1052640"/>
            <a:ext cx="8750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анные исследования строились на основе методики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"проблемных вопросов"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траженных в проблемных темах,  таких, как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мужчины и женщины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свобода и привязанность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семья и измен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любовь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святое, центральные ценност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принятие себя, других, мир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открытость во взаимоотношениях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одиночество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дет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игра и "роли-по-жизни"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самореализация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полнота и осмысленность жизн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дело и развлечения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переживание собственной уникально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Варианты ответов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не задумывался над этим вопросом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актуальная для меня тем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хотел бы обсудить этот вопрос с другими участниками группы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нейтральное отношение к проблем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333520" y="5661000"/>
            <a:ext cx="5972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Анализируя результаты исследования можно сделать вывод, что  общечелове ческие ценности и проблем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близки современной молодежи, они считают их актуальными и пытаются найти пути их решения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98560" y="404640"/>
            <a:ext cx="6202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Исследование отношения молодежи к общечеловеческим ценностям и проблема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933560" y="762120"/>
          <a:ext cx="6694560" cy="480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3560" y="762120"/>
                    <a:ext cx="669456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72760" y="764640"/>
            <a:ext cx="85755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6600"/>
                </a:solidFill>
                <a:latin typeface="Arial"/>
              </a:rPr>
              <a:t>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общественное существо, живущее в сообществе себе подобных, включен в систему связей и отношений с другими людьми, занимает в этой системе собственную позицию, имеет определенный статус, играет различные социальные роли. Это значит, что его психика и поведение существенно зависят от сложно устроенной, структурированной социальной среды, в которой люди объединены в многочисленные, разнообразные, более или менее стойкие сообщества —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6600"/>
                </a:solidFill>
                <a:latin typeface="Arial"/>
              </a:rPr>
              <a:t>Груп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это некое единство, подчиняющееся собственным законам, в котором протекают динамические процессы и которые определенным образом влияют на входящих в него людей. В этом проявляется воспитательное значение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3120" y="259920"/>
            <a:ext cx="875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996600"/>
                </a:solidFill>
                <a:latin typeface="Times New Roman"/>
              </a:rPr>
              <a:t>Социально-психологическая характеристика групповых</a:t>
            </a:r>
            <a:br>
              <a:rPr sz="1900"/>
            </a:br>
            <a:r>
              <a:rPr b="1" i="1" lang="en-US" sz="1900" spc="-1" strike="noStrike">
                <a:solidFill>
                  <a:srgbClr val="996600"/>
                </a:solidFill>
                <a:latin typeface="Times New Roman"/>
              </a:rPr>
              <a:t> методов воздействия и их  использование в работе с молодежью. 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оспитывать человека – значит оказывать содействие формированию его лич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Существуют три вида активност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знание мира и себ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ынесение оценки окружающему миру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зменение себя и мира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К факторам, побуждающим к активности, относятся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знавательный и профессиональный интерес, или личная заинтересованность в познан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ворческий характер деятель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остязательность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гровой характер проведения занятий, динамика и   драматизация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эмоциональное воздействие разных фак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Garamond"/>
              </a:rPr>
              <a:t>Групповые методы воздействия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3120" y="1412640"/>
            <a:ext cx="429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искуссионные мето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гровые мето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енситивный тренинг (тренировка межличностной чувствительности и восприятия себя как психофизического единств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веденческий подход (бихевиоризм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еятельностный подход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сихоаналитический подход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гнитивный подход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сиходрама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сихосинте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-группы (группы тренинг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руппы встреч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анцевальная терапия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рапия искусством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лесно-ориентированная терапия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797440" y="1700280"/>
            <a:ext cx="2757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73120" y="476280"/>
            <a:ext cx="87501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группы на личность посредством взаимоотношений достаточно велико. Не последнюю роль играет и </a:t>
            </a:r>
            <a:r>
              <a:rPr b="0" i="1" lang="ru-RU" sz="2000" spc="-1" strike="noStrike">
                <a:solidFill>
                  <a:srgbClr val="996600"/>
                </a:solidFill>
                <a:latin typeface="Arial"/>
              </a:rPr>
              <a:t>позиция самого члена групп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о, насколько человек активен в своем стремлении к творческому самовыражению, самосовершенствованию, участию в развитии, в немалой степени способствует его адаптации, индивидуализации и интеграции в коллектив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рсеньевском городском округ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отяжении нескольких лет проводится акция </a:t>
            </a:r>
            <a:r>
              <a:rPr b="1" i="1" lang="ru-RU" sz="2000" spc="-1" strike="noStrike">
                <a:solidFill>
                  <a:srgbClr val="996600"/>
                </a:solidFill>
                <a:latin typeface="Arial"/>
              </a:rPr>
              <a:t>«Подросток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ная задача  операции «Подросток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занятости детей   в   летний   период,   максимальный   охват  различными   формами   отдыха,  организованным трудом, первичная профилактика наркомании, токсикомании, алкоголизма среди детей и подростков,  профилакт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вонаруш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учебных и оздоровительных заведениях города за период проведения операции "Подросток" инспекторами ОДН проведено 57 бесед с подростками на правовые 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79120" y="620280"/>
            <a:ext cx="8126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амках межведомственной операции "Подросток" были проведены профилактические мероприятия,  такие как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"Беглец"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"Подросток-Игла"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Подросток-Лето-2005- детям"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Подросток-Мигрант",  "Подросток-семья", "Безнадзорные дети", "Всеобуч", "Мир без наркотиков"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а лето было охвачено отдыхом, оздоровлением и занятостью 7481 несовершеннолетних. В трудовых бригадах на каникулах трудилось 1340 реб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оритетными направлениями деятельности учреждений культуры в рамках комплексной операции «Подросток» явля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илактика правонарушений и пропаганда здорового образа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у молодежной аудитории правов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полезного отдыха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влечение в клубы по интере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фоне общего роста преступности несовершеннолетних на территории г. Арсеньева в период проведения операции "Подросток" в 2005 году наблюдае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нижение преступ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реди учащихся школ город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24 %.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20840" y="403920"/>
            <a:ext cx="89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Рассмотрим еще одну проблему современной молодежи – здоровь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45160" y="967680"/>
            <a:ext cx="2986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нализируя диаграмму общей заболеваемости подростков (возраст 15-17 лет) следует отметить, что помимо болезней органов дыхания, которые в общей заболеваемости составляют 40,0%, можно выделить болезни органов пищеварения (8,6%), травмы и отравления (8,4%), а также болезни мочеполовой системы (6,3%), глаза и его придаточного аппарата (6,2%), кожи и подкожной клетчатки (5,6%), нервной системы (5,4%). Обращает на себя внимание удельный вес такой патологии как психические расстройства, на которые у подростков приходится 4,5% всей заболеваемости. В чем же причин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44520" y="1052640"/>
            <a:ext cx="6156360" cy="4856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649440" y="981000"/>
            <a:ext cx="31384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Структура общей заболеваемости по класс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(подростки 15-17 лет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Garamond"/>
              </a:rPr>
              <a:t>Рассмотрим динамическую систему развития населения</a:t>
            </a:r>
            <a:br>
              <a:rPr sz="2000"/>
            </a:br>
            <a:r>
              <a:rPr b="1" lang="en-US" sz="2000" spc="-1" strike="noStrike">
                <a:solidFill>
                  <a:srgbClr val="996600"/>
                </a:solidFill>
                <a:latin typeface="Garamond"/>
              </a:rPr>
              <a:t> в виде </a:t>
            </a:r>
            <a:r>
              <a:rPr b="1" i="1" lang="en-US" sz="2000" spc="-1" strike="noStrike">
                <a:solidFill>
                  <a:srgbClr val="006633"/>
                </a:solidFill>
                <a:latin typeface="Garamond"/>
              </a:rPr>
              <a:t>потока в социальном пространстве</a:t>
            </a:r>
            <a:r>
              <a:rPr b="1" i="1" lang="en-US" sz="1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17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4520" y="3933360"/>
            <a:ext cx="8956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настоящее время в России продолжает доминироват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о-трудовая компонен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Главным признаком успешного развития личности является формирование материального и финансового капитала. В этих условиях человеческий капитал подвергается интенсивному использованию, что ведет к значительным издержкам в виде повышенной смертности и сокращения продолжительности жизни, а также значительному ухудшению здоровья подрастающего поколения. Из всего этого можно сделать вывод, что необходимо объединение и координация усилий администрации, учреждений и ведомств по решению проблем охраны и укрепления здоровья молодежи. Необходимо изменение психологии населения по отношению к здоровью, </a:t>
            </a:r>
            <a:r>
              <a:rPr b="1" i="1" lang="en-US" sz="1600" spc="-1" strike="noStrike">
                <a:solidFill>
                  <a:srgbClr val="996600"/>
                </a:solidFill>
                <a:latin typeface="Arial"/>
              </a:rPr>
              <a:t>пропаган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996600"/>
                </a:solidFill>
                <a:latin typeface="Arial"/>
              </a:rPr>
              <a:t>здорового образа жиз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и приоритетными д.б. социально-экологическая и социально-культурная  компоненты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t01_01" descr=""/>
          <p:cNvPicPr/>
          <p:nvPr/>
        </p:nvPicPr>
        <p:blipFill>
          <a:blip r:embed="rId2"/>
          <a:stretch/>
        </p:blipFill>
        <p:spPr>
          <a:xfrm>
            <a:off x="1874880" y="1052640"/>
            <a:ext cx="5742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3120" y="508428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137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ветив многообразие форм и методов групповой работы,  рассмотрев  механизмы влияния группы на личность  можно сделать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выв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что такое влияние неоценимо для саморазвития  в период юности, оказывает  благотворное влияние на формирование и развитие личности, способствует удовлетворению насущных потребностей современной молодежи, решению актуальных возрастных задач и преодолению проблем, но </a:t>
            </a:r>
            <a:r>
              <a:rPr b="1" i="1" lang="en-US" sz="2200" spc="-1" strike="noStrike">
                <a:solidFill>
                  <a:srgbClr val="996600"/>
                </a:solidFill>
                <a:latin typeface="Arial"/>
              </a:rPr>
              <a:t>человек должен быть активе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 своем стремлении к творческому самовыражению, самосовершенствованию и тогда все будет хорош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641680" y="115560"/>
            <a:ext cx="689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Мы должны создать для нашей молодежи такую социальную программу,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при которой они бы оставались самими собой и которая приносила бы им удовлетворение. Такая общественная деятельность способствовала бы укреплению  душевного здоровья личности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Р. Мэ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9440" y="1052280"/>
            <a:ext cx="8750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24cb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сновополагающий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В возникающих проблемах виноваты мы сами или окружающий нас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24cb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Проблемны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24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Какие проблемы возникают у современной молодежи и способы их реш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24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Как относится современная молодежь к общечеловеческим ценност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24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Какие факторы влияют на формирование здорового образа жиз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115640" y="3716280"/>
            <a:ext cx="7343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 являюсь членом туристического клуба «Экстрим», увлекаюсь экстремальными видами спорта, поэтому хотел бы обратиться к сверстникам: «Ударим спортом по наркомании, табакокурению и пьянству!!!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ех, кто еще не сделал свой выбор, хочу представить сайт нашего клуба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«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Экстрим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1476360" y="476280"/>
            <a:ext cx="4299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5640" y="277920"/>
            <a:ext cx="862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Список использованных материалов при создании проекта 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&lt;Проблемы современной молодежи &gt; &lt;Салова Максима Витальевича&gt;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85280" y="1196640"/>
            <a:ext cx="8750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b812f"/>
                </a:solidFill>
                <a:latin typeface="Arial"/>
              </a:rPr>
              <a:t>Текстовые материал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нтернет, ресурсы Список веб-адресов, необходимых для проведения проекта в учебном процесс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500" spc="-1" strike="noStrike">
                <a:solidFill>
                  <a:srgbClr val="000000"/>
                </a:solidFill>
                <a:latin typeface="Arial"/>
              </a:rPr>
              <a:t>http://www.nasha-strana.ru/activity/?a=124&amp;s=20&amp;p=4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Социологический опрос молодежи в г.Уссурийск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5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nkozlov.ru/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Групповые методики психологического воздейств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500" spc="-1" strike="noStrike">
                <a:solidFill>
                  <a:srgbClr val="000000"/>
                </a:solidFill>
                <a:latin typeface="Arial"/>
              </a:rPr>
              <a:t>http://www.infoschool.narod.ru/fhotoshopbook/index.htm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Учебник по фотошо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500" spc="-1" strike="noStrike">
                <a:solidFill>
                  <a:srgbClr val="000000"/>
                </a:solidFill>
                <a:latin typeface="Arial"/>
              </a:rPr>
              <a:t>http://strateg.novo-sibirsk.ru/2004/invest/target/t01.htm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грамма Здоровый горо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b812f"/>
                </a:solidFill>
                <a:latin typeface="Arial"/>
              </a:rPr>
              <a:t>Материалы на печатной осно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.Ю. Монахов и др. Учимся проектировать на компьютере практикум Москв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.Д. Угринович Исследование информационных моделей Элективный кур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ндреева Г.М. Социальная психология. М., </a:t>
            </a:r>
            <a:r>
              <a:rPr b="0" lang="en" sz="1500" spc="-1" strike="noStrike">
                <a:solidFill>
                  <a:srgbClr val="000000"/>
                </a:solidFill>
                <a:latin typeface="Arial"/>
              </a:rPr>
              <a:t>199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243040" y="1773000"/>
            <a:ext cx="421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В настоящее время объектом пристального внимания различных общественных институтов и организаций стала проблема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социальной адаптации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 молодежи в условиях общественного и духовного кризиса. Это закономерно, поскольку именно состояние молодежи обуславливает будущее общества, перспективу его развития. Воспитание подрастающего поколения должно, с одной стороны, отвечать потребностям общества, с другой – учитывать интересы личност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649440" y="549360"/>
            <a:ext cx="436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49440" y="2060640"/>
            <a:ext cx="48243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98600" y="1628280"/>
            <a:ext cx="8748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высокая коммуникативная культур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которая включает в себя умение создать свой имидж и навык самопрезентации, умение сотрудничать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формирование индивидуального образа жизн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на основе наиболее полной реализации интересов, склонностей, способностей, творческого потенциала лич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деловые качеств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в том числе ответственность, предприимчивость, умение выходить из затруднительных жизненных ситуаций, быстро адаптироваться в изменяющихся условиях нынешней реаль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внутренняя устойчивость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которая предполагает способность выдерживать высокие морально-психологические нагрузки, характерные для нашего нестабильного периода, толерантность к стресс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высокая духовная и нравственная культур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ак фундамент для формирования вышеперечисленных качеств, ибо игнорирование этого аспекта ведет к деградации как отдельной личности, так и общества в цел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9440" y="40464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же </a:t>
            </a: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личностные качества необходи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еловеку в современных условиях, чтобы эффективно строить свою жизнь, чтобы занять достойное место в постоянно меняющемся мире? Это прежде все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85280" y="475920"/>
            <a:ext cx="8750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лодежь на определенном этапе жизни, в период взросления, испытывает потребность во вхождении в сообщества, основанные на общих ценностях, которые переводятся во внутренний план и используются как материал для саморазвит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одя итог вышесказанному, сформулируем  </a:t>
            </a:r>
            <a:r>
              <a:rPr b="1" i="1" lang="ru-RU" sz="3700" spc="-1" strike="noStrike">
                <a:solidFill>
                  <a:srgbClr val="0d24cb"/>
                </a:solidFill>
                <a:latin typeface="Arial"/>
              </a:rPr>
              <a:t>гипотезу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спользование групповых методов психолого-педагогического воздействия позволяет сформировать в специально организованном молодежном микросоциуме (клубе) благоприятную воспитательную среду.    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73120" y="549360"/>
            <a:ext cx="88819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ъектом исследования являются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групповые методы психологического воздейств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 работе с молодежь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выявление роли групповых методов воздействия в создании благоприятной для личностного развития воспитательной сре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ть эффективность использования групповых методов воздействия на  формирование личности в юношеском возраст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следовать отношение молодежи к общечеловеческим ценност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02800" y="1196640"/>
            <a:ext cx="8750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Методы исследовани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нтент – анализ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ение и самонаблюдени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рос (анкетирование, беседа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стировани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тод логического анализа и интерпретаци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тод статистической обработки данных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ловая графи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750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Garamond"/>
              </a:rPr>
              <a:t>Результаты социологического опроса в г.Уссурийске август 2005г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1125360"/>
          <a:ext cx="7058160" cy="473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125360"/>
                    <a:ext cx="7058160" cy="47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7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00"/>
                </a:solidFill>
                <a:latin typeface="Garamond"/>
              </a:rPr>
              <a:t>Среди учащихся 11 классов было проведено анкетирование для того, чтобы точно выяснить интересы и проблемы молодежи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4360" y="1341360"/>
          <a:ext cx="8346960" cy="3314880"/>
        </p:xfrm>
        <a:graphic>
          <a:graphicData uri="http://schemas.openxmlformats.org/drawingml/2006/table">
            <a:tbl>
              <a:tblPr/>
              <a:tblGrid>
                <a:gridCol w="4968720"/>
                <a:gridCol w="2094120"/>
                <a:gridCol w="12841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отв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ше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ете ли вы, что получение высшего образования является непременным условием для достижения успеха в жизни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о ответи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жизненные цели, по вашему мнению, чаще всего ставит перед собой современная молодеж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тижная рабо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, по вашему мнению, мешает современной молодежи достичь поставленных целей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финанс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преимущества, по вашему мнению, дает молодежи получение высшего образования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828720" y="4941720"/>
            <a:ext cx="857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 основании анкетирования можно сказать, что основной целью современной молодежи является получение престижной работы, считая получение образования одной из составляющих в достижении жизненного успех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9T06:48:53Z</dcterms:created>
  <dc:creator>ЛАРИСА</dc:creator>
  <dc:description/>
  <dc:language>en-US</dc:language>
  <cp:lastModifiedBy>МАКСИМ</cp:lastModifiedBy>
  <dcterms:modified xsi:type="dcterms:W3CDTF">2006-01-18T12:32:28Z</dcterms:modified>
  <cp:revision>54</cp:revision>
  <dc:subject/>
  <dc:title>Проблемы современной молодежи и пути их решения.</dc:title>
</cp:coreProperties>
</file>