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13D-96A5-4EA1-88A4-058F9F9D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99E-6970-4C9F-8964-1296CCAF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BBC-F4C6-4EF8-A022-F68BC277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53A-D9A4-4860-A981-1D0D4956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E2A4-DE3A-41E4-ADCD-739C5334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AB6C-3F89-4C68-9387-29C3A526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475E-420A-476D-8530-5550386B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8C51-DA83-450A-B1E8-2E58840D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A08F-4480-4AF5-B0A2-50CA6FFB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E9FB-668B-48E4-A7F3-45FF5ACD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C11C-9EA9-4440-869F-787972B9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7AE-690E-40BA-A95B-21FEB170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8D18-3119-413F-ABAE-EE06AE16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8478-1DE3-4388-AD21-A7F8CEC5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5A6F-34B0-4690-9244-D878F3F3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B1C6-D03B-4CE7-987F-887E43AC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C4A9-E140-4411-9D58-26F8839D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B1C-483F-4F00-82CE-4DD5A43F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F6C-10FA-407E-BE6B-130F6B48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D00-CF04-41C7-97E6-8B93A715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524-ED98-4756-97CE-0EECDA0A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C6D-A1AD-4F21-A76C-3A0FC072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EBA-019F-4121-8776-75423AB9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010-ECA1-415E-B578-3BE95F78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8BFA-C109-408D-953A-45D828CE181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9CDB-1B20-4EB8-93E2-FB3A318F463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1600200"/>
            <a:ext cx="6629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ппаратные средств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ерсонального компьютер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915160" y="0"/>
            <a:ext cx="3228840" cy="2368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6078600"/>
            <a:ext cx="6172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Белкина Екатерина Виталь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МОУ «Бурлинская С(п)ОШ № 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2666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Шины расширения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247" t="6094" r="10734" b="6094"/>
          <a:stretch/>
        </p:blipFill>
        <p:spPr>
          <a:xfrm>
            <a:off x="3276720" y="0"/>
            <a:ext cx="56196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438280" y="3962520"/>
            <a:ext cx="25146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8098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I Express X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3352680"/>
            <a:ext cx="243828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124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I Express X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5562720"/>
            <a:ext cx="21337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5334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2666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Внутренние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интерфейсы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8247" t="6094" r="10734" b="6094"/>
          <a:stretch/>
        </p:blipFill>
        <p:spPr>
          <a:xfrm>
            <a:off x="3276720" y="0"/>
            <a:ext cx="56196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438280" y="3962520"/>
            <a:ext cx="632484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3581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3352680"/>
            <a:ext cx="632448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71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2438640" cy="4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арты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асширени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4920" y="1306440"/>
            <a:ext cx="3047760" cy="174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" y="28954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ая к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3733560" cy="2479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952880" y="2909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438280" y="3468600"/>
            <a:ext cx="2743200" cy="1941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52680" y="534816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тю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Внешние интерфейсы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1477800" cy="4419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H="1">
            <a:off x="1599840" y="160020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1295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18960" y="2286000"/>
            <a:ext cx="2895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19810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599840" y="335268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048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(RJ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295280" y="403848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ire (IEEE139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066320" y="4114440"/>
            <a:ext cx="29718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4191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52480" y="53341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50292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ъемы звуковой ка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599840" y="274320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Устройства хранения информации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0" y="990720"/>
            <a:ext cx="3505320" cy="2209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34120" y="3124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од компакт-д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2819520" cy="2114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943600" y="5715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 ри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 rot="876000">
            <a:off x="380520" y="1066680"/>
            <a:ext cx="3124440" cy="2870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43828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сткий ди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2171880" cy="1515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19320" y="5562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лоппи диск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380880" y="685800"/>
            <a:ext cx="8228520" cy="4529160"/>
            <a:chOff x="380880" y="685800"/>
            <a:chExt cx="8228520" cy="4529160"/>
          </a:xfrm>
        </p:grpSpPr>
        <p:cxnSp>
          <p:nvCxnSpPr>
            <p:cNvPr id="177" name="_s138244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149800" y="1842120"/>
              <a:ext cx="906480" cy="2215440"/>
            </a:xfrm>
            <a:prstGeom prst="bentConnector3">
              <a:avLst>
                <a:gd name="adj1" fmla="val 12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38245"/>
            <p:cNvCxnSpPr>
              <a:stCxn id="181" idx="0"/>
              <a:endCxn id="179" idx="2"/>
            </p:cNvCxnSpPr>
            <p:nvPr/>
          </p:nvCxnSpPr>
          <p:spPr>
            <a:xfrm flipH="1" flipV="1" rot="5400000">
              <a:off x="2933640" y="1842120"/>
              <a:ext cx="906480" cy="2216160"/>
            </a:xfrm>
            <a:prstGeom prst="bentConnector3">
              <a:avLst>
                <a:gd name="adj1" fmla="val 12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38246"/>
            <p:cNvSpPr/>
            <p:nvPr/>
          </p:nvSpPr>
          <p:spPr>
            <a:xfrm>
              <a:off x="2596680" y="685800"/>
              <a:ext cx="3797640" cy="181152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300" spc="-1" strike="noStrike">
                  <a:solidFill>
                    <a:srgbClr val="ffffff"/>
                  </a:solidFill>
                  <a:latin typeface="Arial"/>
                </a:rPr>
                <a:t>Видеосистем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300" spc="-1" strike="noStrike">
                  <a:solidFill>
                    <a:srgbClr val="ffffff"/>
                  </a:solidFill>
                  <a:latin typeface="Arial"/>
                </a:rPr>
                <a:t>компьютер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38247"/>
            <p:cNvSpPr/>
            <p:nvPr/>
          </p:nvSpPr>
          <p:spPr>
            <a:xfrm>
              <a:off x="380880" y="3403440"/>
              <a:ext cx="3797640" cy="181152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ffff"/>
                  </a:solidFill>
                  <a:latin typeface="Arial"/>
                </a:rPr>
                <a:t>монитор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38248"/>
            <p:cNvSpPr/>
            <p:nvPr/>
          </p:nvSpPr>
          <p:spPr>
            <a:xfrm>
              <a:off x="4811760" y="3403440"/>
              <a:ext cx="3797640" cy="181152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ffff"/>
                  </a:solidFill>
                  <a:latin typeface="Arial"/>
                </a:rPr>
                <a:t>видеокарт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Мони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123720" y="12193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11430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9810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электронно-лучевой труб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19810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идкокристалл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2806560" cy="2730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1000" y="3094200"/>
            <a:ext cx="306720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495680" y="3124080"/>
            <a:ext cx="4610160" cy="28958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Видеокарта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64796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спользуется          для обработки видеоинформации     и ее отображения     на экране мони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029200" y="380880"/>
            <a:ext cx="3809880" cy="30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клавишное устройство    для управления работой компьютера       и ввода  информаци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лавиатура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00600" y="1066680"/>
            <a:ext cx="3213000" cy="1866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3505320" cy="21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казательное устройство вв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Мышь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124080" y="3429000"/>
            <a:ext cx="35816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80880" y="685800"/>
            <a:ext cx="8228520" cy="4529160"/>
            <a:chOff x="380880" y="685800"/>
            <a:chExt cx="8228520" cy="4529160"/>
          </a:xfrm>
        </p:grpSpPr>
        <p:cxnSp>
          <p:nvCxnSpPr>
            <p:cNvPr id="90" name="_s119832"/>
            <p:cNvCxnSpPr>
              <a:stCxn id="91" idx="0"/>
              <a:endCxn id="92" idx="2"/>
            </p:cNvCxnSpPr>
            <p:nvPr/>
          </p:nvCxnSpPr>
          <p:spPr>
            <a:xfrm flipV="1" rot="16200000">
              <a:off x="5149800" y="1842120"/>
              <a:ext cx="906480" cy="2215440"/>
            </a:xfrm>
            <a:prstGeom prst="bentConnector3">
              <a:avLst>
                <a:gd name="adj1" fmla="val 12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19830"/>
            <p:cNvCxnSpPr>
              <a:stCxn id="94" idx="0"/>
              <a:endCxn id="92" idx="2"/>
            </p:cNvCxnSpPr>
            <p:nvPr/>
          </p:nvCxnSpPr>
          <p:spPr>
            <a:xfrm flipH="1" flipV="1" rot="5400000">
              <a:off x="2933640" y="1842120"/>
              <a:ext cx="906480" cy="2216160"/>
            </a:xfrm>
            <a:prstGeom prst="bentConnector3">
              <a:avLst>
                <a:gd name="adj1" fmla="val 12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19826"/>
            <p:cNvSpPr/>
            <p:nvPr/>
          </p:nvSpPr>
          <p:spPr>
            <a:xfrm>
              <a:off x="2596680" y="685800"/>
              <a:ext cx="3797640" cy="181152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Персональны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компьюте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19827"/>
            <p:cNvSpPr/>
            <p:nvPr/>
          </p:nvSpPr>
          <p:spPr>
            <a:xfrm>
              <a:off x="380880" y="3403440"/>
              <a:ext cx="3797640" cy="181152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аппаратн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средст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19829"/>
            <p:cNvSpPr/>
            <p:nvPr/>
          </p:nvSpPr>
          <p:spPr>
            <a:xfrm>
              <a:off x="4811760" y="3403440"/>
              <a:ext cx="3797640" cy="181152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программное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обеспеч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Манипуляторы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2666880" cy="2170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248520" y="1143000"/>
            <a:ext cx="2273040" cy="2352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886200" y="2438280"/>
            <a:ext cx="27511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енсорные устройства ввод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2057400" cy="1544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3962520" cy="2600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434340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Аудиосистема компьютер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198108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676520" y="1066680"/>
            <a:ext cx="1952640" cy="3210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799240" y="1219320"/>
            <a:ext cx="28875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Базовая конфигурация компьютер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системный блок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мышь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ой блок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ем находятся внутренние устр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нему подключаются внешние устр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3843360" cy="5234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истемный блок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оставные части системного блок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Корп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047760" y="182880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182880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514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ризонта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24382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тика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248520" y="3200400"/>
            <a:ext cx="1866960" cy="2616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32763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лок питан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038480" cy="4038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343400" y="2895480"/>
            <a:ext cx="4610160" cy="32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оцессор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правляет всеми ресурсами компьютера и выполняемыми программ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Характеристи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ирма-производител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рхитекту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товая частот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яде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ем кэш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3829320" cy="2489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733920" y="1066680"/>
            <a:ext cx="2286000" cy="2343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095880" y="228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629400" y="2711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ер процесс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772400" cy="6875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0" y="35053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743200"/>
            <a:ext cx="2361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2971800"/>
            <a:ext cx="396216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пс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68580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шние интерфей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650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Материнская п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Оперативная память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е загружаются запускаемые программы  и данные, с которыми работают эти программы в настоящий момен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Характеристи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п памяти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DR SDRAM, DDR2 SDRAM, DDR3 SDRA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-фактор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о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00600" y="1066680"/>
            <a:ext cx="3936960" cy="2395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3936960" cy="239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1:42:51Z</dcterms:created>
  <dc:creator>катя</dc:creator>
  <dc:description/>
  <dc:language>en-US</dc:language>
  <cp:lastModifiedBy>КарМаН</cp:lastModifiedBy>
  <dcterms:modified xsi:type="dcterms:W3CDTF">2010-11-30T11:23:3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