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218-8EB1-4EFC-8DAF-45D0F4A1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AC0-BAC9-43FB-BB7F-EBA7645B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805-A730-4B50-930F-3DA152F1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9B2-68AE-4D23-80A2-F7BCA7F0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C86B-B4D8-4CF8-BFFA-468DB2DE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0A81-B19B-4C94-9176-216E97F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3A54-69F5-43E7-B305-10DB1DD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A62F-DF3E-43BF-A7E8-A7B99CB6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FDB-4407-4E5B-B419-7805A4E8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8E2B-121F-473E-B41B-97401757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C29F-AEE1-465E-A34F-8C6BF83C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42D-5AA5-4AE6-9C29-0438EA9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FBF5-DD29-4115-99E2-61F39BC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C465-148D-478E-AFD3-78BAB36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A80C-5707-45E1-A2D8-27443EF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BD73-C2D2-43F8-9576-483D8572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D7D1-44A1-466F-9BAB-5B8ECC44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7C3-3712-4E95-A510-870C6C4C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EC7-CB7B-4217-AA20-F8E87C45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D55-FE35-4CE9-8CFB-5DDD7A7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BBD-9E8E-4D5A-A394-C230C01A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BAA-1877-417A-AA96-BCA2D51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84F-BBCE-42C6-AAAB-35F11552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789-DF99-4292-A2AC-0E05663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A4F-936E-49DF-AF15-7754C76C927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2E9-387B-49B3-A510-43E00CC7294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16002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ппаратные средств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рсонального компьюте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915160" y="0"/>
            <a:ext cx="3228840" cy="236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607860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Белкина Екатерина Вита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МОУ «Бурлинская С(п)ОШ № 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666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Шины расширения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247" t="6094" r="10734" b="6094"/>
          <a:stretch/>
        </p:blipFill>
        <p:spPr>
          <a:xfrm>
            <a:off x="327672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38280" y="3962520"/>
            <a:ext cx="25146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Express 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352680"/>
            <a:ext cx="243828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Express 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562720"/>
            <a:ext cx="2133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666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Внутренние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интерфейс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8247" t="6094" r="10734" b="6094"/>
          <a:stretch/>
        </p:blipFill>
        <p:spPr>
          <a:xfrm>
            <a:off x="327672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38280" y="3962520"/>
            <a:ext cx="632484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581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352680"/>
            <a:ext cx="63244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43864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арт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сширени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1306440"/>
            <a:ext cx="3047760" cy="174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2895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733560" cy="2479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952880" y="29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438280" y="3468600"/>
            <a:ext cx="2743200" cy="1941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53481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тю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нешние интерфейс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1477800" cy="441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>
            <a:off x="1599840" y="16002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295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8960" y="2286000"/>
            <a:ext cx="2895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981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599840" y="335268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048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(RJ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295280" y="403848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ire (IEEE13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066320" y="4114440"/>
            <a:ext cx="2971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4191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52480" y="5334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029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ъемы звуковой ка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99840" y="27432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Устройства хранения информац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505320" cy="2209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41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 компакт-д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 р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rot="876000">
            <a:off x="380520" y="1066680"/>
            <a:ext cx="3124440" cy="2870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3828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171880" cy="1515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5562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оппи диск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80880" y="685800"/>
            <a:ext cx="8228520" cy="4529160"/>
            <a:chOff x="380880" y="685800"/>
            <a:chExt cx="8228520" cy="4529160"/>
          </a:xfrm>
        </p:grpSpPr>
        <p:cxnSp>
          <p:nvCxnSpPr>
            <p:cNvPr id="177" name="_s138244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149800" y="1842120"/>
              <a:ext cx="906480" cy="221544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38245"/>
            <p:cNvCxnSpPr>
              <a:stCxn id="181" idx="0"/>
              <a:endCxn id="179" idx="2"/>
            </p:cNvCxnSpPr>
            <p:nvPr/>
          </p:nvCxnSpPr>
          <p:spPr>
            <a:xfrm flipH="1" flipV="1" rot="5400000">
              <a:off x="2933640" y="1842120"/>
              <a:ext cx="906480" cy="221616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38246"/>
            <p:cNvSpPr/>
            <p:nvPr/>
          </p:nvSpPr>
          <p:spPr>
            <a:xfrm>
              <a:off x="2596680" y="68580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ffffff"/>
                  </a:solidFill>
                  <a:latin typeface="Arial"/>
                </a:rPr>
                <a:t>Видеосистем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ffffff"/>
                  </a:solidFill>
                  <a:latin typeface="Arial"/>
                </a:rPr>
                <a:t>компьютер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38247"/>
            <p:cNvSpPr/>
            <p:nvPr/>
          </p:nvSpPr>
          <p:spPr>
            <a:xfrm>
              <a:off x="38088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ffff"/>
                  </a:solidFill>
                  <a:latin typeface="Arial"/>
                </a:rPr>
                <a:t>монитор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8248"/>
            <p:cNvSpPr/>
            <p:nvPr/>
          </p:nvSpPr>
          <p:spPr>
            <a:xfrm>
              <a:off x="481176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ffff"/>
                  </a:solidFill>
                  <a:latin typeface="Arial"/>
                </a:rPr>
                <a:t>видеокарт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Мони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123720" y="12193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143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981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электронно-лучевой труб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1981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дкокристалл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806560" cy="2730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1000" y="3094200"/>
            <a:ext cx="306720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4610160" cy="2895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идеокарт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64796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ьзуется          для обработки видеоинформации     и ее отображения     на экране мони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809880" cy="30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лавишное устройство    для управления работой компьютера       и ввода  информаци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лавиатур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213000" cy="1866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5053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казательное устройство вв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ышь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80880" y="685800"/>
            <a:ext cx="8228520" cy="4529160"/>
            <a:chOff x="380880" y="685800"/>
            <a:chExt cx="8228520" cy="4529160"/>
          </a:xfrm>
        </p:grpSpPr>
        <p:cxnSp>
          <p:nvCxnSpPr>
            <p:cNvPr id="90" name="_s119832"/>
            <p:cNvCxnSpPr>
              <a:stCxn id="91" idx="0"/>
              <a:endCxn id="92" idx="2"/>
            </p:cNvCxnSpPr>
            <p:nvPr/>
          </p:nvCxnSpPr>
          <p:spPr>
            <a:xfrm flipV="1" rot="16200000">
              <a:off x="5149800" y="1842120"/>
              <a:ext cx="906480" cy="221544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19830"/>
            <p:cNvCxnSpPr>
              <a:stCxn id="94" idx="0"/>
              <a:endCxn id="92" idx="2"/>
            </p:cNvCxnSpPr>
            <p:nvPr/>
          </p:nvCxnSpPr>
          <p:spPr>
            <a:xfrm flipH="1" flipV="1" rot="5400000">
              <a:off x="2933640" y="1842120"/>
              <a:ext cx="906480" cy="2216160"/>
            </a:xfrm>
            <a:prstGeom prst="bentConnector3">
              <a:avLst>
                <a:gd name="adj1" fmla="val 12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19826"/>
            <p:cNvSpPr/>
            <p:nvPr/>
          </p:nvSpPr>
          <p:spPr>
            <a:xfrm>
              <a:off x="2596680" y="68580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Персональны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компьюте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19827"/>
            <p:cNvSpPr/>
            <p:nvPr/>
          </p:nvSpPr>
          <p:spPr>
            <a:xfrm>
              <a:off x="38088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аппарат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сред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19829"/>
            <p:cNvSpPr/>
            <p:nvPr/>
          </p:nvSpPr>
          <p:spPr>
            <a:xfrm>
              <a:off x="4811760" y="3403440"/>
              <a:ext cx="3797640" cy="181152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программно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обеспеч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анипулятор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666880" cy="2170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273040" cy="2352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886200" y="2438280"/>
            <a:ext cx="2751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енсорные устройства ввод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057400" cy="1544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962520" cy="2600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43434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Аудиосистема компьютер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76520" y="1066680"/>
            <a:ext cx="1952640" cy="3210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99240" y="1219320"/>
            <a:ext cx="2887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Базовая конфигурация компьютер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ой блок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м находятся внутренни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ему подключаются внешни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43360" cy="5234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истемный блок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ставные части системного блок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Корп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47760" y="18288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8288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514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изонт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тик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1866960" cy="26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2763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лок пита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461016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оцессо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яет всеми ресурсами компьютера и выполняемыми программ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Характеристи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рма-производител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товая часто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яд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м кэш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3829320" cy="2489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2286000" cy="234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5880" y="228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29400" y="2711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ер процес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87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0" y="35053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74320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971800"/>
            <a:ext cx="396216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пс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685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 интерфей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650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Материнская 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перативная памят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е загружаются запускаемые программы  и данные, с которыми работают эти программы в настоящий момен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Характерист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п памяти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DR SDRAM, DDR2 SDRAM, DDR3 SDRA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-факто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936960" cy="239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936960" cy="239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1:42:51Z</dcterms:created>
  <dc:creator>катя</dc:creator>
  <dc:description/>
  <dc:language>en-US</dc:language>
  <cp:lastModifiedBy>КарМаН</cp:lastModifiedBy>
  <dcterms:modified xsi:type="dcterms:W3CDTF">2010-11-30T11:23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