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DF4-461F-4DB1-B1C8-E946CDDB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720-75EC-420E-88EA-AB9D9ECD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0E4-73E1-47BF-96F6-565621CA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C64-5FBB-482F-B4A4-44A0200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E589-940A-4B22-83DD-5A6B2F98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1E70-B84D-481D-9BED-C15E594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9E2F-82FE-4B89-A9EF-552CC97C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098-CD27-44CD-9D45-90AF6B66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7FA1-F9D0-41D0-A288-BB0DDC91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D67-417D-4DCF-93B3-1B5EF499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FEFB-5120-4BCD-BD08-8BAC18E9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5BA-FA4B-4084-AD7A-1792F9AC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ED3-1541-40F9-BA9E-2C2EC09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5C6E-014F-45D5-899F-C6C52BB6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5C2-2AA0-4AF8-AE4C-ED50B0E1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8D4E-90CF-47EA-8E3C-EB3D34D8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E69-E875-4965-9DAF-719D1D02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B72C-9071-4591-95C7-6CE6B0E2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E456-4126-477B-9CFA-F9DF538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BC5A-84D4-4800-9A12-28DCDF3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15DC-51BC-4F34-A8AB-06BD872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1BC1-1F00-45E3-B7AC-E6D6B60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306-4277-44FE-8413-F83CB03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3556-1137-47A8-B43E-BAD62B6E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BFDB-AD34-454A-A6BA-C9387DB1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2490-2956-4CBE-AB9D-82583395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8AF9-6E66-4037-A8BC-0E737968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2817-DCAD-40F7-B7A9-FC14EAAF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5E52-BCE4-4D54-8021-9ACBE7CF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0EB7A-65B2-41CF-A7B9-A59906A5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3ECB-CB8E-4EAE-A602-BCB879B8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F713-F105-4B8D-BB7D-DC6FAA66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5A78-5F8A-4A4C-8DA2-09EC9CD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CF8-E349-4F26-AF14-F3DDDF58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41B0-C878-4FD7-894D-7C5167E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EF68-133F-4E0A-8727-696ABF94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7B9B2-1752-4EC1-956F-F8253D47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3805-3489-45BE-81A7-1299AD3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4295-3C17-493B-B530-0C8AAE2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F1C5-DD8C-4C88-BFD9-30EF0514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BE1C7-1E7B-492A-B23F-A2E899F5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3CDBF-50D1-4968-8972-E917BBCB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DEC5-802E-4A67-B6E0-1AFAAFC2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B5CF-AD28-4738-9073-27F58091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A6E-A77F-4794-A279-3A6AE971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E7B17-B3B6-4E3A-8DA0-03D51271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8A55-7900-4D07-8C76-325E0C0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5761-BEF6-4BB7-A22C-43E7281E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18180-508B-4DA1-94E1-5BA6F1B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492DF-663F-4F5F-BE15-60A9D05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8C65-3825-4A38-B2B7-B808BB9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896A-45E1-4F10-BA79-F1FA87D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BDB4-5183-412D-A873-BBA7B63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7298-E6B9-4959-B853-D8B6DE65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DC4F-4215-41DC-91D5-239DFE6C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812-4BA7-47F4-84DD-F31CA57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B009-A9ED-429F-B96E-3E76E7FA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18E56-6CBA-4C08-99CB-98D2A507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74C40-57EB-417C-9CCB-D0B2F4E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D074F-DDF6-4893-AEAE-A64B2C92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A5A7-DC6C-4C17-906E-8E3C10F5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8A8F-A82D-47D7-99E5-9DCCA6D7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89FB7-C31C-49AF-9EC6-FD0404B3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0049-EB69-4AA7-83DB-9DDCD9E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6C89E-7CAB-4CE2-B73A-1F82F91A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8910D-7361-4A43-ABCC-40D4355A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122-FB41-4643-AFDF-B955757F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7B0B-CCB9-488F-8A0F-1E598945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FD559-E6AA-443E-A426-3579CFE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8480-5A63-470C-9A83-D7010B36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478-02CD-4182-8A57-389A652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F88-C9B2-409A-B710-A335097E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BB1-6481-4D4F-8F7F-E882FF0704D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54F-7BBA-4988-956C-A55541180A3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F383-C42E-4A6F-8EAC-23A5975BB9B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ED33-BE6F-4F4D-9912-3D975FAB485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C486-5C4E-4AB0-8689-89CDF7815DA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4A5-54A9-4C2C-822A-B8CA46CB00B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58760" y="974880"/>
            <a:ext cx="866124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278604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ИНФОРМАТИКА 1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156360" y="5013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бота учителя информатики Мишкиной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Большеаксинская средняя общеобразовательная школа» Дрожжановского муниципальн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347840" y="328680"/>
            <a:ext cx="5699160" cy="11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28760" y="1357200"/>
            <a:ext cx="76435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broadcasting.ru/wiki/index.php?title=%D0%A3%D1%81%D1%82%D1%80%D0%BE%D0%B9%D1%81%D1%82%D0%B2%D0%BE_%D0%B2%D0%B2%D0%BE%D0%B4%D0%B0_%D0%B3%D1%80%D0%B0%D1%84%D0%B8%D1%87%D0%B5%D1%81%D0%BA%D0%BE%D0%B9_%D0%B8%D0%BD%D1%84%D0%BE%D1%80%D0%BC%D0%B0%D1%86%D0%B8%D0%B8</a:t>
            </a:r>
            <a:endParaRPr b="0" lang="en-US" sz="1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school-collection.edu.ru/catalog/rubr/9916334c-3915-4f52-965d-f33da2f8638e/82973/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Устройства ввода графической информации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ходят широкое распространение благодаря компактности и наглядности способа представления информации для человека.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По степени автоматизации поиска и выделения элементов изображения, устройства ввода графической информации делятся на 2 больших класса: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автоматические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полуавтоматически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85520" y="1071720"/>
            <a:ext cx="7429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полуавтоматических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устройствах ввода графической информации функции поиска и выделения элементов изображения возлагаются на человека, а преобразование координат считываемых точек выполняется автоматически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71320" y="428760"/>
            <a:ext cx="7500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В автоматических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устройствах процесс поиска и выделения элементов изображения осуществляется без участия человека. Эти устройства строятся либо по принципу сканирования всего изображения с последующей его обработкой и переводом из растровой формы представления в векторную , либо по принципу слежения за линией, обеспечивающей считывание графической информации, представленной в виде графиков, диаграмм, контурных изображений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0200"/>
            <a:ext cx="54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графические планшеты (дигитайзеры)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— для ручного ввода графической информации, изображений путем перемещения по планшету специального указателя (пера); при перемещении пера автоматически выполняется считывание координат его местоположения и ввод этих координат в компьютер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512640" y="420840"/>
            <a:ext cx="7126560" cy="115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канеры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(читающие автоматы) — для автоматического считывания с бумажных носителей и ввода в компьютер машинописных текстов, графиков, рисунков, чертежей;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4" name="Picture 25" descr="сканер_01"/>
          <p:cNvPicPr/>
          <p:nvPr/>
        </p:nvPicPr>
        <p:blipFill>
          <a:blip r:embed="rId2"/>
          <a:stretch/>
        </p:blipFill>
        <p:spPr>
          <a:xfrm>
            <a:off x="428760" y="4143240"/>
            <a:ext cx="3168360" cy="231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сканер"/>
          <p:cNvPicPr/>
          <p:nvPr/>
        </p:nvPicPr>
        <p:blipFill>
          <a:blip r:embed="rId3"/>
          <a:stretch/>
        </p:blipFill>
        <p:spPr>
          <a:xfrm>
            <a:off x="5000760" y="4071960"/>
            <a:ext cx="331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511280" y="122400"/>
            <a:ext cx="5518080" cy="113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57120" y="11426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устройства указания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(графические манипуляторы) — для ввода графической информации на экран монитора путем управления движением курсора по экрану с последующим кодированием координат курсора и вводом их в компьютер (джойстик, мышь, трекбол, световое перо)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8" name="Picture 18" descr="мышка_02"/>
          <p:cNvPicPr/>
          <p:nvPr/>
        </p:nvPicPr>
        <p:blipFill>
          <a:blip r:embed="rId2"/>
          <a:stretch/>
        </p:blipFill>
        <p:spPr>
          <a:xfrm>
            <a:off x="2000160" y="4572000"/>
            <a:ext cx="1857600" cy="1606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трекбол"/>
          <p:cNvPicPr/>
          <p:nvPr/>
        </p:nvPicPr>
        <p:blipFill>
          <a:blip r:embed="rId3"/>
          <a:stretch/>
        </p:blipFill>
        <p:spPr>
          <a:xfrm>
            <a:off x="4143240" y="4786200"/>
            <a:ext cx="1428840" cy="123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1214280" cy="1909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6215040" y="40719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429160" y="4000320"/>
            <a:ext cx="3286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ТАЧПАД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редставляет собой панель прямоугольной формы, чувствительную к перемещению пальца и нажатию пальцем, эквивалентное нажатию на кнопку мыши.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4" name="Picture 8" descr="тачпад_01"/>
          <p:cNvPicPr/>
          <p:nvPr/>
        </p:nvPicPr>
        <p:blipFill>
          <a:blip r:embed="rId2"/>
          <a:stretch/>
        </p:blipFill>
        <p:spPr>
          <a:xfrm>
            <a:off x="5572080" y="1357200"/>
            <a:ext cx="2641680" cy="24289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428760" y="1357200"/>
            <a:ext cx="392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енсорные экраны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— для ввода отдельных элементов изображения, программ или команд с полиэкрана дисплея в компьюте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2500200" y="40006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791352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Цифровые камеры позволяют получать видео-изображение и фотоснимки в цифровом формате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ля передачи «живого» видео по компьютерным сетям используются веб-камер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При наличии в ПК спецплаты (ТВ-тюнер) возможно просматривать телевизионные программ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9" name="Picture 12" descr="цифр"/>
          <p:cNvPicPr/>
          <p:nvPr/>
        </p:nvPicPr>
        <p:blipFill>
          <a:blip r:embed="rId2"/>
          <a:stretch/>
        </p:blipFill>
        <p:spPr>
          <a:xfrm>
            <a:off x="6286680" y="1643040"/>
            <a:ext cx="1944360" cy="170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вебкамера"/>
          <p:cNvPicPr/>
          <p:nvPr/>
        </p:nvPicPr>
        <p:blipFill>
          <a:blip r:embed="rId3"/>
          <a:stretch/>
        </p:blipFill>
        <p:spPr>
          <a:xfrm>
            <a:off x="6357960" y="3643200"/>
            <a:ext cx="2017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37Z</dcterms:created>
  <dc:creator>Ираида</dc:creator>
  <dc:description/>
  <dc:language>en-US</dc:language>
  <cp:lastModifiedBy>Ираида</cp:lastModifiedBy>
  <dcterms:modified xsi:type="dcterms:W3CDTF">2012-05-29T08:08:38Z</dcterms:modified>
  <cp:revision>9</cp:revision>
  <dc:subject/>
  <dc:title>Слайд 1</dc:title>
</cp:coreProperties>
</file>