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DEF-9CAE-4D67-8F28-7ECFDB2D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2F2-FC54-453B-993C-41200885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7BD-E790-4FC3-9C18-DA8659F6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B1E-53FF-4A9D-8B4D-1F5D990B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FB05-3023-41D8-AC91-8385EC8C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A455-85A1-41CE-881E-4FD9B9A6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8E70-65AC-4922-B2F6-EB13DD9D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670E-F0DD-4303-856D-C9405BF4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F0E7-0E4F-4AAD-9A58-0F00258B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2C29-760B-4D44-A5CB-42FC710B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539E-44B8-459D-A291-5103B3E2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DAC-2743-4361-BBA4-E1F4A8AC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252B-694B-4E73-A986-03167160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FF45-8235-4A65-A5F3-B4BAE7E8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CD78-2A84-4F4E-BD0D-73B94464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782E-59B0-498C-BD84-F690335E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8F28-B642-44CB-B0D6-E57BF7D4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D236-E0D4-4DB4-AB94-120C7DB4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955C-E8EC-4983-BA98-417FEC72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D41A7-C688-4A09-8C27-0B4D3939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ADCC-9AE8-422C-8AC0-9C04D27A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2DFA5-A657-4DD9-B3F6-93257879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B20-30B9-4388-BE31-154FE525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34FD-2825-4CB9-BFAB-D6AF68AD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F4AE6-B881-49DD-9B5D-124A9AC0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803B-681B-4800-B89E-0417DCFC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143A5-BE11-4F98-8EBB-67D5B78A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FA36-3090-401E-83CE-93CD6927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3D686-58A0-4D1F-A915-1BF0199C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0C5B4-8AD5-4E6E-844B-64110BEB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50902-6461-4175-8C1D-85F16AD0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19EE2-0579-4D54-AA30-58EC54E6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3C43D-2711-46BB-9812-AEE43AF1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787-75DD-4FE8-8291-2CBDE9A5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28B6-F7D3-4728-AEF3-D10CE350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80045-7B04-4E42-B0E5-227A079E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0B52B-CBA3-44D2-BC7B-7217F86B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57591-E321-4F9C-A780-15685F40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1D1C7-AA6B-4E40-85DC-F63A63C2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9C346-08DA-40F3-8030-998C0452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8E06B-2F9A-42E3-98BE-82E72B10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B094F-16A0-47D3-8D0F-DDC9A89A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02E31-93D6-4FD0-B23B-A6FE1DB6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22F1-D771-4006-A00A-6D82261B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51B-D0D3-40E2-B1C4-E0D76046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459DA-0C6D-4E23-8AD7-4AFDD34A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1AE6E-834E-4610-BECA-25D08769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42BD2-06E5-4475-9474-2F742811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75D96-4305-41F3-A5D5-B73FD121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48702-6D1B-4F12-88CF-FA178322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CE1BA-9A91-47DA-ADA8-1D1E395F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95CF3-283C-4E8E-AA6C-715DAB96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3920F-D903-4FCC-A9C3-FF8CAC52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578A5-D623-4C2D-AF08-48C8B30C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9DF63-D116-40DE-80FB-8B2C5B56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3B5-AF3C-4D25-9373-E87C3353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3AF34-7757-45B7-A52F-2FE00BCC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0CB53-B180-4A87-B117-E4CBB5FE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B77E7-83E9-4659-AF34-FF20B889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DAE67-0830-45AB-B073-1004C409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12837-6B1A-4B23-BDDC-6156545F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4AD97-98F3-40B8-9CE1-E65C3980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5DB96-8DB2-47D8-AA4B-9F0D2DB6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CF481-8907-402D-AC5D-3A1F5D09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90228-3BAB-4190-B8A5-1BD47A1B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9FDF0-63E4-4A2F-93BA-EC9936FF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C60-41C8-42A2-8825-6630C6D2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064BC-0DD6-41EB-8823-1333423A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F17A8-984E-43C8-8634-6B3DC8EC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ED93A-BDD6-48CD-83B8-5EE8A731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380-2D45-4CA1-AB94-2153F041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121-DCA6-4555-8C7C-C8EA8CF9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3CB7-D3A4-4B50-BB69-1D5C8F72FC02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CEE3-8B7C-4F7A-B71B-20841E4361E9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B590-7AFF-4202-A0AF-84EFF9F8E859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A250-1DBE-4C4C-80A9-EC9B9EC67EB1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8623-34EA-4EF6-92A0-05E8C7BE307D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7FCD-8539-4D33-92B1-28B65923EFDB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58760" y="974880"/>
            <a:ext cx="8661240" cy="16891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99640" y="4797360"/>
            <a:ext cx="278604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535f"/>
                </a:solidFill>
                <a:latin typeface="Franklin Gothic Book"/>
              </a:rPr>
              <a:t>ИНФОРМАТИКА 1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6156360" y="50133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абота учителя информатики Мишкиной И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90000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Большеаксинская средняя общеобразовательная школа» Дрожжановского муниципального района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1347840" y="328680"/>
            <a:ext cx="5699160" cy="1176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28760" y="1357200"/>
            <a:ext cx="764352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75f6d"/>
                </a:solidFill>
                <a:uFillTx/>
                <a:latin typeface="Franklin Gothic Book"/>
              </a:rPr>
              <a:t>http://broadcasting.ru/wiki/index.php?title=%D0%A3%D1%81%D1%82%D1%80%D0%BE%D0%B9%D1%81%D1%82%D0%B2%D0%BE_%D0%B2%D0%B2%D0%BE%D0%B4%D0%B0_%D0%B3%D1%80%D0%B0%D1%84%D0%B8%D1%87%D0%B5%D1%81%D0%BA%D0%BE%D0%B9_%D0%B8%D0%BD%D1%84%D0%BE%D1%80%D0%BC%D0%B0%D1%86%D0%B8%D0%B8</a:t>
            </a:r>
            <a:endParaRPr b="0" lang="en-US" sz="1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75f6d"/>
                </a:solidFill>
                <a:uFillTx/>
                <a:latin typeface="Franklin Gothic Book"/>
              </a:rPr>
              <a:t>http://school-collection.edu.ru/catalog/rubr/9916334c-3915-4f52-965d-f33da2f8638e/82973/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Устройства ввода графической информации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аходят широкое распространение благодаря компактности и наглядности способа представления информации для человека.</a:t>
            </a:r>
            <a:br>
              <a:rPr sz="3200"/>
            </a:b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По степени автоматизации поиска и выделения элементов изображения, устройства ввода графической информации делятся на 2 больших класса: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- 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автоматические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-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 полуавтоматические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85520" y="1071720"/>
            <a:ext cx="74293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В полуавтоматических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устройствах ввода графической информации функции поиска и выделения элементов изображения возлагаются на человека, а преобразование координат считываемых точек выполняется автоматически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71320" y="428760"/>
            <a:ext cx="7500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В автоматических 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устройствах процесс поиска и выделения элементов изображения осуществляется без участия человека. Эти устройства строятся либо по принципу сканирования всего изображения с последующей его обработкой и переводом из растровой формы представления в векторную , либо по принципу слежения за линией, обеспечивающей считывание графической информации, представленной в виде графиков, диаграмм, контурных изображений.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00200"/>
            <a:ext cx="5472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графические планшеты (дигитайзеры)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— для ручного ввода графической информации, изображений путем перемещения по планшету специального указателя (пера); при перемещении пера автоматически выполняется считывание координат его местоположения и ввод этих координат в компьютер; 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5572080" y="1857240"/>
            <a:ext cx="335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512640" y="420840"/>
            <a:ext cx="7126560" cy="1152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сканеры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(читающие автоматы) — для автоматического считывания с бумажных носителей и ввода в компьютер машинописных текстов, графиков, рисунков, чертежей;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4" name="Picture 25" descr="сканер_01"/>
          <p:cNvPicPr/>
          <p:nvPr/>
        </p:nvPicPr>
        <p:blipFill>
          <a:blip r:embed="rId2"/>
          <a:stretch/>
        </p:blipFill>
        <p:spPr>
          <a:xfrm>
            <a:off x="428760" y="4143240"/>
            <a:ext cx="3168360" cy="2311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4" descr="сканер"/>
          <p:cNvPicPr/>
          <p:nvPr/>
        </p:nvPicPr>
        <p:blipFill>
          <a:blip r:embed="rId3"/>
          <a:stretch/>
        </p:blipFill>
        <p:spPr>
          <a:xfrm>
            <a:off x="5000760" y="4071960"/>
            <a:ext cx="33130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511280" y="122400"/>
            <a:ext cx="5518080" cy="1139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57120" y="11426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устройства указания 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(графические манипуляторы) — для ввода графической информации на экран монитора путем управления движением курсора по экрану с последующим кодированием координат курсора и вводом их в компьютер (джойстик, мышь, трекбол, световое перо); 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8" name="Picture 18" descr="мышка_02"/>
          <p:cNvPicPr/>
          <p:nvPr/>
        </p:nvPicPr>
        <p:blipFill>
          <a:blip r:embed="rId2"/>
          <a:stretch/>
        </p:blipFill>
        <p:spPr>
          <a:xfrm>
            <a:off x="2000160" y="4572000"/>
            <a:ext cx="1857600" cy="1606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трекбол"/>
          <p:cNvPicPr/>
          <p:nvPr/>
        </p:nvPicPr>
        <p:blipFill>
          <a:blip r:embed="rId3"/>
          <a:stretch/>
        </p:blipFill>
        <p:spPr>
          <a:xfrm>
            <a:off x="4143240" y="4786200"/>
            <a:ext cx="1428840" cy="1239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4"/>
          <a:stretch/>
        </p:blipFill>
        <p:spPr>
          <a:xfrm>
            <a:off x="642960" y="4357800"/>
            <a:ext cx="1214280" cy="1909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5"/>
          <a:stretch/>
        </p:blipFill>
        <p:spPr>
          <a:xfrm>
            <a:off x="6215040" y="40719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4906800" cy="1152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5429160" y="4000320"/>
            <a:ext cx="3286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endParaRPr b="0" lang="en-US" sz="2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ТАЧПАД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       </a:t>
            </a: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Представляет собой панель прямоугольной формы, чувствительную к перемещению пальца и нажатию пальцем, эквивалентное нажатию на кнопку мыши.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34" name="Picture 8" descr="тачпад_01"/>
          <p:cNvPicPr/>
          <p:nvPr/>
        </p:nvPicPr>
        <p:blipFill>
          <a:blip r:embed="rId2"/>
          <a:stretch/>
        </p:blipFill>
        <p:spPr>
          <a:xfrm>
            <a:off x="5572080" y="1357200"/>
            <a:ext cx="2641680" cy="242892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6"/>
          <p:cNvSpPr/>
          <p:nvPr/>
        </p:nvSpPr>
        <p:spPr>
          <a:xfrm>
            <a:off x="428760" y="1357200"/>
            <a:ext cx="3929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сенсорные экраны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— для ввода отдельных элементов изображения, программ или команд с полиэкрана дисплея в компьютер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3"/>
          <a:stretch/>
        </p:blipFill>
        <p:spPr>
          <a:xfrm>
            <a:off x="2500200" y="4000680"/>
            <a:ext cx="2019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7913520" cy="1152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Цифровые камеры позволяют получать видео-изображение и фотоснимки в цифровом формате.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Для передачи «живого» видео по компьютерным сетям используются веб-камеры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При наличии в ПК спецплаты (ТВ-тюнер) возможно просматривать телевизионные программы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39" name="Picture 12" descr="цифр"/>
          <p:cNvPicPr/>
          <p:nvPr/>
        </p:nvPicPr>
        <p:blipFill>
          <a:blip r:embed="rId2"/>
          <a:stretch/>
        </p:blipFill>
        <p:spPr>
          <a:xfrm>
            <a:off x="6286680" y="1643040"/>
            <a:ext cx="1944360" cy="1709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вебкамера"/>
          <p:cNvPicPr/>
          <p:nvPr/>
        </p:nvPicPr>
        <p:blipFill>
          <a:blip r:embed="rId3"/>
          <a:stretch/>
        </p:blipFill>
        <p:spPr>
          <a:xfrm>
            <a:off x="6357960" y="3643200"/>
            <a:ext cx="2017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8:40:37Z</dcterms:created>
  <dc:creator>Ираида</dc:creator>
  <dc:description/>
  <dc:language>en-US</dc:language>
  <cp:lastModifiedBy>Ираида</cp:lastModifiedBy>
  <dcterms:modified xsi:type="dcterms:W3CDTF">2012-05-29T08:08:38Z</dcterms:modified>
  <cp:revision>9</cp:revision>
  <dc:subject/>
  <dc:title>Слайд 1</dc:title>
</cp:coreProperties>
</file>