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0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7D8-D2B5-4E8C-94BA-C4304EA2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A7B-93CA-483C-8F42-C1DBA9B1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D5E-FEF0-425D-BE4C-2329BB91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2CE-F26B-4D7F-B0B5-8E9CC190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6935-F5C9-495D-877C-F69052A5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EA8F-77A5-4155-BA31-2C6656B5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B81E-D3F4-4078-9DB1-11F95F58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BA0F-FD0C-42DE-98CF-BEE3F608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2AB3-DAF2-4E36-ABBD-13E8DE9E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E26D-BF72-4C1D-BF4A-D085EFC9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E19F-80EF-4C8A-8A75-E2180E46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8B9-7C8B-450C-A47C-A7EC619C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DA45-E654-41D1-847C-7FE3D9FF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7AFA-2BBC-4ECE-B641-729FACDD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4C2B-4B24-4206-BB8F-3757C526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44DD-D4FE-4F8A-87A4-67C80C1E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EEDC-ED93-472C-920D-3E38ECE3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4204A-439D-443C-A533-3B64447F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71DA8-DBEE-46E5-A534-A409AEDF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7E64B-C257-480B-8C0D-ABF31A9A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E15DB-110D-4006-94DC-EE801859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E45A8-E1F3-420C-A68D-0BBD85E1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AA0-F72F-4ADE-8FD9-CA228DF5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E2C55-F888-4129-A597-83C53F6F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99C9C-F676-478C-BB7D-761510BE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C45B5-F585-420A-A8B4-549130E5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CCDC5-CFC0-4CA6-8FEC-79596515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9CA9A-AF01-4D06-A61C-A8368C9A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CAC1-7DEC-4975-A546-C29D859A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7F429-9D0A-4EB6-9919-CE2C8503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F2396-7BBB-4128-9939-583ACCA1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BBD48-5593-47BB-A966-124327C6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82B4F-2022-48B3-ACFE-20EE2112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065-185F-4272-9E2C-63A88FA4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B779F-BE39-4D9E-9CC9-C4A2CB3F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B90F3-09C4-4C87-9475-1F141BCF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7999F-509B-4B84-8DE0-557C17F6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1699E-F7C3-4D2F-BFEB-FA737FF6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46C04-9F3B-4211-A5DD-68F7882B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3DFF3-865D-4BB6-B444-CBCA4D70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FA76F-818F-41CF-AD5A-B3C05E23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459D6-1AE3-494E-AA8C-8A08E6BA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04EF8-9314-410C-B49E-0E70379B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9D573-0AB9-40CF-8498-4CDD99EF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26D-F46D-4E3F-AE36-99571067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DAA9A-9347-4E3C-930E-736BDB94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77A2C-FCA7-4568-B249-DD4CE51E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47B08-A9F2-4D5F-A6F1-E4C13698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9752F-058A-47DB-96AF-54FA1C79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85ADD-9539-4881-9F81-0AA6BB74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DFDF3-E7F5-4100-A593-AEB5E6B8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7585E-FC8D-4700-8A3E-8ED3FF50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899CA-509F-40A5-A31C-852D4F8A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598FE-BCEA-4807-A174-FFF15BA8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49B0A-B3D5-4845-BA3D-80FFE808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BBA-5FAA-48D0-A61C-12D7A266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73568-6FDD-432B-96AF-A737F632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EC6C5-4ADB-42EB-A1EA-34A87AB1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C46FB-0A10-4AF7-B5CD-58456E47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ACF76-679F-4A2E-9524-C9C0C0F8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5BD88-B1B0-40AD-ABDC-6052E27E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82F5D-4722-4D84-B0C0-A42651EA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39270-4F21-4718-B42E-55BDF62E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0856A-F56D-42BD-8D8B-7BA5B4BC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A227D-38A5-404B-A793-3AB4573F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AC3EC-694D-4C27-B778-30957B60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C7B4-6B84-4155-B7B7-D918AB6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BA935-1903-4C79-AA84-6B7164C9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3350D-958E-40B0-BD17-68598C2D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52FEB-D381-437E-A526-36826706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F79-CB7C-4C6C-8CFF-4BB7A0A7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3E1-EC07-4B46-9631-02AFAC8F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0877-1D2F-4A7B-ADB2-47CDA5B46A8E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EE4C-AE6A-4CA3-96D4-EA419D23F7B4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2C21-D88C-465D-8DAF-B25C06E108FA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9D4B-64CB-4013-9E2A-A00A9552FD7C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F517-9665-496E-8312-65F4CC875CAD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A2CD-DDAA-4141-BC64-F1DDF8A609A2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158760" y="974880"/>
            <a:ext cx="8661240" cy="16891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99640" y="4797360"/>
            <a:ext cx="278604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535f"/>
                </a:solidFill>
                <a:latin typeface="Franklin Gothic Book"/>
              </a:rPr>
              <a:t>ИНФОРМАТИКА 1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6156360" y="50133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абота учителя информатики Мишкиной И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90000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Большеаксинская средняя общеобразовательная школа» Дрожжановского муниципального района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1347840" y="328680"/>
            <a:ext cx="5699160" cy="11761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28760" y="1357200"/>
            <a:ext cx="764352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75f6d"/>
                </a:solidFill>
                <a:uFillTx/>
                <a:latin typeface="Franklin Gothic Book"/>
              </a:rPr>
              <a:t>http://broadcasting.ru/wiki/index.php?title=%D0%A3%D1%81%D1%82%D1%80%D0%BE%D0%B9%D1%81%D1%82%D0%B2%D0%BE_%D0%B2%D0%B2%D0%BE%D0%B4%D0%B0_%D0%B3%D1%80%D0%B0%D1%84%D0%B8%D1%87%D0%B5%D1%81%D0%BA%D0%BE%D0%B9_%D0%B8%D0%BD%D1%84%D0%BE%D1%80%D0%BC%D0%B0%D1%86%D0%B8%D0%B8</a:t>
            </a:r>
            <a:endParaRPr b="0" lang="en-US" sz="1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75f6d"/>
                </a:solidFill>
                <a:uFillTx/>
                <a:latin typeface="Franklin Gothic Book"/>
              </a:rPr>
              <a:t>http://school-collection.edu.ru/catalog/rubr/9916334c-3915-4f52-965d-f33da2f8638e/82973/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Устройства ввода графической информации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аходят широкое распространение благодаря компактности и наглядности способа представления информации для человека.</a:t>
            </a:r>
            <a:br>
              <a:rPr sz="3200"/>
            </a:b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По степени автоматизации поиска и выделения элементов изображения, устройства ввода графической информации делятся на 2 больших класса: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- 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автоматические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-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 полуавтоматические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85520" y="1071720"/>
            <a:ext cx="74293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В полуавтоматических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устройствах ввода графической информации функции поиска и выделения элементов изображения возлагаются на человека, а преобразование координат считываемых точек выполняется автоматически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71320" y="428760"/>
            <a:ext cx="7500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В автоматических </a:t>
            </a: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устройствах процесс поиска и выделения элементов изображения осуществляется без участия человека. Эти устройства строятся либо по принципу сканирования всего изображения с последующей его обработкой и переводом из растровой формы представления в векторную , либо по принципу слежения за линией, обеспечивающей считывание графической информации, представленной в виде графиков, диаграмм, контурных изображений.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600200"/>
            <a:ext cx="5472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графические планшеты (дигитайзеры)</a:t>
            </a: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— для ручного ввода графической информации, изображений путем перемещения по планшету специального указателя (пера); при перемещении пера автоматически выполняется считывание координат его местоположения и ввод этих координат в компьютер; 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5572080" y="1857240"/>
            <a:ext cx="335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512640" y="420840"/>
            <a:ext cx="7126560" cy="1152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сканеры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(читающие автоматы) — для автоматического считывания с бумажных носителей и ввода в компьютер машинописных текстов, графиков, рисунков, чертежей;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24" name="Picture 25" descr="сканер_01"/>
          <p:cNvPicPr/>
          <p:nvPr/>
        </p:nvPicPr>
        <p:blipFill>
          <a:blip r:embed="rId2"/>
          <a:stretch/>
        </p:blipFill>
        <p:spPr>
          <a:xfrm>
            <a:off x="428760" y="4143240"/>
            <a:ext cx="3168360" cy="2311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4" descr="сканер"/>
          <p:cNvPicPr/>
          <p:nvPr/>
        </p:nvPicPr>
        <p:blipFill>
          <a:blip r:embed="rId3"/>
          <a:stretch/>
        </p:blipFill>
        <p:spPr>
          <a:xfrm>
            <a:off x="5000760" y="4071960"/>
            <a:ext cx="33130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511280" y="122400"/>
            <a:ext cx="5518080" cy="11397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357120" y="11426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устройства указания </a:t>
            </a: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(графические манипуляторы) — для ввода графической информации на экран монитора путем управления движением курсора по экрану с последующим кодированием координат курсора и вводом их в компьютер (джойстик, мышь, трекбол, световое перо); 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28" name="Picture 18" descr="мышка_02"/>
          <p:cNvPicPr/>
          <p:nvPr/>
        </p:nvPicPr>
        <p:blipFill>
          <a:blip r:embed="rId2"/>
          <a:stretch/>
        </p:blipFill>
        <p:spPr>
          <a:xfrm>
            <a:off x="2000160" y="4572000"/>
            <a:ext cx="1857600" cy="1606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трекбол"/>
          <p:cNvPicPr/>
          <p:nvPr/>
        </p:nvPicPr>
        <p:blipFill>
          <a:blip r:embed="rId3"/>
          <a:stretch/>
        </p:blipFill>
        <p:spPr>
          <a:xfrm>
            <a:off x="4143240" y="4786200"/>
            <a:ext cx="1428840" cy="1239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4"/>
          <a:stretch/>
        </p:blipFill>
        <p:spPr>
          <a:xfrm>
            <a:off x="642960" y="4357800"/>
            <a:ext cx="1214280" cy="1909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5"/>
          <a:stretch/>
        </p:blipFill>
        <p:spPr>
          <a:xfrm>
            <a:off x="6215040" y="40719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4906800" cy="1152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5429160" y="4000320"/>
            <a:ext cx="3286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5f6d"/>
                </a:solidFill>
                <a:latin typeface="Franklin Gothic Book"/>
              </a:rPr>
              <a:t>  </a:t>
            </a:r>
            <a:endParaRPr b="0" lang="en-US" sz="2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ТАЧПАД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       </a:t>
            </a: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Представляет собой панель прямоугольной формы, чувствительную к перемещению пальца и нажатию пальцем, эквивалентное нажатию на кнопку мыши.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34" name="Picture 8" descr="тачпад_01"/>
          <p:cNvPicPr/>
          <p:nvPr/>
        </p:nvPicPr>
        <p:blipFill>
          <a:blip r:embed="rId2"/>
          <a:stretch/>
        </p:blipFill>
        <p:spPr>
          <a:xfrm>
            <a:off x="5572080" y="1357200"/>
            <a:ext cx="2641680" cy="242892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6"/>
          <p:cNvSpPr/>
          <p:nvPr/>
        </p:nvSpPr>
        <p:spPr>
          <a:xfrm>
            <a:off x="428760" y="1357200"/>
            <a:ext cx="3929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сенсорные экраны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— для ввода отдельных элементов изображения, программ или команд с полиэкрана дисплея в компьютер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3"/>
          <a:stretch/>
        </p:blipFill>
        <p:spPr>
          <a:xfrm>
            <a:off x="2500200" y="4000680"/>
            <a:ext cx="2019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7913520" cy="1152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562"/>
              </a:spcBef>
              <a:buClr>
                <a:srgbClr val="fe8637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Цифровые камеры позволяют получать видео-изображение и фотоснимки в цифровом формате.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1562"/>
              </a:spcBef>
              <a:buClr>
                <a:srgbClr val="fe8637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Для передачи «живого» видео по компьютерным сетям используются веб-камеры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1562"/>
              </a:spcBef>
              <a:buClr>
                <a:srgbClr val="fe8637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При наличии в ПК спецплаты (ТВ-тюнер) возможно просматривать телевизионные программы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39" name="Picture 12" descr="цифр"/>
          <p:cNvPicPr/>
          <p:nvPr/>
        </p:nvPicPr>
        <p:blipFill>
          <a:blip r:embed="rId2"/>
          <a:stretch/>
        </p:blipFill>
        <p:spPr>
          <a:xfrm>
            <a:off x="6286680" y="1643040"/>
            <a:ext cx="1944360" cy="1709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вебкамера"/>
          <p:cNvPicPr/>
          <p:nvPr/>
        </p:nvPicPr>
        <p:blipFill>
          <a:blip r:embed="rId3"/>
          <a:stretch/>
        </p:blipFill>
        <p:spPr>
          <a:xfrm>
            <a:off x="6357960" y="3643200"/>
            <a:ext cx="2017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8:40:37Z</dcterms:created>
  <dc:creator>Ираида</dc:creator>
  <dc:description/>
  <dc:language>en-US</dc:language>
  <cp:lastModifiedBy>Ираида</cp:lastModifiedBy>
  <dcterms:modified xsi:type="dcterms:W3CDTF">2012-05-29T08:08:38Z</dcterms:modified>
  <cp:revision>9</cp:revision>
  <dc:subject/>
  <dc:title>Слайд 1</dc:title>
</cp:coreProperties>
</file>