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0BD7-3A54-4288-B822-A76415630E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28B7-FFE2-435D-8895-C77CA98660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FEE-3759-44A2-AD31-FEF4BEAF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6E9-9625-4842-A554-BA4C3DBE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8FD-5050-486B-8BEB-B0D7C7D1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F6C-AC7E-4BA1-B826-4BDBE9FD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65A-270B-46AC-BFCA-224023D7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D40-11F7-4DEC-8C4F-21D5244D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FEE-CC4E-4465-BED8-575AFFF2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E3E-F08A-4C7C-A766-F495C3FD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12E-24CE-4E8B-B73D-007761B5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495-C1D6-4A04-95C5-E617E780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C83-8BF6-4CE7-B02E-448ADF51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F11-8C69-44AB-97F3-F72F7B7E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b9b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F846-2062-4CD6-AAE5-B31EED9E6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206360" y="1030320"/>
            <a:ext cx="6469200" cy="2548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8400" y="3571560"/>
            <a:ext cx="83581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аринова М.П. - 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уководи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О классных руковод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реднего и старшего зв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БОУ «СОШ № 57» г.Чебокс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ебоксары – 2011  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1714680" y="452520"/>
            <a:ext cx="65005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ервая ситу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гда со мной случилось го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дняться не хватало 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ук подоспевшее подсп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егда в друзьях я наход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 в счастье было тяжело </a:t>
            </a:r>
            <a:r>
              <a:rPr b="0" lang="ru-RU" sz="2800" spc="-1" strike="noStrike">
                <a:solidFill>
                  <a:srgbClr val="632523"/>
                </a:solidFill>
                <a:latin typeface="Arial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рузья стояли в сторо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видуя и сожал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то помогли когда-то м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(А. Дементь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57120" y="171360"/>
            <a:ext cx="8429760" cy="59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торая ситуация.</a:t>
            </a:r>
            <a:r>
              <a:rPr b="1" i="1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чились вместе в одной группе две подружки </a:t>
            </a:r>
            <a:r>
              <a:rPr b="0" lang="ru-RU" sz="2800" spc="-1" strike="noStrike">
                <a:solidFill>
                  <a:srgbClr val="632523"/>
                </a:solidFill>
                <a:latin typeface="Arial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Катя и Саша. Сидели за одной партой, часто выполняли вместе домашние задания. Катя была успешнее в учебе, и Саша часто обращалась к ней за помощью, Катя всегда была рада ей помоч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еред сессией Катя заболела и очень много пропустила. Поправившись, она обратилась к Саше с просьбой помочь восстановить конспекты и пояснить, что нужно подготовить к экзамену. Но услышала вежливый отказ. Саша мотивировала свой отказ тем, что ей самой нужны конспекты для подготовки к экзам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14200" y="593640"/>
            <a:ext cx="864396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ретья ситуац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группу пришел новый студент. Ему никак не удавалось разобраться с новыми дисциплинами. Он не знал, к кому обратиться за помощью. Однажды к нему подошел сокурсник и предложил ему свою помощь. Сокурсник оказался старостой, а но помогал он ему не потому, что он был старостой, а наоборот: его выбрали старостой, потому что он помогал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ейчас новичок освоился, а старосту он называет своим дру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201600" y="244440"/>
            <a:ext cx="881388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42840" y="993600"/>
            <a:ext cx="91137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-189000" y="828720"/>
            <a:ext cx="90838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817560"/>
            <a:ext cx="85708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2"/>
          <p:cNvCxnSpPr>
            <a:stCxn id="56" idx="3"/>
            <a:endCxn id="57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28440">
            <a:solidFill>
              <a:srgbClr val="632523"/>
            </a:solidFill>
            <a:miter/>
            <a:tailEnd len="med" type="arrow" w="med"/>
          </a:ln>
        </p:spPr>
      </p:cxnSp>
      <p:cxnSp>
        <p:nvCxnSpPr>
          <p:cNvPr id="60" name="Прямая со стрелкой 14"/>
          <p:cNvCxnSpPr>
            <a:stCxn id="56" idx="3"/>
            <a:endCxn id="58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28440">
            <a:solidFill>
              <a:srgbClr val="63252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12"/>
          <p:cNvCxnSpPr>
            <a:stCxn id="64" idx="3"/>
            <a:endCxn id="65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cxnSp>
        <p:nvCxnSpPr>
          <p:cNvPr id="68" name="Прямая со стрелкой 14"/>
          <p:cNvCxnSpPr>
            <a:stCxn id="64" idx="3"/>
            <a:endCxn id="66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pic>
        <p:nvPicPr>
          <p:cNvPr id="69" name="Прямоугольник 15" descr=""/>
          <p:cNvPicPr/>
          <p:nvPr/>
        </p:nvPicPr>
        <p:blipFill>
          <a:blip r:embed="rId4"/>
          <a:stretch/>
        </p:blipFill>
        <p:spPr>
          <a:xfrm>
            <a:off x="328680" y="1450800"/>
            <a:ext cx="2890800" cy="8845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20"/>
          <p:cNvSpPr/>
          <p:nvPr/>
        </p:nvSpPr>
        <p:spPr>
          <a:xfrm>
            <a:off x="1642320" y="2486160"/>
            <a:ext cx="34920" cy="51408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0"/>
          <p:cNvSpPr/>
          <p:nvPr/>
        </p:nvSpPr>
        <p:spPr>
          <a:xfrm>
            <a:off x="357120" y="1571760"/>
            <a:ext cx="2571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2"/>
          <p:cNvCxnSpPr>
            <a:stCxn id="75" idx="3"/>
            <a:endCxn id="76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cxnSp>
        <p:nvCxnSpPr>
          <p:cNvPr id="79" name="Прямая со стрелкой 14"/>
          <p:cNvCxnSpPr>
            <a:stCxn id="75" idx="3"/>
            <a:endCxn id="77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pic>
        <p:nvPicPr>
          <p:cNvPr id="80" name="Прямоугольник 15" descr=""/>
          <p:cNvPicPr/>
          <p:nvPr/>
        </p:nvPicPr>
        <p:blipFill>
          <a:blip r:embed="rId4"/>
          <a:stretch/>
        </p:blipFill>
        <p:spPr>
          <a:xfrm>
            <a:off x="328680" y="1450800"/>
            <a:ext cx="2890800" cy="8845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ая соединительная линия 20"/>
          <p:cNvSpPr/>
          <p:nvPr/>
        </p:nvSpPr>
        <p:spPr>
          <a:xfrm>
            <a:off x="1642320" y="2486160"/>
            <a:ext cx="34920" cy="51408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22" descr=""/>
          <p:cNvPicPr/>
          <p:nvPr/>
        </p:nvPicPr>
        <p:blipFill>
          <a:blip r:embed="rId5"/>
          <a:stretch/>
        </p:blipFill>
        <p:spPr>
          <a:xfrm>
            <a:off x="3614760" y="665280"/>
            <a:ext cx="5321160" cy="8888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23"/>
          <p:cNvSpPr/>
          <p:nvPr/>
        </p:nvSpPr>
        <p:spPr>
          <a:xfrm flipH="1">
            <a:off x="6286680" y="1857240"/>
            <a:ext cx="71280" cy="51444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9"/>
          <p:cNvSpPr/>
          <p:nvPr/>
        </p:nvSpPr>
        <p:spPr>
          <a:xfrm>
            <a:off x="3643200" y="500040"/>
            <a:ext cx="5143680" cy="13572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0"/>
          <p:cNvSpPr/>
          <p:nvPr/>
        </p:nvSpPr>
        <p:spPr>
          <a:xfrm>
            <a:off x="357120" y="1571760"/>
            <a:ext cx="2571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Прямая со стрелкой 12"/>
          <p:cNvCxnSpPr>
            <a:stCxn id="89" idx="3"/>
            <a:endCxn id="90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cxnSp>
        <p:nvCxnSpPr>
          <p:cNvPr id="93" name="Прямая со стрелкой 14"/>
          <p:cNvCxnSpPr>
            <a:stCxn id="89" idx="3"/>
            <a:endCxn id="91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pic>
        <p:nvPicPr>
          <p:cNvPr id="94" name="Прямоугольник 15" descr=""/>
          <p:cNvPicPr/>
          <p:nvPr/>
        </p:nvPicPr>
        <p:blipFill>
          <a:blip r:embed="rId4"/>
          <a:stretch/>
        </p:blipFill>
        <p:spPr>
          <a:xfrm>
            <a:off x="328680" y="1450800"/>
            <a:ext cx="2890800" cy="884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ая соединительная линия 20"/>
          <p:cNvSpPr/>
          <p:nvPr/>
        </p:nvSpPr>
        <p:spPr>
          <a:xfrm>
            <a:off x="1642320" y="2486160"/>
            <a:ext cx="34920" cy="51408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22" descr=""/>
          <p:cNvPicPr/>
          <p:nvPr/>
        </p:nvPicPr>
        <p:blipFill>
          <a:blip r:embed="rId5"/>
          <a:stretch/>
        </p:blipFill>
        <p:spPr>
          <a:xfrm>
            <a:off x="3614760" y="665280"/>
            <a:ext cx="5321160" cy="8888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ая соединительная линия 23"/>
          <p:cNvSpPr/>
          <p:nvPr/>
        </p:nvSpPr>
        <p:spPr>
          <a:xfrm flipH="1">
            <a:off x="6286680" y="1857240"/>
            <a:ext cx="71280" cy="51444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30" descr=""/>
          <p:cNvPicPr/>
          <p:nvPr/>
        </p:nvPicPr>
        <p:blipFill>
          <a:blip r:embed="rId6"/>
          <a:stretch/>
        </p:blipFill>
        <p:spPr>
          <a:xfrm>
            <a:off x="3548160" y="4803840"/>
            <a:ext cx="5462640" cy="16272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4"/>
          <p:cNvSpPr/>
          <p:nvPr/>
        </p:nvSpPr>
        <p:spPr>
          <a:xfrm>
            <a:off x="3643200" y="5000760"/>
            <a:ext cx="5214960" cy="150012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6"/>
          <p:cNvSpPr/>
          <p:nvPr/>
        </p:nvSpPr>
        <p:spPr>
          <a:xfrm flipH="1">
            <a:off x="6251400" y="4572000"/>
            <a:ext cx="35280" cy="428760"/>
          </a:xfrm>
          <a:prstGeom prst="line">
            <a:avLst/>
          </a:prstGeom>
          <a:ln w="284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9"/>
          <p:cNvSpPr/>
          <p:nvPr/>
        </p:nvSpPr>
        <p:spPr>
          <a:xfrm>
            <a:off x="3643200" y="500040"/>
            <a:ext cx="5143680" cy="13572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0"/>
          <p:cNvSpPr/>
          <p:nvPr/>
        </p:nvSpPr>
        <p:spPr>
          <a:xfrm>
            <a:off x="357120" y="1571760"/>
            <a:ext cx="2571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840" y="71424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бъясните значение следующих поговор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5010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Были бы пирожки, будут и друж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Дружба крепка не лестью, а правдой и че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Плохой друг подобен тени: в солнечный день не отвяжется, в ненастный </a:t>
            </a:r>
            <a:r>
              <a:rPr b="0" lang="ru-RU" sz="3200" spc="-1" strike="noStrike">
                <a:solidFill>
                  <a:srgbClr val="632523"/>
                </a:solidFill>
                <a:latin typeface="Arial"/>
                <a:ea typeface="Calibri"/>
              </a:rPr>
              <a:t>–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не найде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11-04T11:29:59Z</dcterms:modified>
  <cp:revision>63</cp:revision>
  <dc:subject/>
  <dc:title>Слайд 1</dc:title>
</cp:coreProperties>
</file>