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22A-6854-4FFB-8E97-12DE9730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114-51B3-4262-99A4-3051C2B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FFB-5E32-42A1-9247-04EDC2CA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206-9A21-4784-82CF-9F92C6EF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1530-6D27-4260-B3B2-291BDB2C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C241-A253-474A-8E39-CAE756D6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B91C-CCFF-450F-8E52-ACEA4E82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CE39-32A4-4FF5-92A0-DD5A5AA1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28A5-66DE-4DFA-8861-542CED7B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1118-0B00-4E5D-AAB8-DB5F6DD6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E280-3D9E-4AE2-B419-18D8E3D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9BC-BDB7-4E5C-B152-992DE89C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53F0-0E44-44BC-80E8-F32E03AA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1830-5EBF-40A4-ABCC-A36DD6FF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7FCE-8D88-415C-A7CF-B1B4676F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F0F9-DB7C-4770-B42B-25991183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CFDA-49D5-4304-9497-DC35EB05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6F3-ECA8-462E-83B3-96ACCD16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823-B38E-4A38-857C-1B118E0E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E06-D860-4AFB-9737-138D3DBA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327-4257-4F56-BB69-9EDBB81C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4AB-923B-4EC0-B7B5-3768A675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919-9F12-4282-9D75-01D02B72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1B7-0F7C-415D-92FC-69E956E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E3EF-6674-48B6-A5D5-809D4972C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A991-A9B2-45CF-A470-E36D7FB14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558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Овощные загадки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3008160"/>
            <a:ext cx="64800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Щёки красные, нос белы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 темноте сижу день целы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 рубашка зелен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ся на солнышке он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редис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60072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кругла, вкусна, красив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сочна, ну просто диво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орщ, свекольник, винегрет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з тебя уж не обед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во всём нам помогл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 зовут теб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свекл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90600" y="1557360"/>
            <a:ext cx="47628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н похож на огуре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такой же молодец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реет солнцем свой бочо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очный, вкусный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абачо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64360" cy="44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олько снег сойдёт весно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ы киваешь головой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рвой зелени подружка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скудрява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петруш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2000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ружевные пальчик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онтики – головк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збежались мальчи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 всем грядкам ловко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cccc00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 куда спешите? Стоп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Я хочу сорвать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укроп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 королевой овощ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дружитесь поскорей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а столе не будет пусто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ли вырастишь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всё лето зеленеешь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прятав ягоды в земл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лиже к осени созреешь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разу праздник на стол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уп и щи, пюре, окрош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ам везде нужна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артош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ли красный твой стручок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орький, злой ты старичок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ли ты зелёный малы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воя горечь убежал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гордишься сочным тельцем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о зовёшься сладким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перецем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88944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овно юбочки на сборк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вои листики в оборках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за складочкой – смотр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таминочки внутр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ждый будет очень р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ъесть зелёненький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салат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666880" y="1557360"/>
            <a:ext cx="3705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Щёлк! Стручок раскрылся! Ох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рассыпалс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горох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28920" y="1557360"/>
            <a:ext cx="4286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т простуды нас избавил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итаминов нам добави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от гриппа нам помог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орький доктор наш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чесно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апусту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04836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ть на каждом огород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едь любимец он в народ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сех избавит от недуг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уть поплачеш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Эт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лу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52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Молодцы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то это за ёлочк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ет на них иголочек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то за красные шары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о не видно мишуры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ак красиво вдоль забо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Летом спеют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помидор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434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а июньской грядк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сё у нас в порядк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роем, словно молодцы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еленеют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огурц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1609560"/>
            <a:ext cx="568800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скудрявая ко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 блестит на ней рос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ья коса лежит на грядк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де оранжевые пятк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землю спрятала плутов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таминна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морков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000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5:55Z</dcterms:created>
  <dc:creator>ADMIN</dc:creator>
  <dc:description/>
  <dc:language>en-US</dc:language>
  <cp:lastModifiedBy>ADMIN</cp:lastModifiedBy>
  <dcterms:modified xsi:type="dcterms:W3CDTF">2009-10-07T14:14:59Z</dcterms:modified>
  <cp:revision>8</cp:revision>
  <dc:subject/>
  <dc:title>Овощные загадки</dc:title>
</cp:coreProperties>
</file>