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F821-192A-4B1B-9AD9-724793D8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756-3AFF-4C1C-B872-0F32A671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358-2D14-4D1B-AA05-7AA22DBB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826-9397-42EA-AE25-44E93341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EB8C-DD47-493F-B8AA-2B0307F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79C0-23F4-457F-B502-3E8073C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70F7-BF30-4E9C-B5AB-9942C56B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40BD-57D0-44D4-8F40-875897BA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8710-3452-4AF5-9FB4-873D85B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A59-1620-41A8-B600-6AF8C80B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1F7-76F8-48B3-82A1-E8B0C8D7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339-8138-4D19-98C1-03ECF86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3415-EBCD-4A6E-ABCB-31C393A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3726-CEB4-4034-810D-DA91999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2099-E825-48B2-9133-E741CEA7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821-45AF-4254-B779-D0102C6C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9042-ABB8-4763-B1CE-8C182875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991-9D4C-4BF1-97EA-E15AEC4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E1B-8BED-44F7-81F7-CB533D69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6F6-6880-4AE8-921D-1984854B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639-66DB-48DC-8CF6-C83B1B19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B53-BE4A-42A0-9C56-6AF6DD8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4BE-AD18-4C6F-A3EA-DDF16897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2BA-D075-43FA-8643-67A080D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3AF1-58D2-4F04-A4B8-759759AFE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E9BA-F192-4F92-B331-7F5C4B32B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558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eec94"/>
                </a:solidFill>
                <a:latin typeface="Times New Roman"/>
              </a:rPr>
              <a:t>Овощные загадки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3008160"/>
            <a:ext cx="64800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Щёки красные, нос белы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 темноте сижу день целы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 рубашка зелен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я на солнышке она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редис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кругла, вкусна, красив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сочна, ну просто див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орщ, свекольник, винегре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ез тебя уж не обед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во всём нам помогл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А зовут теб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свекл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90600" y="1557360"/>
            <a:ext cx="476280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н похож на огуре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такой же молодец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еет солнцем свой бочо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чный, вкусный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бачо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олько снег сойдёт весно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ы киваешь головой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вой зелени подружка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скудряв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етруш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200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ружевные пальчик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онтики – головк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збежались мальчи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 всем грядкам ловко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cccc00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 куда спешите? Стоп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Я хочу сорвать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укроп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68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 королевой овоще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ружитесь поскорей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 столе не будет пусто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вырастишь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всё лето зеленеешь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прятав ягоды в земл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Ближе к осени созреешь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разу праздник на стол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уп и щи, пюре, окрош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м везде нужна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ртош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красный твой стручок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ький, злой ты старичок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ли ты зелёный малый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воя горечь убежал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ы гордишься сочным тельцем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о зовёшься сладким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перецем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8894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овно юбочки на сборк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вои листики в оборках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 за складочкой – смотр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таминочки внутри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ждый будет очень р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ъесть зелёненький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сала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666880" y="1557360"/>
            <a:ext cx="3705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Щёлк! Стручок раскрылся! Ох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рассыпалс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горох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28920" y="1557360"/>
            <a:ext cx="4286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т простуды нас избавил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итаминов нам добави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 от гриппа нам помог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орький доктор наш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чесно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3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апусту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0483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Есть на каждом огороде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едь любимец он в народ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ех избавит от недуг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уть поплачеш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Это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лук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52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Молодцы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то это за ёлочки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ет на них иголочек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Что за красные шар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о не видно мишуры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ак красиво вдоль забо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етом спею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помидор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628640"/>
            <a:ext cx="7619760" cy="4340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На июньской грядк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сё у нас в порядк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роем, словно молодцы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Зеленеют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огурцы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1609560"/>
            <a:ext cx="5688000" cy="449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аскудрявая кос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 блестит на ней роса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ья коса лежит на грядк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де оранжевые пятк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землю спрятала плутов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таминная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морков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000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7:55:55Z</dcterms:created>
  <dc:creator>ADMIN</dc:creator>
  <dc:description/>
  <dc:language>en-US</dc:language>
  <cp:lastModifiedBy>ADMIN</cp:lastModifiedBy>
  <dcterms:modified xsi:type="dcterms:W3CDTF">2009-10-07T14:14:59Z</dcterms:modified>
  <cp:revision>8</cp:revision>
  <dc:subject/>
  <dc:title>Овощные загадки</dc:title>
</cp:coreProperties>
</file>