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C23-D5C1-43A6-A2DC-C8C21428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01C-5745-4C0B-95FF-B4B4AB6A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81B-88C0-4A3A-9494-ED3B6C5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53F-DB26-4A0E-BB93-458BC8CA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9F47-DBC5-4D5B-8CBD-9BE3F268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9EDE-EE9C-4AA7-B538-C735D34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9C68-9E62-4401-9CA7-61407350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CB2C-BE46-41DC-91D4-8C8CCC14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B9AA-19B7-4100-8BED-E3A1B3C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27A-DA6B-49AE-9AC4-3B22BC41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68E9-2DA6-42F0-88CC-BC3CB41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D48-A707-4B94-9469-E048EDA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13F1-6DCC-49BF-811C-0BAC239C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4449-D6DA-41BD-AEEA-54B1149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555-70C2-4355-A9E0-418505FB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1D6-83B9-4ACC-9463-E5757F41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EC8F-0D77-411A-8671-4C03E40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652-B4AB-4789-83C4-FC2BDB2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0C3-110E-470A-8820-02C0A6C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446-EF34-44C4-938E-DEA430D9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150-2CD8-4ECA-9A36-3D46C026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47C-E228-4D62-BAF0-459F42F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4F2-91C0-447C-A066-6735B6A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84F-7949-4DF6-9E5E-BAD5498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D356-D81D-4DE5-830D-02A8AD43F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C49-7A95-4BBE-A942-DC303253E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558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Овощные загадки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3008160"/>
            <a:ext cx="64800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Щёки красные, нос белы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 темноте сижу день целы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 рубашка зелен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я на солнышке он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редис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кругла, вкусна, красив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сочна, ну просто див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орщ, свекольник, винегре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тебя уж не обед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во всём нам помогл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 зовут теб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свекл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90600" y="1557360"/>
            <a:ext cx="47628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н похож на огуре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такой же молодец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еет солнцем свой бочо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чный, вкусный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бачо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олько снег сойдёт весно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ы киваешь головой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вой зелени подружка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скудряв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етруш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200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ружевные пальчик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онтики – головк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збежались мальч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 всем грядкам ловк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cccc00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 куда спешите? Стоп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Я хочу сорват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укроп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 королевой овощ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ружитесь поскорей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 столе не будет пуст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вырастишь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всё лето зеленеешь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прятав ягоды в земл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лиже к осени созреешь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разу праздник на стол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уп и щи, пюре, окрош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м везде нужна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ртош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красный твой стручок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ький, злой ты старич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ты зелёный малы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воя горечь убежал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гордишься сочным тельцем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о зовёшься сладким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перецем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889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овно юбочки на сборк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вои листики в оборках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за складочкой – смотр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таминочки внутр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ждый будет очень р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ъесть зелёненький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сала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66880" y="1557360"/>
            <a:ext cx="3705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Щёлк! Стручок раскрылся! Ох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рассыпалс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горо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28920" y="1557360"/>
            <a:ext cx="4286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т простуды нас избавил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итаминов нам добави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от гриппа нам помог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ький доктор наш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чесно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пусту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483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ть на каждом огород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едь любимец он в народ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ех избавит от недуг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уть поплачеш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лу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52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Молодцы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то это за ёлочк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ет на них иголочек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то за красные шар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о не видно мишуры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ак красиво вдоль забо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етом спею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омидор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434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 июньской грядк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ё у нас в порядк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роем, словно молодц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еленею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огур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1609560"/>
            <a:ext cx="568800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скудрявая ко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 блестит на ней рос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ья коса лежит на грядк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де оранжевые пятк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землю спрятала плутов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таминн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морков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000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5:55Z</dcterms:created>
  <dc:creator>ADMIN</dc:creator>
  <dc:description/>
  <dc:language>en-US</dc:language>
  <cp:lastModifiedBy>ADMIN</cp:lastModifiedBy>
  <dcterms:modified xsi:type="dcterms:W3CDTF">2009-10-07T14:14:59Z</dcterms:modified>
  <cp:revision>8</cp:revision>
  <dc:subject/>
  <dc:title>Овощные загадки</dc:title>
</cp:coreProperties>
</file>