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A1E-816B-49AC-B17D-6E698DEC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E27-5049-41A5-A4A8-A99B01E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3A5-B6D0-40D4-A2D8-848AD7F9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426-8275-4972-B717-5866B357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3559-6A53-4A60-8425-96111592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CB0-B1C7-4C92-B62E-DFF87429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20A5-8A34-4AA0-9D92-A779CDC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F7F-7540-4121-B6F1-ADE67420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52B9-36AA-4BAD-BAFF-D2229C4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E656-F1D9-44B7-9ED9-8B8F16F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C78-A70F-4E5D-9397-905BC83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D69-0093-4796-A44B-645BB5E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D331-C15C-42A3-AB95-251745C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B56A-2C55-4EFF-A1AA-010A02B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4A33-E81B-43E9-B00D-CA0D9237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4A46-4013-4080-9CD6-13CDFBC3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0B8-0FBF-461A-9FE0-CD4AD5D3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C187-642D-41AC-8901-A3472E61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F317-E037-46E2-9C44-819EFEE7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2B58-4D41-40A5-8183-1F338AC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3567-6619-4733-9289-F705F38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C132-EDAB-4605-A9BE-D1092B95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66B-138D-4E2D-A848-FD5275E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7CEC-475B-4E9F-A779-CBF99F1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E48A-2FFE-4A8A-8BEE-A0458D0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42A4-0C70-438D-B472-433CE63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3F66-95E2-4AAF-97EA-1848CF6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C219-7AF4-4D07-8944-DAE0075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FFBA-5A83-4789-AC92-0784C33F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062F-45BB-452C-8190-9EA41422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742A-F024-458F-84B0-A73F0D19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9DAC-E353-4E03-9DFF-01C3BF35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EF521-8A00-4E63-87BB-FA5A74EA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844-DD1E-43C2-BEBD-C09EA82C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53F2-4E87-4E85-A8AE-530B02A2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4318-743F-44F3-91BF-1CEAA0D3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FAF6-328F-4393-AE26-1A16EA06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2CFB-679A-4D0C-95DC-79CC5D8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B5CD-F1CA-45F4-8CC7-2E03A0D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84BE-7374-44C5-95BC-CA353DC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7F24-994E-406C-968B-B1AD3B8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A80C-3A13-47AC-8919-31D42A9B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9686-0768-4F3F-AF27-36558E6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8C9-1575-45A5-ACF7-3A1B6611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312-3E6B-4061-BA1A-3D88A87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C88-B98F-4E46-9A5B-8ECE88A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FB5-AA5A-4E4A-8E2D-5CB2578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4BF-7031-44D7-A2DC-E33A61D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3AA-394B-418D-8851-AFDCF54AFB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F1BF-E029-466A-BAAB-F530A5EB8B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1C8-B9CE-45CC-BDE7-D5417E2856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DA4-A6AE-427B-805E-284260E91A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7847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ащеева Надежда Валерьевн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начальных класс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ИЗО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ооктябрьской СОШ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урганской области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рок математики в 3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603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:12         32:16       39: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       3         4          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023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79640" y="2349360"/>
            <a:ext cx="2062080" cy="3816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995640" y="2349360"/>
            <a:ext cx="1843200" cy="3726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 rot="18170400">
            <a:off x="8538120" y="39924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 rot="6211800">
            <a:off x="-210240" y="210240"/>
            <a:ext cx="1544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21 -0.14682 L 5E-006 -2.65896E-006 E">
                                      <p:cBhvr>
                                        <p:cTn id="113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51445E-007 C -0.00329 0.01202 -0.00468 0.02405 -0.00659 0.03653 C -0.00607 0.05595 -0.00538 0.07584 -0.00503 0.09549 C -0.00312 0.20139 -0.01753 0.20046 0.01997 0.26196 C 0.02778 0.27491 0.02066 0.27052 0.02987 0.27422 C 0.03386 0.28809 0.02761 0.27168 0.03976 0.28439 C 0.05105 0.29618 0.03056 0.28647 0.04653 0.29248 C 0.05938 0.30335 0.05955 0.31468 0.07639 0.31884 C 0.08507 0.32439 0.09306 0.32694 0.10278 0.32902 C 0.13212 0.32786 0.16146 0.32717 0.19063 0.32509 C 0.20712 0.3237 0.22188 0.31653 0.23855 0.31491 C 0.24341 0.31098 0.24723 0.3059 0.25191 0.30266 C 0.25625 0.29965 0.26216 0.29988 0.26702 0.2985 C 0.27934 0.29503 0.2908 0.29087 0.30348 0.28832 C 0.30955 0.28601 0.31389 0.28023 0.32014 0.27838 C 0.32379 0.27699 0.32778 0.27722 0.3316 0.2763 C 0.33785 0.27514 0.34393 0.27214 0.35 0.27006 C 0.35955 0.25827 0.37691 0.25503 0.38959 0.24994 C 0.39132 0.24925 0.39306 0.24879 0.39462 0.24763 C 0.39671 0.24647 0.39896 0.24462 0.40122 0.2437 C 0.41181 0.23884 0.40452 0.24532 0.41615 0.23769 C 0.42726 0.23006 0.42726 0.22867 0.43941 0.22543 C 0.44445 0.2215 0.44879 0.21965 0.45417 0.21734 C 0.45921 0.20855 0.46424 0.20555 0.47275 0.20324 C 0.48125 0.19491 0.49167 0.19168 0.50243 0.1889 C 0.51302 0.18011 0.51615 0.17942 0.529 0.17665 C 0.53768 0.17295 0.54497 0.16925 0.55382 0.1667 C 0.57778 0.15191 0.56528 0.15769 0.62171 0.16439 C 0.62518 0.16485 0.62726 0.16925 0.63021 0.17064 C 0.63664 0.17387 0.65 0.17873 0.65 0.17896 C 0.65799 0.1859 0.66754 0.19537 0.67657 0.19907 C 0.68039 0.20069 0.68681 0.20301 0.68993 0.20509 C 0.69237 0.2067 0.6941 0.20948 0.69636 0.2111 C 0.70296 0.21572 0.7099 0.21896 0.7165 0.22335 C 0.72275 0.22774 0.72535 0.23491 0.73143 0.23977 C 0.7349 0.2467 0.73924 0.2504 0.74115 0.25803 C 0.73959 0.28532 0.74636 0.31075 0.73143 0.32902 C 0.72952 0.34335 0.72518 0.36 0.71806 0.37156 C 0.71459 0.39306 0.71893 0.37179 0.71302 0.39006 C 0.70903 0.40277 0.70695 0.41734 0.70469 0.43052 C 0.70521 0.43329 0.70677 0.43607 0.70643 0.43884 C 0.70573 0.44462 0.70157 0.45503 0.70157 0.45526 C 0.70209 0.46451 0.70157 0.47422 0.70313 0.48347 C 0.70365 0.4867 0.70695 0.48855 0.70799 0.49156 C 0.70921 0.4948 0.70834 0.49873 0.70973 0.50173 C 0.71129 0.5052 0.71893 0.51399 0.72292 0.51399 E">
                                      <p:cBhvr>
                                        <p:cTn id="116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0.02174 C -0.08108 0.03214 -0.08611 0.04116 -0.08872 0.05226 C -0.09045 0.06891 -0.09618 0.0881 -0.10347 0.10243 C -0.10399 0.10683 -0.10399 0.11145 -0.10504 0.11561 C -0.10573 0.11815 -0.10764 0.11954 -0.10833 0.12209 C -0.11476 0.14428 -0.10538 0.12347 -0.11337 0.13966 C -0.11615 0.15446 -0.12118 0.16509 -0.12639 0.17896 C -0.12708 0.18104 -0.12708 0.18359 -0.12813 0.18544 C -0.12934 0.18798 -0.1316 0.1896 -0.13299 0.19191 C -0.1342 0.19399 -0.13524 0.1963 -0.13629 0.19862 C -0.13802 0.2111 -0.13941 0.22012 -0.14618 0.22914 C -0.14965 0.23908 -0.15156 0.25041 -0.1559 0.25966 C -0.15833 0.26498 -0.16129 0.26983 -0.16406 0.27492 C -0.1651 0.277 -0.16736 0.28139 -0.16736 0.28139 C -0.16945 0.29457 -0.17205 0.30474 -0.18056 0.31214 C -0.18611 0.33503 -0.20243 0.35399 -0.21823 0.3644 C -0.22396 0.37596 -0.23299 0.38289 -0.24288 0.38636 C -0.24913 0.39469 -0.25139 0.39353 -0.2592 0.39723 C -0.27622 0.39654 -0.29306 0.3963 -0.31007 0.39492 C -0.31233 0.39469 -0.31476 0.39446 -0.31667 0.39284 C -0.31823 0.39145 -0.31823 0.38798 -0.31979 0.38636 C -0.32396 0.38174 -0.33142 0.37966 -0.33629 0.37526 C -0.34063 0.36694 -0.34688 0.36602 -0.35104 0.35792 C -0.35695 0.34683 -0.35226 0.35237 -0.3559 0.34266 C -0.36337 0.32255 -0.35486 0.35122 -0.36267 0.3274 C -0.36615 0.31654 -0.36858 0.30521 -0.3724 0.29457 C -0.37292 0.29087 -0.37292 0.28717 -0.37396 0.2837 C -0.37465 0.28116 -0.37656 0.27977 -0.37726 0.27723 C -0.38316 0.25365 -0.37465 0.27237 -0.38212 0.25758 C -0.38385 0.23746 -0.38681 0.21758 -0.39531 0.2007 C -0.39913 0.18451 -0.40486 0.16972 -0.41337 0.157 C -0.41649 0.15237 -0.41945 0.14752 -0.42309 0.14405 C -0.42656 0.14104 -0.43299 0.13526 -0.43299 0.13526 C -0.43403 0.13295 -0.43472 0.13018 -0.43629 0.12856 C -0.43767 0.12717 -0.43958 0.1274 -0.44115 0.12648 C -0.44792 0.12209 -0.45156 0.11607 -0.45938 0.1133 C -0.4625 0.11052 -0.4658 0.10752 -0.4691 0.10474 C -0.47205 0.1022 -0.47882 0.10035 -0.47882 0.10035 C -0.49097 0.08972 -0.47535 0.1022 -0.49201 0.09365 C -0.49392 0.09272 -0.49514 0.09041 -0.49688 0.08925 C -0.50833 0.08255 -0.52118 0.07931 -0.53299 0.07399 C -0.55278 0.06521 -0.52517 0.0733 -0.54774 0.06752 C -0.56337 0.05711 -0.54375 0.06914 -0.56406 0.06104 C -0.56649 0.06012 -0.5684 0.05758 -0.57066 0.05665 C -0.575 0.0548 -0.58385 0.05226 -0.58385 0.05226 C -0.59948 0.04185 -0.60799 0.04116 -0.62639 0.03908 C -0.64601 0.02844 -0.66215 0.02567 -0.68385 0.02382 C -0.69983 0.01688 -0.67257 0.02798 -0.71493 0.01943 C -0.71736 0.01896 -0.71927 0.01619 -0.72153 0.01503 C -0.72517 0.01318 -0.72899 0.01157 -0.73299 0.01087 C -0.74306 0.00902 -0.78559 0.00694 -0.79201 0.00648 C -0.79358 0.00717 -0.79514 0.00833 -0.79688 0.00856 C -0.80226 0.00972 -0.80799 0.00879 -0.81337 0.01087 C -0.81754 0.01249 -0.82066 0.01781 -0.82483 0.01943 C -0.82743 0.03052 -0.8349 0.0363 -0.83958 0.04578 C -0.8434 0.06104 -0.84184 0.05434 -0.84445 0.06544 C -0.84323 0.08787 -0.84358 0.09226 -0.83958 0.10891 C -0.8382 0.1237 -0.83958 0.14151 -0.82969 0.15052 C -0.82517 0.15931 -0.8217 0.15746 -0.81493 0.16139 C -0.7901 0.1755 -0.77049 0.17688 -0.74288 0.17896 C -0.73472 0.17966 -0.72639 0.18035 -0.71823 0.18104 C -0.71424 0.19677 -0.71684 0.19029 -0.71163 0.2007 C -0.71111 0.20278 -0.71129 0.20555 -0.71007 0.20717 C -0.70799 0.20995 -0.69254 0.21388 -0.68872 0.21388 E">
                                      <p:cBhvr>
                                        <p:cTn id="119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340000" y="1125360"/>
            <a:ext cx="47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ление двузначного числа на двузначное способом подбор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68360" y="1989000"/>
            <a:ext cx="489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дач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 учить делению двузначного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исла на двузначное способом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дбора; отрабатывать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числительные навы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развивать математическую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оркость;  навык самоконтроля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ообра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воспитывать интерес к предм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рез игру; готовность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заимовыручк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-200160" y="61920"/>
            <a:ext cx="9544320" cy="67341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2236680" cy="2665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785040" y="3043080"/>
            <a:ext cx="339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иклю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19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2166000">
            <a:off x="395280" y="5516640"/>
            <a:ext cx="1079640" cy="954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 rot="21452400">
            <a:off x="7451280" y="5157720"/>
            <a:ext cx="1146240" cy="1241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692360" y="5516640"/>
            <a:ext cx="223200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х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71640" y="3860640"/>
            <a:ext cx="208764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653000"/>
            <a:ext cx="24368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х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2637000"/>
            <a:ext cx="229248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77080" y="1413000"/>
            <a:ext cx="171612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3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46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14276" t="13031" r="45252" b="4331"/>
          <a:stretch/>
        </p:blipFill>
        <p:spPr>
          <a:xfrm>
            <a:off x="7020000" y="1052640"/>
            <a:ext cx="1481040" cy="16556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rcRect l="14276" t="13031" r="45252" b="4331"/>
          <a:stretch/>
        </p:blipFill>
        <p:spPr>
          <a:xfrm>
            <a:off x="7093080" y="2924280"/>
            <a:ext cx="1481040" cy="1655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rot="928200">
            <a:off x="7596000" y="12679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774000">
            <a:off x="7754400" y="31413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835280" y="2060640"/>
            <a:ext cx="3994200" cy="41767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771640" y="393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: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rcRect l="14276" t="13031" r="45252" b="4331"/>
          <a:stretch/>
        </p:blipFill>
        <p:spPr>
          <a:xfrm>
            <a:off x="7020000" y="4869000"/>
            <a:ext cx="1439640" cy="13665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rot="857400">
            <a:off x="7680240" y="50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0555 L -0.40937 -0.18335 E">
                                      <p:cBhvr>
                                        <p:cTn id="63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64:16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40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900000" y="37242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2016360" cy="14004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132000" y="1557360"/>
            <a:ext cx="2880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.18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04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979640" y="1503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:17=2           42:14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 rot="549000">
            <a:off x="6084720" y="3645000"/>
            <a:ext cx="24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236000" y="260280"/>
            <a:ext cx="158400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/>
            <a:ahLst/>
            <a:rect l="l" t="t" r="r" b="b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21222000">
            <a:off x="5219640" y="1484280"/>
            <a:ext cx="1940040" cy="1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130400">
            <a:off x="5219640" y="54936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9072800">
            <a:off x="5651280" y="2276640"/>
            <a:ext cx="189360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833000">
            <a:off x="6480720" y="274392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rcRect l="13002" t="0" r="11687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rcRect l="13002" t="0" r="11687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"/>
          <a:srcRect l="13002" t="0" r="11687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9"/>
          <a:srcRect l="13002" t="0" r="11687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0"/>
          <a:srcRect l="13002" t="0" r="11687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1"/>
          <a:stretch/>
        </p:blipFill>
        <p:spPr>
          <a:xfrm rot="18170400">
            <a:off x="2993040" y="198360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2"/>
          <a:stretch/>
        </p:blipFill>
        <p:spPr>
          <a:xfrm>
            <a:off x="6227640" y="4076640"/>
            <a:ext cx="158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9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01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8:55:34Z</dcterms:created>
  <dc:creator>komp</dc:creator>
  <dc:description/>
  <dc:language>en-US</dc:language>
  <cp:lastModifiedBy>Мама</cp:lastModifiedBy>
  <dcterms:modified xsi:type="dcterms:W3CDTF">2010-11-01T13:00:01Z</dcterms:modified>
  <cp:revision>7</cp:revision>
  <dc:subject/>
  <dc:title>Слайд 1</dc:title>
</cp:coreProperties>
</file>