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12.jpeg" ContentType="image/jpeg"/>
  <Override PartName="/ppt/media/image9.jpeg" ContentType="image/jpeg"/>
  <Override PartName="/ppt/media/image8.jpeg" ContentType="image/jpeg"/>
  <Override PartName="/ppt/media/image7.jpeg" ContentType="image/jpeg"/>
  <Override PartName="/ppt/media/image15.gif" ContentType="image/gif"/>
  <Override PartName="/ppt/media/image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11.gif" ContentType="image/gif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DC33-27B2-40F1-9804-6719160A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FF9E-3FA5-4AE8-8C75-399D331E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C37B-3DA9-401D-B328-53DEC207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9AA0-2CA1-42C0-AB13-FA70875F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DA04-0C7E-45E1-B773-86ECA9E4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2FD2-A920-415A-B1FC-9D14DDED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3C14-75B5-4AF0-80F6-4037E6BF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AD6C-1471-457F-B544-406057D5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A69A-CA0E-46AC-ADDE-7CF1D048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E7C7-7010-4B21-BD7F-C86DAB34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7EC7-4534-4006-B4BC-71062EEC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68A8-999E-443D-8786-4618780A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262F-88A9-4EAA-AA4F-574AB5D8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32A9-3D40-4A50-B94A-669855BA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A05B-0B36-4AB3-81C4-5A4EDF67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57F4-9017-4051-BF1B-45FEC1CA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99D7-6B2E-4E28-8243-79F22CDE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9D23D-CAF6-4736-8D32-DCCAC10A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4B9CA-2929-451D-A919-C488F043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E71C6-AD6B-432C-8127-CF99F05F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CDF56-9A1B-4BDC-A1B7-6CB0389D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8CB7E-FA30-407E-A9DA-E6B22F93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E1BC-257C-4262-977C-04421757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E2725-4CED-4D52-B689-B8ED9784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25F7E-8723-4BDA-A60A-81E5B2B6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7111E-E652-473A-9F9A-FD853F35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0D4F8-CA7C-4ED5-995B-7881CFED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47EB5-8948-4120-9BF2-8CE1FD9A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49F1A-9E4E-4E77-B065-E9D4A767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83A01-3181-4774-BF96-D97F0B7E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BFE19-3E87-469B-8EDD-B876A214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ECF38-1310-41C0-BD58-AB57FFF4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BE173-6F37-4109-B246-7DE4A78C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FB08-6579-42AB-99DC-B16F8C3B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8EEBE-9869-4947-96CA-B41F9E00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4065B-9276-43C4-A4F8-CB160352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FEC75-0BE0-497A-A0AE-5AB5E902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B4172-B2F6-4D1E-9F03-1925135E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C0759-89F1-457A-9489-95491297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93A59-C515-433C-B436-8C134C28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B175C-ED7E-4007-BA7E-2D32E752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CA762-9B72-4705-8299-66810DD43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BB133-C212-45FE-ABD7-2402A5C8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D7D3-6274-40F5-B66C-EAE87A82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674B-BABB-4BD9-8737-3CAFE1BC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64DB-8E6F-4CAE-942F-DD8D019D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E57E-72F6-483C-B25B-8A20E830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BACB-F003-420B-889A-C1394BA8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3FF3-0E7D-4089-A3A3-D39112371C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3C65-9C17-437D-B17E-A255E7FEE1E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4FD5-5018-443D-893C-BD5B7877321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2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2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6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8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19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2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23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5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3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9E7E-73C4-4F17-B755-02FBD747877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76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80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85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86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90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jpeg"/><Relationship Id="rId1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95280" y="836280"/>
            <a:ext cx="478476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Кащеева Надежда Валерьевна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учитель начальных классов,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учитель ИЗО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Краснооктябрьской СОШ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Курганской области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рок математики в 3 класс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216036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8:12         32:16       39:1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2        3         4          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136000" cy="602316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979640" y="2349360"/>
            <a:ext cx="2062080" cy="381636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3995640" y="2349360"/>
            <a:ext cx="1843200" cy="372600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4"/>
          <a:stretch/>
        </p:blipFill>
        <p:spPr>
          <a:xfrm rot="18170400">
            <a:off x="8538120" y="399240"/>
            <a:ext cx="1544400" cy="112392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5"/>
          <a:stretch/>
        </p:blipFill>
        <p:spPr>
          <a:xfrm rot="6211800">
            <a:off x="-210240" y="210240"/>
            <a:ext cx="15447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421 -0.14682 L 5E-006 -2.65896E-006 E">
                                      <p:cBhvr>
                                        <p:cTn id="113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7.51445E-007 C -0.00329 0.01202 -0.00468 0.02405 -0.00659 0.03653 C -0.00607 0.05595 -0.00538 0.07584 -0.00503 0.09549 C -0.00312 0.20139 -0.01753 0.20046 0.01997 0.26196 C 0.02778 0.27491 0.02066 0.27052 0.02987 0.27422 C 0.03386 0.28809 0.02761 0.27168 0.03976 0.28439 C 0.05105 0.29618 0.03056 0.28647 0.04653 0.29248 C 0.05938 0.30335 0.05955 0.31468 0.07639 0.31884 C 0.08507 0.32439 0.09306 0.32694 0.10278 0.32902 C 0.13212 0.32786 0.16146 0.32717 0.19063 0.32509 C 0.20712 0.3237 0.22188 0.31653 0.23855 0.31491 C 0.24341 0.31098 0.24723 0.3059 0.25191 0.30266 C 0.25625 0.29965 0.26216 0.29988 0.26702 0.2985 C 0.27934 0.29503 0.2908 0.29087 0.30348 0.28832 C 0.30955 0.28601 0.31389 0.28023 0.32014 0.27838 C 0.32379 0.27699 0.32778 0.27722 0.3316 0.2763 C 0.33785 0.27514 0.34393 0.27214 0.35 0.27006 C 0.35955 0.25827 0.37691 0.25503 0.38959 0.24994 C 0.39132 0.24925 0.39306 0.24879 0.39462 0.24763 C 0.39671 0.24647 0.39896 0.24462 0.40122 0.2437 C 0.41181 0.23884 0.40452 0.24532 0.41615 0.23769 C 0.42726 0.23006 0.42726 0.22867 0.43941 0.22543 C 0.44445 0.2215 0.44879 0.21965 0.45417 0.21734 C 0.45921 0.20855 0.46424 0.20555 0.47275 0.20324 C 0.48125 0.19491 0.49167 0.19168 0.50243 0.1889 C 0.51302 0.18011 0.51615 0.17942 0.529 0.17665 C 0.53768 0.17295 0.54497 0.16925 0.55382 0.1667 C 0.57778 0.15191 0.56528 0.15769 0.62171 0.16439 C 0.62518 0.16485 0.62726 0.16925 0.63021 0.17064 C 0.63664 0.17387 0.65 0.17873 0.65 0.17896 C 0.65799 0.1859 0.66754 0.19537 0.67657 0.19907 C 0.68039 0.20069 0.68681 0.20301 0.68993 0.20509 C 0.69237 0.2067 0.6941 0.20948 0.69636 0.2111 C 0.70296 0.21572 0.7099 0.21896 0.7165 0.22335 C 0.72275 0.22774 0.72535 0.23491 0.73143 0.23977 C 0.7349 0.2467 0.73924 0.2504 0.74115 0.25803 C 0.73959 0.28532 0.74636 0.31075 0.73143 0.32902 C 0.72952 0.34335 0.72518 0.36 0.71806 0.37156 C 0.71459 0.39306 0.71893 0.37179 0.71302 0.39006 C 0.70903 0.40277 0.70695 0.41734 0.70469 0.43052 C 0.70521 0.43329 0.70677 0.43607 0.70643 0.43884 C 0.70573 0.44462 0.70157 0.45503 0.70157 0.45526 C 0.70209 0.46451 0.70157 0.47422 0.70313 0.48347 C 0.70365 0.4867 0.70695 0.48855 0.70799 0.49156 C 0.70921 0.4948 0.70834 0.49873 0.70973 0.50173 C 0.71129 0.5052 0.71893 0.51399 0.72292 0.51399 E">
                                      <p:cBhvr>
                                        <p:cTn id="116" dur="2000" fill="hold"/>
                                        <p:tgtEl>
                                          <p:spTgt spid="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726 0.02174 C -0.08108 0.03214 -0.08611 0.04116 -0.08872 0.05226 C -0.09045 0.06891 -0.09618 0.0881 -0.10347 0.10243 C -0.10399 0.10683 -0.10399 0.11145 -0.10504 0.11561 C -0.10573 0.11815 -0.10764 0.11954 -0.10833 0.12209 C -0.11476 0.14428 -0.10538 0.12347 -0.11337 0.13966 C -0.11615 0.15446 -0.12118 0.16509 -0.12639 0.17896 C -0.12708 0.18104 -0.12708 0.18359 -0.12813 0.18544 C -0.12934 0.18798 -0.1316 0.1896 -0.13299 0.19191 C -0.1342 0.19399 -0.13524 0.1963 -0.13629 0.19862 C -0.13802 0.2111 -0.13941 0.22012 -0.14618 0.22914 C -0.14965 0.23908 -0.15156 0.25041 -0.1559 0.25966 C -0.15833 0.26498 -0.16129 0.26983 -0.16406 0.27492 C -0.1651 0.277 -0.16736 0.28139 -0.16736 0.28139 C -0.16945 0.29457 -0.17205 0.30474 -0.18056 0.31214 C -0.18611 0.33503 -0.20243 0.35399 -0.21823 0.3644 C -0.22396 0.37596 -0.23299 0.38289 -0.24288 0.38636 C -0.24913 0.39469 -0.25139 0.39353 -0.2592 0.39723 C -0.27622 0.39654 -0.29306 0.3963 -0.31007 0.39492 C -0.31233 0.39469 -0.31476 0.39446 -0.31667 0.39284 C -0.31823 0.39145 -0.31823 0.38798 -0.31979 0.38636 C -0.32396 0.38174 -0.33142 0.37966 -0.33629 0.37526 C -0.34063 0.36694 -0.34688 0.36602 -0.35104 0.35792 C -0.35695 0.34683 -0.35226 0.35237 -0.3559 0.34266 C -0.36337 0.32255 -0.35486 0.35122 -0.36267 0.3274 C -0.36615 0.31654 -0.36858 0.30521 -0.3724 0.29457 C -0.37292 0.29087 -0.37292 0.28717 -0.37396 0.2837 C -0.37465 0.28116 -0.37656 0.27977 -0.37726 0.27723 C -0.38316 0.25365 -0.37465 0.27237 -0.38212 0.25758 C -0.38385 0.23746 -0.38681 0.21758 -0.39531 0.2007 C -0.39913 0.18451 -0.40486 0.16972 -0.41337 0.157 C -0.41649 0.15237 -0.41945 0.14752 -0.42309 0.14405 C -0.42656 0.14104 -0.43299 0.13526 -0.43299 0.13526 C -0.43403 0.13295 -0.43472 0.13018 -0.43629 0.12856 C -0.43767 0.12717 -0.43958 0.1274 -0.44115 0.12648 C -0.44792 0.12209 -0.45156 0.11607 -0.45938 0.1133 C -0.4625 0.11052 -0.4658 0.10752 -0.4691 0.10474 C -0.47205 0.1022 -0.47882 0.10035 -0.47882 0.10035 C -0.49097 0.08972 -0.47535 0.1022 -0.49201 0.09365 C -0.49392 0.09272 -0.49514 0.09041 -0.49688 0.08925 C -0.50833 0.08255 -0.52118 0.07931 -0.53299 0.07399 C -0.55278 0.06521 -0.52517 0.0733 -0.54774 0.06752 C -0.56337 0.05711 -0.54375 0.06914 -0.56406 0.06104 C -0.56649 0.06012 -0.5684 0.05758 -0.57066 0.05665 C -0.575 0.0548 -0.58385 0.05226 -0.58385 0.05226 C -0.59948 0.04185 -0.60799 0.04116 -0.62639 0.03908 C -0.64601 0.02844 -0.66215 0.02567 -0.68385 0.02382 C -0.69983 0.01688 -0.67257 0.02798 -0.71493 0.01943 C -0.71736 0.01896 -0.71927 0.01619 -0.72153 0.01503 C -0.72517 0.01318 -0.72899 0.01157 -0.73299 0.01087 C -0.74306 0.00902 -0.78559 0.00694 -0.79201 0.00648 C -0.79358 0.00717 -0.79514 0.00833 -0.79688 0.00856 C -0.80226 0.00972 -0.80799 0.00879 -0.81337 0.01087 C -0.81754 0.01249 -0.82066 0.01781 -0.82483 0.01943 C -0.82743 0.03052 -0.8349 0.0363 -0.83958 0.04578 C -0.8434 0.06104 -0.84184 0.05434 -0.84445 0.06544 C -0.84323 0.08787 -0.84358 0.09226 -0.83958 0.10891 C -0.8382 0.1237 -0.83958 0.14151 -0.82969 0.15052 C -0.82517 0.15931 -0.8217 0.15746 -0.81493 0.16139 C -0.7901 0.1755 -0.77049 0.17688 -0.74288 0.17896 C -0.73472 0.17966 -0.72639 0.18035 -0.71823 0.18104 C -0.71424 0.19677 -0.71684 0.19029 -0.71163 0.2007 C -0.71111 0.20278 -0.71129 0.20555 -0.71007 0.20717 C -0.70799 0.20995 -0.69254 0.21388 -0.68872 0.21388 E">
                                      <p:cBhvr>
                                        <p:cTn id="119" dur="20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2340000" y="1125360"/>
            <a:ext cx="477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Тема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деление двузначного числа на двузначное способом подбор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268360" y="1989000"/>
            <a:ext cx="4896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Задач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. учить делению двузначного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числа на двузначное способом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одбора; отрабатывать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вычислительные навы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. развивать математическую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зоркость;  навык самоконтроля;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воображ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. воспитывать интерес к предмет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через игру; готовность 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взаимовыручк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-200160" y="61920"/>
            <a:ext cx="9544320" cy="67341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755640" y="3068640"/>
            <a:ext cx="2236680" cy="266544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3785040" y="3043080"/>
            <a:ext cx="339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Приключ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Бурати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591984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>
            <a:lum bright="-18000"/>
          </a:blip>
          <a:srcRect l="55407" t="0" r="6812" b="0"/>
          <a:stretch/>
        </p:blipFill>
        <p:spPr>
          <a:xfrm rot="2166000">
            <a:off x="395280" y="5516640"/>
            <a:ext cx="1079640" cy="95400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3">
            <a:lum bright="-18000"/>
          </a:blip>
          <a:srcRect l="55407" t="0" r="6812" b="0"/>
          <a:stretch/>
        </p:blipFill>
        <p:spPr>
          <a:xfrm rot="21452400">
            <a:off x="7451280" y="5157720"/>
            <a:ext cx="1146240" cy="124164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1692360" y="5516640"/>
            <a:ext cx="2232000" cy="936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х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71640" y="3860640"/>
            <a:ext cx="2087640" cy="935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: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435640" y="4653000"/>
            <a:ext cx="2436840" cy="79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х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59280" y="2637000"/>
            <a:ext cx="229248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: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877080" y="1413000"/>
            <a:ext cx="171612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7199 L 0.0184 -0.10718 C 0.03368 -0.12315 0.06823 -0.11505 0.08125 -0.0926 L 0.11024 -0.04283 E">
                                      <p:cBhvr>
                                        <p:cTn id="23" dur="5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07 -0.04306 L 0.19219 0.03426 E">
                                      <p:cBhvr>
                                        <p:cTn id="26" dur="5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7199 L 0.0184 -0.10718 C 0.03368 -0.12315 0.06823 -0.11505 0.08125 -0.0926 L 0.11024 -0.04283 E">
                                      <p:cBhvr>
                                        <p:cTn id="46" dur="5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07 -0.04306 L 0.19219 0.03426 E">
                                      <p:cBhvr>
                                        <p:cTn id="49" dur="5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rcRect l="14276" t="13031" r="45252" b="4331"/>
          <a:stretch/>
        </p:blipFill>
        <p:spPr>
          <a:xfrm>
            <a:off x="7020000" y="1052640"/>
            <a:ext cx="1481040" cy="165564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2"/>
          <a:srcRect l="14276" t="13031" r="45252" b="4331"/>
          <a:stretch/>
        </p:blipFill>
        <p:spPr>
          <a:xfrm>
            <a:off x="7093080" y="2924280"/>
            <a:ext cx="1481040" cy="165564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 rot="928200">
            <a:off x="7596000" y="126792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774000">
            <a:off x="7754400" y="314136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1835280" y="2060640"/>
            <a:ext cx="3994200" cy="417672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2771640" y="393372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4: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4"/>
          <a:srcRect l="14276" t="13031" r="45252" b="4331"/>
          <a:stretch/>
        </p:blipFill>
        <p:spPr>
          <a:xfrm>
            <a:off x="7020000" y="4869000"/>
            <a:ext cx="1439640" cy="136656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 rot="857400">
            <a:off x="7680240" y="5043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27 0.00555 L -0.40937 -0.18335 E">
                                      <p:cBhvr>
                                        <p:cTn id="63" dur="2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64:16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6800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14016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900000" y="3724200"/>
            <a:ext cx="1656000" cy="134928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3"/>
          <a:stretch/>
        </p:blipFill>
        <p:spPr>
          <a:xfrm>
            <a:off x="5940360" y="3213000"/>
            <a:ext cx="2016360" cy="140040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3132000" y="1557360"/>
            <a:ext cx="2880000" cy="1584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С.18 №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59040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1979640" y="150336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1:17=2           42:14=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 rot="549000">
            <a:off x="6084720" y="3645000"/>
            <a:ext cx="2433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7236000" y="260280"/>
            <a:ext cx="1584000" cy="15843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669000">
            <a:off x="394920" y="475920"/>
            <a:ext cx="2158920" cy="1295280"/>
          </a:xfrm>
          <a:prstGeom prst="cloudCallout">
            <a:avLst>
              <a:gd name="adj1" fmla="val -56615"/>
              <a:gd name="adj2" fmla="val -12259"/>
            </a:avLst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47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rot="21420600">
            <a:off x="-181080" y="4331880"/>
            <a:ext cx="7489800" cy="2978280"/>
          </a:xfrm>
          <a:custGeom>
            <a:avLst/>
            <a:gdLst/>
            <a:ahLst/>
            <a:rect l="l" t="t" r="r" b="b"/>
            <a:pathLst>
              <a:path w="3295" h="1767">
                <a:moveTo>
                  <a:pt x="82" y="0"/>
                </a:moveTo>
                <a:cubicBezTo>
                  <a:pt x="121" y="13"/>
                  <a:pt x="163" y="11"/>
                  <a:pt x="202" y="24"/>
                </a:cubicBezTo>
                <a:cubicBezTo>
                  <a:pt x="377" y="18"/>
                  <a:pt x="438" y="9"/>
                  <a:pt x="594" y="24"/>
                </a:cubicBezTo>
                <a:cubicBezTo>
                  <a:pt x="634" y="28"/>
                  <a:pt x="667" y="62"/>
                  <a:pt x="706" y="72"/>
                </a:cubicBezTo>
                <a:cubicBezTo>
                  <a:pt x="721" y="82"/>
                  <a:pt x="741" y="83"/>
                  <a:pt x="754" y="96"/>
                </a:cubicBezTo>
                <a:cubicBezTo>
                  <a:pt x="760" y="102"/>
                  <a:pt x="756" y="114"/>
                  <a:pt x="762" y="120"/>
                </a:cubicBezTo>
                <a:cubicBezTo>
                  <a:pt x="772" y="130"/>
                  <a:pt x="840" y="155"/>
                  <a:pt x="858" y="168"/>
                </a:cubicBezTo>
                <a:cubicBezTo>
                  <a:pt x="887" y="189"/>
                  <a:pt x="915" y="212"/>
                  <a:pt x="946" y="232"/>
                </a:cubicBezTo>
                <a:cubicBezTo>
                  <a:pt x="949" y="240"/>
                  <a:pt x="948" y="250"/>
                  <a:pt x="954" y="256"/>
                </a:cubicBezTo>
                <a:cubicBezTo>
                  <a:pt x="960" y="262"/>
                  <a:pt x="970" y="260"/>
                  <a:pt x="978" y="264"/>
                </a:cubicBezTo>
                <a:cubicBezTo>
                  <a:pt x="1003" y="276"/>
                  <a:pt x="1026" y="291"/>
                  <a:pt x="1050" y="304"/>
                </a:cubicBezTo>
                <a:cubicBezTo>
                  <a:pt x="1101" y="332"/>
                  <a:pt x="1129" y="380"/>
                  <a:pt x="1162" y="424"/>
                </a:cubicBezTo>
                <a:cubicBezTo>
                  <a:pt x="1165" y="432"/>
                  <a:pt x="1166" y="441"/>
                  <a:pt x="1170" y="448"/>
                </a:cubicBezTo>
                <a:cubicBezTo>
                  <a:pt x="1177" y="460"/>
                  <a:pt x="1189" y="468"/>
                  <a:pt x="1194" y="480"/>
                </a:cubicBezTo>
                <a:cubicBezTo>
                  <a:pt x="1203" y="504"/>
                  <a:pt x="1202" y="602"/>
                  <a:pt x="1242" y="608"/>
                </a:cubicBezTo>
                <a:cubicBezTo>
                  <a:pt x="1311" y="617"/>
                  <a:pt x="1381" y="613"/>
                  <a:pt x="1450" y="616"/>
                </a:cubicBezTo>
                <a:cubicBezTo>
                  <a:pt x="1481" y="631"/>
                  <a:pt x="1507" y="645"/>
                  <a:pt x="1530" y="672"/>
                </a:cubicBezTo>
                <a:cubicBezTo>
                  <a:pt x="1549" y="695"/>
                  <a:pt x="1571" y="727"/>
                  <a:pt x="1602" y="736"/>
                </a:cubicBezTo>
                <a:cubicBezTo>
                  <a:pt x="1620" y="741"/>
                  <a:pt x="1639" y="741"/>
                  <a:pt x="1658" y="744"/>
                </a:cubicBezTo>
                <a:cubicBezTo>
                  <a:pt x="1692" y="766"/>
                  <a:pt x="1713" y="769"/>
                  <a:pt x="1754" y="776"/>
                </a:cubicBezTo>
                <a:cubicBezTo>
                  <a:pt x="1781" y="787"/>
                  <a:pt x="1807" y="797"/>
                  <a:pt x="1834" y="808"/>
                </a:cubicBezTo>
                <a:cubicBezTo>
                  <a:pt x="1888" y="829"/>
                  <a:pt x="1924" y="882"/>
                  <a:pt x="1978" y="904"/>
                </a:cubicBezTo>
                <a:cubicBezTo>
                  <a:pt x="2046" y="931"/>
                  <a:pt x="2134" y="951"/>
                  <a:pt x="2186" y="1008"/>
                </a:cubicBezTo>
                <a:cubicBezTo>
                  <a:pt x="2186" y="1008"/>
                  <a:pt x="2268" y="1110"/>
                  <a:pt x="2274" y="1128"/>
                </a:cubicBezTo>
                <a:cubicBezTo>
                  <a:pt x="2277" y="1136"/>
                  <a:pt x="2277" y="1145"/>
                  <a:pt x="2282" y="1152"/>
                </a:cubicBezTo>
                <a:cubicBezTo>
                  <a:pt x="2322" y="1201"/>
                  <a:pt x="2363" y="1225"/>
                  <a:pt x="2410" y="1264"/>
                </a:cubicBezTo>
                <a:cubicBezTo>
                  <a:pt x="2438" y="1287"/>
                  <a:pt x="2452" y="1323"/>
                  <a:pt x="2482" y="1344"/>
                </a:cubicBezTo>
                <a:cubicBezTo>
                  <a:pt x="2525" y="1375"/>
                  <a:pt x="2586" y="1384"/>
                  <a:pt x="2634" y="1408"/>
                </a:cubicBezTo>
                <a:cubicBezTo>
                  <a:pt x="2759" y="1398"/>
                  <a:pt x="2777" y="1392"/>
                  <a:pt x="2930" y="1408"/>
                </a:cubicBezTo>
                <a:cubicBezTo>
                  <a:pt x="2960" y="1411"/>
                  <a:pt x="2994" y="1442"/>
                  <a:pt x="3026" y="1448"/>
                </a:cubicBezTo>
                <a:cubicBezTo>
                  <a:pt x="3103" y="1487"/>
                  <a:pt x="3081" y="1480"/>
                  <a:pt x="3202" y="1488"/>
                </a:cubicBezTo>
                <a:cubicBezTo>
                  <a:pt x="3295" y="1767"/>
                  <a:pt x="2444" y="1553"/>
                  <a:pt x="2330" y="1552"/>
                </a:cubicBezTo>
                <a:cubicBezTo>
                  <a:pt x="2266" y="1541"/>
                  <a:pt x="2210" y="1535"/>
                  <a:pt x="2146" y="1544"/>
                </a:cubicBezTo>
                <a:cubicBezTo>
                  <a:pt x="1834" y="1534"/>
                  <a:pt x="1755" y="1530"/>
                  <a:pt x="1386" y="1536"/>
                </a:cubicBezTo>
                <a:cubicBezTo>
                  <a:pt x="1323" y="1578"/>
                  <a:pt x="1232" y="1522"/>
                  <a:pt x="1162" y="1520"/>
                </a:cubicBezTo>
                <a:cubicBezTo>
                  <a:pt x="914" y="1512"/>
                  <a:pt x="666" y="1509"/>
                  <a:pt x="418" y="1504"/>
                </a:cubicBezTo>
                <a:cubicBezTo>
                  <a:pt x="329" y="1445"/>
                  <a:pt x="193" y="1462"/>
                  <a:pt x="106" y="1520"/>
                </a:cubicBezTo>
                <a:cubicBezTo>
                  <a:pt x="95" y="1517"/>
                  <a:pt x="76" y="1523"/>
                  <a:pt x="74" y="1512"/>
                </a:cubicBezTo>
                <a:cubicBezTo>
                  <a:pt x="59" y="1414"/>
                  <a:pt x="0" y="498"/>
                  <a:pt x="66" y="696"/>
                </a:cubicBezTo>
                <a:cubicBezTo>
                  <a:pt x="111" y="560"/>
                  <a:pt x="45" y="408"/>
                  <a:pt x="90" y="272"/>
                </a:cubicBezTo>
                <a:cubicBezTo>
                  <a:pt x="94" y="212"/>
                  <a:pt x="117" y="102"/>
                  <a:pt x="98" y="40"/>
                </a:cubicBezTo>
                <a:cubicBezTo>
                  <a:pt x="95" y="31"/>
                  <a:pt x="82" y="29"/>
                  <a:pt x="74" y="24"/>
                </a:cubicBezTo>
                <a:cubicBezTo>
                  <a:pt x="77" y="16"/>
                  <a:pt x="82" y="0"/>
                  <a:pt x="82" y="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2">
            <a:lum bright="-18000"/>
          </a:blip>
          <a:srcRect l="55407" t="0" r="6812" b="0"/>
          <a:stretch/>
        </p:blipFill>
        <p:spPr>
          <a:xfrm rot="1489800">
            <a:off x="4003200" y="5670720"/>
            <a:ext cx="1079640" cy="954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 rot="20037000">
            <a:off x="5740560" y="1984320"/>
            <a:ext cx="115236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rot="21222000">
            <a:off x="5219640" y="1484280"/>
            <a:ext cx="1940040" cy="1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466200">
            <a:off x="5573520" y="1123920"/>
            <a:ext cx="115236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rot="1130400">
            <a:off x="5219640" y="549360"/>
            <a:ext cx="1951200" cy="117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rot="19072800">
            <a:off x="5651280" y="2276640"/>
            <a:ext cx="1893600" cy="136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rot="18183000">
            <a:off x="6329880" y="2548440"/>
            <a:ext cx="115272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16833000">
            <a:off x="6480720" y="2743920"/>
            <a:ext cx="194328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15939000">
            <a:off x="7198560" y="2670480"/>
            <a:ext cx="115236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3"/>
          <a:stretch/>
        </p:blipFill>
        <p:spPr>
          <a:xfrm>
            <a:off x="-252360" y="2421000"/>
            <a:ext cx="1595520" cy="25923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4"/>
          <a:stretch/>
        </p:blipFill>
        <p:spPr>
          <a:xfrm>
            <a:off x="468360" y="3213000"/>
            <a:ext cx="1595520" cy="16812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5"/>
          <a:stretch/>
        </p:blipFill>
        <p:spPr>
          <a:xfrm>
            <a:off x="1116000" y="3933720"/>
            <a:ext cx="1049400" cy="110484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6"/>
          <a:srcRect l="13002" t="0" r="11687" b="0"/>
          <a:stretch/>
        </p:blipFill>
        <p:spPr>
          <a:xfrm>
            <a:off x="395280" y="52308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7"/>
          <a:srcRect l="13002" t="0" r="11687" b="0"/>
          <a:stretch/>
        </p:blipFill>
        <p:spPr>
          <a:xfrm>
            <a:off x="1403280" y="5919840"/>
            <a:ext cx="938160" cy="93816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8"/>
          <a:srcRect l="13002" t="0" r="11687" b="0"/>
          <a:stretch/>
        </p:blipFill>
        <p:spPr>
          <a:xfrm>
            <a:off x="3059280" y="6021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9"/>
          <a:srcRect l="13002" t="0" r="11687" b="0"/>
          <a:stretch/>
        </p:blipFill>
        <p:spPr>
          <a:xfrm>
            <a:off x="4643280" y="6281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10"/>
          <a:srcRect l="13002" t="0" r="11687" b="0"/>
          <a:stretch/>
        </p:blipFill>
        <p:spPr>
          <a:xfrm>
            <a:off x="1763640" y="4869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11"/>
          <a:stretch/>
        </p:blipFill>
        <p:spPr>
          <a:xfrm rot="18170400">
            <a:off x="2993040" y="1983600"/>
            <a:ext cx="1544400" cy="112392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12"/>
          <a:stretch/>
        </p:blipFill>
        <p:spPr>
          <a:xfrm>
            <a:off x="6227640" y="4076640"/>
            <a:ext cx="1584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7199 L 0.0184 -0.10718 C 0.03368 -0.12315 0.06823 -0.11505 0.08125 -0.0926 L 0.11024 -0.04283 E">
                                      <p:cBhvr>
                                        <p:cTn id="98" dur="5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07 -0.04306 L 0.19219 0.03426 E">
                                      <p:cBhvr>
                                        <p:cTn id="101" dur="5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18:55:34Z</dcterms:created>
  <dc:creator>komp</dc:creator>
  <dc:description/>
  <dc:language>en-US</dc:language>
  <cp:lastModifiedBy>Мама</cp:lastModifiedBy>
  <dcterms:modified xsi:type="dcterms:W3CDTF">2010-11-01T13:00:01Z</dcterms:modified>
  <cp:revision>7</cp:revision>
  <dc:subject/>
  <dc:title>Слайд 1</dc:title>
</cp:coreProperties>
</file>