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D3B71-4DEA-4BD9-91D3-42D1B97A3BE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идоизмененный побег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редставляет собой орган растения, у которого форма и функция стебля, почек и листьев необратимо изменены в процессе эволюционных приспособлений к определенным условиям существования организма. У культурных растений видоизменение побега обусловлено вмешательством челове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аморфозы побега могут быть как незначительными, так и существенными – до сильно измененных форм растени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аморфозам подвергаются как главные, так и боковые побеги, а также почки и листь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779F8-5028-4B0D-889E-32D8C8D6091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севдобульба, или ложная луковица, или туберидий, или надземный клубень, или воздушный клубень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— утолщённая верхушечная часть стебля у представителей семейства орхидных (Orchidaceae), характерный орган эпифитных представителей этого семейств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ужит растениям в качестве особого органа для хранения воды и питательных веществ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FB157-8166-4E29-9C26-39EB09ADBB2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восполнения недостало питательных веществ в почве и прежде всего недостатка азота у насекомоядных растений (росянки круглолистной, пузырчатки обыкновенной, непентеса гибридного и др.) образуются видоизмененные листья —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ловчие  аппара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62D83-16F5-4463-B4EB-26E4C501388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щё видоизмененными побегами считаются-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енская шишка - видоизмененный побег в виде маленькой красной шишечки, развивающейся на концах ветвей. На верхней стороне чешуек женских шишек располагаются по две семяпочки, в каждой из которых формируются яйцеклетки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ужская шишка - видоизмененный побег в виде маленькой желтой шишечки, На чешуйках мужских шишек находятся пыльцевые мешки, где развивается пыльца, имеющая два воздушных пузырьк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8B003-F9D8-4CA4-904A-689E631209B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щё видоизмененными побегами считаются-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енская шишка - видоизмененный побег в виде маленькой красной шишечки, развивающейся на концах ветвей. На верхней стороне чешуек женских шишек располагаются по две семяпочки, в каждой из которых формируются яйцеклетки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ужская шишка - видоизмененный побег в виде маленькой желтой шишечки, На чешуйках мужских шишек находятся пыльцевые мешки, где развивается пыльца, имеющая два воздушных пузырьк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AE1D1-A3FF-4EF1-8E1E-EDC089A7389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ряду с типичными побегами, у которых листья осуществляют фотосинтез, а стебли обеспечивают наиболее целесообразное размещение листьев в пространстве, у растений часто развиваются видоизмененные побег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оизмененные надземные побеги характерны для многих растений. При этом видоизменяются как отдельные части побега (стебель, листья, почки), так и побег в цел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оизменёнными называются такие побеги, которые выполняют некоторые дополнительные функции: защита, лазание, запасание питательных веществ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видоизменённым побегам относят колючки, усики, клубни, сочные побеги, столоны, побеги насекомоядных растени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6CF62-33AA-4AAB-A69D-D167D66F6F2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вольно распространенными видоизменениями частей побега являются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колючки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У некоторых растений в колючки превращаются листья (у барбариса, кактусов), прилистники (у белой акации) или черешок листа после опадения листовой пластинки (у астрагалов). У боярышника, жостера, дикой яблони, дикой груши в колючку преобразовывается стебель некоторых боковых побег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2B208-DE73-44EF-A906-A57B9A5E968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ик – это побег метамерной структуры без листьев, имеющий жгутовидную форму с разветвлениями или без них. Благодаря наличию стеблевых усиков, растение получает дополнительную опору. Выпрямленный участок усика без разветвлений является первым междоузлием пазушного побега, а закрученный более тонкий участок является видоизмененным листом. Усики развиваются у растений, которые не способны самостоятельно находиться в вертикальном положении. Усики есть у страстоцвета голубого, винограда, у многих представителей семейства Тыквенные (тыква, арбуз, дыня, огурец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D1B0C-0315-45C9-AD15-48448E57B7F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ладодий -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оизмененный уплощенный стебель ряда растений, не имеющих настоящих листьев или их быстро сбрасывающи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додий выполняет функцию листьев (функцию фотосинтеза). Например, у кактусов опунц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додий представляет собой боковой побег, подвергшийся видоизменению, который способен к продолжительному росту и имеющий зеленые уплощенные длинные стебли, берущие на себя функции листьев. Кладодий выполняет функцию фотосинтеза, так как под эпидермой расположены отлично развитые хлорофиллоносные клетки. К группе растений, имеющих кладодий, относят кактус-декабрист, опунцию, мюленбекию плоскоцветочную, кармихелию южну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710AD-0379-467B-8111-EEA380088E3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иллоклади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является видоизмененным плоским листовидным боковым побегом, который имеет ограниченный рост и выполняет роль листа в жизни растения. Боковые почки побега дают начало филлокладиям, в связи с чем, филлокладии всегда расположены в пазухах маленьких чешуевидных или пленчатых листьев. Такие видоизмененные побеги выполняют функцию фотосинтеза, поэтому внешне выглядят как листья. Их рост ограничен, а метамерной структуры строения нет. Филлокладии присущи таким растениям, как филлантус, смела, иглица, некоторым представителям рода Спарж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B4668-B70C-4E56-AB94-A5D020B3D3A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тения с видоизмененными побегами наиболее часто встречаются в засушливых районах, где ощущается недостаток влаги, и поэтому у вегетативных органов растений начинает преобладать функция запасания воды. Растения с такими побегами называют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суккулентам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очан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— суккулентный орган, образующийся у обычной культурной капусты. Приспособительная форма кочана возникла как видоизменение части розетки. у обыкновенной, или кочанной, капусты образуется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кочан,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состоящий из короткого стебля с многочисленными толстыми, перекрывающими друг друга листьями, почти лишенными хлоропластов. Кочан по существу представляет собой метаморфизированную гигантскую почку, т. е. зачаточный побег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0CC34-3D62-4ED1-9AFE-EB43C6F39B3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чные побеги (суккулентные) – приспособление растений к жаркому и сухому климату. Их функция – запасать влагу. Вода может накапливаться в листьях (очиток, молодило, алоэ) или в стебле (молочай, кактус)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ксиканские кактусы имеют мясистые стебли самой разнообразной формы: ребристые шары, колонны, цилиндры, даже канделябры и лепёшки. У кактусов нет зелёных листьев: они превратились в пучки колючек. Функцию фотосинтеза выполняют стеб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8A832-3CDD-4A39-AA6D-BFFD92DC6B7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2" descr="fsdhn ifez iez 6754 fgds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Text Box 8"/>
          <p:cNvSpPr/>
          <p:nvPr/>
        </p:nvSpPr>
        <p:spPr>
          <a:xfrm>
            <a:off x="7624440" y="6375240"/>
            <a:ext cx="18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Page </a:t>
            </a:r>
            <a:fld id="{6E87747E-6A39-4606-A76D-5D933A6C576E}" type="slidenum">
              <a:rPr b="1" lang="fr-F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text=&#1087;&#1089;&#1077;&#1074;&#1076;&#1086;&#1073;&#1091;&#1083;&#1100;&#1073;&#1072;%20&#1091;%20&#1086;&#1088;&#1093;&#1080;&#1076;&#1085;&#1099;&#1093;%20&#1092;&#1086;&#1090;&#1086;&amp;fp=0&amp;pos=2&amp;uinfo=ww-1349-wh-612-fw-1124-fh-448-pd-1&amp;rpt=simage&amp;img_url=http%3A%2F%2Fwww.fermer1.ru%2Fsites%2Fdefault%2Ffiles%2Fimagecache%2F500x500%2Fwysiwyg_imageupload%2F3220%2F080e4ca5f93d4c65eaea5eb97bf159bd.jpg" TargetMode="External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file://upload.wikimedia.org/wikipedia/commons/2/20/2007-03-20CChlorophytum_comosum_Bonnie.jpg" TargetMode="External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text=&#1092;&#1086;&#1090;&#1086;%20&#1088;&#1086;&#1089;&#1103;&#1085;&#1082;&#1080;%20&#1082;&#1088;&#1091;&#1075;&#1083;&#1086;&#1083;&#1080;&#1089;&#1090;&#1085;&#1086;&#1081;&amp;fp=0&amp;img_url=http%3A%2F%2Fclub.foto.ru%2Fgallery%2Fimages%2Fphoto%2F2007%2F12%2F12%2F1004993.jpg&amp;pos=15&amp;uinfo=ww-1349-wh-612-fw-1124-fh-448-pd-1&amp;rpt=simage" TargetMode="External"/><Relationship Id="rId2" Type="http://schemas.openxmlformats.org/officeDocument/2006/relationships/image" Target="../media/image17.jpeg"/><Relationship Id="rId3" Type="http://schemas.openxmlformats.org/officeDocument/2006/relationships/hyperlink" Target="http://images.yandex.ru/yandsearch?text=&#1092;&#1086;&#1090;&#1086;%20&#1087;&#1091;&#1079;&#1099;&#1088;&#1095;&#1072;&#1090;&#1082;&#1072;%20&#1086;&#1073;&#1099;&#1082;&#1085;&#1086;&#1074;&#1077;&#1085;&#1085;&#1072;&#1103;&amp;fp=0&amp;img_url=http%3A%2F%2Fmolbiol.ru%2Fforums%2Fuploads%2Fa001%2Fb015%2Fpost-17068-1183295235.jpg&amp;pos=14&amp;uinfo=ww-1349-wh-612-fw-1124-fh-448-pd-1&amp;rpt=simage" TargetMode="External"/><Relationship Id="rId4" Type="http://schemas.openxmlformats.org/officeDocument/2006/relationships/image" Target="../media/image18.jpeg"/><Relationship Id="rId5" Type="http://schemas.openxmlformats.org/officeDocument/2006/relationships/hyperlink" Target="http://images.yandex.ru/yandsearch?text=&#1092;&#1086;&#1090;&#1086;%20&#1085;&#1077;&#1087;&#1077;&#1085;&#1090;&#1077;&#1089;%20&#1075;&#1080;&#1073;&#1088;&#1080;&#1076;&#1085;&#1099;&#1081;&amp;fp=0&amp;pos=1&amp;uinfo=ww-1349-wh-612-fw-1124-fh-448-pd-1&amp;rpt=simage&amp;img_url=http%3A%2F%2Fcs3.a5.ru%2Fmedia%2Fc0%2F67%2F8f%2F512_c0678f4a6636180b5c232e05ca31308d.jpg" TargetMode="External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text=&#1092;&#1086;&#1090;&#1086;%20&#1078;&#1077;&#1085;&#1089;&#1082;&#1072;&#1103;%20&#1080;%20&#1084;&#1091;&#1078;&#1089;&#1082;&#1072;&#1103;%20&#1096;&#1080;&#1096;&#1082;&#1072;%20&#1077;&#1083;&#1080;&amp;fp=0&amp;img_url=http%3A%2F%2Fimg1.liveinternet.ru%2Fimages%2Fattach%2Fc%2F8%2F100%2F817%2F100817863_tsvetushayaelzhenskieshishki.jpg&amp;pos=3&amp;uinfo=ww-1349-wh-612-fw-1124-fh-448-pd-1&amp;rpt=simage" TargetMode="External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text=&#1092;&#1086;&#1090;&#1086;%20%20&#1084;&#1091;&#1078;&#1089;&#1082;&#1072;&#1103;%20&#1096;&#1080;&#1096;&#1082;&#1072;%20&#1077;&#1083;&#1080;&amp;fp=0&amp;pos=23&amp;uinfo=ww-1349-wh-612-fw-1124-fh-448-pd-1&amp;rpt=simage&amp;img_url=http%3A%2F%2Fwww.murman.ru%2Fflora%2Fpictures%2Fp100046.jpg" TargetMode="External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text=&#1082;&#1086;&#1083;&#1102;&#1095;&#1082;&#1080;%20&#1073;&#1072;&#1088;&#1073;&#1072;&#1088;&#1080;&#1089;&#1072;%20&#1080;%20&#1082;&#1072;&#1082;&#1090;&#1091;&#1089;&#1072;&amp;fp=0&amp;pos=0&amp;uinfo=ww-1349-wh-612-fw-1124-fh-448-pd-1&amp;rpt=simage&amp;img_url=http%3A%2F%2Fppt4web.ru%2Fimages%2F8%2F7513%2F310%2Fimg26.jpg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images.yandex.ru/yandsearch?text=&#1087;&#1088;&#1080;&#1083;&#1080;&#1089;&#1090;&#1085;&#1080;&#1082;&#1080;%20&#1073;&#1077;&#1083;&#1086;&#1081;%20&#1072;&#1082;&#1072;&#1094;&#1080;&#1080;&amp;fp=0&amp;pos=3&amp;uinfo=ww-1349-wh-612-fw-1124-fh-448-pd-1&amp;rpt=simage&amp;img_url=http%3A%2F%2Fmedicalherbs.sci-lib.com%2Fimages%2Fmedherb004.jpg" TargetMode="External"/><Relationship Id="rId4" Type="http://schemas.openxmlformats.org/officeDocument/2006/relationships/image" Target="../media/image5.jpeg"/><Relationship Id="rId5" Type="http://schemas.openxmlformats.org/officeDocument/2006/relationships/hyperlink" Target="http://images.yandex.ru/yandsearch?text=&#1095;&#1077;&#1088;&#1077;&#1096;&#1086;&#1082;%20&#1072;&#1089;&#1090;&#1088;&#1072;&#1075;&#1072;&#1083;&#1072;%20&amp;fp=0&amp;pos=4&amp;uinfo=ww-1349-wh-612-fw-1124-fh-448-pd-1&amp;rpt=simage&amp;img_url=http%3A%2F%2Fbioaktivlife.dir.bg%2F_files%2Ft1_5194576.jpg" TargetMode="External"/><Relationship Id="rId6" Type="http://schemas.openxmlformats.org/officeDocument/2006/relationships/image" Target="../media/image6.jpeg"/><Relationship Id="rId7" Type="http://schemas.openxmlformats.org/officeDocument/2006/relationships/hyperlink" Target="http://images.yandex.ru/yandsearch?p=2&amp;text=&#1103;&#1073;&#1083;&#1086;&#1085;&#1103;%20&#1092;&#1086;&#1090;&#1086;%20&#1082;&#1086;&#1083;&#1102;&#1095;&#1082;&#1080;&amp;fp=2&amp;pos=71&amp;uinfo=ww-1349-wh-612-fw-1124-fh-448-pd-1&amp;rpt=simage&amp;img_url=http%3A%2F%2Fimg.encyc.yandex.net%2Fillustrations%2Fbse%2Fpictures%2F02297%2F509470-95x96_.jpg" TargetMode="External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upload.wikimedia.org/wikipedia/commons/d/da/Kurgiv&#228;&#228;t.jpg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p=1&amp;text=&#1092;&#1086;&#1090;&#1086;%20&#1082;&#1072;&#1082;&#1090;&#1091;&#1089;%20&#1076;&#1077;&#1082;&#1072;&#1073;&#1088;&#1080;&#1089;&#1090;&amp;fp=1&amp;pos=55&amp;uinfo=ww-1349-wh-612-fw-1124-fh-448-pd-1&amp;rpt=simage&amp;img_url=http%3A%2F%2Frastimdoma.ru%2Ffiles%2Fimagecache%2Ffoto%2FIMG_2290.jpg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upload.wikimedia.org/wikipedia/commons/6/6d/Ruscus_aculeatus.jpg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upload.wikimedia.org/wikipedia/commons/a/a2/Red_cabbage.jpg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p=1&amp;text=&#1082;&#1072;&#1082;&#1090;&#1091;&#1089;&#1099;%20&#1092;&#1086;&#1090;&#1086;&amp;fp=1&amp;pos=33&amp;uinfo=ww-1349-wh-612-fw-1124-fh-448-pd-1&amp;rpt=simage&amp;img_url=http%3A%2F%2F1001fact.ru%2Fwp-content%2Fuploads%2F2012%2F04%2FEchinocactus-grusonii2.jpg" TargetMode="External"/><Relationship Id="rId2" Type="http://schemas.openxmlformats.org/officeDocument/2006/relationships/image" Target="../media/image12.jpeg"/><Relationship Id="rId3" Type="http://schemas.openxmlformats.org/officeDocument/2006/relationships/hyperlink" Target="http://images.yandex.ru/yandsearch?text=&#1072;&#1083;&#1086;&#1101;%20&#1092;&#1086;&#1090;&#1086;&amp;fp=0&amp;pos=2&amp;uinfo=ww-1349-wh-612-fw-1124-fh-448-pd-1&amp;rpt=simage&amp;img_url=http%3A%2F%2Fy.delfi.ua%2Forig%2F15252%2F417462_Sbj8Oh.jpeg" TargetMode="External"/><Relationship Id="rId4" Type="http://schemas.openxmlformats.org/officeDocument/2006/relationships/image" Target="../media/image13.jpeg"/><Relationship Id="rId5" Type="http://schemas.openxmlformats.org/officeDocument/2006/relationships/hyperlink" Target="http://images.yandex.ru/yandsearch?text=&#1084;&#1086;&#1083;&#1086;&#1076;&#1080;&#1083;&#1086;%20&#1092;&#1086;&#1090;&#1086;&amp;fp=0&amp;pos=4&amp;uinfo=ww-1349-wh-612-fw-1124-fh-448-pd-1&amp;rpt=simage&amp;img_url=http%3A%2F%2Fstatic.eva.ru%2Feva%2F110001-120000%2F112607%2Fcontest%2F123902.jpg" TargetMode="External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7" descr="nfv gfoj rze765 fjs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Text Box 6"/>
          <p:cNvSpPr/>
          <p:nvPr/>
        </p:nvSpPr>
        <p:spPr>
          <a:xfrm>
            <a:off x="468360" y="2631960"/>
            <a:ext cx="8207280" cy="15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80000" bIns="180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Видоизменённые надземные побег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3"/>
          <p:cNvSpPr/>
          <p:nvPr/>
        </p:nvSpPr>
        <p:spPr>
          <a:xfrm>
            <a:off x="2195640" y="5373720"/>
            <a:ext cx="694836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Учитель биологии и эколог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ГБОУ СОШ №782 г. Моск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Домнина Галина Николаев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Прямоугольник 1"/>
          <p:cNvSpPr/>
          <p:nvPr/>
        </p:nvSpPr>
        <p:spPr>
          <a:xfrm>
            <a:off x="0" y="0"/>
            <a:ext cx="9144000" cy="20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Псевдобульба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или ложная луковица </a:t>
            </a:r>
            <a:br>
              <a:rPr sz="48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2" descr="http://www.fermer1.ru/sites/default/files/imagecache/500x500/wysiwyg_imageupload/3220/080e4ca5f93d4c65eaea5eb97bf159bd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9640" y="1557360"/>
            <a:ext cx="5688000" cy="55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File:2007-03-20CChlorophytum comosum Bonnie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16000" y="0"/>
            <a:ext cx="5100480" cy="5715000"/>
          </a:xfrm>
          <a:prstGeom prst="rect">
            <a:avLst/>
          </a:prstGeom>
          <a:ln w="0">
            <a:noFill/>
          </a:ln>
        </p:spPr>
      </p:pic>
      <p:sp>
        <p:nvSpPr>
          <p:cNvPr id="75" name="Прямоугольник 2"/>
          <p:cNvSpPr/>
          <p:nvPr/>
        </p:nvSpPr>
        <p:spPr>
          <a:xfrm>
            <a:off x="0" y="5595840"/>
            <a:ext cx="91440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Столоны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 хлорофитума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(Chlorophytum comosu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Bonnie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Прямоугольник 1"/>
          <p:cNvSpPr/>
          <p:nvPr/>
        </p:nvSpPr>
        <p:spPr>
          <a:xfrm>
            <a:off x="0" y="260280"/>
            <a:ext cx="691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Ловчие аппара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2" descr="http://im6-tub-ru.yandex.net/i?id=493052404-42-72&amp;n=2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16000" y="1125360"/>
            <a:ext cx="3057480" cy="2519640"/>
          </a:xfrm>
          <a:prstGeom prst="rect">
            <a:avLst/>
          </a:prstGeom>
          <a:ln w="0">
            <a:noFill/>
          </a:ln>
        </p:spPr>
      </p:pic>
      <p:sp>
        <p:nvSpPr>
          <p:cNvPr id="78" name="Прямоугольник 3"/>
          <p:cNvSpPr/>
          <p:nvPr/>
        </p:nvSpPr>
        <p:spPr>
          <a:xfrm>
            <a:off x="0" y="3429000"/>
            <a:ext cx="40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осянка  круглолист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http://im2-tub-ru.yandex.net/i?id=52391647-20-72&amp;n=2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55640" y="3933720"/>
            <a:ext cx="2519280" cy="2519640"/>
          </a:xfrm>
          <a:prstGeom prst="rect">
            <a:avLst/>
          </a:prstGeom>
          <a:ln w="0">
            <a:noFill/>
          </a:ln>
        </p:spPr>
      </p:pic>
      <p:sp>
        <p:nvSpPr>
          <p:cNvPr id="80" name="Прямоугольник 5"/>
          <p:cNvSpPr/>
          <p:nvPr/>
        </p:nvSpPr>
        <p:spPr>
          <a:xfrm>
            <a:off x="0" y="6396120"/>
            <a:ext cx="485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узырчатка  обыкновен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6" descr="http://www.varbak.com/galeri/et%E7il-bitkiler-b2059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500720" y="1916280"/>
            <a:ext cx="2914560" cy="3886200"/>
          </a:xfrm>
          <a:prstGeom prst="rect">
            <a:avLst/>
          </a:prstGeom>
          <a:ln w="0">
            <a:noFill/>
          </a:ln>
        </p:spPr>
      </p:pic>
      <p:sp>
        <p:nvSpPr>
          <p:cNvPr id="82" name="Прямоугольник 7"/>
          <p:cNvSpPr/>
          <p:nvPr/>
        </p:nvSpPr>
        <p:spPr>
          <a:xfrm>
            <a:off x="4732560" y="5950080"/>
            <a:ext cx="346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пентес гибридны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Прямоугольник 1"/>
          <p:cNvSpPr/>
          <p:nvPr/>
        </p:nvSpPr>
        <p:spPr>
          <a:xfrm>
            <a:off x="0" y="0"/>
            <a:ext cx="4427640" cy="47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Женская шишка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идоизменённый побег в виде маленькой красной шишечки, развивающейся на концах ветве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верхней стороне чешуек женских шишек располагаются по две семяпочки, в каждой из которых формируются яйцеклетки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2" descr="http://im6-tub-ru.yandex.net/i?id=424151301-56-72&amp;n=2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635280" y="2852640"/>
            <a:ext cx="518652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оугольник 1"/>
          <p:cNvSpPr/>
          <p:nvPr/>
        </p:nvSpPr>
        <p:spPr>
          <a:xfrm>
            <a:off x="0" y="0"/>
            <a:ext cx="4427640" cy="390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Мужская шишка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видоизменённый побег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виде маленьк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жёлтой шишечк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чешуйках мужских шишек находятся пыльцевые мешки, где развивается пыльца, имеющая два воздушных пузырьк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http://www.murman.ru/flora/pictures/p100046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24360" y="3213000"/>
            <a:ext cx="5381640" cy="34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Источни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красный мир растений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beaplanet.ru/stebel_rasteniya/vidoizmenennye_pobegi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иофайл – научно – информационный журнал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biofile.ru/bio/3589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sbio.info/page.php?id=8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Список литературы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нциклопедия для детей. Биология. М., Аванта +, 1993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нимательная ботаника. А.Теремов, В. Рохлов, Книга для учащихся, учителей и родителей, – М., АСТ_ПРЕСС, 199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3"/>
          <p:cNvSpPr/>
          <p:nvPr/>
        </p:nvSpPr>
        <p:spPr>
          <a:xfrm>
            <a:off x="0" y="765000"/>
            <a:ext cx="788508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80000" bIns="180000" anchor="t">
            <a:noAutofit/>
          </a:bodyPr>
          <a:p>
            <a:pPr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Видоизменённые надземные побеги характерны для многих растений. При этом видоизменяются как отдельные части побега (стебель, листья, почки), так и побег в цел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идоизменёнными называются такие побеги, которые выполняют некоторые дополнительные функции: защита, лазание, запасание питательных веществ и д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К видоизменённым побегам относят колючки, усики, кладодий, филлокладий, клубни, сочные суккулентные побеги, псевдобульба, или ложная луковица, столоны,  побеги насекомоядных растений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Рисунок 1" descr="http://oo3e.mail.yandex.net/static/86b29e1c19e04fdbb55d6edc43a8bc28/tmpo_dvoq_html_m69293d2c.jpg"/>
          <p:cNvPicPr/>
          <p:nvPr/>
        </p:nvPicPr>
        <p:blipFill>
          <a:blip r:embed="rId1"/>
          <a:stretch/>
        </p:blipFill>
        <p:spPr>
          <a:xfrm>
            <a:off x="0" y="1989000"/>
            <a:ext cx="9117000" cy="48247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3"/>
          <p:cNvSpPr/>
          <p:nvPr/>
        </p:nvSpPr>
        <p:spPr>
          <a:xfrm>
            <a:off x="0" y="-21240"/>
            <a:ext cx="9144000" cy="21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Arial"/>
                <a:ea typeface="Times New Roman"/>
              </a:rPr>
              <a:t>Надземные  видоизменения  побег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 – стеблевой суккулент; 2 – колючка; 3 – филлокладий иглицы; 4 – кладодий спаржи; 5 – почка капусты; 6 – столоны земляники; 7 – ус винограда; 8 – укороченный побег вишни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9 – цветочная стрелка одуванчи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Прямоугольник 1"/>
          <p:cNvSpPr/>
          <p:nvPr/>
        </p:nvSpPr>
        <p:spPr>
          <a:xfrm>
            <a:off x="2049120" y="260280"/>
            <a:ext cx="255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Колючки</a:t>
            </a: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" descr="http://ppt4web.ru/images/8/7513/310/img26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3870360"/>
            <a:ext cx="3992400" cy="29876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http://www.mastersoul.ru/p/N1343394677527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780000" y="1125360"/>
            <a:ext cx="2523960" cy="38862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6" descr="http://herbalisthealer.ru/images/image075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315120" y="2421000"/>
            <a:ext cx="2828880" cy="3886200"/>
          </a:xfrm>
          <a:prstGeom prst="rect">
            <a:avLst/>
          </a:prstGeom>
          <a:ln w="0">
            <a:noFill/>
          </a:ln>
        </p:spPr>
      </p:pic>
      <p:sp>
        <p:nvSpPr>
          <p:cNvPr id="55" name="Прямоугольник 5"/>
          <p:cNvSpPr/>
          <p:nvPr/>
        </p:nvSpPr>
        <p:spPr>
          <a:xfrm>
            <a:off x="6592320" y="6308640"/>
            <a:ext cx="114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страга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8" descr="http://thelib.ru/books/00/10/57/00105743/i009-001-229750947.jpg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250920" y="1268280"/>
            <a:ext cx="3348000" cy="239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Прямоугольник 1"/>
          <p:cNvSpPr/>
          <p:nvPr/>
        </p:nvSpPr>
        <p:spPr>
          <a:xfrm>
            <a:off x="1764720" y="260280"/>
            <a:ext cx="3193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Усик огурц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" descr="File:Kurgiväät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1143000"/>
            <a:ext cx="76201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Прямоугольник 2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Кладодий</a:t>
            </a:r>
            <a:r>
              <a:rPr b="1" lang="ru-RU" sz="4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 кактуса декабрис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" descr="http://moicvet.ru/wp-content/uploads/2011/04/zigokaktus2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4000" y="1125360"/>
            <a:ext cx="7199280" cy="539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File:Ruscus aculeatus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55640" y="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62" name="Прямоугольник 2"/>
          <p:cNvSpPr/>
          <p:nvPr/>
        </p:nvSpPr>
        <p:spPr>
          <a:xfrm>
            <a:off x="395280" y="5595840"/>
            <a:ext cx="842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Филлокладии</a:t>
            </a:r>
            <a:r>
              <a:rPr b="1" lang="ru-RU" sz="4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 иглицы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(Ruscus aculeatu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File:Red cabbage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42920" y="0"/>
            <a:ext cx="4932360" cy="4932360"/>
          </a:xfrm>
          <a:prstGeom prst="rect">
            <a:avLst/>
          </a:prstGeom>
          <a:ln w="0">
            <a:noFill/>
          </a:ln>
        </p:spPr>
      </p:pic>
      <p:sp>
        <p:nvSpPr>
          <p:cNvPr id="64" name="Прямоугольник 2"/>
          <p:cNvSpPr/>
          <p:nvPr/>
        </p:nvSpPr>
        <p:spPr>
          <a:xfrm>
            <a:off x="1460880" y="5084640"/>
            <a:ext cx="6212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Сочные побеги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Кочан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 капусты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(Brassica olerace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http://lampa4ka.users.photofile.ru/photo/lampa4ka/4077097/xlarge/104014426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5181480" cy="38862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4" descr="http://im5-tub-ru.yandex.net/i?id=293816289-32-72&amp;n=2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427640" y="3321000"/>
            <a:ext cx="4716360" cy="3537000"/>
          </a:xfrm>
          <a:prstGeom prst="rect">
            <a:avLst/>
          </a:prstGeom>
          <a:ln w="0">
            <a:noFill/>
          </a:ln>
        </p:spPr>
      </p:pic>
      <p:sp>
        <p:nvSpPr>
          <p:cNvPr id="67" name="Прямоугольник 4"/>
          <p:cNvSpPr/>
          <p:nvPr/>
        </p:nvSpPr>
        <p:spPr>
          <a:xfrm>
            <a:off x="5493960" y="404640"/>
            <a:ext cx="3635640" cy="20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Сочные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побег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(суккуленты)</a:t>
            </a:r>
            <a:r>
              <a:rPr b="1" lang="ru-RU" sz="48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6" descr="http://static.eva.ru/eva/110001-120000/112607/contest/123902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3286080"/>
            <a:ext cx="4762440" cy="3571920"/>
          </a:xfrm>
          <a:prstGeom prst="rect">
            <a:avLst/>
          </a:prstGeom>
          <a:ln w="0">
            <a:noFill/>
          </a:ln>
        </p:spPr>
      </p:pic>
      <p:sp>
        <p:nvSpPr>
          <p:cNvPr id="69" name="Прямоугольник 6"/>
          <p:cNvSpPr/>
          <p:nvPr/>
        </p:nvSpPr>
        <p:spPr>
          <a:xfrm>
            <a:off x="6158880" y="6237360"/>
            <a:ext cx="94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Ало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оугольник 7"/>
          <p:cNvSpPr/>
          <p:nvPr/>
        </p:nvSpPr>
        <p:spPr>
          <a:xfrm>
            <a:off x="1763640" y="6237360"/>
            <a:ext cx="176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олоди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оугольник 9"/>
          <p:cNvSpPr/>
          <p:nvPr/>
        </p:nvSpPr>
        <p:spPr>
          <a:xfrm>
            <a:off x="2926800" y="907920"/>
            <a:ext cx="143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актус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3T15:23:24Z</dcterms:created>
  <dc:creator>www.powerpointstyles.com</dc:creator>
  <dc:description/>
  <dc:language>en-US</dc:language>
  <cp:lastModifiedBy>Наталья</cp:lastModifiedBy>
  <dcterms:modified xsi:type="dcterms:W3CDTF">2013-11-21T18:12:31Z</dcterms:modified>
  <cp:revision>97</cp:revision>
  <dc:subject/>
  <dc:title>Colorful Spring Flowers</dc:title>
</cp:coreProperties>
</file>