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31.jpeg" ContentType="image/jpeg"/>
  <Override PartName="/ppt/media/image10.gif" ContentType="image/gif"/>
  <Override PartName="/ppt/media/image12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45.jpeg" ContentType="image/jpeg"/>
  <Override PartName="/ppt/media/image43.jpeg" ContentType="image/jpeg"/>
  <Override PartName="/ppt/media/image34.wmf" ContentType="image/x-wmf"/>
  <Override PartName="/ppt/media/image44.png" ContentType="image/png"/>
  <Override PartName="/ppt/media/image40.jpeg" ContentType="image/jpeg"/>
  <Override PartName="/ppt/media/image46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13.gif" ContentType="image/gif"/>
  <Override PartName="/ppt/media/image35.wmf" ContentType="image/x-wmf"/>
  <Override PartName="/ppt/media/image16.jpeg" ContentType="image/jpeg"/>
  <Override PartName="/ppt/media/image25.jpeg" ContentType="image/jpe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EB1-FBD8-4E0E-A109-2E34BEB8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B89-82D8-4DDC-AE4D-37507FEF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18A-0C82-47AD-9240-8B13A430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AB5-CAF9-458E-9B35-82612965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517-96ED-48C9-91F0-1243D87D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FCA-009E-4CC8-A789-6BBAB93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F18-9ED8-483D-99F8-A83DC1C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FD5-3ED5-45AB-A092-EFE5D04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598-80D5-43EF-B45A-7763A4D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A54-7969-4CC6-9418-D299E03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E63-E082-40D3-AF4E-7943CAF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BD7-9F11-4FCA-8C55-248A1DB9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0FD5-2415-4C28-B347-411B058A3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133720"/>
            <a:ext cx="849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сследовательская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абота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1280" y="18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ратск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79280" y="18900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105264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ятно после трудного рабочего дня или в жаркий полдень выпить прохладную бутылочку пива. Хорошо посидеть в компании друга за бокалом п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сам человек, его родные и близкие должны четко осознать угрозу, которую таит в себе пенный напиток, и предотвратить ее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06448392001740"/>
          <p:cNvPicPr/>
          <p:nvPr/>
        </p:nvPicPr>
        <p:blipFill>
          <a:blip r:embed="rId1"/>
          <a:stretch/>
        </p:blipFill>
        <p:spPr>
          <a:xfrm>
            <a:off x="2987640" y="4437000"/>
            <a:ext cx="3168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05264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20-е годы, зная о том, что пиво способствует отдыху и успокоению, врачи рекомендовали его как успокаивающее средство. А человек, принимая его, приучает себя не только к обычному опьяняющему действию алкоголя, но и к успокоительном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90"/>
          <p:cNvPicPr/>
          <p:nvPr/>
        </p:nvPicPr>
        <p:blipFill>
          <a:blip r:embed="rId1"/>
          <a:stretch/>
        </p:blipFill>
        <p:spPr>
          <a:xfrm>
            <a:off x="2409840" y="3284640"/>
            <a:ext cx="4251240" cy="33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79280" y="189000"/>
            <a:ext cx="878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10526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 течением времени принятие пива становится уже необходимым ежедневным процессом. Постепенно нарастают дозы, и время принятия пива переносится на более ранний срок. Никого уже не удивляет картина, когда молодые люди употребляют пиво утром, по пути на работу или учеб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03"/>
          <p:cNvPicPr/>
          <p:nvPr/>
        </p:nvPicPr>
        <p:blipFill>
          <a:blip r:embed="rId1"/>
          <a:stretch/>
        </p:blipFill>
        <p:spPr>
          <a:xfrm>
            <a:off x="1979640" y="3716280"/>
            <a:ext cx="5329080" cy="2975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98100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оме того, производство приносит хороший доход государству и производителям, поэтому его постоянно наращивают.  А потом появляются алкогольные эксцессы, возникают провалы в памяти. Пивная привычка влияет на биохимические процессы организма и способствует формированию алкоголизм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2af9a4148c0b269a13055abcce070e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03640" y="4005360"/>
            <a:ext cx="2808360" cy="2736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собенности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981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чень характерна, так называемая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озогно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о есть отрицание заболевания и отсутствие критики к своему состоя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Быстрое развитие выраженной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сихической зависим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Кроме того, пиво имеет свой специфический и для многих привлекательный вкус, который делает влечение к данному напитку, еще более си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81_big"/>
          <p:cNvPicPr/>
          <p:nvPr/>
        </p:nvPicPr>
        <p:blipFill>
          <a:blip r:embed="rId1"/>
          <a:stretch/>
        </p:blipFill>
        <p:spPr>
          <a:xfrm>
            <a:off x="6222960" y="4005360"/>
            <a:ext cx="2610000" cy="2663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7" name="Picture 7" descr="3275"/>
          <p:cNvPicPr/>
          <p:nvPr/>
        </p:nvPicPr>
        <p:blipFill>
          <a:blip r:embed="rId2"/>
          <a:stretch/>
        </p:blipFill>
        <p:spPr>
          <a:xfrm>
            <a:off x="324000" y="4130640"/>
            <a:ext cx="3311280" cy="24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052640"/>
            <a:ext cx="896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Доступность и легкость употребления. Нет необходимости в накрытых столах, не нужен, хотя бы, формальный повод для выпивки, пить можно одному, можно в компании, можно дома, можно на улице, можно сидя, а можно на ходу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собенности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90" name="Picture 4" descr="icon"/>
          <p:cNvPicPr/>
          <p:nvPr/>
        </p:nvPicPr>
        <p:blipFill>
          <a:blip r:embed="rId1"/>
          <a:stretch/>
        </p:blipFill>
        <p:spPr>
          <a:xfrm>
            <a:off x="539640" y="3357720"/>
            <a:ext cx="2797200" cy="3252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1" name="Picture 5" descr="1193382818_alkogol"/>
          <p:cNvPicPr/>
          <p:nvPr/>
        </p:nvPicPr>
        <p:blipFill>
          <a:blip r:embed="rId2"/>
          <a:stretch/>
        </p:blipFill>
        <p:spPr>
          <a:xfrm>
            <a:off x="4643280" y="3357720"/>
            <a:ext cx="4091040" cy="327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3995640" y="189000"/>
            <a:ext cx="44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етский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93" name="Picture 4" descr="tr_ab_29_6"/>
          <p:cNvPicPr/>
          <p:nvPr/>
        </p:nvPicPr>
        <p:blipFill>
          <a:blip r:embed="rId1"/>
          <a:stretch/>
        </p:blipFill>
        <p:spPr>
          <a:xfrm>
            <a:off x="324000" y="620640"/>
            <a:ext cx="2876400" cy="5550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94" name="Text Box 5"/>
          <p:cNvSpPr/>
          <p:nvPr/>
        </p:nvSpPr>
        <p:spPr>
          <a:xfrm>
            <a:off x="3780000" y="1125360"/>
            <a:ext cx="504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последние три года количество больных алкоголизмом среди тинэйджеров выросло на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15,3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лкогольными психозами - на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76,9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Пивная зависимость занимает до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75-80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общем количестве подростков-алкогол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492360" y="5805360"/>
            <a:ext cx="53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лкоголизм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79280" y="189000"/>
            <a:ext cx="87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етский алкоголизм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79280" y="981000"/>
            <a:ext cx="87138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оградить детей от пагубной зависимости от жидкого хлеба, законодатели предлагают в первую очер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граничить рекламу нап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Тяжело"/>
          <p:cNvPicPr/>
          <p:nvPr/>
        </p:nvPicPr>
        <p:blipFill>
          <a:blip r:embed="rId1"/>
          <a:stretch/>
        </p:blipFill>
        <p:spPr>
          <a:xfrm>
            <a:off x="2050920" y="3284640"/>
            <a:ext cx="5040360" cy="3360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9280" y="189000"/>
            <a:ext cx="878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КЛАМА – ДВИГАТЕЛЬ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Picture 3" descr="1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915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1" name="Picture 4" descr="3"/>
          <p:cNvPicPr/>
          <p:nvPr/>
        </p:nvPicPr>
        <p:blipFill>
          <a:blip r:embed="rId2"/>
          <a:stretch/>
        </p:blipFill>
        <p:spPr>
          <a:xfrm>
            <a:off x="1258920" y="1557360"/>
            <a:ext cx="6697800" cy="5024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2" name="Picture 5" descr="5"/>
          <p:cNvPicPr/>
          <p:nvPr/>
        </p:nvPicPr>
        <p:blipFill>
          <a:blip r:embed="rId3"/>
          <a:stretch/>
        </p:blipFill>
        <p:spPr>
          <a:xfrm>
            <a:off x="1187280" y="1484280"/>
            <a:ext cx="6913800" cy="5186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3" name="Picture 7" descr="444"/>
          <p:cNvPicPr/>
          <p:nvPr/>
        </p:nvPicPr>
        <p:blipFill>
          <a:blip r:embed="rId4"/>
          <a:stretch/>
        </p:blipFill>
        <p:spPr>
          <a:xfrm>
            <a:off x="1042920" y="1413000"/>
            <a:ext cx="6985080" cy="523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4" name="Picture 9" descr="9"/>
          <p:cNvPicPr/>
          <p:nvPr/>
        </p:nvPicPr>
        <p:blipFill>
          <a:blip r:embed="rId5"/>
          <a:stretch/>
        </p:blipFill>
        <p:spPr>
          <a:xfrm>
            <a:off x="1042920" y="1413000"/>
            <a:ext cx="7058160" cy="523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05" name="WordArt 11"/>
          <p:cNvSpPr txBox="1"/>
          <p:nvPr/>
        </p:nvSpPr>
        <p:spPr>
          <a:xfrm>
            <a:off x="250920" y="1628640"/>
            <a:ext cx="8497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Вам захотелось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ива???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324000" y="189000"/>
            <a:ext cx="84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 теперь???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Picture 4" descr="18668__beer"/>
          <p:cNvPicPr/>
          <p:nvPr/>
        </p:nvPicPr>
        <p:blipFill>
          <a:blip r:embed="rId1"/>
          <a:stretch/>
        </p:blipFill>
        <p:spPr>
          <a:xfrm>
            <a:off x="4427640" y="1557360"/>
            <a:ext cx="4429080" cy="360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8" name="Picture 6" descr="DSDBPCAS82CN0CADZB1KSCAW5FFEOCAHZID2XCASBINI7CA0DDWXYCA4THRCSCAHT2JNHCAXRX4BJCA1J4278CAQJCH7PCA1I7F86CARBCGM0CAXSM7SUCAZ8OLBGCAA219KACAOG7Z43CA5B1SX0CAO40NL2"/>
          <p:cNvPicPr/>
          <p:nvPr/>
        </p:nvPicPr>
        <p:blipFill>
          <a:blip r:embed="rId2"/>
          <a:stretch/>
        </p:blipFill>
        <p:spPr>
          <a:xfrm>
            <a:off x="179280" y="2997360"/>
            <a:ext cx="3961080" cy="3517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9" name="Picture 7" descr="21466"/>
          <p:cNvPicPr/>
          <p:nvPr/>
        </p:nvPicPr>
        <p:blipFill>
          <a:blip r:embed="rId3"/>
          <a:stretch/>
        </p:blipFill>
        <p:spPr>
          <a:xfrm>
            <a:off x="4859280" y="1484280"/>
            <a:ext cx="3873600" cy="516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0" name="Picture 8" descr="Alkogoliki"/>
          <p:cNvPicPr/>
          <p:nvPr/>
        </p:nvPicPr>
        <p:blipFill>
          <a:blip r:embed="rId4"/>
          <a:stretch/>
        </p:blipFill>
        <p:spPr>
          <a:xfrm>
            <a:off x="395280" y="1484280"/>
            <a:ext cx="4057560" cy="5140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268360" y="18900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24000" y="4653000"/>
            <a:ext cx="849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иво и дет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 совместимы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4" descr="children"/>
          <p:cNvPicPr/>
          <p:nvPr/>
        </p:nvPicPr>
        <p:blipFill>
          <a:blip r:embed="rId2"/>
          <a:stretch/>
        </p:blipFill>
        <p:spPr>
          <a:xfrm>
            <a:off x="2627280" y="1484280"/>
            <a:ext cx="3888000" cy="3110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>
            <a:off x="179280" y="189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ест «Анти - пиво»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2007-08 учебный год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12" name="Picture 5" descr="krest"/>
          <p:cNvPicPr/>
          <p:nvPr/>
        </p:nvPicPr>
        <p:blipFill>
          <a:blip r:embed="rId1"/>
          <a:srcRect l="0" t="0" r="6653" b="6400"/>
          <a:stretch/>
        </p:blipFill>
        <p:spPr>
          <a:xfrm>
            <a:off x="7740720" y="189000"/>
            <a:ext cx="1225440" cy="121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3" name="Picture 6" descr="114-12-2"/>
          <p:cNvPicPr/>
          <p:nvPr/>
        </p:nvPicPr>
        <p:blipFill>
          <a:blip r:embed="rId2"/>
          <a:stretch/>
        </p:blipFill>
        <p:spPr>
          <a:xfrm>
            <a:off x="2411280" y="3429000"/>
            <a:ext cx="4175280" cy="32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лись учащиеся 7-х и 9-х классов. Всего количество респондентов – </a:t>
            </a:r>
            <a:r>
              <a:rPr b="1" lang="ru-RU" sz="3600" spc="-1" strike="noStrike" u="sng">
                <a:solidFill>
                  <a:srgbClr val="3a003a"/>
                </a:solidFill>
                <a:uFillTx/>
                <a:latin typeface="Arial"/>
              </a:rPr>
              <a:t>101 челове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2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276640"/>
          <a:ext cx="8640720" cy="15541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64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3"/>
          <p:cNvGraphicFramePr/>
          <p:nvPr/>
        </p:nvGraphicFramePr>
        <p:xfrm>
          <a:off x="1403280" y="3645000"/>
          <a:ext cx="619308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45000"/>
                    <a:ext cx="61930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9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69 челове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276640"/>
          <a:ext cx="8642160" cy="15541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22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21"/>
          <p:cNvGraphicFramePr/>
          <p:nvPr/>
        </p:nvGraphicFramePr>
        <p:xfrm>
          <a:off x="1547640" y="3733920"/>
          <a:ext cx="627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733920"/>
                    <a:ext cx="627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79280" y="189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ест «Анти - пиво»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2008-09 учебный год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30" name="Picture 3" descr="krest"/>
          <p:cNvPicPr/>
          <p:nvPr/>
        </p:nvPicPr>
        <p:blipFill>
          <a:blip r:embed="rId1"/>
          <a:srcRect l="0" t="0" r="6653" b="6400"/>
          <a:stretch/>
        </p:blipFill>
        <p:spPr>
          <a:xfrm>
            <a:off x="7740720" y="189000"/>
            <a:ext cx="1225440" cy="121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лись учащиеся 8-х и 10-х классов. Всего количество респондентов – </a:t>
            </a:r>
            <a:r>
              <a:rPr b="1" lang="ru-RU" sz="3600" spc="-1" strike="noStrike" u="sng">
                <a:solidFill>
                  <a:srgbClr val="3a003a"/>
                </a:solidFill>
                <a:uFillTx/>
                <a:latin typeface="Arial"/>
              </a:rPr>
              <a:t>62 челове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[19]"/>
          <p:cNvPicPr/>
          <p:nvPr/>
        </p:nvPicPr>
        <p:blipFill>
          <a:blip r:embed="rId2"/>
          <a:stretch/>
        </p:blipFill>
        <p:spPr>
          <a:xfrm>
            <a:off x="3348000" y="3429000"/>
            <a:ext cx="2436840" cy="3263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8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9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2276640"/>
          <a:ext cx="8640720" cy="15541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2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3933720"/>
            <a:ext cx="6191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059280" y="105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0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3 челове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2276640"/>
          <a:ext cx="8642160" cy="15541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23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03280" y="3860640"/>
            <a:ext cx="6334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7"/>
          <p:cNvSpPr txBox="1"/>
          <p:nvPr/>
        </p:nvSpPr>
        <p:spPr>
          <a:xfrm>
            <a:off x="250920" y="54936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356000" y="90792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3a003a"/>
                </a:solidFill>
                <a:uFillTx/>
                <a:latin typeface="Arial"/>
              </a:rPr>
              <a:t>Анализ фактов и результатов показывает то, что пивной алкоголизм среди подрастающего поколения существует. Но надо вовремя проводить с детьми профилактическую работу.</a:t>
            </a:r>
            <a:r>
              <a:rPr b="1" i="1" lang="ru-RU" sz="2700" spc="-1" strike="noStrike">
                <a:solidFill>
                  <a:srgbClr val="3a003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2721"/>
          <p:cNvPicPr/>
          <p:nvPr/>
        </p:nvPicPr>
        <p:blipFill>
          <a:blip r:embed="rId1"/>
          <a:stretch/>
        </p:blipFill>
        <p:spPr>
          <a:xfrm>
            <a:off x="826920" y="1844640"/>
            <a:ext cx="2305080" cy="2205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1" name="Picture 11" descr="i[13]"/>
          <p:cNvPicPr/>
          <p:nvPr/>
        </p:nvPicPr>
        <p:blipFill>
          <a:blip r:embed="rId2"/>
          <a:stretch/>
        </p:blipFill>
        <p:spPr>
          <a:xfrm>
            <a:off x="539640" y="4365720"/>
            <a:ext cx="2880000" cy="2274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50920" y="54936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356000" y="476280"/>
            <a:ext cx="4608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708360" y="260280"/>
            <a:ext cx="5435640" cy="68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003a"/>
                </a:solidFill>
                <a:latin typeface="Arial"/>
              </a:rPr>
              <a:t>После повторного анкетирования в ранее исследуемых классах, я выявила, что больше учащихся стали знать о вреде пива, и произошло снижение в группе риска.</a:t>
            </a:r>
            <a:r>
              <a:rPr b="1" lang="ru-RU" sz="2700" spc="-1" strike="noStrike">
                <a:solidFill>
                  <a:srgbClr val="3a003a"/>
                </a:solidFill>
                <a:latin typeface="Arial"/>
              </a:rPr>
              <a:t> Можно сделать вывод, что пиво - очень опасная вещь. Оно грозит превратиться из слуги в господина. Зависимому человеку необходимо показать, что реальный мир прекрасен без употребления алкоголя.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i[17]"/>
          <p:cNvPicPr/>
          <p:nvPr/>
        </p:nvPicPr>
        <p:blipFill>
          <a:blip r:embed="rId1"/>
          <a:stretch/>
        </p:blipFill>
        <p:spPr>
          <a:xfrm>
            <a:off x="250920" y="2637000"/>
            <a:ext cx="3527280" cy="2633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250920" y="3141720"/>
            <a:ext cx="8713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Ведь никако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похмельный дурман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не может сравнитьс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с прелестями жизн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Picture 6" descr="valent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286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9280" y="189000"/>
            <a:ext cx="62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роки создания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6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09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200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–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1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200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79280" y="2276640"/>
            <a:ext cx="8640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1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выявление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2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изучение литературы по теме, выдвижение идеи и актуальности, анализ о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3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создание презентации в среде </a:t>
            </a:r>
            <a:r>
              <a:rPr b="1" lang="en-US" sz="4000" spc="-1" strike="noStrike">
                <a:solidFill>
                  <a:srgbClr val="3a003a"/>
                </a:solidFill>
                <a:latin typeface="Arial"/>
              </a:rPr>
              <a:t> MS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21b"/>
          <p:cNvPicPr/>
          <p:nvPr/>
        </p:nvPicPr>
        <p:blipFill>
          <a:blip r:embed="rId1"/>
          <a:stretch/>
        </p:blipFill>
        <p:spPr>
          <a:xfrm>
            <a:off x="6516720" y="189000"/>
            <a:ext cx="2482920" cy="2030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95280" y="476280"/>
            <a:ext cx="84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ПИД, не туберкулез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губят Россию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"пивной алкоголизм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еди юного покол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195640" y="5516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Главный санитарный врач РФ Геннадий Онищ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3"/>
          <p:cNvSpPr txBox="1"/>
          <p:nvPr/>
        </p:nvSpPr>
        <p:spPr>
          <a:xfrm>
            <a:off x="82692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ИСТОЧНИКИ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4" descr="index"/>
          <p:cNvPicPr/>
          <p:nvPr/>
        </p:nvPicPr>
        <p:blipFill>
          <a:blip r:embed="rId1"/>
          <a:stretch/>
        </p:blipFill>
        <p:spPr>
          <a:xfrm>
            <a:off x="7236000" y="189000"/>
            <a:ext cx="1657080" cy="165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179280" y="1341360"/>
            <a:ext cx="8785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газеты «Финансовые известия» - http://www.finiz.ru/economic/article16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еженедельного общественно-политического издания - «Всё для вас» - http://vdv.sibr.ru/index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антинаркотического информационного сервера «</a:t>
            </a:r>
            <a:r>
              <a:rPr b="1" lang="en-US" sz="2000" spc="-1" strike="noStrike">
                <a:solidFill>
                  <a:srgbClr val="3a003a"/>
                </a:solidFill>
                <a:latin typeface="Arial"/>
              </a:rPr>
              <a:t>Narcko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» - http://www.add.net.ru/articles/20010319104138.htm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"Особенности пивного алкоголизма" З. Коробкина - http://theme.orthodoxy.ru/piv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центра «Бехтерев» - «Счастье возможно» - http://www.bechterev.ru/pivnoyalkogolizm1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медицинской информационной сети - http://medicinform.net/human/humanis/human4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www.papashi.ru/a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mrsh45.narod.ru/piv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медицинского центра «Алко-клиник» - http://www.alcoclinic.ru/page_15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theme.orthodoxy.ru/pivo/polz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395280" y="544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ученица 11А класса МО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«СОШ №31 имени А.П. Ждан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76720" y="2205000"/>
            <a:ext cx="58672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рест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н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лександровна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3995640" y="62064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втор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Picture 7" descr="IMG000012"/>
          <p:cNvPicPr/>
          <p:nvPr/>
        </p:nvPicPr>
        <p:blipFill>
          <a:blip r:embed="rId1"/>
          <a:stretch/>
        </p:blipFill>
        <p:spPr>
          <a:xfrm>
            <a:off x="325440" y="982800"/>
            <a:ext cx="3174840" cy="387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755640" y="33336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уководитель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50920" y="1484280"/>
            <a:ext cx="5472000" cy="33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адыги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кс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икторовн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3816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468360" y="522936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a003a"/>
                </a:solidFill>
                <a:latin typeface="Arial"/>
              </a:rPr>
              <a:t>учитель ИВТ и И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a003a"/>
                </a:solidFill>
                <a:latin typeface="Arial"/>
              </a:rPr>
              <a:t>МОУ «СОШ №4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24000" y="189000"/>
            <a:ext cx="26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Цел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981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ь, что пивной алкоголизм – заболевание не только взрослых, но и подрастающего поко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622-05b"/>
          <p:cNvPicPr/>
          <p:nvPr/>
        </p:nvPicPr>
        <p:blipFill>
          <a:blip r:embed="rId1"/>
          <a:stretch/>
        </p:blipFill>
        <p:spPr>
          <a:xfrm>
            <a:off x="2411280" y="3789360"/>
            <a:ext cx="4248360" cy="2863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395280" y="189000"/>
            <a:ext cx="36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1197000"/>
            <a:ext cx="8785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и проанализировать информацию о пивном алкоголизме среди подрос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йти и адаптировать тесты на выявление пивного алкого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вести выборочное тестирование учащихся среднего звена м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казать, что проблема пивного алкоголизма существует и в наш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3492360" y="4653000"/>
            <a:ext cx="5468760" cy="2016000"/>
            <a:chOff x="3492360" y="4653000"/>
            <a:chExt cx="5468760" cy="2016000"/>
          </a:xfrm>
        </p:grpSpPr>
        <p:pic>
          <p:nvPicPr>
            <p:cNvPr id="54" name="Picture 4" descr="pivo2"/>
            <p:cNvPicPr/>
            <p:nvPr/>
          </p:nvPicPr>
          <p:blipFill>
            <a:blip r:embed="rId1"/>
            <a:srcRect l="8156" t="0" r="0" b="32917"/>
            <a:stretch/>
          </p:blipFill>
          <p:spPr>
            <a:xfrm>
              <a:off x="3492360" y="4653000"/>
              <a:ext cx="5468760" cy="201600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grpSp>
          <p:nvGrpSpPr>
            <p:cNvPr id="55" name="Group 9"/>
            <p:cNvGrpSpPr/>
            <p:nvPr/>
          </p:nvGrpSpPr>
          <p:grpSpPr>
            <a:xfrm>
              <a:off x="3852720" y="4724280"/>
              <a:ext cx="2449440" cy="1800000"/>
              <a:chOff x="3852720" y="4724280"/>
              <a:chExt cx="2449440" cy="1800000"/>
            </a:xfrm>
          </p:grpSpPr>
          <p:sp>
            <p:nvSpPr>
              <p:cNvPr id="56" name="Line 6"/>
              <p:cNvSpPr/>
              <p:nvPr/>
            </p:nvSpPr>
            <p:spPr>
              <a:xfrm>
                <a:off x="3925440" y="4724280"/>
                <a:ext cx="2376720" cy="1512720"/>
              </a:xfrm>
              <a:prstGeom prst="line">
                <a:avLst/>
              </a:prstGeom>
              <a:ln w="155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"/>
              <p:cNvSpPr/>
              <p:nvPr/>
            </p:nvSpPr>
            <p:spPr>
              <a:xfrm flipV="1">
                <a:off x="3852720" y="4724280"/>
                <a:ext cx="2233440" cy="1800000"/>
              </a:xfrm>
              <a:prstGeom prst="line">
                <a:avLst/>
              </a:prstGeom>
              <a:ln w="155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8"/>
            <p:cNvSpPr/>
            <p:nvPr/>
          </p:nvSpPr>
          <p:spPr>
            <a:xfrm>
              <a:off x="6732360" y="5587920"/>
              <a:ext cx="2017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ет пиву!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79280" y="4292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вной алкоголизм труднее поддается лечению. Сейчас в России каждый десятый алкоголик! Ведь употребляет пиво молодежь моложе 18 л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 каждым годом у пивного алкоголизма лицо всё моложе и моло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6cf4a79ba821c094b72c92ddc288590c_full"/>
          <p:cNvPicPr/>
          <p:nvPr/>
        </p:nvPicPr>
        <p:blipFill>
          <a:blip r:embed="rId1"/>
          <a:stretch/>
        </p:blipFill>
        <p:spPr>
          <a:xfrm>
            <a:off x="5292720" y="3789360"/>
            <a:ext cx="3600360" cy="292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658"/>
          <p:cNvPicPr/>
          <p:nvPr/>
        </p:nvPicPr>
        <p:blipFill>
          <a:blip r:embed="rId1"/>
          <a:stretch/>
        </p:blipFill>
        <p:spPr>
          <a:xfrm>
            <a:off x="3492360" y="3357720"/>
            <a:ext cx="5473800" cy="3333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3" name="Picture 6" descr="946"/>
          <p:cNvPicPr/>
          <p:nvPr/>
        </p:nvPicPr>
        <p:blipFill>
          <a:blip r:embed="rId2"/>
          <a:stretch/>
        </p:blipFill>
        <p:spPr>
          <a:xfrm>
            <a:off x="179280" y="189000"/>
            <a:ext cx="3745080" cy="2860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4" name="WordArt 8"/>
          <p:cNvSpPr txBox="1"/>
          <p:nvPr/>
        </p:nvSpPr>
        <p:spPr>
          <a:xfrm>
            <a:off x="4211640" y="549360"/>
            <a:ext cx="4753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ост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Picture 9" descr="avatar552_4"/>
          <p:cNvPicPr/>
          <p:nvPr/>
        </p:nvPicPr>
        <p:blipFill>
          <a:blip r:embed="rId3"/>
          <a:stretch/>
        </p:blipFill>
        <p:spPr>
          <a:xfrm>
            <a:off x="539640" y="3716280"/>
            <a:ext cx="2444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468360" y="18900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жидаемые результаты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5" descr="poste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557360"/>
            <a:ext cx="3525840" cy="4840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4211640" y="1557360"/>
            <a:ext cx="453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Я надеюсь, что моё исследование поможет не только в профилактике пивного алкоголизма среди подрастающего поколения, выявлению «алкоголезависимых» детей и работе с ними, но и в работе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79280" y="18900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5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озревший организм поражается гораздо быстрее, чем организм взрослого. В результате зависимость и серьезные осложнения развиваются семимильными шагами, а прогноз в этой ситуации часто такой же неблагоприятный, как, например, при героиновой нарком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ivo3"/>
          <p:cNvPicPr/>
          <p:nvPr/>
        </p:nvPicPr>
        <p:blipFill>
          <a:blip r:embed="rId1"/>
          <a:stretch/>
        </p:blipFill>
        <p:spPr>
          <a:xfrm>
            <a:off x="2556000" y="3860640"/>
            <a:ext cx="3671640" cy="2813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Пользователь</cp:lastModifiedBy>
  <dcterms:modified xsi:type="dcterms:W3CDTF">2013-07-10T10:51:04Z</dcterms:modified>
  <cp:revision>71</cp:revision>
  <dc:subject/>
  <dc:title>Слайд 1</dc:title>
</cp:coreProperties>
</file>