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31.jpeg" ContentType="image/jpeg"/>
  <Override PartName="/ppt/media/image10.gif" ContentType="image/gif"/>
  <Override PartName="/ppt/media/image12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45.jpeg" ContentType="image/jpeg"/>
  <Override PartName="/ppt/media/image43.jpeg" ContentType="image/jpeg"/>
  <Override PartName="/ppt/media/image34.wmf" ContentType="image/x-wmf"/>
  <Override PartName="/ppt/media/image44.png" ContentType="image/png"/>
  <Override PartName="/ppt/media/image40.jpeg" ContentType="image/jpeg"/>
  <Override PartName="/ppt/media/image46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38.wmf" ContentType="image/x-wmf"/>
  <Override PartName="/ppt/media/image6.png" ContentType="image/png"/>
  <Override PartName="/ppt/media/image5.jpeg" ContentType="image/jpeg"/>
  <Override PartName="/ppt/media/image26.jpeg" ContentType="image/jpeg"/>
  <Override PartName="/ppt/media/image13.gif" ContentType="image/gif"/>
  <Override PartName="/ppt/media/image35.wmf" ContentType="image/x-wmf"/>
  <Override PartName="/ppt/media/image16.jpeg" ContentType="image/jpeg"/>
  <Override PartName="/ppt/media/image25.jpeg" ContentType="image/jpe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7DD0-6546-405A-B9AE-2E6312B8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3E0A-2DEF-4972-BDB7-623C861C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5C0-9629-475C-9412-12496D88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004-EA5B-43A3-9579-22B020B5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0DC-A255-4D57-A58D-95A180DD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7AC-33C3-49AE-A0CC-63A4A5E4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00E-023F-4E47-A25E-8C008F53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678-35B9-4EBD-9B2F-8A9B3D50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76E5-EA28-4DEF-82DD-CA77AD18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D7A-F5F8-42D5-B45D-CC846983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E72D-E7C1-41E4-B7B4-2F45721E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D33D-724A-44B1-89E4-1D32794A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DA9A-7F47-416F-9FAD-8B2783C06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2133720"/>
            <a:ext cx="8496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Исследовательская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работа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411280" y="189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ратск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79280" y="189000"/>
            <a:ext cx="45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Введение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0" y="105264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ятно после трудного рабочего дня или в жаркий полдень выпить прохладную бутылочку пива. Хорошо посидеть в компании друга за бокалом пи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о сам человек, его родные и близкие должны четко осознать угрозу, которую таит в себе пенный напиток, и предотвратить ее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06448392001740"/>
          <p:cNvPicPr/>
          <p:nvPr/>
        </p:nvPicPr>
        <p:blipFill>
          <a:blip r:embed="rId1"/>
          <a:stretch/>
        </p:blipFill>
        <p:spPr>
          <a:xfrm>
            <a:off x="2987640" y="4437000"/>
            <a:ext cx="31687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179280" y="189000"/>
            <a:ext cx="878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азвитие пивного 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1052640"/>
            <a:ext cx="91440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20-е годы, зная о том, что пиво способствует отдыху и успокоению, врачи рекомендовали его как успокаивающее средство. А человек, принимая его, приучает себя не только к обычному опьяняющему действию алкоголя, но и к успокоительному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90"/>
          <p:cNvPicPr/>
          <p:nvPr/>
        </p:nvPicPr>
        <p:blipFill>
          <a:blip r:embed="rId1"/>
          <a:stretch/>
        </p:blipFill>
        <p:spPr>
          <a:xfrm>
            <a:off x="2409840" y="3284640"/>
            <a:ext cx="4251240" cy="3382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179280" y="189000"/>
            <a:ext cx="878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азвитие пивного 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1052640"/>
            <a:ext cx="9144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 течением времени принятие пива становится уже необходимым ежедневным процессом. Постепенно нарастают дозы, и время принятия пива переносится на более ранний срок. Никого уже не удивляет картина, когда молодые люди употребляют пиво утром, по пути на работу или учеб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003"/>
          <p:cNvPicPr/>
          <p:nvPr/>
        </p:nvPicPr>
        <p:blipFill>
          <a:blip r:embed="rId1"/>
          <a:stretch/>
        </p:blipFill>
        <p:spPr>
          <a:xfrm>
            <a:off x="1979640" y="3716280"/>
            <a:ext cx="5329080" cy="2975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179280" y="189000"/>
            <a:ext cx="878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азвитие пивного 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0" y="981000"/>
            <a:ext cx="9144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оме того, производство приносит хороший доход государству и производителям, поэтому его постоянно наращивают.  А потом появляются алкогольные эксцессы, возникают провалы в памяти. Пивная привычка влияет на биохимические процессы организма и способствует формированию алкоголизм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2af9a4148c0b269a13055abcce070e8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203640" y="4005360"/>
            <a:ext cx="2808360" cy="2736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179280" y="189000"/>
            <a:ext cx="878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Особенности пивного 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9810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Очень характерна, так называемая,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нозогноз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то есть отрицание заболевания и отсутствие критики к своему состоя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Быстрое развитие выраженной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сихической зависимост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Кроме того, пиво имеет свой специфический и для многих привлекательный вкус, который делает влечение к данному напитку, еще более си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981_big"/>
          <p:cNvPicPr/>
          <p:nvPr/>
        </p:nvPicPr>
        <p:blipFill>
          <a:blip r:embed="rId1"/>
          <a:stretch/>
        </p:blipFill>
        <p:spPr>
          <a:xfrm>
            <a:off x="6222960" y="4005360"/>
            <a:ext cx="2610000" cy="2663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87" name="Picture 7" descr="3275"/>
          <p:cNvPicPr/>
          <p:nvPr/>
        </p:nvPicPr>
        <p:blipFill>
          <a:blip r:embed="rId2"/>
          <a:stretch/>
        </p:blipFill>
        <p:spPr>
          <a:xfrm>
            <a:off x="324000" y="4130640"/>
            <a:ext cx="3311280" cy="2482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79280" y="1052640"/>
            <a:ext cx="8964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Доступность и легкость употребления. Нет необходимости в накрытых столах, не нужен, хотя бы, формальный повод для выпивки, пить можно одному, можно в компании, можно дома, можно на улице, можно сидя, а можно на ходу и т.д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3"/>
          <p:cNvSpPr txBox="1"/>
          <p:nvPr/>
        </p:nvSpPr>
        <p:spPr>
          <a:xfrm>
            <a:off x="179280" y="189000"/>
            <a:ext cx="878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Особенности пивного 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90" name="Picture 4" descr="icon"/>
          <p:cNvPicPr/>
          <p:nvPr/>
        </p:nvPicPr>
        <p:blipFill>
          <a:blip r:embed="rId1"/>
          <a:stretch/>
        </p:blipFill>
        <p:spPr>
          <a:xfrm>
            <a:off x="539640" y="3357720"/>
            <a:ext cx="2797200" cy="32526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91" name="Picture 5" descr="1193382818_alkogol"/>
          <p:cNvPicPr/>
          <p:nvPr/>
        </p:nvPicPr>
        <p:blipFill>
          <a:blip r:embed="rId2"/>
          <a:stretch/>
        </p:blipFill>
        <p:spPr>
          <a:xfrm>
            <a:off x="4643280" y="3357720"/>
            <a:ext cx="4091040" cy="3273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3"/>
          <p:cNvSpPr txBox="1"/>
          <p:nvPr/>
        </p:nvSpPr>
        <p:spPr>
          <a:xfrm>
            <a:off x="3995640" y="189000"/>
            <a:ext cx="44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Детский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93" name="Picture 4" descr="tr_ab_29_6"/>
          <p:cNvPicPr/>
          <p:nvPr/>
        </p:nvPicPr>
        <p:blipFill>
          <a:blip r:embed="rId1"/>
          <a:stretch/>
        </p:blipFill>
        <p:spPr>
          <a:xfrm>
            <a:off x="324000" y="620640"/>
            <a:ext cx="2876400" cy="5550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94" name="Text Box 5"/>
          <p:cNvSpPr/>
          <p:nvPr/>
        </p:nvSpPr>
        <p:spPr>
          <a:xfrm>
            <a:off x="3780000" y="1125360"/>
            <a:ext cx="504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 последние три года количество больных алкоголизмом среди тинэйджеров выросло на </a:t>
            </a:r>
            <a:r>
              <a:rPr b="1" lang="ru-RU" sz="2800" spc="-1" strike="noStrike">
                <a:solidFill>
                  <a:srgbClr val="3a003a"/>
                </a:solidFill>
                <a:latin typeface="Arial"/>
              </a:rPr>
              <a:t>15,3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алкогольными психозами - на </a:t>
            </a:r>
            <a:r>
              <a:rPr b="1" lang="ru-RU" sz="2800" spc="-1" strike="noStrike">
                <a:solidFill>
                  <a:srgbClr val="3a003a"/>
                </a:solidFill>
                <a:latin typeface="Arial"/>
              </a:rPr>
              <a:t>76,9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Пивная зависимость занимает до </a:t>
            </a:r>
            <a:r>
              <a:rPr b="1" lang="ru-RU" sz="2800" spc="-1" strike="noStrike">
                <a:solidFill>
                  <a:srgbClr val="3a003a"/>
                </a:solidFill>
                <a:latin typeface="Arial"/>
              </a:rPr>
              <a:t>75-80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общем количестве подростков-алкогол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3492360" y="5805360"/>
            <a:ext cx="532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лкоголизм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79280" y="189000"/>
            <a:ext cx="871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Детский алкоголизм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79280" y="981000"/>
            <a:ext cx="8713800" cy="21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бы оградить детей от пагубной зависимости от жидкого хлеба, законодатели предлагают в первую очер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граничить рекламу напи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Тяжело"/>
          <p:cNvPicPr/>
          <p:nvPr/>
        </p:nvPicPr>
        <p:blipFill>
          <a:blip r:embed="rId1"/>
          <a:stretch/>
        </p:blipFill>
        <p:spPr>
          <a:xfrm>
            <a:off x="2050920" y="3284640"/>
            <a:ext cx="5040360" cy="33606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179280" y="189000"/>
            <a:ext cx="8785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ЕКЛАМА – ДВИГАТЕЛЬ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ПИВНОГО 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00" name="Picture 3" descr="1"/>
          <p:cNvPicPr/>
          <p:nvPr/>
        </p:nvPicPr>
        <p:blipFill>
          <a:blip r:embed="rId1"/>
          <a:stretch/>
        </p:blipFill>
        <p:spPr>
          <a:xfrm>
            <a:off x="1332000" y="1628640"/>
            <a:ext cx="6553080" cy="4915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1" name="Picture 4" descr="3"/>
          <p:cNvPicPr/>
          <p:nvPr/>
        </p:nvPicPr>
        <p:blipFill>
          <a:blip r:embed="rId2"/>
          <a:stretch/>
        </p:blipFill>
        <p:spPr>
          <a:xfrm>
            <a:off x="1258920" y="1557360"/>
            <a:ext cx="6697800" cy="5024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2" name="Picture 5" descr="5"/>
          <p:cNvPicPr/>
          <p:nvPr/>
        </p:nvPicPr>
        <p:blipFill>
          <a:blip r:embed="rId3"/>
          <a:stretch/>
        </p:blipFill>
        <p:spPr>
          <a:xfrm>
            <a:off x="1187280" y="1484280"/>
            <a:ext cx="6913800" cy="5186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3" name="Picture 7" descr="444"/>
          <p:cNvPicPr/>
          <p:nvPr/>
        </p:nvPicPr>
        <p:blipFill>
          <a:blip r:embed="rId4"/>
          <a:stretch/>
        </p:blipFill>
        <p:spPr>
          <a:xfrm>
            <a:off x="1042920" y="1413000"/>
            <a:ext cx="6985080" cy="5238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4" name="Picture 9" descr="9"/>
          <p:cNvPicPr/>
          <p:nvPr/>
        </p:nvPicPr>
        <p:blipFill>
          <a:blip r:embed="rId5"/>
          <a:stretch/>
        </p:blipFill>
        <p:spPr>
          <a:xfrm>
            <a:off x="1042920" y="1413000"/>
            <a:ext cx="7058160" cy="5238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05" name="WordArt 11"/>
          <p:cNvSpPr txBox="1"/>
          <p:nvPr/>
        </p:nvSpPr>
        <p:spPr>
          <a:xfrm>
            <a:off x="250920" y="1628640"/>
            <a:ext cx="84978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Вам захотелось</a:t>
            </a:r>
            <a:endParaRPr b="1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пива???</a:t>
            </a:r>
            <a:endParaRPr b="1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324000" y="189000"/>
            <a:ext cx="849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А теперь???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07" name="Picture 4" descr="18668__beer"/>
          <p:cNvPicPr/>
          <p:nvPr/>
        </p:nvPicPr>
        <p:blipFill>
          <a:blip r:embed="rId1"/>
          <a:stretch/>
        </p:blipFill>
        <p:spPr>
          <a:xfrm>
            <a:off x="4427640" y="1557360"/>
            <a:ext cx="4429080" cy="3600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8" name="Picture 6" descr="DSDBPCAS82CN0CADZB1KSCAW5FFEOCAHZID2XCASBINI7CA0DDWXYCA4THRCSCAHT2JNHCAXRX4BJCA1J4278CAQJCH7PCA1I7F86CARBCGM0CAXSM7SUCAZ8OLBGCAA219KACAOG7Z43CA5B1SX0CAO40NL2"/>
          <p:cNvPicPr/>
          <p:nvPr/>
        </p:nvPicPr>
        <p:blipFill>
          <a:blip r:embed="rId2"/>
          <a:stretch/>
        </p:blipFill>
        <p:spPr>
          <a:xfrm>
            <a:off x="179280" y="2997360"/>
            <a:ext cx="3961080" cy="3517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09" name="Picture 7" descr="21466"/>
          <p:cNvPicPr/>
          <p:nvPr/>
        </p:nvPicPr>
        <p:blipFill>
          <a:blip r:embed="rId3"/>
          <a:stretch/>
        </p:blipFill>
        <p:spPr>
          <a:xfrm>
            <a:off x="4859280" y="1484280"/>
            <a:ext cx="3873600" cy="5167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10" name="Picture 8" descr="Alkogoliki"/>
          <p:cNvPicPr/>
          <p:nvPr/>
        </p:nvPicPr>
        <p:blipFill>
          <a:blip r:embed="rId4"/>
          <a:stretch/>
        </p:blipFill>
        <p:spPr>
          <a:xfrm>
            <a:off x="395280" y="1484280"/>
            <a:ext cx="4057560" cy="5140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2268360" y="189000"/>
            <a:ext cx="46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WordArt 3"/>
          <p:cNvSpPr txBox="1"/>
          <p:nvPr/>
        </p:nvSpPr>
        <p:spPr>
          <a:xfrm>
            <a:off x="324000" y="4653000"/>
            <a:ext cx="8496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иво и дет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е совместимы!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Picture 4" descr="children"/>
          <p:cNvPicPr/>
          <p:nvPr/>
        </p:nvPicPr>
        <p:blipFill>
          <a:blip r:embed="rId2"/>
          <a:stretch/>
        </p:blipFill>
        <p:spPr>
          <a:xfrm>
            <a:off x="2627280" y="1484280"/>
            <a:ext cx="3888000" cy="31100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3"/>
          <p:cNvSpPr txBox="1"/>
          <p:nvPr/>
        </p:nvSpPr>
        <p:spPr>
          <a:xfrm>
            <a:off x="179280" y="189000"/>
            <a:ext cx="734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Тест «Анти - пиво»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2007-08 учебный год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12" name="Picture 5" descr="krest"/>
          <p:cNvPicPr/>
          <p:nvPr/>
        </p:nvPicPr>
        <p:blipFill>
          <a:blip r:embed="rId1"/>
          <a:srcRect l="0" t="0" r="6653" b="6400"/>
          <a:stretch/>
        </p:blipFill>
        <p:spPr>
          <a:xfrm>
            <a:off x="7740720" y="189000"/>
            <a:ext cx="1225440" cy="12189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13" name="Picture 6" descr="114-12-2"/>
          <p:cNvPicPr/>
          <p:nvPr/>
        </p:nvPicPr>
        <p:blipFill>
          <a:blip r:embed="rId2"/>
          <a:stretch/>
        </p:blipFill>
        <p:spPr>
          <a:xfrm>
            <a:off x="2411280" y="3429000"/>
            <a:ext cx="4175280" cy="3214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14" name="Text Box 7"/>
          <p:cNvSpPr/>
          <p:nvPr/>
        </p:nvSpPr>
        <p:spPr>
          <a:xfrm>
            <a:off x="0" y="1557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стировались учащиеся 7-х и 9-х классов. Всего количество респондентов – </a:t>
            </a:r>
            <a:r>
              <a:rPr b="1" lang="ru-RU" sz="3600" spc="-1" strike="noStrike" u="sng">
                <a:solidFill>
                  <a:srgbClr val="3a003a"/>
                </a:solidFill>
                <a:uFillTx/>
                <a:latin typeface="Arial"/>
              </a:rPr>
              <a:t>101 человек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езультаты тестирования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59280" y="105264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7 – е клас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162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го количество респондентов –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32 человек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2276640"/>
          <a:ext cx="8640720" cy="1554120"/>
        </p:xfrm>
        <a:graphic>
          <a:graphicData uri="http://schemas.openxmlformats.org/drawingml/2006/table">
            <a:tbl>
              <a:tblPr/>
              <a:tblGrid>
                <a:gridCol w="2880000"/>
                <a:gridCol w="2879640"/>
                <a:gridCol w="2881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учащихся знающих о вреде п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входят в группу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64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63"/>
          <p:cNvGraphicFramePr/>
          <p:nvPr/>
        </p:nvGraphicFramePr>
        <p:xfrm>
          <a:off x="1403280" y="3645000"/>
          <a:ext cx="6193080" cy="32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645000"/>
                    <a:ext cx="619308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езультаты тестирования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059280" y="105264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9 – е клас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0" y="162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го количество респондентов –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69 человек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2276640"/>
          <a:ext cx="8642160" cy="1554120"/>
        </p:xfrm>
        <a:graphic>
          <a:graphicData uri="http://schemas.openxmlformats.org/drawingml/2006/table">
            <a:tbl>
              <a:tblPr/>
              <a:tblGrid>
                <a:gridCol w="2879640"/>
                <a:gridCol w="2881440"/>
                <a:gridCol w="2881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учащихся знающих о вреде п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входят в группу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122"/>
          <p:cNvSpPr/>
          <p:nvPr/>
        </p:nvSpPr>
        <p:spPr>
          <a:xfrm>
            <a:off x="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121"/>
          <p:cNvGraphicFramePr/>
          <p:nvPr/>
        </p:nvGraphicFramePr>
        <p:xfrm>
          <a:off x="1547640" y="3733920"/>
          <a:ext cx="627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1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733920"/>
                    <a:ext cx="627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179280" y="189000"/>
            <a:ext cx="734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Тест «Анти - пиво»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2008-09 учебный год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30" name="Picture 3" descr="krest"/>
          <p:cNvPicPr/>
          <p:nvPr/>
        </p:nvPicPr>
        <p:blipFill>
          <a:blip r:embed="rId1"/>
          <a:srcRect l="0" t="0" r="6653" b="6400"/>
          <a:stretch/>
        </p:blipFill>
        <p:spPr>
          <a:xfrm>
            <a:off x="7740720" y="189000"/>
            <a:ext cx="1225440" cy="12189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31" name="Text Box 5"/>
          <p:cNvSpPr/>
          <p:nvPr/>
        </p:nvSpPr>
        <p:spPr>
          <a:xfrm>
            <a:off x="0" y="1557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стировались учащиеся 8-х и 10-х классов. Всего количество респондентов – </a:t>
            </a:r>
            <a:r>
              <a:rPr b="1" lang="ru-RU" sz="3600" spc="-1" strike="noStrike" u="sng">
                <a:solidFill>
                  <a:srgbClr val="3a003a"/>
                </a:solidFill>
                <a:uFillTx/>
                <a:latin typeface="Arial"/>
              </a:rPr>
              <a:t>62 человек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i[19]"/>
          <p:cNvPicPr/>
          <p:nvPr/>
        </p:nvPicPr>
        <p:blipFill>
          <a:blip r:embed="rId2"/>
          <a:stretch/>
        </p:blipFill>
        <p:spPr>
          <a:xfrm>
            <a:off x="3348000" y="3429000"/>
            <a:ext cx="2436840" cy="3263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езультаты тестирования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059280" y="105264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8 – е клас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162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го количество респондентов –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39 человек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79280" y="2276640"/>
          <a:ext cx="8640720" cy="1554120"/>
        </p:xfrm>
        <a:graphic>
          <a:graphicData uri="http://schemas.openxmlformats.org/drawingml/2006/table">
            <a:tbl>
              <a:tblPr/>
              <a:tblGrid>
                <a:gridCol w="2880000"/>
                <a:gridCol w="2879640"/>
                <a:gridCol w="2881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учащихся знающих о вреде п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входят в группу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9,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,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,1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23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5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332000" y="3933720"/>
            <a:ext cx="6191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езультаты тестирования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059280" y="1052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0 – е клас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0" y="1628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го количество респондентов –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3 человек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0920" y="2276640"/>
          <a:ext cx="8642160" cy="1554120"/>
        </p:xfrm>
        <a:graphic>
          <a:graphicData uri="http://schemas.openxmlformats.org/drawingml/2006/table">
            <a:tbl>
              <a:tblPr/>
              <a:tblGrid>
                <a:gridCol w="2879640"/>
                <a:gridCol w="2881440"/>
                <a:gridCol w="2881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учащихся знающих о вреде п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уппа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входят в группу р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 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,1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,9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23"/>
          <p:cNvSpPr/>
          <p:nvPr/>
        </p:nvSpPr>
        <p:spPr>
          <a:xfrm>
            <a:off x="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1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403280" y="3860640"/>
            <a:ext cx="63342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7"/>
          <p:cNvSpPr txBox="1"/>
          <p:nvPr/>
        </p:nvSpPr>
        <p:spPr>
          <a:xfrm>
            <a:off x="250920" y="549360"/>
            <a:ext cx="388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Вывод</a:t>
            </a:r>
            <a:endParaRPr b="0" lang="en-US" sz="1800" spc="1" strike="noStrike">
              <a:ln w="22320">
                <a:solidFill>
                  <a:srgbClr val="ffcc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356000" y="907920"/>
            <a:ext cx="46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3a003a"/>
                </a:solidFill>
                <a:uFillTx/>
                <a:latin typeface="Arial"/>
              </a:rPr>
              <a:t>Анализ фактов и результатов показывает то, что пивной алкоголизм среди подрастающего поколения существует. Но надо вовремя проводить с детьми профилактическую работу.</a:t>
            </a:r>
            <a:r>
              <a:rPr b="1" i="1" lang="ru-RU" sz="2700" spc="-1" strike="noStrike">
                <a:solidFill>
                  <a:srgbClr val="3a003a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2721"/>
          <p:cNvPicPr/>
          <p:nvPr/>
        </p:nvPicPr>
        <p:blipFill>
          <a:blip r:embed="rId1"/>
          <a:stretch/>
        </p:blipFill>
        <p:spPr>
          <a:xfrm>
            <a:off x="826920" y="1844640"/>
            <a:ext cx="2305080" cy="2205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51" name="Picture 11" descr="i[13]"/>
          <p:cNvPicPr/>
          <p:nvPr/>
        </p:nvPicPr>
        <p:blipFill>
          <a:blip r:embed="rId2"/>
          <a:stretch/>
        </p:blipFill>
        <p:spPr>
          <a:xfrm>
            <a:off x="539640" y="4365720"/>
            <a:ext cx="2880000" cy="2274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250920" y="549360"/>
            <a:ext cx="388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Вывод</a:t>
            </a:r>
            <a:endParaRPr b="0" lang="en-US" sz="1800" spc="1" strike="noStrike">
              <a:ln w="22320">
                <a:solidFill>
                  <a:srgbClr val="ffcc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356000" y="476280"/>
            <a:ext cx="4608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708360" y="260280"/>
            <a:ext cx="5435640" cy="68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3a003a"/>
                </a:solidFill>
                <a:latin typeface="Arial"/>
              </a:rPr>
              <a:t>После повторного анкетирования в ранее исследуемых классах, я выявила, что больше учащихся стали знать о вреде пива, и произошло снижение в группе риска.</a:t>
            </a:r>
            <a:r>
              <a:rPr b="1" lang="ru-RU" sz="2700" spc="-1" strike="noStrike">
                <a:solidFill>
                  <a:srgbClr val="3a003a"/>
                </a:solidFill>
                <a:latin typeface="Arial"/>
              </a:rPr>
              <a:t> Можно сделать вывод, что пиво - очень опасная вещь. Оно грозит превратиться из слуги в господина. Зависимому человеку необходимо показать, что реальный мир прекрасен без употребления алкоголя.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i[17]"/>
          <p:cNvPicPr/>
          <p:nvPr/>
        </p:nvPicPr>
        <p:blipFill>
          <a:blip r:embed="rId1"/>
          <a:stretch/>
        </p:blipFill>
        <p:spPr>
          <a:xfrm>
            <a:off x="250920" y="2637000"/>
            <a:ext cx="3527280" cy="26334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250920" y="3141720"/>
            <a:ext cx="87138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Ведь никакой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похмельный дурман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не может сравниться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с прелестями жизни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pic>
        <p:nvPicPr>
          <p:cNvPr id="157" name="Picture 6" descr="valent"/>
          <p:cNvPicPr/>
          <p:nvPr/>
        </p:nvPicPr>
        <p:blipFill>
          <a:blip r:embed="rId1"/>
          <a:stretch/>
        </p:blipFill>
        <p:spPr>
          <a:xfrm>
            <a:off x="2627280" y="189000"/>
            <a:ext cx="3816360" cy="286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79280" y="189000"/>
            <a:ext cx="6264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роки создания: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6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/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09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/200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7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–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13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/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11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/200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79280" y="2276640"/>
            <a:ext cx="86407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a003a"/>
                </a:solidFill>
                <a:uFillTx/>
                <a:latin typeface="Arial"/>
              </a:rPr>
              <a:t>1 этап:</a:t>
            </a:r>
            <a:r>
              <a:rPr b="1" lang="ru-RU" sz="4000" spc="-1" strike="noStrike">
                <a:solidFill>
                  <a:srgbClr val="3a003a"/>
                </a:solidFill>
                <a:latin typeface="Arial"/>
              </a:rPr>
              <a:t> выявление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a003a"/>
                </a:solidFill>
                <a:uFillTx/>
                <a:latin typeface="Arial"/>
              </a:rPr>
              <a:t>2 этап:</a:t>
            </a:r>
            <a:r>
              <a:rPr b="1" lang="ru-RU" sz="4000" spc="-1" strike="noStrike">
                <a:solidFill>
                  <a:srgbClr val="3a003a"/>
                </a:solidFill>
                <a:latin typeface="Arial"/>
              </a:rPr>
              <a:t> изучение литературы по теме, выдвижение идеи и актуальности, анализ опро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a003a"/>
                </a:solidFill>
                <a:uFillTx/>
                <a:latin typeface="Arial"/>
              </a:rPr>
              <a:t>3 этап:</a:t>
            </a:r>
            <a:r>
              <a:rPr b="1" lang="ru-RU" sz="4000" spc="-1" strike="noStrike">
                <a:solidFill>
                  <a:srgbClr val="3a003a"/>
                </a:solidFill>
                <a:latin typeface="Arial"/>
              </a:rPr>
              <a:t> создание презентации в среде </a:t>
            </a:r>
            <a:r>
              <a:rPr b="1" lang="en-US" sz="4000" spc="-1" strike="noStrike">
                <a:solidFill>
                  <a:srgbClr val="3a003a"/>
                </a:solidFill>
                <a:latin typeface="Arial"/>
              </a:rPr>
              <a:t> MS Power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21b"/>
          <p:cNvPicPr/>
          <p:nvPr/>
        </p:nvPicPr>
        <p:blipFill>
          <a:blip r:embed="rId1"/>
          <a:stretch/>
        </p:blipFill>
        <p:spPr>
          <a:xfrm>
            <a:off x="6516720" y="189000"/>
            <a:ext cx="2482920" cy="20304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395280" y="476280"/>
            <a:ext cx="842472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СПИД, не туберкулез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губят Россию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"пивной алкоголизм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реди юного покол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195640" y="551664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Главный санитарный врач РФ Геннадий Онище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3"/>
          <p:cNvSpPr txBox="1"/>
          <p:nvPr/>
        </p:nvSpPr>
        <p:spPr>
          <a:xfrm>
            <a:off x="826920" y="333360"/>
            <a:ext cx="540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ИСТОЧНИКИ</a:t>
            </a:r>
            <a:endParaRPr b="0" lang="en-US" sz="1800" spc="1" strike="noStrike">
              <a:ln w="22320">
                <a:solidFill>
                  <a:srgbClr val="ffcc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62" name="Picture 4" descr="index"/>
          <p:cNvPicPr/>
          <p:nvPr/>
        </p:nvPicPr>
        <p:blipFill>
          <a:blip r:embed="rId1"/>
          <a:stretch/>
        </p:blipFill>
        <p:spPr>
          <a:xfrm>
            <a:off x="7236000" y="189000"/>
            <a:ext cx="1657080" cy="16574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63" name="Text Box 5"/>
          <p:cNvSpPr/>
          <p:nvPr/>
        </p:nvSpPr>
        <p:spPr>
          <a:xfrm>
            <a:off x="179280" y="1341360"/>
            <a:ext cx="8785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газеты «Финансовые известия» - http://www.finiz.ru/economic/article16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еженедельного общественно-политического издания - «Всё для вас» - http://vdv.sibr.ru/index.p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антинаркотического информационного сервера «</a:t>
            </a:r>
            <a:r>
              <a:rPr b="1" lang="en-US" sz="2000" spc="-1" strike="noStrike">
                <a:solidFill>
                  <a:srgbClr val="3a003a"/>
                </a:solidFill>
                <a:latin typeface="Arial"/>
              </a:rPr>
              <a:t>Narcko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» - http://www.add.net.ru/articles/20010319104138.html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"Особенности пивного алкоголизма" З. Коробкина - http://theme.orthodoxy.ru/piv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центра «Бехтерев» - «Счастье возможно» - http://www.bechterev.ru/pivnoyalkogolizm1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медицинской информационной сети - http://medicinform.net/human/humanis/human4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- http://www.papashi.ru/a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- http://mrsh45.narod.ru/pivo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медицинского центра «Алко-клиник» - http://www.alcoclinic.ru/page_15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a003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003a"/>
                </a:solidFill>
                <a:latin typeface="Arial"/>
              </a:rPr>
              <a:t>Сайт - http://theme.orthodoxy.ru/pivo/polz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395280" y="544500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3a"/>
                </a:solidFill>
                <a:latin typeface="Arial"/>
              </a:rPr>
              <a:t>ученица 11А класса МО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3a"/>
                </a:solidFill>
                <a:latin typeface="Arial"/>
              </a:rPr>
              <a:t>«СОШ №31 имени А.П. Ждано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276720" y="2205000"/>
            <a:ext cx="58672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ресто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н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Александровна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6"/>
          <p:cNvSpPr txBox="1"/>
          <p:nvPr/>
        </p:nvSpPr>
        <p:spPr>
          <a:xfrm>
            <a:off x="3995640" y="620640"/>
            <a:ext cx="431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Автор</a:t>
            </a:r>
            <a:endParaRPr b="0" lang="en-US" sz="1800" spc="1" strike="noStrike">
              <a:ln w="22320">
                <a:solidFill>
                  <a:srgbClr val="ffcc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167" name="Picture 7" descr="IMG000012"/>
          <p:cNvPicPr/>
          <p:nvPr/>
        </p:nvPicPr>
        <p:blipFill>
          <a:blip r:embed="rId1"/>
          <a:stretch/>
        </p:blipFill>
        <p:spPr>
          <a:xfrm>
            <a:off x="325440" y="982800"/>
            <a:ext cx="3174840" cy="3870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755640" y="333360"/>
            <a:ext cx="431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уководитель</a:t>
            </a:r>
            <a:endParaRPr b="0" lang="en-US" sz="1800" spc="1" strike="noStrike">
              <a:ln w="22320">
                <a:solidFill>
                  <a:srgbClr val="ffcc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50920" y="1484280"/>
            <a:ext cx="5472000" cy="33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Радыгин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кс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икторовна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3816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71" name="Text Box 8"/>
          <p:cNvSpPr/>
          <p:nvPr/>
        </p:nvSpPr>
        <p:spPr>
          <a:xfrm>
            <a:off x="468360" y="522936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a003a"/>
                </a:solidFill>
                <a:latin typeface="Arial"/>
              </a:rPr>
              <a:t>учитель ИВТ и ИК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a003a"/>
                </a:solidFill>
                <a:latin typeface="Arial"/>
              </a:rPr>
              <a:t>МОУ «СОШ №42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324000" y="189000"/>
            <a:ext cx="2663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Цель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98100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ать, что пивной алкоголизм – заболевание не только взрослых, но и подрастающего поко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0622-05b"/>
          <p:cNvPicPr/>
          <p:nvPr/>
        </p:nvPicPr>
        <p:blipFill>
          <a:blip r:embed="rId1"/>
          <a:stretch/>
        </p:blipFill>
        <p:spPr>
          <a:xfrm>
            <a:off x="2411280" y="3789360"/>
            <a:ext cx="4248360" cy="2863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395280" y="189000"/>
            <a:ext cx="367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9280" y="1197000"/>
            <a:ext cx="8785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ти и проанализировать информацию о пивном алкоголизме среди подрост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Найти и адаптировать тесты на выявление пивного алкого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вести выборочное тестирование учащихся среднего звена мое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оказать, что проблема пивного алкоголизма существует и в наше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3492360" y="4653000"/>
            <a:ext cx="5468760" cy="2016000"/>
            <a:chOff x="3492360" y="4653000"/>
            <a:chExt cx="5468760" cy="2016000"/>
          </a:xfrm>
        </p:grpSpPr>
        <p:pic>
          <p:nvPicPr>
            <p:cNvPr id="54" name="Picture 4" descr="pivo2"/>
            <p:cNvPicPr/>
            <p:nvPr/>
          </p:nvPicPr>
          <p:blipFill>
            <a:blip r:embed="rId1"/>
            <a:srcRect l="8156" t="0" r="0" b="32917"/>
            <a:stretch/>
          </p:blipFill>
          <p:spPr>
            <a:xfrm>
              <a:off x="3492360" y="4653000"/>
              <a:ext cx="5468760" cy="2016000"/>
            </a:xfrm>
            <a:prstGeom prst="rect">
              <a:avLst/>
            </a:prstGeom>
            <a:ln w="76320">
              <a:solidFill>
                <a:srgbClr val="ffff00"/>
              </a:solidFill>
              <a:miter/>
            </a:ln>
          </p:spPr>
        </p:pic>
        <p:grpSp>
          <p:nvGrpSpPr>
            <p:cNvPr id="55" name="Group 9"/>
            <p:cNvGrpSpPr/>
            <p:nvPr/>
          </p:nvGrpSpPr>
          <p:grpSpPr>
            <a:xfrm>
              <a:off x="3852720" y="4724280"/>
              <a:ext cx="2449440" cy="1800000"/>
              <a:chOff x="3852720" y="4724280"/>
              <a:chExt cx="2449440" cy="1800000"/>
            </a:xfrm>
          </p:grpSpPr>
          <p:sp>
            <p:nvSpPr>
              <p:cNvPr id="56" name="Line 6"/>
              <p:cNvSpPr/>
              <p:nvPr/>
            </p:nvSpPr>
            <p:spPr>
              <a:xfrm>
                <a:off x="3925440" y="4724280"/>
                <a:ext cx="2376720" cy="1512720"/>
              </a:xfrm>
              <a:prstGeom prst="line">
                <a:avLst/>
              </a:prstGeom>
              <a:ln w="155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7"/>
              <p:cNvSpPr/>
              <p:nvPr/>
            </p:nvSpPr>
            <p:spPr>
              <a:xfrm flipV="1">
                <a:off x="3852720" y="4724280"/>
                <a:ext cx="2233440" cy="1800000"/>
              </a:xfrm>
              <a:prstGeom prst="line">
                <a:avLst/>
              </a:prstGeom>
              <a:ln w="155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Text Box 8"/>
            <p:cNvSpPr/>
            <p:nvPr/>
          </p:nvSpPr>
          <p:spPr>
            <a:xfrm>
              <a:off x="6732360" y="5587920"/>
              <a:ext cx="2017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Нет пиву!!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179280" y="4292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Актуальность</a:t>
            </a:r>
            <a:endParaRPr b="1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0"/>
            <a:ext cx="9144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вной алкоголизм труднее поддается лечению. Сейчас в России каждый десятый алкоголик! Ведь употребляет пиво молодежь моложе 18 л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 каждым годом у пивного алкоголизма лицо всё моложе и молож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6cf4a79ba821c094b72c92ddc288590c_full"/>
          <p:cNvPicPr/>
          <p:nvPr/>
        </p:nvPicPr>
        <p:blipFill>
          <a:blip r:embed="rId1"/>
          <a:stretch/>
        </p:blipFill>
        <p:spPr>
          <a:xfrm>
            <a:off x="5292720" y="3789360"/>
            <a:ext cx="3600360" cy="29289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2658"/>
          <p:cNvPicPr/>
          <p:nvPr/>
        </p:nvPicPr>
        <p:blipFill>
          <a:blip r:embed="rId1"/>
          <a:stretch/>
        </p:blipFill>
        <p:spPr>
          <a:xfrm>
            <a:off x="3492360" y="3357720"/>
            <a:ext cx="5473800" cy="33336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3" name="Picture 6" descr="946"/>
          <p:cNvPicPr/>
          <p:nvPr/>
        </p:nvPicPr>
        <p:blipFill>
          <a:blip r:embed="rId2"/>
          <a:stretch/>
        </p:blipFill>
        <p:spPr>
          <a:xfrm>
            <a:off x="179280" y="189000"/>
            <a:ext cx="3745080" cy="28605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4" name="WordArt 8"/>
          <p:cNvSpPr txBox="1"/>
          <p:nvPr/>
        </p:nvSpPr>
        <p:spPr>
          <a:xfrm>
            <a:off x="4211640" y="549360"/>
            <a:ext cx="4753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Рост 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алкоголизма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65" name="Picture 9" descr="avatar552_4"/>
          <p:cNvPicPr/>
          <p:nvPr/>
        </p:nvPicPr>
        <p:blipFill>
          <a:blip r:embed="rId3"/>
          <a:stretch/>
        </p:blipFill>
        <p:spPr>
          <a:xfrm>
            <a:off x="539640" y="3716280"/>
            <a:ext cx="24447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468360" y="189000"/>
            <a:ext cx="835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Ожидаемые результаты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pic>
        <p:nvPicPr>
          <p:cNvPr id="67" name="Picture 5" descr="poster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24000" y="1557360"/>
            <a:ext cx="3525840" cy="4840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8" name="Text Box 6"/>
          <p:cNvSpPr/>
          <p:nvPr/>
        </p:nvSpPr>
        <p:spPr>
          <a:xfrm>
            <a:off x="4211640" y="1557360"/>
            <a:ext cx="4537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3a"/>
                </a:solidFill>
                <a:latin typeface="Arial"/>
              </a:rPr>
              <a:t>Я надеюсь, что моё исследование поможет не только в профилактике пивного алкоголизма среди подрастающего поколения, выявлению «алкоголезависимых» детей и работе с ними, но и в работе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179280" y="189000"/>
            <a:ext cx="45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Введение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0" y="1052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созревший организм поражается гораздо быстрее, чем организм взрослого. В результате зависимость и серьезные осложнения развиваются семимильными шагами, а прогноз в этой ситуации часто такой же неблагоприятный, как, например, при героиновой наркома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ivo3"/>
          <p:cNvPicPr/>
          <p:nvPr/>
        </p:nvPicPr>
        <p:blipFill>
          <a:blip r:embed="rId1"/>
          <a:stretch/>
        </p:blipFill>
        <p:spPr>
          <a:xfrm>
            <a:off x="2556000" y="3860640"/>
            <a:ext cx="3671640" cy="28130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25:15Z</dcterms:created>
  <dc:creator>РОкся</dc:creator>
  <dc:description/>
  <dc:language>en-US</dc:language>
  <cp:lastModifiedBy>Пользователь</cp:lastModifiedBy>
  <dcterms:modified xsi:type="dcterms:W3CDTF">2013-07-10T10:51:04Z</dcterms:modified>
  <cp:revision>71</cp:revision>
  <dc:subject/>
  <dc:title>Слайд 1</dc:title>
</cp:coreProperties>
</file>