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F62-C29E-461E-8E2C-E976F88F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E918-7BBC-42AB-853F-38ED17A0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F6C-B795-47A6-85CC-AA2B8A5E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9BC-75D7-43F8-94C6-3E35ABE2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FA15-A950-4CA3-A2C9-F707EE07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4484-2AB0-4A81-9FDB-7204499A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966F-598A-4BF7-BD5A-89E1D38C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2A0A-7331-4FA6-BD76-93BD3AC9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0881-97FA-4273-8AF0-BAEB1350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2909-8B0E-41B7-AD80-7D0694D1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7EE9-22F0-4404-83E4-38FB4AA2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8B6-A9D2-4C0E-ADE7-362C476A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2FFF-2342-4F27-BECD-557817A2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EE44-B0D6-4B79-8C5C-D6886D4D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0357-64D3-43AD-903C-69855B18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789D-0108-41EA-82AE-44F573C0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04BC-705D-4983-B49D-343E6EF5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826A7-BDDE-458A-BE76-86B6E317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EE595-6B4F-4313-81CB-A94A5981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391A9-10CE-4248-9A88-F7C3EE2E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B5689-F8A6-4DE9-8D6D-CAB296C8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9224B-C32F-403F-B1AA-6B54A206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C58-8B78-4501-81A3-75D053C8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4AF0D-F9FD-4EE0-A397-3BFC859A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267AC-24CE-4AD7-8044-BEE348B6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2768C-3F47-495C-9DD9-87AC2DCE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56037-F868-42DE-8709-D0596588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08CCB-FF51-453B-A708-A91BF93F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70866-F19B-4B44-8DF0-5B7E1EC1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8F7C7-1741-4645-89AA-55407C21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57EC4-A475-41EE-B3CA-2ACB5B3C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A67AA-6AFA-4650-981F-8CF29727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B77C3-D6A9-4FD9-A8F9-8D33F0B7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E4D-6F7C-4A75-A617-57E842FF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F4255-566B-41BA-84A6-3AA1D970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B3730-A099-4BF7-B690-24AF2A45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B35BF-1F9D-4249-9E2D-B819E0EF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B1A6D-784A-4CA3-B8AE-56F16EA7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EB7ED-A507-4A2B-AB40-36163793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565C0-3378-4C8F-B939-6E72D6AA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4EAF3-909D-41C7-87CB-67DCDC51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E37B4-016D-4927-BB57-C62C12FF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531B6-4076-47CA-9CBE-37148998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300EF-52DB-4C61-9706-ED3D603F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AB2-609C-49CD-BDEF-29E1FBB0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BAE19-A34D-4E90-B474-E56D6CCF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E14DE-B027-4D24-B5D8-8831863E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046C9-41BC-45EF-8A85-715E34A1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2DC0A-4C09-43EA-9E9B-46638C00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2B8FF-FE3E-48CE-AACA-4379BB57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8E27D-400B-4633-9F59-CF9968F3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9A2AA-48ED-4258-A06D-D48AC0A9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0073E-B0E5-46A7-AC96-EC630DC0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44A6D-0D8F-43A9-95E2-4356676A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E087A-9080-4D90-A428-BBAC2F23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F70-963A-457B-8E92-E78E24DC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F1F0D-EDB6-4E47-848F-DB13DD03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9257A-6FC6-42AA-A0CF-9D5B5FFF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D1F7C-F3BB-4759-AF2B-0979C482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4A5FC-B6A4-47BC-9C7F-8C25F8E8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2EB4A-F745-4BBC-A264-AD41F808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33076-EFEA-4BD1-8068-71272770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3945C-71A2-4176-84FB-4A5DE1B2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1F859-2B34-4794-91A3-50D7A41A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8A7AA-F9CE-47D1-ADFD-8E4BE22D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8648D-45AB-46EA-871A-3F60DD04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9CE-C9A4-46BA-8DCF-92F5996D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1C607-863C-487D-B961-0BBFD27D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EFE54-A672-4631-A4A6-0985CF35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93F03-072D-43BC-8CD1-F147E5EB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667-5F9D-435D-AD54-88AEFA0F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F67-1C8A-4D9A-98B0-819EA085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d6be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9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e8d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26E3-A5EF-447C-8238-A3ACEFB4A43A}" type="slidenum"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7541"/>
            </a:gs>
            <a:gs pos="100000">
              <a:srgbClr val="60cb8b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d6be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9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e8d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DA27-0BFD-4660-88A6-A187809BFE8F}" type="slidenum"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7541"/>
            </a:gs>
            <a:gs pos="100000">
              <a:srgbClr val="60cb8b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d6be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9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e8d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02FB-8A2F-4416-BC5A-AA5AA497ABDB}" type="slidenum"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d6be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9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e8d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2295-66C0-4B2E-AA3B-D7939C49724E}" type="slidenum"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d6be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9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e8d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B07A-D117-450E-90D6-E2CD86085E98}" type="slidenum"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d6be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9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e8d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0268-06DD-4517-B4AA-3BAE28C18AAD}" type="slidenum"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353880" y="3164040"/>
            <a:ext cx="6540480" cy="24318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071360"/>
            <a:ext cx="778176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кторина</a:t>
            </a:r>
            <a:endParaRPr b="0" lang="en-US" sz="4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321480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© Корнеева Л.А., учитель школы 1258. Москва. 2010.</a:t>
            </a: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кажите предложение с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ением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37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8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9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0" name="TextBox 15"/>
          <p:cNvSpPr/>
          <p:nvPr/>
        </p:nvSpPr>
        <p:spPr>
          <a:xfrm>
            <a:off x="571680" y="4071960"/>
            <a:ext cx="257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ьшая власть дана слову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1" name="TextBox 16"/>
          <p:cNvSpPr/>
          <p:nvPr/>
        </p:nvSpPr>
        <p:spPr>
          <a:xfrm>
            <a:off x="3214800" y="40719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правилась осень в поле, в луга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2" name="TextBox 17"/>
          <p:cNvSpPr/>
          <p:nvPr/>
        </p:nvSpPr>
        <p:spPr>
          <a:xfrm>
            <a:off x="5929200" y="407196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ажды утром мы отправились в лес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3" name="Управляющая кнопка: далее 14">
            <a:hlinkClick r:id="" action="ppaction://hlinkshowjump?jump=nextslide"/>
          </p:cNvPr>
          <p:cNvSpPr/>
          <p:nvPr/>
        </p:nvSpPr>
        <p:spPr>
          <a:xfrm>
            <a:off x="8001000" y="6143760"/>
            <a:ext cx="785880" cy="42840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9609" h="21600">
                <a:moveTo>
                  <a:pt x="0" y="0"/>
                </a:moveTo>
                <a:lnTo>
                  <a:pt x="39609" y="0"/>
                </a:lnTo>
                <a:lnTo>
                  <a:pt x="39609" y="21600"/>
                </a:lnTo>
                <a:lnTo>
                  <a:pt x="0" y="21600"/>
                </a:lnTo>
                <a:close/>
              </a:path>
              <a:path fill="lightenLess" w="39609" h="21600">
                <a:moveTo>
                  <a:pt x="0" y="0"/>
                </a:moveTo>
                <a:lnTo>
                  <a:pt x="39609" y="0"/>
                </a:lnTo>
                <a:lnTo>
                  <a:pt x="38209" y="1400"/>
                </a:lnTo>
                <a:lnTo>
                  <a:pt x="1400" y="1400"/>
                </a:lnTo>
                <a:close/>
              </a:path>
              <a:path fill="darken" w="39609" h="21600">
                <a:moveTo>
                  <a:pt x="39609" y="0"/>
                </a:moveTo>
                <a:lnTo>
                  <a:pt x="39609" y="21600"/>
                </a:lnTo>
                <a:lnTo>
                  <a:pt x="38209" y="20200"/>
                </a:lnTo>
                <a:lnTo>
                  <a:pt x="38209" y="1400"/>
                </a:lnTo>
                <a:close/>
              </a:path>
              <a:path fill="darkenLess" w="39609" h="21600">
                <a:moveTo>
                  <a:pt x="39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9" y="20200"/>
                </a:lnTo>
                <a:close/>
              </a:path>
              <a:path fill="lighten" w="39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9" h="21600">
                <a:moveTo>
                  <a:pt x="12798" y="3794"/>
                </a:moveTo>
                <a:lnTo>
                  <a:pt x="26811" y="10800"/>
                </a:lnTo>
                <a:lnTo>
                  <a:pt x="12798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еделением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 предложени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красна 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овторима золотая осень!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вляется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45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6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7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8" name="TextBox 15"/>
          <p:cNvSpPr/>
          <p:nvPr/>
        </p:nvSpPr>
        <p:spPr>
          <a:xfrm>
            <a:off x="571680" y="407196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повторима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9" name="TextBox 16"/>
          <p:cNvSpPr/>
          <p:nvPr/>
        </p:nvSpPr>
        <p:spPr>
          <a:xfrm>
            <a:off x="3214800" y="4071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лотая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0" name="TextBox 17"/>
          <p:cNvSpPr/>
          <p:nvPr/>
        </p:nvSpPr>
        <p:spPr>
          <a:xfrm>
            <a:off x="5929200" y="4071960"/>
            <a:ext cx="250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красна и неповторима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2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001000" y="614376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25006" y="10800"/>
                </a:lnTo>
                <a:lnTo>
                  <a:pt x="10994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стоятельство времени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ть в предложении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54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5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6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7" name="TextBox 15"/>
          <p:cNvSpPr/>
          <p:nvPr/>
        </p:nvSpPr>
        <p:spPr>
          <a:xfrm>
            <a:off x="571680" y="4071960"/>
            <a:ext cx="257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низу ласково плескалось море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3214800" y="40719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епенно гаснут в небе звезды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9" name="TextBox 17"/>
          <p:cNvSpPr/>
          <p:nvPr/>
        </p:nvSpPr>
        <p:spPr>
          <a:xfrm>
            <a:off x="5929200" y="4071960"/>
            <a:ext cx="250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чером прошла гроза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0" name="TextBox 8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1" name="TextBox 12"/>
          <p:cNvSpPr/>
          <p:nvPr/>
        </p:nvSpPr>
        <p:spPr>
          <a:xfrm>
            <a:off x="6000840" y="22860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2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72280" y="6143760"/>
            <a:ext cx="785880" cy="500040"/>
          </a:xfrm>
          <a:custGeom>
            <a:avLst/>
            <a:gdLst>
              <a:gd name="textAreaLeft" fmla="*/ 32400 w 785880"/>
              <a:gd name="textAreaRight" fmla="*/ 753480 w 7858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3938" h="21600">
                <a:moveTo>
                  <a:pt x="0" y="0"/>
                </a:moveTo>
                <a:lnTo>
                  <a:pt x="33938" y="0"/>
                </a:lnTo>
                <a:lnTo>
                  <a:pt x="33938" y="21600"/>
                </a:lnTo>
                <a:lnTo>
                  <a:pt x="0" y="21600"/>
                </a:lnTo>
                <a:close/>
              </a:path>
              <a:path fill="lightenLess" w="33938" h="21600">
                <a:moveTo>
                  <a:pt x="0" y="0"/>
                </a:moveTo>
                <a:lnTo>
                  <a:pt x="33938" y="0"/>
                </a:lnTo>
                <a:lnTo>
                  <a:pt x="32538" y="1400"/>
                </a:lnTo>
                <a:lnTo>
                  <a:pt x="1400" y="1400"/>
                </a:lnTo>
                <a:close/>
              </a:path>
              <a:path fill="darken" w="33938" h="21600">
                <a:moveTo>
                  <a:pt x="33938" y="0"/>
                </a:moveTo>
                <a:lnTo>
                  <a:pt x="33938" y="21600"/>
                </a:lnTo>
                <a:lnTo>
                  <a:pt x="32538" y="20200"/>
                </a:lnTo>
                <a:lnTo>
                  <a:pt x="32538" y="1400"/>
                </a:lnTo>
                <a:close/>
              </a:path>
              <a:path fill="darkenLess" w="33938" h="21600">
                <a:moveTo>
                  <a:pt x="33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8" y="20200"/>
                </a:lnTo>
                <a:close/>
              </a:path>
              <a:path fill="lighten" w="33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8" h="21600">
                <a:moveTo>
                  <a:pt x="9963" y="3794"/>
                </a:moveTo>
                <a:lnTo>
                  <a:pt x="23976" y="10800"/>
                </a:lnTo>
                <a:lnTo>
                  <a:pt x="9963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08" dur="indefinite" restart="never" nodeType="tmRoot">
          <p:childTnLst>
            <p:seq>
              <p:cTn id="209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редложени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сной опять запели соловьи о верности, о дружбе, о любв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ородными членам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являются:</a:t>
            </a:r>
            <a:endParaRPr b="0" lang="en-US" sz="28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64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5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6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7" name="TextBox 15"/>
          <p:cNvSpPr/>
          <p:nvPr/>
        </p:nvSpPr>
        <p:spPr>
          <a:xfrm>
            <a:off x="571680" y="407196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полнения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8" name="TextBox 16"/>
          <p:cNvSpPr/>
          <p:nvPr/>
        </p:nvSpPr>
        <p:spPr>
          <a:xfrm>
            <a:off x="3214800" y="4071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азуемые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9" name="TextBox 17"/>
          <p:cNvSpPr/>
          <p:nvPr/>
        </p:nvSpPr>
        <p:spPr>
          <a:xfrm>
            <a:off x="6000840" y="40719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стоятельства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85716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1" name="TextBox 12"/>
          <p:cNvSpPr/>
          <p:nvPr/>
        </p:nvSpPr>
        <p:spPr>
          <a:xfrm>
            <a:off x="600084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2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010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3794"/>
                </a:moveTo>
                <a:lnTo>
                  <a:pt x="26794" y="10800"/>
                </a:lnTo>
                <a:lnTo>
                  <a:pt x="12781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27" dur="indefinite" restart="never" nodeType="tmRoot">
          <p:childTnLst>
            <p:seq>
              <p:cTn id="228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ородные члены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ть в предложении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74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5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6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7" name="TextBox 15"/>
          <p:cNvSpPr/>
          <p:nvPr/>
        </p:nvSpPr>
        <p:spPr>
          <a:xfrm>
            <a:off x="571680" y="407196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има еще хлопочет и на вену ворчит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8" name="TextBox 16"/>
          <p:cNvSpPr/>
          <p:nvPr/>
        </p:nvSpPr>
        <p:spPr>
          <a:xfrm>
            <a:off x="3214800" y="40719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сна спешит, а зима не отступает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9" name="TextBox 17"/>
          <p:cNvSpPr/>
          <p:nvPr/>
        </p:nvSpPr>
        <p:spPr>
          <a:xfrm>
            <a:off x="6000840" y="40719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весеннем лесу появились первые цветы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0" name="TextBox 8"/>
          <p:cNvSpPr/>
          <p:nvPr/>
        </p:nvSpPr>
        <p:spPr>
          <a:xfrm>
            <a:off x="85716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1" name="TextBox 12"/>
          <p:cNvSpPr/>
          <p:nvPr/>
        </p:nvSpPr>
        <p:spPr>
          <a:xfrm>
            <a:off x="600084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2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010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3794"/>
                </a:moveTo>
                <a:lnTo>
                  <a:pt x="26794" y="10800"/>
                </a:lnTo>
                <a:lnTo>
                  <a:pt x="12781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йдите предложение с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щением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84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5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6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7" name="TextBox 15"/>
          <p:cNvSpPr/>
          <p:nvPr/>
        </p:nvSpPr>
        <p:spPr>
          <a:xfrm>
            <a:off x="571680" y="407196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бро пожаловать скворцы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8" name="TextBox 16"/>
          <p:cNvSpPr/>
          <p:nvPr/>
        </p:nvSpPr>
        <p:spPr>
          <a:xfrm>
            <a:off x="3214800" y="407196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равьи санитары леса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9" name="TextBox 17"/>
          <p:cNvSpPr/>
          <p:nvPr/>
        </p:nvSpPr>
        <p:spPr>
          <a:xfrm>
            <a:off x="6000840" y="407196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ы читал эту книгу?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90" name="TextBox 8"/>
          <p:cNvSpPr/>
          <p:nvPr/>
        </p:nvSpPr>
        <p:spPr>
          <a:xfrm>
            <a:off x="85716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91" name="TextBox 12"/>
          <p:cNvSpPr/>
          <p:nvPr/>
        </p:nvSpPr>
        <p:spPr>
          <a:xfrm>
            <a:off x="600084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92" name="Управляющая кнопка: далее 13">
            <a:hlinkClick r:id="" action="ppaction://hlinkshowjump?jump=firstslide"/>
          </p:cNvPr>
          <p:cNvSpPr/>
          <p:nvPr/>
        </p:nvSpPr>
        <p:spPr>
          <a:xfrm>
            <a:off x="80010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3794"/>
                </a:moveTo>
                <a:lnTo>
                  <a:pt x="26794" y="10800"/>
                </a:lnTo>
                <a:lnTo>
                  <a:pt x="12781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осочетани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это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58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59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0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1" name="TextBox 15"/>
          <p:cNvSpPr/>
          <p:nvPr/>
        </p:nvSpPr>
        <p:spPr>
          <a:xfrm>
            <a:off x="1000080" y="450072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четание двух слов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2" name="TextBox 16"/>
          <p:cNvSpPr/>
          <p:nvPr/>
        </p:nvSpPr>
        <p:spPr>
          <a:xfrm>
            <a:off x="3357720" y="4500720"/>
            <a:ext cx="20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ва, связанные по смыслу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3" name="TextBox 17"/>
          <p:cNvSpPr/>
          <p:nvPr/>
        </p:nvSpPr>
        <p:spPr>
          <a:xfrm>
            <a:off x="5929200" y="4500720"/>
            <a:ext cx="30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четание слов , связанных по смыслу и грамматически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4" name="TextBox 18"/>
          <p:cNvSpPr/>
          <p:nvPr/>
        </p:nvSpPr>
        <p:spPr>
          <a:xfrm>
            <a:off x="600084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5" name="TextBox 19"/>
          <p:cNvSpPr/>
          <p:nvPr/>
        </p:nvSpPr>
        <p:spPr>
          <a:xfrm>
            <a:off x="357192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7" name="Управляющая кнопка: далее 21">
            <a:hlinkClick r:id="" action="ppaction://hlinkshowjump?jump=nextslide"/>
          </p:cNvPr>
          <p:cNvSpPr/>
          <p:nvPr/>
        </p:nvSpPr>
        <p:spPr>
          <a:xfrm>
            <a:off x="8072280" y="6286680"/>
            <a:ext cx="642960" cy="357120"/>
          </a:xfrm>
          <a:custGeom>
            <a:avLst/>
            <a:gdLst>
              <a:gd name="textAreaLeft" fmla="*/ 23040 w 642960"/>
              <a:gd name="textAreaRight" fmla="*/ 619920 w 642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2429" y="3794"/>
                </a:moveTo>
                <a:lnTo>
                  <a:pt x="26442" y="10800"/>
                </a:lnTo>
                <a:lnTo>
                  <a:pt x="12429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данных сочетаний слов явля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осочетанием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69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0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1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2" name="TextBox 15"/>
          <p:cNvSpPr/>
          <p:nvPr/>
        </p:nvSpPr>
        <p:spPr>
          <a:xfrm>
            <a:off x="1000080" y="400068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грать в снежки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3" name="TextBox 16"/>
          <p:cNvSpPr/>
          <p:nvPr/>
        </p:nvSpPr>
        <p:spPr>
          <a:xfrm>
            <a:off x="3357720" y="407196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емля бела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4" name="TextBox 17"/>
          <p:cNvSpPr/>
          <p:nvPr/>
        </p:nvSpPr>
        <p:spPr>
          <a:xfrm>
            <a:off x="5929200" y="407196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добрым утром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600084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357192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7" name="TextBox 20"/>
          <p:cNvSpPr/>
          <p:nvPr/>
        </p:nvSpPr>
        <p:spPr>
          <a:xfrm>
            <a:off x="928800" y="22147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8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001000" y="6215040"/>
            <a:ext cx="714240" cy="42876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70" h="21600">
                <a:moveTo>
                  <a:pt x="0" y="0"/>
                </a:moveTo>
                <a:lnTo>
                  <a:pt x="35970" y="0"/>
                </a:lnTo>
                <a:lnTo>
                  <a:pt x="35970" y="21600"/>
                </a:lnTo>
                <a:lnTo>
                  <a:pt x="0" y="21600"/>
                </a:lnTo>
                <a:close/>
              </a:path>
              <a:path fill="lightenLess" w="35970" h="21600">
                <a:moveTo>
                  <a:pt x="0" y="0"/>
                </a:moveTo>
                <a:lnTo>
                  <a:pt x="35970" y="0"/>
                </a:lnTo>
                <a:lnTo>
                  <a:pt x="34570" y="1400"/>
                </a:lnTo>
                <a:lnTo>
                  <a:pt x="1400" y="1400"/>
                </a:lnTo>
                <a:close/>
              </a:path>
              <a:path fill="darken" w="35970" h="21600">
                <a:moveTo>
                  <a:pt x="35970" y="0"/>
                </a:moveTo>
                <a:lnTo>
                  <a:pt x="35970" y="21600"/>
                </a:lnTo>
                <a:lnTo>
                  <a:pt x="34570" y="20200"/>
                </a:lnTo>
                <a:lnTo>
                  <a:pt x="34570" y="1400"/>
                </a:lnTo>
                <a:close/>
              </a:path>
              <a:path fill="darkenLess" w="35970" h="21600">
                <a:moveTo>
                  <a:pt x="3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0" y="20200"/>
                </a:lnTo>
                <a:close/>
              </a:path>
              <a:path fill="lighten" w="3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0" h="21600">
                <a:moveTo>
                  <a:pt x="10978" y="3794"/>
                </a:moveTo>
                <a:lnTo>
                  <a:pt x="24991" y="10800"/>
                </a:lnTo>
                <a:lnTo>
                  <a:pt x="10978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ильно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ыделен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ое слово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словосочетании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80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1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2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3" name="TextBox 15"/>
          <p:cNvSpPr/>
          <p:nvPr/>
        </p:nvSpPr>
        <p:spPr>
          <a:xfrm>
            <a:off x="500040" y="400068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сать  АККУРАТНО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4" name="TextBox 16"/>
          <p:cNvSpPr/>
          <p:nvPr/>
        </p:nvSpPr>
        <p:spPr>
          <a:xfrm>
            <a:off x="3214800" y="407196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ЗДНЯЯ осень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5929200" y="407196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ИТАТЬ книгу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6" name="TextBox 19"/>
          <p:cNvSpPr/>
          <p:nvPr/>
        </p:nvSpPr>
        <p:spPr>
          <a:xfrm>
            <a:off x="357192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7" name="TextBox 11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8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072280" y="6215040"/>
            <a:ext cx="714600" cy="428760"/>
          </a:xfrm>
          <a:custGeom>
            <a:avLst/>
            <a:gdLst>
              <a:gd name="textAreaLeft" fmla="*/ 27720 w 714600"/>
              <a:gd name="textAreaRight" fmla="*/ 686880 w 7146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3794"/>
                </a:moveTo>
                <a:lnTo>
                  <a:pt x="25000" y="10800"/>
                </a:lnTo>
                <a:lnTo>
                  <a:pt x="10987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распространенно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едложение – это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90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1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2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3" name="TextBox 15"/>
          <p:cNvSpPr/>
          <p:nvPr/>
        </p:nvSpPr>
        <p:spPr>
          <a:xfrm>
            <a:off x="571680" y="4000680"/>
            <a:ext cx="257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нова замерло все до рассвета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3214800" y="40719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хлада освежает и бодрит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5" name="TextBox 17"/>
          <p:cNvSpPr/>
          <p:nvPr/>
        </p:nvSpPr>
        <p:spPr>
          <a:xfrm>
            <a:off x="5929200" y="4071960"/>
            <a:ext cx="250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ыли по небу тучки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6" name="TextBox 11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7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001000" y="6215040"/>
            <a:ext cx="714240" cy="42876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70" h="21600">
                <a:moveTo>
                  <a:pt x="0" y="0"/>
                </a:moveTo>
                <a:lnTo>
                  <a:pt x="35970" y="0"/>
                </a:lnTo>
                <a:lnTo>
                  <a:pt x="35970" y="21600"/>
                </a:lnTo>
                <a:lnTo>
                  <a:pt x="0" y="21600"/>
                </a:lnTo>
                <a:close/>
              </a:path>
              <a:path fill="lightenLess" w="35970" h="21600">
                <a:moveTo>
                  <a:pt x="0" y="0"/>
                </a:moveTo>
                <a:lnTo>
                  <a:pt x="35970" y="0"/>
                </a:lnTo>
                <a:lnTo>
                  <a:pt x="34570" y="1400"/>
                </a:lnTo>
                <a:lnTo>
                  <a:pt x="1400" y="1400"/>
                </a:lnTo>
                <a:close/>
              </a:path>
              <a:path fill="darken" w="35970" h="21600">
                <a:moveTo>
                  <a:pt x="35970" y="0"/>
                </a:moveTo>
                <a:lnTo>
                  <a:pt x="35970" y="21600"/>
                </a:lnTo>
                <a:lnTo>
                  <a:pt x="34570" y="20200"/>
                </a:lnTo>
                <a:lnTo>
                  <a:pt x="34570" y="1400"/>
                </a:lnTo>
                <a:close/>
              </a:path>
              <a:path fill="darkenLess" w="35970" h="21600">
                <a:moveTo>
                  <a:pt x="3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0" y="20200"/>
                </a:lnTo>
                <a:close/>
              </a:path>
              <a:path fill="lighten" w="3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0" h="21600">
                <a:moveTo>
                  <a:pt x="10978" y="3794"/>
                </a:moveTo>
                <a:lnTo>
                  <a:pt x="24991" y="10800"/>
                </a:lnTo>
                <a:lnTo>
                  <a:pt x="10978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редложени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андаш принес мне брат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лежащим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является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99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0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1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571680" y="400068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андаш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3214800" y="4071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рат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4" name="TextBox 17"/>
          <p:cNvSpPr/>
          <p:nvPr/>
        </p:nvSpPr>
        <p:spPr>
          <a:xfrm>
            <a:off x="5929200" y="407196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не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6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001000" y="614376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уемо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ыражено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ом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редложении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08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9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0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1" name="TextBox 15"/>
          <p:cNvSpPr/>
          <p:nvPr/>
        </p:nvSpPr>
        <p:spPr>
          <a:xfrm>
            <a:off x="571680" y="407196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анит – прочный камень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2" name="TextBox 16"/>
          <p:cNvSpPr/>
          <p:nvPr/>
        </p:nvSpPr>
        <p:spPr>
          <a:xfrm>
            <a:off x="3214800" y="407196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 люблю свой родной край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3" name="TextBox 17"/>
          <p:cNvSpPr/>
          <p:nvPr/>
        </p:nvSpPr>
        <p:spPr>
          <a:xfrm>
            <a:off x="6000840" y="40719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остна, шумна и пахуча весн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4" name="TextBox 12"/>
          <p:cNvSpPr/>
          <p:nvPr/>
        </p:nvSpPr>
        <p:spPr>
          <a:xfrm>
            <a:off x="6000840" y="221472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5" name="TextBox 11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6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01000" y="6215040"/>
            <a:ext cx="714240" cy="42876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70" h="21600">
                <a:moveTo>
                  <a:pt x="0" y="0"/>
                </a:moveTo>
                <a:lnTo>
                  <a:pt x="35970" y="0"/>
                </a:lnTo>
                <a:lnTo>
                  <a:pt x="35970" y="21600"/>
                </a:lnTo>
                <a:lnTo>
                  <a:pt x="0" y="21600"/>
                </a:lnTo>
                <a:close/>
              </a:path>
              <a:path fill="lightenLess" w="35970" h="21600">
                <a:moveTo>
                  <a:pt x="0" y="0"/>
                </a:moveTo>
                <a:lnTo>
                  <a:pt x="35970" y="0"/>
                </a:lnTo>
                <a:lnTo>
                  <a:pt x="34570" y="1400"/>
                </a:lnTo>
                <a:lnTo>
                  <a:pt x="1400" y="1400"/>
                </a:lnTo>
                <a:close/>
              </a:path>
              <a:path fill="darken" w="35970" h="21600">
                <a:moveTo>
                  <a:pt x="35970" y="0"/>
                </a:moveTo>
                <a:lnTo>
                  <a:pt x="35970" y="21600"/>
                </a:lnTo>
                <a:lnTo>
                  <a:pt x="34570" y="20200"/>
                </a:lnTo>
                <a:lnTo>
                  <a:pt x="34570" y="1400"/>
                </a:lnTo>
                <a:close/>
              </a:path>
              <a:path fill="darkenLess" w="35970" h="21600">
                <a:moveTo>
                  <a:pt x="3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0" y="20200"/>
                </a:lnTo>
                <a:close/>
              </a:path>
              <a:path fill="lighten" w="3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0" h="21600">
                <a:moveTo>
                  <a:pt x="10978" y="3794"/>
                </a:moveTo>
                <a:lnTo>
                  <a:pt x="24991" y="10800"/>
                </a:lnTo>
                <a:lnTo>
                  <a:pt x="10978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р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ежду подлежащим и сказуемым необходимо поставить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18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9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0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1" name="TextBox 15"/>
          <p:cNvSpPr/>
          <p:nvPr/>
        </p:nvSpPr>
        <p:spPr>
          <a:xfrm>
            <a:off x="571680" y="392904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мур самая длинная река России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3143160" y="392904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бо высоко и прозрачно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3" name="TextBox 17"/>
          <p:cNvSpPr/>
          <p:nvPr/>
        </p:nvSpPr>
        <p:spPr>
          <a:xfrm>
            <a:off x="6000840" y="392904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человек без Родины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4" name="TextBox 12"/>
          <p:cNvSpPr/>
          <p:nvPr/>
        </p:nvSpPr>
        <p:spPr>
          <a:xfrm>
            <a:off x="6000840" y="221472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5" name="TextBox 14"/>
          <p:cNvSpPr/>
          <p:nvPr/>
        </p:nvSpPr>
        <p:spPr>
          <a:xfrm>
            <a:off x="357192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6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072280" y="6215040"/>
            <a:ext cx="642960" cy="42876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4" y="3794"/>
                </a:moveTo>
                <a:lnTo>
                  <a:pt x="23197" y="10800"/>
                </a:lnTo>
                <a:lnTo>
                  <a:pt x="9184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торостепенны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члены предложения – это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28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9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0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1" name="TextBox 15"/>
          <p:cNvSpPr/>
          <p:nvPr/>
        </p:nvSpPr>
        <p:spPr>
          <a:xfrm>
            <a:off x="571680" y="400068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лежащее, сказуемое, дополнение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2" name="TextBox 16"/>
          <p:cNvSpPr/>
          <p:nvPr/>
        </p:nvSpPr>
        <p:spPr>
          <a:xfrm>
            <a:off x="3214800" y="40719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полнение, определение, обстоятельство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3" name="TextBox 17"/>
          <p:cNvSpPr/>
          <p:nvPr/>
        </p:nvSpPr>
        <p:spPr>
          <a:xfrm>
            <a:off x="5929200" y="407196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еделение, дополнение, обращение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4" name="TextBox 11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5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072280" y="6143760"/>
            <a:ext cx="714600" cy="428400"/>
          </a:xfrm>
          <a:custGeom>
            <a:avLst/>
            <a:gdLst>
              <a:gd name="textAreaLeft" fmla="*/ 27720 w 714600"/>
              <a:gd name="textAreaRight" fmla="*/ 686880 w 714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18" h="21600">
                <a:moveTo>
                  <a:pt x="0" y="0"/>
                </a:moveTo>
                <a:lnTo>
                  <a:pt x="36018" y="0"/>
                </a:lnTo>
                <a:lnTo>
                  <a:pt x="36018" y="21600"/>
                </a:lnTo>
                <a:lnTo>
                  <a:pt x="0" y="21600"/>
                </a:lnTo>
                <a:close/>
              </a:path>
              <a:path fill="lightenLess" w="36018" h="21600">
                <a:moveTo>
                  <a:pt x="0" y="0"/>
                </a:moveTo>
                <a:lnTo>
                  <a:pt x="36018" y="0"/>
                </a:lnTo>
                <a:lnTo>
                  <a:pt x="34618" y="1400"/>
                </a:lnTo>
                <a:lnTo>
                  <a:pt x="1400" y="1400"/>
                </a:lnTo>
                <a:close/>
              </a:path>
              <a:path fill="darken" w="36018" h="21600">
                <a:moveTo>
                  <a:pt x="36018" y="0"/>
                </a:moveTo>
                <a:lnTo>
                  <a:pt x="36018" y="21600"/>
                </a:lnTo>
                <a:lnTo>
                  <a:pt x="34618" y="20200"/>
                </a:lnTo>
                <a:lnTo>
                  <a:pt x="34618" y="1400"/>
                </a:lnTo>
                <a:close/>
              </a:path>
              <a:path fill="darkenLess" w="36018" h="21600">
                <a:moveTo>
                  <a:pt x="36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8" y="20200"/>
                </a:lnTo>
                <a:close/>
              </a:path>
              <a:path fill="lighten" w="36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8" h="21600">
                <a:moveTo>
                  <a:pt x="11003" y="3794"/>
                </a:moveTo>
                <a:lnTo>
                  <a:pt x="25016" y="10800"/>
                </a:lnTo>
                <a:lnTo>
                  <a:pt x="11003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07:50:06Z</dcterms:created>
  <dc:creator>User</dc:creator>
  <dc:description/>
  <dc:language>en-US</dc:language>
  <cp:lastModifiedBy>User</cp:lastModifiedBy>
  <dcterms:modified xsi:type="dcterms:W3CDTF">2011-12-16T16:03:45Z</dcterms:modified>
  <cp:revision>21</cp:revision>
  <dc:subject/>
  <dc:title>Грамматическая основа односоставных предложений состоит:</dc:title>
</cp:coreProperties>
</file>