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A85-E5A2-4630-83B9-226362E6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07E-539A-4611-A75C-AF52C975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321-3021-452A-89DF-D0160B49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32C-0BFA-4476-AB6C-06BA92D3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C3FB-109E-4C7C-BB6A-551479A4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58C2-9926-4058-B0E9-814A6BE1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0ACF-4E4B-4895-864D-832F3026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825E-90EA-47A8-80D9-F7CEAE74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497E-72FD-4039-B04F-90F330D4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081D-1B6D-4211-9777-CF61B6EC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BF92-CF19-4EDA-BBC4-0355F173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C69-BA03-421A-87E6-DC049CC6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80AF-FDAC-4DE3-AB89-52D45D5B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BFD8-87DE-4006-A81D-BEF04050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9AFE-7CA2-401C-BF04-4491FB83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7067-C995-4B0A-8992-BA865E42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94FA-B361-4B93-9939-213B23FA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13D61-6A60-4FBC-B1C0-3E18A147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64046-A408-457D-8B31-A2D1EF5A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725DD-8B6A-40E0-A491-95FB10CF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5EBF8-34D0-49A2-AB47-6AD8ADED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396E4-9B71-4A5A-A9D7-92B64982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8B5C-19E1-471D-9968-F3A51F61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69B65-91E8-47E4-AC64-2784C69C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5CA20-66AB-4D12-BA2B-DCE8FB26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8E7CC-6DFE-437B-886A-551E54C5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E0F97-EAA7-4809-A3DA-0BC6423A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9BB4-AACC-4150-9307-05CFCBD1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6654F-DF06-4423-A8AB-7193CB83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419EF-1A27-4BCE-8933-4184E846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CE795-5AB8-4E81-A1CD-AFBCE759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9545B-049C-4005-B9B4-A5477BEC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C5533-32AB-4F56-B75B-7E881B38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9EF-8FA8-4764-AC61-586E2491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2764C-4F22-423D-B913-FD2831AC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96B67-2FE0-4E1C-9C88-F7193108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686ED-581B-412A-86E8-A53F8F20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A195A-0809-49A6-ABB9-ACB236E0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02C18-23E2-4375-A8E1-88014F10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7524D-C700-4001-AE7C-9EEB2856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86623-10C1-4DB9-86C7-7B89EB63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2BCA8-E74B-477A-957F-C7826145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8B497-F607-4F81-91B0-66EE85A5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B29EC-B85F-42B7-A2B3-339C1538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234-BD1E-4010-BF2D-5DA83544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91CD5-550D-4F02-9E92-4069B57B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32DC1-C829-40D7-A4F2-C19E8DE1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D49EB-48A2-4EB4-81D9-76760775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6643B-28D9-4A27-B1F7-1C33FA70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6A8B3-4B97-44D0-BC69-3A355BFE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A8CE8-3AED-4DA8-97CB-7BECD2B2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AD916-5CB6-475D-9865-DE5908C6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DCE9A-A7A8-4945-A14B-B1DFD7E0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49477-75BD-492C-B949-8DDC99CA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0AB3E-ACA2-43AE-8AB5-F61BBED5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AF2-0005-46A0-B371-0092E776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F07A8-8549-4EC8-A78D-F694BD0F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33552-F9E5-437C-87E0-CC114D4F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805F5-F98E-4719-9DA3-2A92B306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5640F-4C40-490E-8E82-B8EA03F1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D7885-563A-4F21-B9FC-4C0A336F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14F63-BF0C-4EAD-AE10-5D94567E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B1B3F-FB98-4CAC-B7B7-3FB427FD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7BB72-928E-4329-92EC-35F52694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52B67-7BA3-4A5D-A7E8-4C0EEF25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398B3-11CC-485B-9D74-239343C0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A93-448F-49B6-8F9C-E05B7FF6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9954E-105B-43EB-B2B5-631AA7B6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39CE8-7DB3-44E9-8D26-C1A592E6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89D79-79E9-4FA8-9EB1-5F46E4BB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480-953B-4CA8-9555-C7DEC472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799E-3301-4CE0-AFEB-C304A63F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d6be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9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e8d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8C1E-2B51-43B1-9FAE-74E63349E501}" type="slidenum"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7541"/>
            </a:gs>
            <a:gs pos="100000">
              <a:srgbClr val="60cb8b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d6be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9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e8d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65BA-105D-495F-94CE-55BE5DD9EC31}" type="slidenum"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7541"/>
            </a:gs>
            <a:gs pos="100000">
              <a:srgbClr val="60cb8b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d6be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9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e8d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5D3E-E9E5-4EF9-9D75-EEF30BE688B7}" type="slidenum"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d6be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9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e8d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9B74-D239-4212-85F6-42341D2DAE37}" type="slidenum"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d6be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9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e8d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30B2-33E3-4FA7-8E05-3DA1D94BFCBC}" type="slidenum"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d6be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9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e8d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C306-BCD0-4237-8303-59A5993D7B44}" type="slidenum"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353880" y="3164040"/>
            <a:ext cx="6540480" cy="24318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071360"/>
            <a:ext cx="778176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кторина</a:t>
            </a:r>
            <a:endParaRPr b="0" lang="en-US" sz="4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321480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© Корнеева Л.А., учитель школы 1258. Москва. 2010.</a:t>
            </a: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кажите предложение с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ением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37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8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9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0" name="TextBox 15"/>
          <p:cNvSpPr/>
          <p:nvPr/>
        </p:nvSpPr>
        <p:spPr>
          <a:xfrm>
            <a:off x="571680" y="4071960"/>
            <a:ext cx="257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ьшая власть дана слову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1" name="TextBox 16"/>
          <p:cNvSpPr/>
          <p:nvPr/>
        </p:nvSpPr>
        <p:spPr>
          <a:xfrm>
            <a:off x="3214800" y="40719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правилась осень в поле, в луга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2" name="TextBox 17"/>
          <p:cNvSpPr/>
          <p:nvPr/>
        </p:nvSpPr>
        <p:spPr>
          <a:xfrm>
            <a:off x="5929200" y="407196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ажды утром мы отправились в лес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3" name="Управляющая кнопка: далее 14">
            <a:hlinkClick r:id="" action="ppaction://hlinkshowjump?jump=nextslide"/>
          </p:cNvPr>
          <p:cNvSpPr/>
          <p:nvPr/>
        </p:nvSpPr>
        <p:spPr>
          <a:xfrm>
            <a:off x="8001000" y="6143760"/>
            <a:ext cx="785880" cy="42840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9609" h="21600">
                <a:moveTo>
                  <a:pt x="0" y="0"/>
                </a:moveTo>
                <a:lnTo>
                  <a:pt x="39609" y="0"/>
                </a:lnTo>
                <a:lnTo>
                  <a:pt x="39609" y="21600"/>
                </a:lnTo>
                <a:lnTo>
                  <a:pt x="0" y="21600"/>
                </a:lnTo>
                <a:close/>
              </a:path>
              <a:path fill="lightenLess" w="39609" h="21600">
                <a:moveTo>
                  <a:pt x="0" y="0"/>
                </a:moveTo>
                <a:lnTo>
                  <a:pt x="39609" y="0"/>
                </a:lnTo>
                <a:lnTo>
                  <a:pt x="38209" y="1400"/>
                </a:lnTo>
                <a:lnTo>
                  <a:pt x="1400" y="1400"/>
                </a:lnTo>
                <a:close/>
              </a:path>
              <a:path fill="darken" w="39609" h="21600">
                <a:moveTo>
                  <a:pt x="39609" y="0"/>
                </a:moveTo>
                <a:lnTo>
                  <a:pt x="39609" y="21600"/>
                </a:lnTo>
                <a:lnTo>
                  <a:pt x="38209" y="20200"/>
                </a:lnTo>
                <a:lnTo>
                  <a:pt x="38209" y="1400"/>
                </a:lnTo>
                <a:close/>
              </a:path>
              <a:path fill="darkenLess" w="39609" h="21600">
                <a:moveTo>
                  <a:pt x="39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9" y="20200"/>
                </a:lnTo>
                <a:close/>
              </a:path>
              <a:path fill="lighten" w="39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9" h="21600">
                <a:moveTo>
                  <a:pt x="12798" y="3794"/>
                </a:moveTo>
                <a:lnTo>
                  <a:pt x="26811" y="10800"/>
                </a:lnTo>
                <a:lnTo>
                  <a:pt x="12798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еделением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 предложени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красна 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овторима золотая осень!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вляется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45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6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7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8" name="TextBox 15"/>
          <p:cNvSpPr/>
          <p:nvPr/>
        </p:nvSpPr>
        <p:spPr>
          <a:xfrm>
            <a:off x="571680" y="407196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повторима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9" name="TextBox 16"/>
          <p:cNvSpPr/>
          <p:nvPr/>
        </p:nvSpPr>
        <p:spPr>
          <a:xfrm>
            <a:off x="3214800" y="4071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лотая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0" name="TextBox 17"/>
          <p:cNvSpPr/>
          <p:nvPr/>
        </p:nvSpPr>
        <p:spPr>
          <a:xfrm>
            <a:off x="5929200" y="4071960"/>
            <a:ext cx="250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красна и неповторима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2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001000" y="614376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25006" y="10800"/>
                </a:lnTo>
                <a:lnTo>
                  <a:pt x="10994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стоятельство времени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ть в предложении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54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5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6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7" name="TextBox 15"/>
          <p:cNvSpPr/>
          <p:nvPr/>
        </p:nvSpPr>
        <p:spPr>
          <a:xfrm>
            <a:off x="571680" y="4071960"/>
            <a:ext cx="257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низу ласково плескалось море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3214800" y="40719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епенно гаснут в небе звезды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9" name="TextBox 17"/>
          <p:cNvSpPr/>
          <p:nvPr/>
        </p:nvSpPr>
        <p:spPr>
          <a:xfrm>
            <a:off x="5929200" y="4071960"/>
            <a:ext cx="250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чером прошла гроза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0" name="TextBox 8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1" name="TextBox 12"/>
          <p:cNvSpPr/>
          <p:nvPr/>
        </p:nvSpPr>
        <p:spPr>
          <a:xfrm>
            <a:off x="6000840" y="22860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2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72280" y="6143760"/>
            <a:ext cx="785880" cy="500040"/>
          </a:xfrm>
          <a:custGeom>
            <a:avLst/>
            <a:gdLst>
              <a:gd name="textAreaLeft" fmla="*/ 32400 w 785880"/>
              <a:gd name="textAreaRight" fmla="*/ 753480 w 7858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3938" h="21600">
                <a:moveTo>
                  <a:pt x="0" y="0"/>
                </a:moveTo>
                <a:lnTo>
                  <a:pt x="33938" y="0"/>
                </a:lnTo>
                <a:lnTo>
                  <a:pt x="33938" y="21600"/>
                </a:lnTo>
                <a:lnTo>
                  <a:pt x="0" y="21600"/>
                </a:lnTo>
                <a:close/>
              </a:path>
              <a:path fill="lightenLess" w="33938" h="21600">
                <a:moveTo>
                  <a:pt x="0" y="0"/>
                </a:moveTo>
                <a:lnTo>
                  <a:pt x="33938" y="0"/>
                </a:lnTo>
                <a:lnTo>
                  <a:pt x="32538" y="1400"/>
                </a:lnTo>
                <a:lnTo>
                  <a:pt x="1400" y="1400"/>
                </a:lnTo>
                <a:close/>
              </a:path>
              <a:path fill="darken" w="33938" h="21600">
                <a:moveTo>
                  <a:pt x="33938" y="0"/>
                </a:moveTo>
                <a:lnTo>
                  <a:pt x="33938" y="21600"/>
                </a:lnTo>
                <a:lnTo>
                  <a:pt x="32538" y="20200"/>
                </a:lnTo>
                <a:lnTo>
                  <a:pt x="32538" y="1400"/>
                </a:lnTo>
                <a:close/>
              </a:path>
              <a:path fill="darkenLess" w="33938" h="21600">
                <a:moveTo>
                  <a:pt x="33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8" y="20200"/>
                </a:lnTo>
                <a:close/>
              </a:path>
              <a:path fill="lighten" w="33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8" h="21600">
                <a:moveTo>
                  <a:pt x="9963" y="3794"/>
                </a:moveTo>
                <a:lnTo>
                  <a:pt x="23976" y="10800"/>
                </a:lnTo>
                <a:lnTo>
                  <a:pt x="9963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08" dur="indefinite" restart="never" nodeType="tmRoot">
          <p:childTnLst>
            <p:seq>
              <p:cTn id="209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редложени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сной опять запели соловьи о верности, о дружбе, о любв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ородными членам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являются:</a:t>
            </a:r>
            <a:endParaRPr b="0" lang="en-US" sz="28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64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5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6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7" name="TextBox 15"/>
          <p:cNvSpPr/>
          <p:nvPr/>
        </p:nvSpPr>
        <p:spPr>
          <a:xfrm>
            <a:off x="571680" y="407196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полнения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8" name="TextBox 16"/>
          <p:cNvSpPr/>
          <p:nvPr/>
        </p:nvSpPr>
        <p:spPr>
          <a:xfrm>
            <a:off x="3214800" y="4071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азуемые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9" name="TextBox 17"/>
          <p:cNvSpPr/>
          <p:nvPr/>
        </p:nvSpPr>
        <p:spPr>
          <a:xfrm>
            <a:off x="6000840" y="40719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стоятельства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85716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1" name="TextBox 12"/>
          <p:cNvSpPr/>
          <p:nvPr/>
        </p:nvSpPr>
        <p:spPr>
          <a:xfrm>
            <a:off x="600084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2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010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3794"/>
                </a:moveTo>
                <a:lnTo>
                  <a:pt x="26794" y="10800"/>
                </a:lnTo>
                <a:lnTo>
                  <a:pt x="12781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27" dur="indefinite" restart="never" nodeType="tmRoot">
          <p:childTnLst>
            <p:seq>
              <p:cTn id="228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ородные члены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ть в предложении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74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5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6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7" name="TextBox 15"/>
          <p:cNvSpPr/>
          <p:nvPr/>
        </p:nvSpPr>
        <p:spPr>
          <a:xfrm>
            <a:off x="571680" y="407196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има еще хлопочет и на вену ворчит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8" name="TextBox 16"/>
          <p:cNvSpPr/>
          <p:nvPr/>
        </p:nvSpPr>
        <p:spPr>
          <a:xfrm>
            <a:off x="3214800" y="40719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сна спешит, а зима не отступает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9" name="TextBox 17"/>
          <p:cNvSpPr/>
          <p:nvPr/>
        </p:nvSpPr>
        <p:spPr>
          <a:xfrm>
            <a:off x="6000840" y="40719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весеннем лесу появились первые цветы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0" name="TextBox 8"/>
          <p:cNvSpPr/>
          <p:nvPr/>
        </p:nvSpPr>
        <p:spPr>
          <a:xfrm>
            <a:off x="85716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1" name="TextBox 12"/>
          <p:cNvSpPr/>
          <p:nvPr/>
        </p:nvSpPr>
        <p:spPr>
          <a:xfrm>
            <a:off x="600084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2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010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3794"/>
                </a:moveTo>
                <a:lnTo>
                  <a:pt x="26794" y="10800"/>
                </a:lnTo>
                <a:lnTo>
                  <a:pt x="12781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йдите предложение с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щением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84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5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6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7" name="TextBox 15"/>
          <p:cNvSpPr/>
          <p:nvPr/>
        </p:nvSpPr>
        <p:spPr>
          <a:xfrm>
            <a:off x="571680" y="407196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бро пожаловать скворцы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8" name="TextBox 16"/>
          <p:cNvSpPr/>
          <p:nvPr/>
        </p:nvSpPr>
        <p:spPr>
          <a:xfrm>
            <a:off x="3214800" y="407196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равьи санитары леса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9" name="TextBox 17"/>
          <p:cNvSpPr/>
          <p:nvPr/>
        </p:nvSpPr>
        <p:spPr>
          <a:xfrm>
            <a:off x="6000840" y="407196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ы читал эту книгу?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90" name="TextBox 8"/>
          <p:cNvSpPr/>
          <p:nvPr/>
        </p:nvSpPr>
        <p:spPr>
          <a:xfrm>
            <a:off x="85716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91" name="TextBox 12"/>
          <p:cNvSpPr/>
          <p:nvPr/>
        </p:nvSpPr>
        <p:spPr>
          <a:xfrm>
            <a:off x="600084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92" name="Управляющая кнопка: далее 13">
            <a:hlinkClick r:id="" action="ppaction://hlinkshowjump?jump=firstslide"/>
          </p:cNvPr>
          <p:cNvSpPr/>
          <p:nvPr/>
        </p:nvSpPr>
        <p:spPr>
          <a:xfrm>
            <a:off x="80010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3794"/>
                </a:moveTo>
                <a:lnTo>
                  <a:pt x="26794" y="10800"/>
                </a:lnTo>
                <a:lnTo>
                  <a:pt x="12781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осочетани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это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58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59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0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1" name="TextBox 15"/>
          <p:cNvSpPr/>
          <p:nvPr/>
        </p:nvSpPr>
        <p:spPr>
          <a:xfrm>
            <a:off x="1000080" y="450072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четание двух слов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2" name="TextBox 16"/>
          <p:cNvSpPr/>
          <p:nvPr/>
        </p:nvSpPr>
        <p:spPr>
          <a:xfrm>
            <a:off x="3357720" y="4500720"/>
            <a:ext cx="20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ва, связанные по смыслу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3" name="TextBox 17"/>
          <p:cNvSpPr/>
          <p:nvPr/>
        </p:nvSpPr>
        <p:spPr>
          <a:xfrm>
            <a:off x="5929200" y="4500720"/>
            <a:ext cx="30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четание слов , связанных по смыслу и грамматически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4" name="TextBox 18"/>
          <p:cNvSpPr/>
          <p:nvPr/>
        </p:nvSpPr>
        <p:spPr>
          <a:xfrm>
            <a:off x="600084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5" name="TextBox 19"/>
          <p:cNvSpPr/>
          <p:nvPr/>
        </p:nvSpPr>
        <p:spPr>
          <a:xfrm>
            <a:off x="357192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7" name="Управляющая кнопка: далее 21">
            <a:hlinkClick r:id="" action="ppaction://hlinkshowjump?jump=nextslide"/>
          </p:cNvPr>
          <p:cNvSpPr/>
          <p:nvPr/>
        </p:nvSpPr>
        <p:spPr>
          <a:xfrm>
            <a:off x="8072280" y="6286680"/>
            <a:ext cx="642960" cy="357120"/>
          </a:xfrm>
          <a:custGeom>
            <a:avLst/>
            <a:gdLst>
              <a:gd name="textAreaLeft" fmla="*/ 23040 w 642960"/>
              <a:gd name="textAreaRight" fmla="*/ 619920 w 642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2429" y="3794"/>
                </a:moveTo>
                <a:lnTo>
                  <a:pt x="26442" y="10800"/>
                </a:lnTo>
                <a:lnTo>
                  <a:pt x="12429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данных сочетаний слов явля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осочетанием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69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0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1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2" name="TextBox 15"/>
          <p:cNvSpPr/>
          <p:nvPr/>
        </p:nvSpPr>
        <p:spPr>
          <a:xfrm>
            <a:off x="1000080" y="400068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грать в снежки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3" name="TextBox 16"/>
          <p:cNvSpPr/>
          <p:nvPr/>
        </p:nvSpPr>
        <p:spPr>
          <a:xfrm>
            <a:off x="3357720" y="407196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емля бела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4" name="TextBox 17"/>
          <p:cNvSpPr/>
          <p:nvPr/>
        </p:nvSpPr>
        <p:spPr>
          <a:xfrm>
            <a:off x="5929200" y="407196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добрым утром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600084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357192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7" name="TextBox 20"/>
          <p:cNvSpPr/>
          <p:nvPr/>
        </p:nvSpPr>
        <p:spPr>
          <a:xfrm>
            <a:off x="928800" y="22147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8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001000" y="6215040"/>
            <a:ext cx="714240" cy="42876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70" h="21600">
                <a:moveTo>
                  <a:pt x="0" y="0"/>
                </a:moveTo>
                <a:lnTo>
                  <a:pt x="35970" y="0"/>
                </a:lnTo>
                <a:lnTo>
                  <a:pt x="35970" y="21600"/>
                </a:lnTo>
                <a:lnTo>
                  <a:pt x="0" y="21600"/>
                </a:lnTo>
                <a:close/>
              </a:path>
              <a:path fill="lightenLess" w="35970" h="21600">
                <a:moveTo>
                  <a:pt x="0" y="0"/>
                </a:moveTo>
                <a:lnTo>
                  <a:pt x="35970" y="0"/>
                </a:lnTo>
                <a:lnTo>
                  <a:pt x="34570" y="1400"/>
                </a:lnTo>
                <a:lnTo>
                  <a:pt x="1400" y="1400"/>
                </a:lnTo>
                <a:close/>
              </a:path>
              <a:path fill="darken" w="35970" h="21600">
                <a:moveTo>
                  <a:pt x="35970" y="0"/>
                </a:moveTo>
                <a:lnTo>
                  <a:pt x="35970" y="21600"/>
                </a:lnTo>
                <a:lnTo>
                  <a:pt x="34570" y="20200"/>
                </a:lnTo>
                <a:lnTo>
                  <a:pt x="34570" y="1400"/>
                </a:lnTo>
                <a:close/>
              </a:path>
              <a:path fill="darkenLess" w="35970" h="21600">
                <a:moveTo>
                  <a:pt x="3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0" y="20200"/>
                </a:lnTo>
                <a:close/>
              </a:path>
              <a:path fill="lighten" w="3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0" h="21600">
                <a:moveTo>
                  <a:pt x="10978" y="3794"/>
                </a:moveTo>
                <a:lnTo>
                  <a:pt x="24991" y="10800"/>
                </a:lnTo>
                <a:lnTo>
                  <a:pt x="10978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ильно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ыделен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ое слово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словосочетании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80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1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2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3" name="TextBox 15"/>
          <p:cNvSpPr/>
          <p:nvPr/>
        </p:nvSpPr>
        <p:spPr>
          <a:xfrm>
            <a:off x="500040" y="400068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сать  АККУРАТНО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4" name="TextBox 16"/>
          <p:cNvSpPr/>
          <p:nvPr/>
        </p:nvSpPr>
        <p:spPr>
          <a:xfrm>
            <a:off x="3214800" y="407196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ЗДНЯЯ осень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5929200" y="407196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ИТАТЬ книгу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6" name="TextBox 19"/>
          <p:cNvSpPr/>
          <p:nvPr/>
        </p:nvSpPr>
        <p:spPr>
          <a:xfrm>
            <a:off x="357192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7" name="TextBox 11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8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072280" y="6215040"/>
            <a:ext cx="714600" cy="428760"/>
          </a:xfrm>
          <a:custGeom>
            <a:avLst/>
            <a:gdLst>
              <a:gd name="textAreaLeft" fmla="*/ 27720 w 714600"/>
              <a:gd name="textAreaRight" fmla="*/ 686880 w 7146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3794"/>
                </a:moveTo>
                <a:lnTo>
                  <a:pt x="25000" y="10800"/>
                </a:lnTo>
                <a:lnTo>
                  <a:pt x="10987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распространенно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едложение – это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90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1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2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3" name="TextBox 15"/>
          <p:cNvSpPr/>
          <p:nvPr/>
        </p:nvSpPr>
        <p:spPr>
          <a:xfrm>
            <a:off x="571680" y="4000680"/>
            <a:ext cx="257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нова замерло все до рассвета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3214800" y="40719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хлада освежает и бодрит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5" name="TextBox 17"/>
          <p:cNvSpPr/>
          <p:nvPr/>
        </p:nvSpPr>
        <p:spPr>
          <a:xfrm>
            <a:off x="5929200" y="4071960"/>
            <a:ext cx="250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ыли по небу тучки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6" name="TextBox 11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7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001000" y="6215040"/>
            <a:ext cx="714240" cy="42876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70" h="21600">
                <a:moveTo>
                  <a:pt x="0" y="0"/>
                </a:moveTo>
                <a:lnTo>
                  <a:pt x="35970" y="0"/>
                </a:lnTo>
                <a:lnTo>
                  <a:pt x="35970" y="21600"/>
                </a:lnTo>
                <a:lnTo>
                  <a:pt x="0" y="21600"/>
                </a:lnTo>
                <a:close/>
              </a:path>
              <a:path fill="lightenLess" w="35970" h="21600">
                <a:moveTo>
                  <a:pt x="0" y="0"/>
                </a:moveTo>
                <a:lnTo>
                  <a:pt x="35970" y="0"/>
                </a:lnTo>
                <a:lnTo>
                  <a:pt x="34570" y="1400"/>
                </a:lnTo>
                <a:lnTo>
                  <a:pt x="1400" y="1400"/>
                </a:lnTo>
                <a:close/>
              </a:path>
              <a:path fill="darken" w="35970" h="21600">
                <a:moveTo>
                  <a:pt x="35970" y="0"/>
                </a:moveTo>
                <a:lnTo>
                  <a:pt x="35970" y="21600"/>
                </a:lnTo>
                <a:lnTo>
                  <a:pt x="34570" y="20200"/>
                </a:lnTo>
                <a:lnTo>
                  <a:pt x="34570" y="1400"/>
                </a:lnTo>
                <a:close/>
              </a:path>
              <a:path fill="darkenLess" w="35970" h="21600">
                <a:moveTo>
                  <a:pt x="3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0" y="20200"/>
                </a:lnTo>
                <a:close/>
              </a:path>
              <a:path fill="lighten" w="3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0" h="21600">
                <a:moveTo>
                  <a:pt x="10978" y="3794"/>
                </a:moveTo>
                <a:lnTo>
                  <a:pt x="24991" y="10800"/>
                </a:lnTo>
                <a:lnTo>
                  <a:pt x="10978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редложени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андаш принес мне брат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лежащим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является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99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0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1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571680" y="400068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андаш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3214800" y="4071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рат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4" name="TextBox 17"/>
          <p:cNvSpPr/>
          <p:nvPr/>
        </p:nvSpPr>
        <p:spPr>
          <a:xfrm>
            <a:off x="5929200" y="407196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не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6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001000" y="614376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уемо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ыражено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ом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редложении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08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9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0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1" name="TextBox 15"/>
          <p:cNvSpPr/>
          <p:nvPr/>
        </p:nvSpPr>
        <p:spPr>
          <a:xfrm>
            <a:off x="571680" y="407196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анит – прочный камень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2" name="TextBox 16"/>
          <p:cNvSpPr/>
          <p:nvPr/>
        </p:nvSpPr>
        <p:spPr>
          <a:xfrm>
            <a:off x="3214800" y="407196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 люблю свой родной край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3" name="TextBox 17"/>
          <p:cNvSpPr/>
          <p:nvPr/>
        </p:nvSpPr>
        <p:spPr>
          <a:xfrm>
            <a:off x="6000840" y="40719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остна, шумна и пахуча весн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4" name="TextBox 12"/>
          <p:cNvSpPr/>
          <p:nvPr/>
        </p:nvSpPr>
        <p:spPr>
          <a:xfrm>
            <a:off x="6000840" y="221472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5" name="TextBox 11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6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01000" y="6215040"/>
            <a:ext cx="714240" cy="42876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70" h="21600">
                <a:moveTo>
                  <a:pt x="0" y="0"/>
                </a:moveTo>
                <a:lnTo>
                  <a:pt x="35970" y="0"/>
                </a:lnTo>
                <a:lnTo>
                  <a:pt x="35970" y="21600"/>
                </a:lnTo>
                <a:lnTo>
                  <a:pt x="0" y="21600"/>
                </a:lnTo>
                <a:close/>
              </a:path>
              <a:path fill="lightenLess" w="35970" h="21600">
                <a:moveTo>
                  <a:pt x="0" y="0"/>
                </a:moveTo>
                <a:lnTo>
                  <a:pt x="35970" y="0"/>
                </a:lnTo>
                <a:lnTo>
                  <a:pt x="34570" y="1400"/>
                </a:lnTo>
                <a:lnTo>
                  <a:pt x="1400" y="1400"/>
                </a:lnTo>
                <a:close/>
              </a:path>
              <a:path fill="darken" w="35970" h="21600">
                <a:moveTo>
                  <a:pt x="35970" y="0"/>
                </a:moveTo>
                <a:lnTo>
                  <a:pt x="35970" y="21600"/>
                </a:lnTo>
                <a:lnTo>
                  <a:pt x="34570" y="20200"/>
                </a:lnTo>
                <a:lnTo>
                  <a:pt x="34570" y="1400"/>
                </a:lnTo>
                <a:close/>
              </a:path>
              <a:path fill="darkenLess" w="35970" h="21600">
                <a:moveTo>
                  <a:pt x="3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0" y="20200"/>
                </a:lnTo>
                <a:close/>
              </a:path>
              <a:path fill="lighten" w="3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0" h="21600">
                <a:moveTo>
                  <a:pt x="10978" y="3794"/>
                </a:moveTo>
                <a:lnTo>
                  <a:pt x="24991" y="10800"/>
                </a:lnTo>
                <a:lnTo>
                  <a:pt x="10978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р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ежду подлежащим и сказуемым необходимо поставить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18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9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0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1" name="TextBox 15"/>
          <p:cNvSpPr/>
          <p:nvPr/>
        </p:nvSpPr>
        <p:spPr>
          <a:xfrm>
            <a:off x="571680" y="392904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мур самая длинная река России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3143160" y="392904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бо высоко и прозрачно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3" name="TextBox 17"/>
          <p:cNvSpPr/>
          <p:nvPr/>
        </p:nvSpPr>
        <p:spPr>
          <a:xfrm>
            <a:off x="6000840" y="392904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человек без Родины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4" name="TextBox 12"/>
          <p:cNvSpPr/>
          <p:nvPr/>
        </p:nvSpPr>
        <p:spPr>
          <a:xfrm>
            <a:off x="6000840" y="221472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5" name="TextBox 14"/>
          <p:cNvSpPr/>
          <p:nvPr/>
        </p:nvSpPr>
        <p:spPr>
          <a:xfrm>
            <a:off x="357192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6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072280" y="6215040"/>
            <a:ext cx="642960" cy="42876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4" y="3794"/>
                </a:moveTo>
                <a:lnTo>
                  <a:pt x="23197" y="10800"/>
                </a:lnTo>
                <a:lnTo>
                  <a:pt x="9184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торостепенны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члены предложения – это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28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9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0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1" name="TextBox 15"/>
          <p:cNvSpPr/>
          <p:nvPr/>
        </p:nvSpPr>
        <p:spPr>
          <a:xfrm>
            <a:off x="571680" y="400068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лежащее, сказуемое, дополнение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2" name="TextBox 16"/>
          <p:cNvSpPr/>
          <p:nvPr/>
        </p:nvSpPr>
        <p:spPr>
          <a:xfrm>
            <a:off x="3214800" y="40719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полнение, определение, обстоятельство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3" name="TextBox 17"/>
          <p:cNvSpPr/>
          <p:nvPr/>
        </p:nvSpPr>
        <p:spPr>
          <a:xfrm>
            <a:off x="5929200" y="407196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еделение, дополнение, обращение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4" name="TextBox 11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5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072280" y="6143760"/>
            <a:ext cx="714600" cy="428400"/>
          </a:xfrm>
          <a:custGeom>
            <a:avLst/>
            <a:gdLst>
              <a:gd name="textAreaLeft" fmla="*/ 27720 w 714600"/>
              <a:gd name="textAreaRight" fmla="*/ 686880 w 714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18" h="21600">
                <a:moveTo>
                  <a:pt x="0" y="0"/>
                </a:moveTo>
                <a:lnTo>
                  <a:pt x="36018" y="0"/>
                </a:lnTo>
                <a:lnTo>
                  <a:pt x="36018" y="21600"/>
                </a:lnTo>
                <a:lnTo>
                  <a:pt x="0" y="21600"/>
                </a:lnTo>
                <a:close/>
              </a:path>
              <a:path fill="lightenLess" w="36018" h="21600">
                <a:moveTo>
                  <a:pt x="0" y="0"/>
                </a:moveTo>
                <a:lnTo>
                  <a:pt x="36018" y="0"/>
                </a:lnTo>
                <a:lnTo>
                  <a:pt x="34618" y="1400"/>
                </a:lnTo>
                <a:lnTo>
                  <a:pt x="1400" y="1400"/>
                </a:lnTo>
                <a:close/>
              </a:path>
              <a:path fill="darken" w="36018" h="21600">
                <a:moveTo>
                  <a:pt x="36018" y="0"/>
                </a:moveTo>
                <a:lnTo>
                  <a:pt x="36018" y="21600"/>
                </a:lnTo>
                <a:lnTo>
                  <a:pt x="34618" y="20200"/>
                </a:lnTo>
                <a:lnTo>
                  <a:pt x="34618" y="1400"/>
                </a:lnTo>
                <a:close/>
              </a:path>
              <a:path fill="darkenLess" w="36018" h="21600">
                <a:moveTo>
                  <a:pt x="36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8" y="20200"/>
                </a:lnTo>
                <a:close/>
              </a:path>
              <a:path fill="lighten" w="36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8" h="21600">
                <a:moveTo>
                  <a:pt x="11003" y="3794"/>
                </a:moveTo>
                <a:lnTo>
                  <a:pt x="25016" y="10800"/>
                </a:lnTo>
                <a:lnTo>
                  <a:pt x="11003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07:50:06Z</dcterms:created>
  <dc:creator>User</dc:creator>
  <dc:description/>
  <dc:language>en-US</dc:language>
  <cp:lastModifiedBy>User</cp:lastModifiedBy>
  <dcterms:modified xsi:type="dcterms:W3CDTF">2011-12-16T16:03:45Z</dcterms:modified>
  <cp:revision>21</cp:revision>
  <dc:subject/>
  <dc:title>Грамматическая основа односоставных предложений состоит:</dc:title>
</cp:coreProperties>
</file>