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514-D695-4277-AC6A-409CDB4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EA5-73F1-4A0F-B4DA-823D5A70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B8E-97B1-494A-84EB-A3437DF8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3C4-554D-4B5A-A2E9-C9BCB5C7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14C3-51A5-4221-8918-9BA24CE8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4BB-FC63-4002-8272-88910CA5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0597-D0ED-4F9D-84D2-47BE2E95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E494-3D4D-414D-A275-B5D23DC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B18A-4B93-4A57-9EDD-4BEDB60A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F3CF-2966-459E-9367-D167393B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5751-C2C7-4F9C-AA56-250B219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95C-662C-4A28-A1C5-70F2AE0A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05A-6DBE-482E-A36B-EB86757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9C3-5609-4AA0-98AE-243B4003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6BB6-D3EB-4D86-8159-CF6C483B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A02E-BAB5-4351-9DFD-F87212C5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6CB0-A8B4-46C8-A660-17B758FF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CA0F-C669-40EA-91A9-9B6B715B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8C744-5B29-4C76-84AB-DFD6B1B2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FFB0-2527-415D-AA26-5AD9FAC8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D588-3460-49DC-8D1C-D1DD06C9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826C-2FED-47F4-AB95-1C5509EB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F3AB-9E96-4F93-8782-F639D5A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4DF1-ED87-4196-95DC-44005C6A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E126-3217-4482-89FF-4C04DDB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1EC9-63C3-483C-BE3D-BAE0E383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613EB-64DA-4D7A-AD8C-74EC275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22BA-65F9-415B-AF4C-D778FBDE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9634-D00E-45C9-B016-B8B909B1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D32B-E1FD-484F-AF4F-53EDEC9C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CF31-C588-4461-9690-CD279E59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461C-6C1B-477D-8176-75488C5C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3FA4D-08B7-499B-9A83-968CACA2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261-3B1C-4127-BB93-CF742F5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47BE-B35F-4340-B1B9-7DD081C1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7ACA3-5B3D-4449-905F-31B74BBE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7B82-F1D0-491D-B456-6754876C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1114-7ABE-4784-B29A-FFE10DF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8638-70F5-4F09-BEF6-9A2A461D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FE69-F6E6-498E-B0B6-5F5B2CB9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E257A-ABA6-4DDE-8F0C-360D07C8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94E9-B5C2-4E38-8452-3EBAD7FF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D5EE-A000-4430-B984-682C53D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F1DD5-726C-4E0E-87F4-3DF4C2E3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018-7475-434A-84C5-5AAFFB8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DDB6-55C3-402D-9C46-456C00F8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49656-8717-4AED-8D3D-4A0023F5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C8D75-194B-4C7E-BB20-A0F43F5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43DC-3A9F-4F71-9B4C-DC8E0D2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7960-8AF7-4BE6-9F95-CA97EC25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67629-D647-48D6-AFD5-71038D0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CA7D7-8A51-4F67-9411-C999CC2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BE5EF-BBE8-4EBD-9B22-233D486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8DE3C-4172-4C80-877E-CA0B9C12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81ED0-A890-40EB-A634-8435275F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5E9-C127-4379-B1EF-7D4ED56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7589E-9740-4250-BE6D-A80AD8D5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5537C-8AD7-4861-99CB-D4EF62A1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3BF6-3EE3-4BF5-B2F2-354AEE01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30D1A-0191-4CBC-9932-32603538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C9BB-3A0D-41A5-A12F-C671EE1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D71F8-9038-4F94-BDF2-A3C2BBF5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B7DEB-2A30-4CC4-B141-1E97FEC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3C743-078C-4FF1-9729-B2F51FB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6D3D9-D170-4992-8657-9697267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C9912-C7DF-4BA4-94C6-F8B8648B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E66-202A-4C30-BF66-7AE8547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16454-9B8B-480B-BE49-1EC027F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C6D43-82FB-43EC-83CF-3FD2E100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D4C06-4D33-4330-8EFA-F245F6B3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13F-4A56-4FC0-B60E-6C16763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7A4-90E5-4A2A-9A6E-33B7C7A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E250-BE2C-41B1-9EA0-3FC682DEE3F5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7541"/>
            </a:gs>
            <a:gs pos="100000">
              <a:srgbClr val="60cb8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331D-5380-4B48-8CFF-BC422CB84A77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7541"/>
            </a:gs>
            <a:gs pos="100000">
              <a:srgbClr val="60cb8b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8AB4-DB09-4A45-AF1B-A585AEED17B8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66DA-11E7-49DC-B946-8FB740A8CFCA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3E30-EE49-4217-B4FF-374A60B51452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4d6be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ff9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dee8db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4d6b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4d6be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0b9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F7A6-D364-408F-A82E-79FE33EEAF68}" type="slidenum">
              <a:rPr b="0" lang="ru-RU" sz="1000" spc="-1" strike="noStrike">
                <a:solidFill>
                  <a:srgbClr val="b0b9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53880" y="3164040"/>
            <a:ext cx="6540480" cy="24318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071360"/>
            <a:ext cx="778176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321480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 Корнеева Л.А., учитель школы 1258. Москва. 2010.</a:t>
            </a: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ажите предложение с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37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8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9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571680" y="407196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ьшая власть дана слову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1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правилась осень в поле, в луг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2" name="TextBox 17"/>
          <p:cNvSpPr/>
          <p:nvPr/>
        </p:nvSpPr>
        <p:spPr>
          <a:xfrm>
            <a:off x="5929200" y="40719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ажды утром мы отправились в лес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3" name="Управляющая кнопка: далее 14">
            <a:hlinkClick r:id="" action="ppaction://hlinkshowjump?jump=nextslide"/>
          </p:cNvPr>
          <p:cNvSpPr/>
          <p:nvPr/>
        </p:nvSpPr>
        <p:spPr>
          <a:xfrm>
            <a:off x="8001000" y="6143760"/>
            <a:ext cx="785880" cy="42840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9609" h="21600">
                <a:moveTo>
                  <a:pt x="0" y="0"/>
                </a:moveTo>
                <a:lnTo>
                  <a:pt x="39609" y="0"/>
                </a:lnTo>
                <a:lnTo>
                  <a:pt x="39609" y="21600"/>
                </a:lnTo>
                <a:lnTo>
                  <a:pt x="0" y="21600"/>
                </a:lnTo>
                <a:close/>
              </a:path>
              <a:path fill="lightenLess" w="39609" h="21600">
                <a:moveTo>
                  <a:pt x="0" y="0"/>
                </a:moveTo>
                <a:lnTo>
                  <a:pt x="39609" y="0"/>
                </a:lnTo>
                <a:lnTo>
                  <a:pt x="38209" y="1400"/>
                </a:lnTo>
                <a:lnTo>
                  <a:pt x="1400" y="1400"/>
                </a:lnTo>
                <a:close/>
              </a:path>
              <a:path fill="darken" w="39609" h="21600">
                <a:moveTo>
                  <a:pt x="39609" y="0"/>
                </a:moveTo>
                <a:lnTo>
                  <a:pt x="39609" y="21600"/>
                </a:lnTo>
                <a:lnTo>
                  <a:pt x="38209" y="20200"/>
                </a:lnTo>
                <a:lnTo>
                  <a:pt x="38209" y="1400"/>
                </a:lnTo>
                <a:close/>
              </a:path>
              <a:path fill="darkenLess" w="39609" h="21600">
                <a:moveTo>
                  <a:pt x="39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09" y="20200"/>
                </a:lnTo>
                <a:close/>
              </a:path>
              <a:path fill="lighten" w="39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09" h="21600">
                <a:moveTo>
                  <a:pt x="12798" y="3794"/>
                </a:moveTo>
                <a:lnTo>
                  <a:pt x="26811" y="10800"/>
                </a:lnTo>
                <a:lnTo>
                  <a:pt x="1279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предложен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красна и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овторима золотая осень!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вляется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45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6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7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8" name="TextBox 15"/>
          <p:cNvSpPr/>
          <p:nvPr/>
        </p:nvSpPr>
        <p:spPr>
          <a:xfrm>
            <a:off x="571680" y="40719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овторим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лотая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0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красна и неповторим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001000" y="6143760"/>
            <a:ext cx="714240" cy="42840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3794"/>
                </a:moveTo>
                <a:lnTo>
                  <a:pt x="25006" y="10800"/>
                </a:lnTo>
                <a:lnTo>
                  <a:pt x="10994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стоятельство времени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ь 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5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71680" y="407196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изу ласково плескалось мор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епенно гаснут в небе звезд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чером прошла гроз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1" name="TextBox 12"/>
          <p:cNvSpPr/>
          <p:nvPr/>
        </p:nvSpPr>
        <p:spPr>
          <a:xfrm>
            <a:off x="6000840" y="22860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72280" y="6143760"/>
            <a:ext cx="785880" cy="500040"/>
          </a:xfrm>
          <a:custGeom>
            <a:avLst/>
            <a:gdLst>
              <a:gd name="textAreaLeft" fmla="*/ 32400 w 785880"/>
              <a:gd name="textAreaRight" fmla="*/ 753480 w 7858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3938" h="21600">
                <a:moveTo>
                  <a:pt x="0" y="0"/>
                </a:moveTo>
                <a:lnTo>
                  <a:pt x="33938" y="0"/>
                </a:lnTo>
                <a:lnTo>
                  <a:pt x="33938" y="21600"/>
                </a:lnTo>
                <a:lnTo>
                  <a:pt x="0" y="21600"/>
                </a:lnTo>
                <a:close/>
              </a:path>
              <a:path fill="lightenLess" w="33938" h="21600">
                <a:moveTo>
                  <a:pt x="0" y="0"/>
                </a:moveTo>
                <a:lnTo>
                  <a:pt x="33938" y="0"/>
                </a:lnTo>
                <a:lnTo>
                  <a:pt x="32538" y="1400"/>
                </a:lnTo>
                <a:lnTo>
                  <a:pt x="1400" y="1400"/>
                </a:lnTo>
                <a:close/>
              </a:path>
              <a:path fill="darken" w="33938" h="21600">
                <a:moveTo>
                  <a:pt x="33938" y="0"/>
                </a:moveTo>
                <a:lnTo>
                  <a:pt x="33938" y="21600"/>
                </a:lnTo>
                <a:lnTo>
                  <a:pt x="32538" y="20200"/>
                </a:lnTo>
                <a:lnTo>
                  <a:pt x="32538" y="1400"/>
                </a:lnTo>
                <a:close/>
              </a:path>
              <a:path fill="darkenLess" w="33938" h="21600">
                <a:moveTo>
                  <a:pt x="33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8" y="20200"/>
                </a:lnTo>
                <a:close/>
              </a:path>
              <a:path fill="lighten" w="33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8" h="21600">
                <a:moveTo>
                  <a:pt x="9963" y="3794"/>
                </a:moveTo>
                <a:lnTo>
                  <a:pt x="23976" y="10800"/>
                </a:lnTo>
                <a:lnTo>
                  <a:pt x="9963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ной опять запели соловьи о верности, о дружбе, о любв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родными членам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являются:</a:t>
            </a:r>
            <a:endParaRPr b="0" lang="en-US" sz="28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6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7" name="TextBox 15"/>
          <p:cNvSpPr/>
          <p:nvPr/>
        </p:nvSpPr>
        <p:spPr>
          <a:xfrm>
            <a:off x="571680" y="407196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олнения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8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зуемые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69" name="TextBox 17"/>
          <p:cNvSpPr/>
          <p:nvPr/>
        </p:nvSpPr>
        <p:spPr>
          <a:xfrm>
            <a:off x="6000840" y="40719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стоятельств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родные члены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ть 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7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7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има еще хлопочет и на вену ворчи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8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сна спешит, а зима не отступае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79" name="TextBox 17"/>
          <p:cNvSpPr/>
          <p:nvPr/>
        </p:nvSpPr>
        <p:spPr>
          <a:xfrm>
            <a:off x="6000840" y="4071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сеннем лесу появились первые цвет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йдите предложение с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84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5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6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7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ро пожаловать скворцы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8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равьи санитары лес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6000840" y="407196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 читал эту книгу?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0" name="TextBox 8"/>
          <p:cNvSpPr/>
          <p:nvPr/>
        </p:nvSpPr>
        <p:spPr>
          <a:xfrm>
            <a:off x="85716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1" name="TextBox 12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92" name="Управляющая кнопка: далее 13">
            <a:hlinkClick r:id="" action="ppaction://hlinkshowjump?jump=firstslide"/>
          </p:cNvPr>
          <p:cNvSpPr/>
          <p:nvPr/>
        </p:nvSpPr>
        <p:spPr>
          <a:xfrm>
            <a:off x="8001000" y="6072120"/>
            <a:ext cx="785880" cy="428760"/>
          </a:xfrm>
          <a:custGeom>
            <a:avLst/>
            <a:gdLst>
              <a:gd name="textAreaLeft" fmla="*/ 27720 w 785880"/>
              <a:gd name="textAreaRight" fmla="*/ 758160 w 7858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9576" h="21600">
                <a:moveTo>
                  <a:pt x="0" y="0"/>
                </a:moveTo>
                <a:lnTo>
                  <a:pt x="39576" y="0"/>
                </a:lnTo>
                <a:lnTo>
                  <a:pt x="39576" y="21600"/>
                </a:lnTo>
                <a:lnTo>
                  <a:pt x="0" y="21600"/>
                </a:lnTo>
                <a:close/>
              </a:path>
              <a:path fill="lightenLess" w="39576" h="21600">
                <a:moveTo>
                  <a:pt x="0" y="0"/>
                </a:moveTo>
                <a:lnTo>
                  <a:pt x="39576" y="0"/>
                </a:lnTo>
                <a:lnTo>
                  <a:pt x="38176" y="1400"/>
                </a:lnTo>
                <a:lnTo>
                  <a:pt x="1400" y="1400"/>
                </a:lnTo>
                <a:close/>
              </a:path>
              <a:path fill="darken" w="39576" h="21600">
                <a:moveTo>
                  <a:pt x="39576" y="0"/>
                </a:moveTo>
                <a:lnTo>
                  <a:pt x="39576" y="21600"/>
                </a:lnTo>
                <a:lnTo>
                  <a:pt x="38176" y="20200"/>
                </a:lnTo>
                <a:lnTo>
                  <a:pt x="38176" y="1400"/>
                </a:lnTo>
                <a:close/>
              </a:path>
              <a:path fill="darkenLess" w="39576" h="21600">
                <a:moveTo>
                  <a:pt x="39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6" y="20200"/>
                </a:lnTo>
                <a:close/>
              </a:path>
              <a:path fill="lighten" w="39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76" h="21600">
                <a:moveTo>
                  <a:pt x="12781" y="3794"/>
                </a:moveTo>
                <a:lnTo>
                  <a:pt x="26794" y="10800"/>
                </a:lnTo>
                <a:lnTo>
                  <a:pt x="12781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сочетани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5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5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1000080" y="4500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етание двух слов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2" name="TextBox 16"/>
          <p:cNvSpPr/>
          <p:nvPr/>
        </p:nvSpPr>
        <p:spPr>
          <a:xfrm>
            <a:off x="3357720" y="450072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ова, связанные по смыслу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3" name="TextBox 17"/>
          <p:cNvSpPr/>
          <p:nvPr/>
        </p:nvSpPr>
        <p:spPr>
          <a:xfrm>
            <a:off x="5929200" y="4500720"/>
            <a:ext cx="30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четание слов , связанных по смыслу и грамматически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5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67" name="Управляющая кнопка: далее 21">
            <a:hlinkClick r:id="" action="ppaction://hlinkshowjump?jump=nextslide"/>
          </p:cNvPr>
          <p:cNvSpPr/>
          <p:nvPr/>
        </p:nvSpPr>
        <p:spPr>
          <a:xfrm>
            <a:off x="807228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3794"/>
                </a:moveTo>
                <a:lnTo>
                  <a:pt x="26442" y="10800"/>
                </a:lnTo>
                <a:lnTo>
                  <a:pt x="12429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 данных сочетаний слов яв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сочетание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69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0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1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1000080" y="400068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рать в снежки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3" name="TextBox 16"/>
          <p:cNvSpPr/>
          <p:nvPr/>
        </p:nvSpPr>
        <p:spPr>
          <a:xfrm>
            <a:off x="3357720" y="40719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мля бела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добрым утром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6000840" y="22147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7" name="TextBox 20"/>
          <p:cNvSpPr/>
          <p:nvPr/>
        </p:nvSpPr>
        <p:spPr>
          <a:xfrm>
            <a:off x="928800" y="2214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7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ыделен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 слово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ловосочета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80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2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3" name="TextBox 15"/>
          <p:cNvSpPr/>
          <p:nvPr/>
        </p:nvSpPr>
        <p:spPr>
          <a:xfrm>
            <a:off x="50004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сать  АККУРАТНО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ЗДНЯЯ осень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5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ИТАТЬ книгу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7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88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72280" y="6215040"/>
            <a:ext cx="714600" cy="42876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3794"/>
                </a:moveTo>
                <a:lnTo>
                  <a:pt x="25000" y="10800"/>
                </a:lnTo>
                <a:lnTo>
                  <a:pt x="10987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распространенно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едложение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0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1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3" name="TextBox 15"/>
          <p:cNvSpPr/>
          <p:nvPr/>
        </p:nvSpPr>
        <p:spPr>
          <a:xfrm>
            <a:off x="571680" y="400068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нова замерло все до рассвета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хлада освежает и бодрит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5" name="TextBox 17"/>
          <p:cNvSpPr/>
          <p:nvPr/>
        </p:nvSpPr>
        <p:spPr>
          <a:xfrm>
            <a:off x="5929200" y="4071960"/>
            <a:ext cx="250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ыли по небу тучки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297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андаш принес мне брат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лежащим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является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299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0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1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2" name="TextBox 15"/>
          <p:cNvSpPr/>
          <p:nvPr/>
        </p:nvSpPr>
        <p:spPr>
          <a:xfrm>
            <a:off x="571680" y="40006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андаш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3214800" y="4071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рат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4" name="TextBox 17"/>
          <p:cNvSpPr/>
          <p:nvPr/>
        </p:nvSpPr>
        <p:spPr>
          <a:xfrm>
            <a:off x="5929200" y="407196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е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01000" y="6143760"/>
            <a:ext cx="642960" cy="42840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2409" h="21600">
                <a:moveTo>
                  <a:pt x="0" y="0"/>
                </a:moveTo>
                <a:lnTo>
                  <a:pt x="32409" y="0"/>
                </a:lnTo>
                <a:lnTo>
                  <a:pt x="32409" y="21600"/>
                </a:lnTo>
                <a:lnTo>
                  <a:pt x="0" y="21600"/>
                </a:lnTo>
                <a:close/>
              </a:path>
              <a:path fill="lightenLess" w="32409" h="21600">
                <a:moveTo>
                  <a:pt x="0" y="0"/>
                </a:moveTo>
                <a:lnTo>
                  <a:pt x="32409" y="0"/>
                </a:lnTo>
                <a:lnTo>
                  <a:pt x="31009" y="1400"/>
                </a:lnTo>
                <a:lnTo>
                  <a:pt x="1400" y="1400"/>
                </a:lnTo>
                <a:close/>
              </a:path>
              <a:path fill="darken" w="32409" h="21600">
                <a:moveTo>
                  <a:pt x="32409" y="0"/>
                </a:moveTo>
                <a:lnTo>
                  <a:pt x="32409" y="21600"/>
                </a:lnTo>
                <a:lnTo>
                  <a:pt x="31009" y="20200"/>
                </a:lnTo>
                <a:lnTo>
                  <a:pt x="31009" y="1400"/>
                </a:lnTo>
                <a:close/>
              </a:path>
              <a:path fill="darkenLess" w="32409" h="21600">
                <a:moveTo>
                  <a:pt x="32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9" y="20200"/>
                </a:lnTo>
                <a:close/>
              </a:path>
              <a:path fill="lighten" w="32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9" h="21600">
                <a:moveTo>
                  <a:pt x="9198" y="3794"/>
                </a:moveTo>
                <a:lnTo>
                  <a:pt x="23211" y="10800"/>
                </a:lnTo>
                <a:lnTo>
                  <a:pt x="919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уемо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ыражено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ом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предложении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0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анит – прочный камень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3214800" y="407196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люблю свой родной край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6000840" y="40719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остна, шумна и пахуча весн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6000840" y="2214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6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001000" y="6215040"/>
            <a:ext cx="714240" cy="428760"/>
          </a:xfrm>
          <a:custGeom>
            <a:avLst/>
            <a:gdLst>
              <a:gd name="textAreaLeft" fmla="*/ 27720 w 714240"/>
              <a:gd name="textAreaRight" fmla="*/ 686520 w 7142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5970" h="21600">
                <a:moveTo>
                  <a:pt x="0" y="0"/>
                </a:moveTo>
                <a:lnTo>
                  <a:pt x="35970" y="0"/>
                </a:lnTo>
                <a:lnTo>
                  <a:pt x="35970" y="21600"/>
                </a:lnTo>
                <a:lnTo>
                  <a:pt x="0" y="21600"/>
                </a:lnTo>
                <a:close/>
              </a:path>
              <a:path fill="lightenLess" w="35970" h="21600">
                <a:moveTo>
                  <a:pt x="0" y="0"/>
                </a:moveTo>
                <a:lnTo>
                  <a:pt x="35970" y="0"/>
                </a:lnTo>
                <a:lnTo>
                  <a:pt x="34570" y="1400"/>
                </a:lnTo>
                <a:lnTo>
                  <a:pt x="1400" y="1400"/>
                </a:lnTo>
                <a:close/>
              </a:path>
              <a:path fill="darken" w="35970" h="21600">
                <a:moveTo>
                  <a:pt x="35970" y="0"/>
                </a:moveTo>
                <a:lnTo>
                  <a:pt x="35970" y="21600"/>
                </a:lnTo>
                <a:lnTo>
                  <a:pt x="34570" y="20200"/>
                </a:lnTo>
                <a:lnTo>
                  <a:pt x="34570" y="1400"/>
                </a:lnTo>
                <a:close/>
              </a:path>
              <a:path fill="darkenLess" w="35970" h="21600">
                <a:moveTo>
                  <a:pt x="3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0" y="20200"/>
                </a:lnTo>
                <a:close/>
              </a:path>
              <a:path fill="lighten" w="3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0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р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между подлежащим и сказуемым необходимо поставить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1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571680" y="392904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мур самая длинная река России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3143160" y="39290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бо высоко и прозрачно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6000840" y="39290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человек без Родины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4" name="TextBox 12"/>
          <p:cNvSpPr/>
          <p:nvPr/>
        </p:nvSpPr>
        <p:spPr>
          <a:xfrm>
            <a:off x="6000840" y="2214720"/>
            <a:ext cx="19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5" name="TextBox 14"/>
          <p:cNvSpPr/>
          <p:nvPr/>
        </p:nvSpPr>
        <p:spPr>
          <a:xfrm>
            <a:off x="357192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6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072280" y="6215040"/>
            <a:ext cx="642960" cy="428760"/>
          </a:xfrm>
          <a:custGeom>
            <a:avLst/>
            <a:gdLst>
              <a:gd name="textAreaLeft" fmla="*/ 27720 w 642960"/>
              <a:gd name="textAreaRight" fmla="*/ 615240 w 6429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остепенные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лены предложения – это:</a:t>
            </a:r>
            <a:endParaRPr b="0" lang="en-US" sz="3200" spc="-1" strike="noStrike">
              <a:solidFill>
                <a:srgbClr val="c4d6be"/>
              </a:solidFill>
              <a:latin typeface="Franklin Gothic Book"/>
            </a:endParaRPr>
          </a:p>
        </p:txBody>
      </p:sp>
      <p:sp>
        <p:nvSpPr>
          <p:cNvPr id="328" name="Скругленный прямоугольник 7"/>
          <p:cNvSpPr/>
          <p:nvPr/>
        </p:nvSpPr>
        <p:spPr>
          <a:xfrm>
            <a:off x="3214800" y="1857240"/>
            <a:ext cx="221436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ь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29" name="Скругленный прямоугольник 9"/>
          <p:cNvSpPr/>
          <p:nvPr/>
        </p:nvSpPr>
        <p:spPr>
          <a:xfrm>
            <a:off x="714240" y="1857240"/>
            <a:ext cx="214344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0" name="Скругленный прямоугольник 10"/>
          <p:cNvSpPr/>
          <p:nvPr/>
        </p:nvSpPr>
        <p:spPr>
          <a:xfrm>
            <a:off x="5786280" y="1857240"/>
            <a:ext cx="2286000" cy="12146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шибка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1" name="TextBox 15"/>
          <p:cNvSpPr/>
          <p:nvPr/>
        </p:nvSpPr>
        <p:spPr>
          <a:xfrm>
            <a:off x="571680" y="400068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лежащее, сказуемое, дополнени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3214800" y="407196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полнение, определение, обстоятельство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5929200" y="4071960"/>
            <a:ext cx="25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ределение, дополнение, обращение.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4" name="TextBox 11"/>
          <p:cNvSpPr/>
          <p:nvPr/>
        </p:nvSpPr>
        <p:spPr>
          <a:xfrm>
            <a:off x="1000080" y="22147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ерно!</a:t>
            </a:r>
            <a:endParaRPr b="0" lang="en-US" sz="2400" spc="-1" strike="noStrike">
              <a:solidFill>
                <a:srgbClr val="c4d6be"/>
              </a:solidFill>
              <a:latin typeface="Arial"/>
            </a:endParaRPr>
          </a:p>
        </p:txBody>
      </p:sp>
      <p:sp>
        <p:nvSpPr>
          <p:cNvPr id="335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072280" y="6143760"/>
            <a:ext cx="714600" cy="428400"/>
          </a:xfrm>
          <a:custGeom>
            <a:avLst/>
            <a:gdLst>
              <a:gd name="textAreaLeft" fmla="*/ 27720 w 714600"/>
              <a:gd name="textAreaRight" fmla="*/ 686880 w 714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36018" h="21600">
                <a:moveTo>
                  <a:pt x="0" y="0"/>
                </a:moveTo>
                <a:lnTo>
                  <a:pt x="36018" y="0"/>
                </a:lnTo>
                <a:lnTo>
                  <a:pt x="36018" y="21600"/>
                </a:lnTo>
                <a:lnTo>
                  <a:pt x="0" y="21600"/>
                </a:lnTo>
                <a:close/>
              </a:path>
              <a:path fill="lightenLess" w="36018" h="21600">
                <a:moveTo>
                  <a:pt x="0" y="0"/>
                </a:moveTo>
                <a:lnTo>
                  <a:pt x="36018" y="0"/>
                </a:lnTo>
                <a:lnTo>
                  <a:pt x="34618" y="1400"/>
                </a:lnTo>
                <a:lnTo>
                  <a:pt x="1400" y="1400"/>
                </a:lnTo>
                <a:close/>
              </a:path>
              <a:path fill="darken" w="36018" h="21600">
                <a:moveTo>
                  <a:pt x="36018" y="0"/>
                </a:moveTo>
                <a:lnTo>
                  <a:pt x="36018" y="21600"/>
                </a:lnTo>
                <a:lnTo>
                  <a:pt x="34618" y="20200"/>
                </a:lnTo>
                <a:lnTo>
                  <a:pt x="34618" y="1400"/>
                </a:lnTo>
                <a:close/>
              </a:path>
              <a:path fill="darkenLess" w="36018" h="21600">
                <a:moveTo>
                  <a:pt x="36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8" y="20200"/>
                </a:lnTo>
                <a:close/>
              </a:path>
              <a:path fill="lighten" w="36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8" h="21600">
                <a:moveTo>
                  <a:pt x="11003" y="3794"/>
                </a:moveTo>
                <a:lnTo>
                  <a:pt x="25016" y="10800"/>
                </a:lnTo>
                <a:lnTo>
                  <a:pt x="11003" y="17806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4d6be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2T07:50:06Z</dcterms:created>
  <dc:creator>User</dc:creator>
  <dc:description/>
  <dc:language>en-US</dc:language>
  <cp:lastModifiedBy>User</cp:lastModifiedBy>
  <dcterms:modified xsi:type="dcterms:W3CDTF">2011-12-16T16:03:45Z</dcterms:modified>
  <cp:revision>21</cp:revision>
  <dc:subject/>
  <dc:title>Грамматическая основа односоставных предложений состоит:</dc:title>
</cp:coreProperties>
</file>