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E5F-D049-4D97-B483-15846E25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E08-51D6-4BCD-91D6-1BBB3951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3CAFE-2666-4AA8-AD7B-1AE7D532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909C0-2C14-4C99-84F9-BA243A2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19C0E-7226-4E18-98DB-5E82E046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46566-CFEA-4046-B085-7695E5BF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FDBED-0604-4783-AC7D-D7DB845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EDBFD-C186-492F-81BF-4A5CA516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173A7-900C-4AD8-8868-3867B73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B7EB-0410-4F04-A445-6B1A53D0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5005A-3629-41AC-8A35-C3010B70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417-485F-41A3-86F6-331CC628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267-5CB3-4F10-AB18-04B84624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15F5-9989-4FC2-A3BB-C27A84C4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0ED-7307-42A2-8FF7-4A58A19E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9880-DFBE-4C27-975F-07CA3897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C2F4-CC2F-4ED1-9A88-62CBFDD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4F90-B2D5-469E-A338-9964AF55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8D0B-6684-434B-8A2A-795DB00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257B-D0F5-4C50-92E1-AA2FC8F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B5B-B539-4179-8CD3-EF40148E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976A-5CBF-4C5D-AA7A-22DD9212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96C9-02C4-408E-B2F0-437D82DA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CA5-B933-457A-B70F-93FED79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B598-EF5B-49C5-AB51-01FD92CD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574F-E396-4917-994F-9577BDA2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659D-4911-4772-88D0-D412CA97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C87D-32E2-4B76-954E-DE38AFD4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D210-9E5D-4148-97EC-8CFA64E1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9AE8-9AEC-447B-93A4-9B09E56B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DCBA-BB41-4BCB-B543-22F595F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D15-0B2B-49FA-AD2D-A1F433B3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8830-7D57-423B-9CB4-CF5E7B2A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3F39-8780-4221-8C95-833C0E9F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85A9-1834-4778-AC52-5D016ED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1CC8-1042-4FB3-A212-C212537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0E6D-3C29-461C-8489-362542DE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8F64-6948-40CB-969D-6A4B8494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BAD6-62AF-4F9D-9715-CE68DA8F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E05C-32AD-42C1-9688-FD89A96E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CC90-C507-4679-BD1C-C0F3144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6A31-68E1-4FB2-A1AA-D3F0EEB6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A07-F84C-427D-A0EA-A2698C6A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EC55-CEF9-4AE9-81A2-DBFD583C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B83E-6718-438F-BF6A-07E5F53E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6236-345A-47D4-8DD5-4213B55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56A5-5E4F-46AE-80E3-4B53338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284A-787A-445A-BB70-61BB7328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2031-07D6-455C-9377-E586787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744A-74D3-4E3D-8507-9DEE9CA8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CBB5-5DD7-4C16-9C38-DE1513F2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39BA-051B-4B87-9517-762036CE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0B28-5414-46CF-8CC4-AD706F7C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255-B14B-443A-9595-D736652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2FC0-FA54-42FD-8E02-34D6B217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5574-7787-430F-B704-D6F18C13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92BE-32A4-427C-8366-00A2E75D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5000-ADE5-4F22-B4B5-BA21A38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0D1B-B9A2-4ED2-B8D5-BED73B28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A7C98-9592-44BB-8B7F-04822EB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BF88-01E8-4B4F-B36B-C37ADD1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21595-FF36-45A2-86C4-6EDDF838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49B2-FDCE-4B9E-AC44-A31177E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7CDA-091B-45AB-9D02-E3CC4108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CCC-71A1-473D-8D81-3AE94218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36CE-BE94-4555-9E05-BB337DE7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B8B8-12FF-4495-BFF2-81EF16FD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F459-13C1-48AA-B676-527E3A0B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AB1A3-DFE1-4F7B-A327-89E7C9D6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3D85-468E-4DCD-9F6D-68D0B9F3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57F5-6598-4551-AE48-BF159F5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72052-95E4-4AF1-86D6-91DB1948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D574C-AF7C-43B9-8770-7AAE5C4A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D7662-FA5F-4BA2-B626-6DF6EF9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AF20D-D25E-496F-AE2A-98A044D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C82-BDCB-42A5-A933-5994D4B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EEAC2-1A0F-40E9-B2EE-285D8672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DFAC-77C8-4A66-8F2E-E80E0546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3ABC-DB78-4C97-90C9-17E22FDD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6C0C-7F87-4386-9461-0C6493BA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695A4-8506-4AE4-94C4-9AB47E10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3FD14-D9BC-4294-B034-05B07328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F0CC1-F1A6-418C-9D1E-E036E8C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D853F-DD88-4452-8F1D-416E18EF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DD5D5-DD94-43C9-A1B5-5D217D2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CE9B1-50C7-49CB-9992-617FF1B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D4D-3C30-4F68-9945-F88D0DD1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4DBE-3959-4A07-84A5-CF0AFA22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22AB0-472C-4A1B-82A5-989A1F7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0D40-F603-47D1-9669-630E8799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8EE6F-4A2B-4150-8148-D859AAE1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68AB-0DCC-453C-B8E1-C429CDE0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F43D3-295D-4402-84D9-FCE20784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80D8-F239-4B48-8C53-CBFC573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63AC7-941C-4DB3-BCAA-F008A580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A18B1-3BE7-4E95-B725-B55C9244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B1372-CD1A-44CB-B151-F3275D80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259-A523-4391-9F16-74237F6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1A44A-0902-48DF-B2E6-60D2A44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128B7-7DAF-4913-9505-BF65087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948A1-494F-49A8-8BD8-8960E07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18F07-F4E1-4DA9-A411-70237C9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D5AD9-A31E-4C45-802E-0F14CC7A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A1C26-94DB-4ADC-B5CD-22841040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BC208-D4EA-4E01-BCF1-E35E058B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72003-FAAE-4527-905E-C024CC1C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31E7C-2FF1-4F53-803B-87C2A9E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D905C-5F80-45B8-BEB0-D65AD7DC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59C-BD9B-4768-9750-AF8ADB1D61D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E232-92B0-4E34-8009-2685FD5199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29AA-B81B-4689-947A-527A00176BC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3406-A030-48F1-842A-B77683084A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DB13-8AC6-4D2A-A597-2587C924DE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2505-45CD-4119-8B7D-1B482A13C6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D62E-CC14-4BF7-90FA-3911C35EFE9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9FD-92A3-4CB9-9B5B-09F6340F81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70F-7F55-4204-985A-1B03F070208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Вертикальный свиток 3"/>
          <p:cNvSpPr/>
          <p:nvPr/>
        </p:nvSpPr>
        <p:spPr>
          <a:xfrm>
            <a:off x="1500120" y="928800"/>
            <a:ext cx="6286680" cy="428616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3143160" y="250020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Пища и утва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старожилов  Ал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1428840"/>
            <a:ext cx="6929640" cy="30801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продукты использовали для приготовления блюд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блюда готов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Что выращивали на о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ую утварь использо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существовали традици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Горизонтальный свиток 2"/>
          <p:cNvSpPr/>
          <p:nvPr/>
        </p:nvSpPr>
        <p:spPr>
          <a:xfrm>
            <a:off x="2428920" y="357120"/>
            <a:ext cx="4857840" cy="20718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3286080" y="121428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дукты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Вертикальный свиток 4"/>
          <p:cNvSpPr/>
          <p:nvPr/>
        </p:nvSpPr>
        <p:spPr>
          <a:xfrm>
            <a:off x="642960" y="2786040"/>
            <a:ext cx="3643200" cy="342900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1500120" y="3643200"/>
            <a:ext cx="20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М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трелка вниз 6"/>
          <p:cNvSpPr/>
          <p:nvPr/>
        </p:nvSpPr>
        <p:spPr>
          <a:xfrm>
            <a:off x="2714760" y="2286000"/>
            <a:ext cx="7855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Вертикальный свиток 7"/>
          <p:cNvSpPr/>
          <p:nvPr/>
        </p:nvSpPr>
        <p:spPr>
          <a:xfrm>
            <a:off x="5643720" y="292896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6429240" y="3643200"/>
            <a:ext cx="21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Хлебопаш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Постные д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право 9"/>
          <p:cNvSpPr/>
          <p:nvPr/>
        </p:nvSpPr>
        <p:spPr>
          <a:xfrm>
            <a:off x="4214880" y="4214880"/>
            <a:ext cx="1357200" cy="928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C:\Documents and Settings\Admin\Рабочий стол\быт крестьян\утварь 10-11_000.jpg"/>
          <p:cNvPicPr/>
          <p:nvPr/>
        </p:nvPicPr>
        <p:blipFill>
          <a:blip r:embed="rId1"/>
          <a:stretch/>
        </p:blipFill>
        <p:spPr>
          <a:xfrm>
            <a:off x="285840" y="3571920"/>
            <a:ext cx="4057560" cy="3016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2" descr="C:\Documents and Settings\Admin\Рабочий стол\быт крестьян\женский угол 10-03_000.jpg"/>
          <p:cNvPicPr/>
          <p:nvPr/>
        </p:nvPicPr>
        <p:blipFill>
          <a:blip r:embed="rId2"/>
          <a:stretch/>
        </p:blipFill>
        <p:spPr>
          <a:xfrm>
            <a:off x="4286160" y="285840"/>
            <a:ext cx="4357800" cy="335736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>
            <a:off x="2143080" y="285840"/>
            <a:ext cx="1143000" cy="9471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14240" y="1500120"/>
            <a:ext cx="3357720" cy="1618560"/>
          </a:xfrm>
          <a:prstGeom prst="rect">
            <a:avLst/>
          </a:prstGeom>
          <a:solidFill>
            <a:srgbClr val="f0a22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Лепё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Б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Пи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Олад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4714920" y="4143240"/>
            <a:ext cx="3786120" cy="1191240"/>
          </a:xfrm>
          <a:prstGeom prst="rect">
            <a:avLst/>
          </a:prstGeom>
          <a:solidFill>
            <a:srgbClr val="f0a22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Ку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Завар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Зати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Кис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2" descr="C:\Documents and Settings\Admin\Рабочий стол\быт крестьян\у реки дома9-39_000.jpg"/>
          <p:cNvPicPr/>
          <p:nvPr/>
        </p:nvPicPr>
        <p:blipFill>
          <a:blip r:embed="rId1"/>
          <a:stretch/>
        </p:blipFill>
        <p:spPr>
          <a:xfrm>
            <a:off x="642960" y="642960"/>
            <a:ext cx="7858080" cy="5929200"/>
          </a:xfrm>
          <a:prstGeom prst="rect">
            <a:avLst/>
          </a:prstGeom>
          <a:ln w="0">
            <a:noFill/>
          </a:ln>
        </p:spPr>
      </p:pic>
      <p:sp>
        <p:nvSpPr>
          <p:cNvPr id="416" name="Овал 3"/>
          <p:cNvSpPr/>
          <p:nvPr/>
        </p:nvSpPr>
        <p:spPr>
          <a:xfrm>
            <a:off x="1571760" y="5072040"/>
            <a:ext cx="4071960" cy="13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5"/>
          <p:cNvSpPr/>
          <p:nvPr/>
        </p:nvSpPr>
        <p:spPr>
          <a:xfrm flipV="1">
            <a:off x="2000160" y="5285880"/>
            <a:ext cx="1143000" cy="3574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7"/>
          <p:cNvSpPr/>
          <p:nvPr/>
        </p:nvSpPr>
        <p:spPr>
          <a:xfrm flipV="1">
            <a:off x="2071800" y="5429160"/>
            <a:ext cx="107136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9"/>
          <p:cNvSpPr/>
          <p:nvPr/>
        </p:nvSpPr>
        <p:spPr>
          <a:xfrm flipV="1">
            <a:off x="2143080" y="5572080"/>
            <a:ext cx="107172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2"/>
          <p:cNvSpPr/>
          <p:nvPr/>
        </p:nvSpPr>
        <p:spPr>
          <a:xfrm>
            <a:off x="3857760" y="5214960"/>
            <a:ext cx="1214280" cy="2858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4"/>
          <p:cNvSpPr/>
          <p:nvPr/>
        </p:nvSpPr>
        <p:spPr>
          <a:xfrm>
            <a:off x="3714840" y="5357880"/>
            <a:ext cx="135720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6"/>
          <p:cNvSpPr/>
          <p:nvPr/>
        </p:nvSpPr>
        <p:spPr>
          <a:xfrm>
            <a:off x="3714840" y="5500800"/>
            <a:ext cx="121428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8"/>
          <p:cNvSpPr/>
          <p:nvPr/>
        </p:nvSpPr>
        <p:spPr>
          <a:xfrm>
            <a:off x="3071880" y="5857920"/>
            <a:ext cx="1214280" cy="712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0"/>
          <p:cNvSpPr/>
          <p:nvPr/>
        </p:nvSpPr>
        <p:spPr>
          <a:xfrm>
            <a:off x="3071880" y="6072120"/>
            <a:ext cx="1143000" cy="716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2"/>
          <p:cNvSpPr/>
          <p:nvPr/>
        </p:nvSpPr>
        <p:spPr>
          <a:xfrm>
            <a:off x="3000240" y="6286680"/>
            <a:ext cx="114300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Горизонтальный свиток 13"/>
          <p:cNvSpPr/>
          <p:nvPr/>
        </p:nvSpPr>
        <p:spPr>
          <a:xfrm>
            <a:off x="1643040" y="285840"/>
            <a:ext cx="5929200" cy="22860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2643120" y="12142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городные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2071800" y="5286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786120" y="5214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3000240" y="5929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картоф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5857920" y="50720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греб-л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трелка углом 25"/>
          <p:cNvSpPr/>
          <p:nvPr/>
        </p:nvSpPr>
        <p:spPr>
          <a:xfrm>
            <a:off x="4357800" y="4643280"/>
            <a:ext cx="1428480" cy="428760"/>
          </a:xfrm>
          <a:custGeom>
            <a:avLst/>
            <a:gdLst/>
            <a:ahLst/>
            <a:rect l="l" t="t" r="r" b="b"/>
            <a:pathLst>
              <a:path w="1428750" h="428625">
                <a:moveTo>
                  <a:pt x="0" y="428625"/>
                </a:moveTo>
                <a:lnTo>
                  <a:pt x="0" y="241102"/>
                </a:lnTo>
                <a:cubicBezTo>
                  <a:pt x="0" y="137536"/>
                  <a:pt x="83957" y="53579"/>
                  <a:pt x="187523" y="53579"/>
                </a:cubicBezTo>
                <a:lnTo>
                  <a:pt x="1321594" y="53578"/>
                </a:lnTo>
                <a:lnTo>
                  <a:pt x="1321594" y="0"/>
                </a:lnTo>
                <a:lnTo>
                  <a:pt x="1428750" y="107156"/>
                </a:lnTo>
                <a:lnTo>
                  <a:pt x="1321594" y="214313"/>
                </a:lnTo>
                <a:lnTo>
                  <a:pt x="1321594" y="160734"/>
                </a:lnTo>
                <a:lnTo>
                  <a:pt x="187523" y="160734"/>
                </a:lnTo>
                <a:cubicBezTo>
                  <a:pt x="143138" y="160734"/>
                  <a:pt x="107156" y="196716"/>
                  <a:pt x="107156" y="241101"/>
                </a:cubicBezTo>
                <a:lnTo>
                  <a:pt x="107156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C:\Documents and Settings\Admin\Рабочий стол\быт крестьян\стол10-01_000.jpg"/>
          <p:cNvPicPr/>
          <p:nvPr/>
        </p:nvPicPr>
        <p:blipFill>
          <a:blip r:embed="rId1"/>
          <a:stretch/>
        </p:blipFill>
        <p:spPr>
          <a:xfrm>
            <a:off x="1071720" y="2571840"/>
            <a:ext cx="6786360" cy="3929040"/>
          </a:xfrm>
          <a:prstGeom prst="rect">
            <a:avLst/>
          </a:prstGeom>
          <a:ln w="0">
            <a:noFill/>
          </a:ln>
        </p:spPr>
      </p:pic>
      <p:sp>
        <p:nvSpPr>
          <p:cNvPr id="434" name="Горизонтальный свиток 2"/>
          <p:cNvSpPr/>
          <p:nvPr/>
        </p:nvSpPr>
        <p:spPr>
          <a:xfrm>
            <a:off x="1785960" y="428760"/>
            <a:ext cx="5572080" cy="185724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3143160" y="12142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рядок приёма пи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C:\Documents and Settings\Admin\Рабочий стол\быт крестьян\утварь 10-14_000.jpg"/>
          <p:cNvPicPr/>
          <p:nvPr/>
        </p:nvPicPr>
        <p:blipFill>
          <a:blip r:embed="rId1"/>
          <a:stretch/>
        </p:blipFill>
        <p:spPr>
          <a:xfrm>
            <a:off x="285840" y="2571840"/>
            <a:ext cx="5143320" cy="39290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2" descr="C:\Documents and Settings\Admin\Рабочий стол\быт крестьян\утварь10-09_000.jpg"/>
          <p:cNvPicPr/>
          <p:nvPr/>
        </p:nvPicPr>
        <p:blipFill>
          <a:blip r:embed="rId2"/>
          <a:stretch/>
        </p:blipFill>
        <p:spPr>
          <a:xfrm>
            <a:off x="4000680" y="0"/>
            <a:ext cx="4851360" cy="36846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C:\Documents and Settings\Admin\Рабочий стол\быт крестьян\коромысло9-36_000.jpg"/>
          <p:cNvPicPr/>
          <p:nvPr/>
        </p:nvPicPr>
        <p:blipFill>
          <a:blip r:embed="rId3"/>
          <a:stretch/>
        </p:blipFill>
        <p:spPr>
          <a:xfrm>
            <a:off x="5786280" y="4500720"/>
            <a:ext cx="2643480" cy="2000160"/>
          </a:xfrm>
          <a:prstGeom prst="rect">
            <a:avLst/>
          </a:prstGeom>
          <a:ln w="0">
            <a:noFill/>
          </a:ln>
        </p:spPr>
      </p:pic>
      <p:pic>
        <p:nvPicPr>
          <p:cNvPr id="439" name="TextBox 4" descr=""/>
          <p:cNvPicPr/>
          <p:nvPr/>
        </p:nvPicPr>
        <p:blipFill>
          <a:blip r:embed="rId4"/>
          <a:stretch/>
        </p:blipFill>
        <p:spPr>
          <a:xfrm>
            <a:off x="360360" y="506520"/>
            <a:ext cx="3668760" cy="23158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5"/>
          <p:cNvSpPr/>
          <p:nvPr/>
        </p:nvSpPr>
        <p:spPr>
          <a:xfrm>
            <a:off x="5643720" y="3857760"/>
            <a:ext cx="300024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Franklin Gothic Book"/>
              </a:rPr>
              <a:t>4.Для переноса тяже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C:\Documents and Settings\Admin\Рабочий стол\быт крестьян\утварь 10-14_000.jpg"/>
          <p:cNvPicPr/>
          <p:nvPr/>
        </p:nvPicPr>
        <p:blipFill>
          <a:blip r:embed="rId1"/>
          <a:stretch/>
        </p:blipFill>
        <p:spPr>
          <a:xfrm>
            <a:off x="0" y="285840"/>
            <a:ext cx="3571920" cy="39290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2" descr="C:\Documents and Settings\Admin\Рабочий стол\быт крестьян\утварь 10-11_000.jpg"/>
          <p:cNvPicPr/>
          <p:nvPr/>
        </p:nvPicPr>
        <p:blipFill>
          <a:blip r:embed="rId2"/>
          <a:stretch/>
        </p:blipFill>
        <p:spPr>
          <a:xfrm>
            <a:off x="3929040" y="357120"/>
            <a:ext cx="2897280" cy="28576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C:\Documents and Settings\Admin\Рабочий стол\быт крестьян\утварь 10-14_000.jpg"/>
          <p:cNvPicPr/>
          <p:nvPr/>
        </p:nvPicPr>
        <p:blipFill>
          <a:blip r:embed="rId3"/>
          <a:srcRect l="45491" t="21397" r="32420" b="45429"/>
          <a:stretch/>
        </p:blipFill>
        <p:spPr>
          <a:xfrm>
            <a:off x="4000680" y="37148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" descr="C:\Documents and Settings\Admin\Рабочий стол\быт крестьян\утварь 10-14_000.jpg"/>
          <p:cNvPicPr/>
          <p:nvPr/>
        </p:nvPicPr>
        <p:blipFill>
          <a:blip r:embed="rId4"/>
          <a:srcRect l="46462" t="78529" r="17408" b="737"/>
          <a:stretch/>
        </p:blipFill>
        <p:spPr>
          <a:xfrm>
            <a:off x="1000080" y="4357800"/>
            <a:ext cx="4027680" cy="21319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6929280" y="92880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Что за утв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42:03Z</dcterms:created>
  <dc:creator>Admin</dc:creator>
  <dc:description/>
  <dc:language>en-US</dc:language>
  <cp:lastModifiedBy>Admin</cp:lastModifiedBy>
  <dcterms:modified xsi:type="dcterms:W3CDTF">2012-04-28T16:48:13Z</dcterms:modified>
  <cp:revision>14</cp:revision>
  <dc:subject/>
  <dc:title>Слайд 1</dc:title>
</cp:coreProperties>
</file>