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DAA7-A5A3-4455-909C-72A7C8B3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76A2-05B7-4824-859E-44BB460C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BA966-70F2-4514-A791-F7AAAC32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474B0-AC7D-4526-946B-F823FA44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08B8B-8655-4366-82CA-CC163DE9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43EBB-67E5-442C-945B-719A0569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AA64B-8A1E-4DA0-A0EE-C570BA22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997F8-01CF-46BE-B4C5-2BFC493F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D0DF5-813A-4C4F-BA20-8765E794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64BFD-B920-4F51-B600-4154C923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DD7BE-1B67-4931-A14C-ED1251EF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F1A4-6CAD-46F3-B574-8C535ABE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5C6-5802-4F29-908B-BDC0BA51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C09C-CF7C-4F93-BA7F-E9E39AF4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C952-8A70-4901-9111-AAF526AE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4470-808C-447F-AA9A-E40D990F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E445-048D-49C5-9E6E-D7BBE6F0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2AAF-84D8-4C9B-89E0-79E72CDA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65FE-23C6-4345-83F1-829AFA95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CF36-7765-488D-8EE0-1C9E63DD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417-C9AE-496E-875E-DB2AC990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9BAF-D2B4-4D2D-B565-932AB85C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734E-84B9-4561-AAF7-D7DD5B3A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7A2B-879A-4BAD-BA83-29BAECAA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23ED-3D2B-431B-8FDE-8E5D8D4D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E98C-929D-44CE-AADC-8E464944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39BEB-0A29-443F-BAAB-CBEC1F2D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51422-109C-40FF-A3F6-B1FA2F3E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3354C-E579-4657-9CE9-4301E170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6D597-A08B-44FB-B81D-D927D99C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35A34-F1D3-445F-9682-C8D67729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A943-368D-4F1E-B642-8CBAE176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BECCF-78D9-44E0-8CCB-E3A34AF5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4D465-A3B8-41AE-BE7F-75485F69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3C347-354F-435C-A6BE-76310F50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64FE2-EB59-45EB-B2A4-5AB7EC84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4A41F-81B8-4E44-BE5C-E792A807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9DA41-9948-4020-B44E-DABD1DA3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12DE4-1A73-4193-80D5-8F41D32A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1992E-EEB2-47A8-A12F-4913CE3B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A225F-6E63-40D5-8A7D-ADD6E874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08C91-3039-4697-85A1-0E16F569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B12-8761-4EA9-88BA-202AB531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333EE-46E3-4B21-982D-BABC536E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9DD09-B951-44C9-BA60-85F3A7EC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26A1-1B5B-4087-AC72-BD488627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292B2-CE07-462F-88BE-1A7AE8BD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196C6-9B25-4C2B-9CBD-5ECB2747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B779A-0F7F-4D53-AE64-9F6345E8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87D00-7F03-4A76-B07E-43D48EA2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C08B3-A440-460A-B5F4-BCE452C9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B2E3B-B54C-43C9-BE1A-6458BFE5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D9B92-B8CF-48F6-97B0-6A39AD4F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67B-2B71-412E-8D7D-43F5632B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FA8ED-307E-46E9-8145-F5397135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AF5ED-6A27-47C4-8CC7-A887A87D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0F6D8-47C0-4520-B764-08873EBF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53078-603D-4240-AF76-764A8612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8CA45-AE14-4A6C-BF23-82ED834B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C515C-B567-4B94-956D-989F07EE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7DCE2-F086-41D9-8A71-2D57FDB4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544F9-0838-4390-82D6-0BA3A29C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832E0-7D79-435D-8324-F68B2C62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D8152-2192-43FA-8679-7B522A98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EDA-4FBE-4CAD-A9B9-9F5005CB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1F5C9-6209-4034-940E-8BF686FC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ACBC6-F97A-4DFA-9585-224D2DDA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3E588-2906-4090-92CE-38BFE60F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2DEC4-35A1-4B07-94E0-67E3A557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00FA0-54C0-43DD-9D8E-1C315165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08766-ECFF-4DDB-89BA-8BF411D8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BBBA8-B023-4A94-A801-F34AE1F9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FD394-1D44-47FB-B4C9-F936F217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EBAAE-B2AB-4FB8-8330-6B33CC66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27ECA-98AF-4D2B-B396-009A16BB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A1E-FC56-4127-8768-4BF7C7A0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AD9EB-B5CE-4B6A-BD9F-85B63682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2ABDB-066C-4965-ACAB-773252B7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7261B-A336-40F0-96E0-3E481D4A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57999-20BC-4956-BB90-C4108ADD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36415-E957-467E-A982-8B35A8DB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432DF-501C-4D1F-A19A-5A5C6707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6D5EF-1118-48A0-BE71-88E4B957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6764A-7A05-4DC9-BE6E-2FD18742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EE7A3-445A-4EA4-8E06-E4DA62FC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EEF58-23CA-4607-B934-2F3439DE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72C6-2328-414C-B955-24091738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07039-9FC9-49FA-83C3-56E6BFFB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595D7-9FB0-44F7-96D9-D46954D2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92FD9-8091-4010-8946-214DF57C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592CC-BE3B-48A1-B4F9-382F35AE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F8506-A4B7-424D-9E11-C4173290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20F52-2327-4001-B7BD-D8300302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41BE8-BE89-4E3C-AECE-BC57397C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93F7C-6265-44D9-B9F4-D31A87F4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8D35B-26CB-4C06-957E-642CF4B9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17C3D-6941-4953-8647-43D26209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FB7-2F4C-41D6-9CC7-145FFA32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1C13C-8187-4204-929E-1705075D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C28C3-D377-42BE-91BD-AC7229C2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80754-F1D9-4C68-8410-8DE9E93C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AFBE1-D62F-4718-B98F-12BEFE2E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CAA17-CBED-49D1-8C0D-731B4238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B328B-3857-41DA-8B15-586448E7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EAC71-6253-4E49-A92F-1C09A1F2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02584-5068-43A4-9E5B-909EE983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78F64-337F-4BC2-AC3D-63338A03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6E8B1-C764-4D5C-841D-5052C2B8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8078-AACB-4110-8436-8CCB2C67B5D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DEED-4FAB-4CCC-86AC-042A7C30773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AB6B-D822-4929-AAC0-636B4CD7931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5262-6596-4D78-9232-ECC4A44B5C0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966E-A415-4C00-9430-44A7216C07C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5605-4746-4A70-8C97-1E92C660FA3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1A9B-2335-421D-9286-14459CC394D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B1F2-4A5B-4E04-98CC-96AE5D5878B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5404-DCCC-4905-B04D-C6D767EE89C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Вертикальный свиток 3"/>
          <p:cNvSpPr/>
          <p:nvPr/>
        </p:nvSpPr>
        <p:spPr>
          <a:xfrm>
            <a:off x="1500120" y="928800"/>
            <a:ext cx="6286680" cy="4286160"/>
          </a:xfrm>
          <a:prstGeom prst="vertic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"/>
          <p:cNvSpPr/>
          <p:nvPr/>
        </p:nvSpPr>
        <p:spPr>
          <a:xfrm>
            <a:off x="3143160" y="250020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Пища и утва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старожилов  Ал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1500120" y="1428840"/>
            <a:ext cx="6929640" cy="30801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Какие продукты использовали для приготовления блюд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Какие блюда готов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Что выращивали на огор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Какую утварь использов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Какие существовали традиции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Горизонтальный свиток 2"/>
          <p:cNvSpPr/>
          <p:nvPr/>
        </p:nvSpPr>
        <p:spPr>
          <a:xfrm>
            <a:off x="2428920" y="357120"/>
            <a:ext cx="4857840" cy="207180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"/>
          <p:cNvSpPr/>
          <p:nvPr/>
        </p:nvSpPr>
        <p:spPr>
          <a:xfrm>
            <a:off x="3286080" y="1214280"/>
            <a:ext cx="307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родукты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Вертикальный свиток 4"/>
          <p:cNvSpPr/>
          <p:nvPr/>
        </p:nvSpPr>
        <p:spPr>
          <a:xfrm>
            <a:off x="642960" y="2786040"/>
            <a:ext cx="3643200" cy="3429000"/>
          </a:xfrm>
          <a:prstGeom prst="vertic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1500120" y="3643200"/>
            <a:ext cx="20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Кру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М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Стрелка вниз 6"/>
          <p:cNvSpPr/>
          <p:nvPr/>
        </p:nvSpPr>
        <p:spPr>
          <a:xfrm>
            <a:off x="2714760" y="2286000"/>
            <a:ext cx="78552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Вертикальный свиток 7"/>
          <p:cNvSpPr/>
          <p:nvPr/>
        </p:nvSpPr>
        <p:spPr>
          <a:xfrm>
            <a:off x="5643720" y="2928960"/>
            <a:ext cx="3500280" cy="3071880"/>
          </a:xfrm>
          <a:prstGeom prst="vertic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8"/>
          <p:cNvSpPr/>
          <p:nvPr/>
        </p:nvSpPr>
        <p:spPr>
          <a:xfrm>
            <a:off x="6429240" y="3643200"/>
            <a:ext cx="214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Хлебопаш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Monotype Corsiva"/>
              </a:rPr>
              <a:t>Постные д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Стрелка вправо 9"/>
          <p:cNvSpPr/>
          <p:nvPr/>
        </p:nvSpPr>
        <p:spPr>
          <a:xfrm>
            <a:off x="4214880" y="4214880"/>
            <a:ext cx="1357200" cy="9288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1" descr="C:\Documents and Settings\Admin\Рабочий стол\быт крестьян\утварь 10-11_000.jpg"/>
          <p:cNvPicPr/>
          <p:nvPr/>
        </p:nvPicPr>
        <p:blipFill>
          <a:blip r:embed="rId1"/>
          <a:stretch/>
        </p:blipFill>
        <p:spPr>
          <a:xfrm>
            <a:off x="285840" y="3571920"/>
            <a:ext cx="4057560" cy="301608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2" descr="C:\Documents and Settings\Admin\Рабочий стол\быт крестьян\женский угол 10-03_000.jpg"/>
          <p:cNvPicPr/>
          <p:nvPr/>
        </p:nvPicPr>
        <p:blipFill>
          <a:blip r:embed="rId2"/>
          <a:stretch/>
        </p:blipFill>
        <p:spPr>
          <a:xfrm>
            <a:off x="4286160" y="285840"/>
            <a:ext cx="4357800" cy="3357360"/>
          </a:xfrm>
          <a:prstGeom prst="rect">
            <a:avLst/>
          </a:prstGeom>
          <a:ln w="0">
            <a:noFill/>
          </a:ln>
        </p:spPr>
      </p:pic>
      <p:sp>
        <p:nvSpPr>
          <p:cNvPr id="412" name="TextBox 3"/>
          <p:cNvSpPr/>
          <p:nvPr/>
        </p:nvSpPr>
        <p:spPr>
          <a:xfrm>
            <a:off x="2143080" y="285840"/>
            <a:ext cx="1143000" cy="9471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Б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714240" y="1500120"/>
            <a:ext cx="3357720" cy="1618560"/>
          </a:xfrm>
          <a:prstGeom prst="rect">
            <a:avLst/>
          </a:prstGeom>
          <a:solidFill>
            <a:srgbClr val="f0a22e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Хле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Лепё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Б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Пир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Franklin Gothic Book"/>
              </a:rPr>
              <a:t>Олад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5"/>
          <p:cNvSpPr/>
          <p:nvPr/>
        </p:nvSpPr>
        <p:spPr>
          <a:xfrm>
            <a:off x="4714920" y="4143240"/>
            <a:ext cx="3786120" cy="1191240"/>
          </a:xfrm>
          <a:prstGeom prst="rect">
            <a:avLst/>
          </a:prstGeom>
          <a:solidFill>
            <a:srgbClr val="f0a22e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Franklin Gothic Book"/>
              </a:rPr>
              <a:t>Кут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Franklin Gothic Book"/>
              </a:rPr>
              <a:t>Завар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Franklin Gothic Book"/>
              </a:rPr>
              <a:t>Зати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Franklin Gothic Book"/>
              </a:rPr>
              <a:t>Кис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Рисунок 2" descr="C:\Documents and Settings\Admin\Рабочий стол\быт крестьян\у реки дома9-39_000.jpg"/>
          <p:cNvPicPr/>
          <p:nvPr/>
        </p:nvPicPr>
        <p:blipFill>
          <a:blip r:embed="rId1"/>
          <a:stretch/>
        </p:blipFill>
        <p:spPr>
          <a:xfrm>
            <a:off x="642960" y="642960"/>
            <a:ext cx="7858080" cy="5929200"/>
          </a:xfrm>
          <a:prstGeom prst="rect">
            <a:avLst/>
          </a:prstGeom>
          <a:ln w="0">
            <a:noFill/>
          </a:ln>
        </p:spPr>
      </p:pic>
      <p:sp>
        <p:nvSpPr>
          <p:cNvPr id="416" name="Овал 3"/>
          <p:cNvSpPr/>
          <p:nvPr/>
        </p:nvSpPr>
        <p:spPr>
          <a:xfrm>
            <a:off x="1571760" y="5072040"/>
            <a:ext cx="4071960" cy="13572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5"/>
          <p:cNvSpPr/>
          <p:nvPr/>
        </p:nvSpPr>
        <p:spPr>
          <a:xfrm flipV="1">
            <a:off x="2000160" y="5285880"/>
            <a:ext cx="1143000" cy="35748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7"/>
          <p:cNvSpPr/>
          <p:nvPr/>
        </p:nvSpPr>
        <p:spPr>
          <a:xfrm flipV="1">
            <a:off x="2071800" y="5429160"/>
            <a:ext cx="1071360" cy="3571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9"/>
          <p:cNvSpPr/>
          <p:nvPr/>
        </p:nvSpPr>
        <p:spPr>
          <a:xfrm flipV="1">
            <a:off x="2143080" y="5572080"/>
            <a:ext cx="1071720" cy="3571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12"/>
          <p:cNvSpPr/>
          <p:nvPr/>
        </p:nvSpPr>
        <p:spPr>
          <a:xfrm>
            <a:off x="3857760" y="5214960"/>
            <a:ext cx="1214280" cy="2858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4"/>
          <p:cNvSpPr/>
          <p:nvPr/>
        </p:nvSpPr>
        <p:spPr>
          <a:xfrm>
            <a:off x="3714840" y="5357880"/>
            <a:ext cx="1357200" cy="3571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16"/>
          <p:cNvSpPr/>
          <p:nvPr/>
        </p:nvSpPr>
        <p:spPr>
          <a:xfrm>
            <a:off x="3714840" y="5500800"/>
            <a:ext cx="1214280" cy="35712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18"/>
          <p:cNvSpPr/>
          <p:nvPr/>
        </p:nvSpPr>
        <p:spPr>
          <a:xfrm>
            <a:off x="3071880" y="5857920"/>
            <a:ext cx="1214280" cy="7128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20"/>
          <p:cNvSpPr/>
          <p:nvPr/>
        </p:nvSpPr>
        <p:spPr>
          <a:xfrm>
            <a:off x="3071880" y="6072120"/>
            <a:ext cx="1143000" cy="716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22"/>
          <p:cNvSpPr/>
          <p:nvPr/>
        </p:nvSpPr>
        <p:spPr>
          <a:xfrm>
            <a:off x="3000240" y="6286680"/>
            <a:ext cx="1143000" cy="14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Горизонтальный свиток 13"/>
          <p:cNvSpPr/>
          <p:nvPr/>
        </p:nvSpPr>
        <p:spPr>
          <a:xfrm>
            <a:off x="1643040" y="285840"/>
            <a:ext cx="5929200" cy="228600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5"/>
          <p:cNvSpPr/>
          <p:nvPr/>
        </p:nvSpPr>
        <p:spPr>
          <a:xfrm>
            <a:off x="2643120" y="121428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городные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9"/>
          <p:cNvSpPr/>
          <p:nvPr/>
        </p:nvSpPr>
        <p:spPr>
          <a:xfrm>
            <a:off x="2071800" y="528624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Ре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Ред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1"/>
          <p:cNvSpPr/>
          <p:nvPr/>
        </p:nvSpPr>
        <p:spPr>
          <a:xfrm>
            <a:off x="3786120" y="5214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кап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23"/>
          <p:cNvSpPr/>
          <p:nvPr/>
        </p:nvSpPr>
        <p:spPr>
          <a:xfrm>
            <a:off x="3000240" y="59292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картоф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4"/>
          <p:cNvSpPr/>
          <p:nvPr/>
        </p:nvSpPr>
        <p:spPr>
          <a:xfrm>
            <a:off x="5857920" y="507204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греб-л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Стрелка углом 25"/>
          <p:cNvSpPr/>
          <p:nvPr/>
        </p:nvSpPr>
        <p:spPr>
          <a:xfrm>
            <a:off x="4357800" y="4643280"/>
            <a:ext cx="1428480" cy="428760"/>
          </a:xfrm>
          <a:custGeom>
            <a:avLst/>
            <a:gdLst/>
            <a:ahLst/>
            <a:rect l="l" t="t" r="r" b="b"/>
            <a:pathLst>
              <a:path w="1428750" h="428625">
                <a:moveTo>
                  <a:pt x="0" y="428625"/>
                </a:moveTo>
                <a:lnTo>
                  <a:pt x="0" y="241102"/>
                </a:lnTo>
                <a:cubicBezTo>
                  <a:pt x="0" y="137536"/>
                  <a:pt x="83957" y="53579"/>
                  <a:pt x="187523" y="53579"/>
                </a:cubicBezTo>
                <a:lnTo>
                  <a:pt x="1321594" y="53578"/>
                </a:lnTo>
                <a:lnTo>
                  <a:pt x="1321594" y="0"/>
                </a:lnTo>
                <a:lnTo>
                  <a:pt x="1428750" y="107156"/>
                </a:lnTo>
                <a:lnTo>
                  <a:pt x="1321594" y="214313"/>
                </a:lnTo>
                <a:lnTo>
                  <a:pt x="1321594" y="160734"/>
                </a:lnTo>
                <a:lnTo>
                  <a:pt x="187523" y="160734"/>
                </a:lnTo>
                <a:cubicBezTo>
                  <a:pt x="143138" y="160734"/>
                  <a:pt x="107156" y="196716"/>
                  <a:pt x="107156" y="241101"/>
                </a:cubicBezTo>
                <a:lnTo>
                  <a:pt x="107156" y="428625"/>
                </a:lnTo>
                <a:lnTo>
                  <a:pt x="0" y="428625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C:\Documents and Settings\Admin\Рабочий стол\быт крестьян\стол10-01_000.jpg"/>
          <p:cNvPicPr/>
          <p:nvPr/>
        </p:nvPicPr>
        <p:blipFill>
          <a:blip r:embed="rId1"/>
          <a:stretch/>
        </p:blipFill>
        <p:spPr>
          <a:xfrm>
            <a:off x="1071720" y="2571840"/>
            <a:ext cx="6786360" cy="3929040"/>
          </a:xfrm>
          <a:prstGeom prst="rect">
            <a:avLst/>
          </a:prstGeom>
          <a:ln w="0">
            <a:noFill/>
          </a:ln>
        </p:spPr>
      </p:pic>
      <p:sp>
        <p:nvSpPr>
          <p:cNvPr id="434" name="Горизонтальный свиток 2"/>
          <p:cNvSpPr/>
          <p:nvPr/>
        </p:nvSpPr>
        <p:spPr>
          <a:xfrm>
            <a:off x="1785960" y="428760"/>
            <a:ext cx="5572080" cy="185724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3"/>
          <p:cNvSpPr/>
          <p:nvPr/>
        </p:nvSpPr>
        <p:spPr>
          <a:xfrm>
            <a:off x="3143160" y="1214280"/>
            <a:ext cx="350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рядок приёма пи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Рисунок 1" descr="C:\Documents and Settings\Admin\Рабочий стол\быт крестьян\утварь 10-14_000.jpg"/>
          <p:cNvPicPr/>
          <p:nvPr/>
        </p:nvPicPr>
        <p:blipFill>
          <a:blip r:embed="rId1"/>
          <a:stretch/>
        </p:blipFill>
        <p:spPr>
          <a:xfrm>
            <a:off x="285840" y="2571840"/>
            <a:ext cx="5143320" cy="392904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2" descr="C:\Documents and Settings\Admin\Рабочий стол\быт крестьян\утварь10-09_000.jpg"/>
          <p:cNvPicPr/>
          <p:nvPr/>
        </p:nvPicPr>
        <p:blipFill>
          <a:blip r:embed="rId2"/>
          <a:stretch/>
        </p:blipFill>
        <p:spPr>
          <a:xfrm>
            <a:off x="4000680" y="0"/>
            <a:ext cx="4851360" cy="368460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3" descr="C:\Documents and Settings\Admin\Рабочий стол\быт крестьян\коромысло9-36_000.jpg"/>
          <p:cNvPicPr/>
          <p:nvPr/>
        </p:nvPicPr>
        <p:blipFill>
          <a:blip r:embed="rId3"/>
          <a:stretch/>
        </p:blipFill>
        <p:spPr>
          <a:xfrm>
            <a:off x="5786280" y="4500720"/>
            <a:ext cx="2643480" cy="2000160"/>
          </a:xfrm>
          <a:prstGeom prst="rect">
            <a:avLst/>
          </a:prstGeom>
          <a:ln w="0">
            <a:noFill/>
          </a:ln>
        </p:spPr>
      </p:pic>
      <p:pic>
        <p:nvPicPr>
          <p:cNvPr id="439" name="TextBox 4" descr=""/>
          <p:cNvPicPr/>
          <p:nvPr/>
        </p:nvPicPr>
        <p:blipFill>
          <a:blip r:embed="rId4"/>
          <a:stretch/>
        </p:blipFill>
        <p:spPr>
          <a:xfrm>
            <a:off x="360360" y="506520"/>
            <a:ext cx="3668760" cy="23158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5"/>
          <p:cNvSpPr/>
          <p:nvPr/>
        </p:nvSpPr>
        <p:spPr>
          <a:xfrm>
            <a:off x="5643720" y="3857760"/>
            <a:ext cx="3000240" cy="6426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Franklin Gothic Book"/>
              </a:rPr>
              <a:t>4.Для переноса тяже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1" descr="C:\Documents and Settings\Admin\Рабочий стол\быт крестьян\утварь 10-14_000.jpg"/>
          <p:cNvPicPr/>
          <p:nvPr/>
        </p:nvPicPr>
        <p:blipFill>
          <a:blip r:embed="rId1"/>
          <a:stretch/>
        </p:blipFill>
        <p:spPr>
          <a:xfrm>
            <a:off x="0" y="285840"/>
            <a:ext cx="3571920" cy="392904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2" descr="C:\Documents and Settings\Admin\Рабочий стол\быт крестьян\утварь 10-11_000.jpg"/>
          <p:cNvPicPr/>
          <p:nvPr/>
        </p:nvPicPr>
        <p:blipFill>
          <a:blip r:embed="rId2"/>
          <a:stretch/>
        </p:blipFill>
        <p:spPr>
          <a:xfrm>
            <a:off x="3929040" y="357120"/>
            <a:ext cx="2897280" cy="285768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3" descr="C:\Documents and Settings\Admin\Рабочий стол\быт крестьян\утварь 10-14_000.jpg"/>
          <p:cNvPicPr/>
          <p:nvPr/>
        </p:nvPicPr>
        <p:blipFill>
          <a:blip r:embed="rId3"/>
          <a:srcRect l="45491" t="21397" r="32420" b="45429"/>
          <a:stretch/>
        </p:blipFill>
        <p:spPr>
          <a:xfrm>
            <a:off x="4000680" y="3714840"/>
            <a:ext cx="4286160" cy="257184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4" descr="C:\Documents and Settings\Admin\Рабочий стол\быт крестьян\утварь 10-14_000.jpg"/>
          <p:cNvPicPr/>
          <p:nvPr/>
        </p:nvPicPr>
        <p:blipFill>
          <a:blip r:embed="rId4"/>
          <a:srcRect l="46462" t="78529" r="17408" b="737"/>
          <a:stretch/>
        </p:blipFill>
        <p:spPr>
          <a:xfrm>
            <a:off x="1000080" y="4357800"/>
            <a:ext cx="4027680" cy="2131920"/>
          </a:xfrm>
          <a:prstGeom prst="rect">
            <a:avLst/>
          </a:prstGeom>
          <a:ln w="0">
            <a:noFill/>
          </a:ln>
        </p:spPr>
      </p:pic>
      <p:sp>
        <p:nvSpPr>
          <p:cNvPr id="445" name="TextBox 5"/>
          <p:cNvSpPr/>
          <p:nvPr/>
        </p:nvSpPr>
        <p:spPr>
          <a:xfrm>
            <a:off x="6929280" y="928800"/>
            <a:ext cx="221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Что за утвар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9:42:03Z</dcterms:created>
  <dc:creator>Admin</dc:creator>
  <dc:description/>
  <dc:language>en-US</dc:language>
  <cp:lastModifiedBy>Admin</cp:lastModifiedBy>
  <dcterms:modified xsi:type="dcterms:W3CDTF">2012-04-28T16:48:13Z</dcterms:modified>
  <cp:revision>14</cp:revision>
  <dc:subject/>
  <dc:title>Слайд 1</dc:title>
</cp:coreProperties>
</file>