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7C1-2DF7-4DC2-9161-37D58AFE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370-46FD-498C-9545-9A0A203B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80331-7E7B-478C-9E54-0FFFA481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6C71D-E5DA-454D-8992-BE4B8F01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C5E52-DCE5-4332-B97E-1A919FF5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84FC6-806E-497A-8F91-B4BAB8C4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FF3EF-2195-4D66-801B-A377718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71B54-FADE-45D0-ACD8-E97CA491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0A394-4229-42B3-98D9-68C9504E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8BA76-0C75-4036-8F41-1BB73327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0A1B2-779B-486F-AD2F-55A65B20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787-6CFB-41BA-BBC5-C1B6DC2A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3A4-CCA2-438B-9802-5F297B23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1C45-439F-4138-A313-28D76E1F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D7F2-4470-446B-B3CC-E4B47237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CB0E-4FEA-46DC-9948-A7B9B3CB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A145-8CDF-4222-97AE-E7FA398A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F0A2-2512-4A65-9633-AC51D736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140A-9F15-46EC-A5B5-613EBEE5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8746-687D-4F4C-92BF-17B37A50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C28-A17E-4809-AF87-F13E08D9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AEE3-2B17-4599-8CBB-843125A7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A057-74AB-496F-9590-22AB120B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90B8-B87B-4911-984C-BF53F56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7B60-B79E-471C-AD64-22158A8E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E668-1A91-4915-9377-789EEE3F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F8AA-9336-45EA-9DF8-740ECE8A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0640-D16E-4C38-A06C-61F42E82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265A-7F98-4D5B-81F1-514401ED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5C39-FC43-4901-B336-D1CAB049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FEFA-0E52-40CE-9089-C96867A8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EF8-1E88-412C-A025-E98E1D13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90C67-FFB9-4256-89DE-430EA449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2457-791D-405C-B082-7E5015EA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2634-6E81-4746-A8B8-CD207038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61CC-6607-4945-A02D-C8439DEB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F9CE-5ABC-466A-8B61-934D5371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3898-BCD2-4AA1-A3B4-06612FF5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FDBA-0868-40A5-A324-AB88F00B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F8F0-E557-443A-99AE-3A8364C3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82BD-95BA-4DAF-9223-518CDD21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3DD3-D753-4168-9619-0FAF9B16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46C-C4A5-4B56-BA29-2434787E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2C3F-55D2-4784-8BC6-849BD141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CC88-A546-4C24-A205-40B7D270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42C48-8159-4F70-A1C9-52A14898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619AD-6D5A-47A9-B8DC-79D34E09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8325-73B1-4812-B70E-33361B1B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86854-F237-4736-94DF-963E2C4E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0C542-CE9E-4E0C-B71B-5E3A35E0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E102C-A71F-4531-B734-029A4E8C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B027-9443-441D-8238-8051DF01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7CBF0-81F5-4C96-8BCF-D6778F1F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AC1-C60C-4CB3-A2B9-E99FB0B1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0A66F-F58F-4AC8-BA5B-54CE7EC9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13AB9-74DE-4261-8C58-9910C644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8677C-899B-4469-B497-D1A6897C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51867-DF14-48D3-B31C-4AA47A28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28A57-AFF3-4080-A628-1BBF4358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06143-E339-448B-AC4E-CF014193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50EDB-19B5-467D-8D58-A7B36D35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BE693-FB50-46A2-85B7-D7A9E4E4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B9688-E246-4275-8B73-E619B4B1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180B2-822F-4F7C-8D95-963928FA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C6B-773C-4479-9A92-42C8A2CA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4B595-CC73-4E73-9725-6C26C271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38558-533F-4F80-84B7-2FB7E912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74835-D10B-4C2A-8A3A-FB28519E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364CF-A977-40EC-978C-107447E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FB138-A8FF-4A5D-843D-36FBB5D4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9FEC9-A45B-4141-AEB5-6942A3A5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ECD16-98EF-4034-B25F-D7583207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5E4E4-BE9D-40B8-AA3E-A15D58C1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3144E-8456-4B6F-8CBF-2C3080D5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454C5-9271-4BE8-BE4F-D4B7C9F7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B0E-CF8F-41BF-BAC4-8C68E6B7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82CB4-7DC1-45D0-A82D-DFF01250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EBCBC-060D-42DD-9124-6354D552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AA07F-D23C-4D25-9C4D-58865494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8C281-5B89-456D-AA82-1BEF7EFB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BA112-42CC-4998-811C-B9EAE37A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07FD0-B51B-4E6F-9F02-51F40E09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2A9E4-F2B0-4736-80E2-1FE09065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B69E1-2E6E-4EB5-82FF-E541AFB5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7368A-595B-4A09-9F97-E6978A4B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2D430-AF57-4FF1-920C-7A9D7D58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960-454C-42C7-82BA-A91CE71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B7F47-59F5-478E-9F85-24390080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CEBE1-D659-49B0-879D-6D5EB43B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86981-4866-4F6D-AB3C-CD3ADE53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78222-A647-4FFC-A061-8841A80D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D817C-500F-4F2D-A66F-6BC933BF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64251-02CA-436D-AC44-94593B22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C63BC-14CF-4CE3-834F-EFB693B2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0C866-7AC7-413D-83DE-2DEFABD0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9D121-5023-4273-88F0-961AB392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65C54-EA4A-48C5-BED8-3AEF5076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BD2-AECF-49E2-BCBE-CC6C757B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E416A-285F-49FA-A094-18E89378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30773-0F4C-4E20-966E-A7164398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85CE5-5463-49F4-BAC1-E9869B59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FB886-A8DF-4275-8C58-7CC4DAD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7B25E-1810-4E70-A479-AAD66CA2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A0B7F-8851-43B9-9672-ECD046F5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BBC8E-5897-4483-BB44-2143E598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FCAD2-95E4-46D7-A6FD-3DE7DB61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02100-6A98-4DCC-993F-A99462D5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B35FA-E866-4830-B10C-194FC5D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034F-D6F0-4C2A-B259-F5286B7ECE5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9DFC-46B1-4AC1-8851-63C511B2F4C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5513-F8AA-473E-B32E-4357E2F25FC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9BE1-82FC-4DDC-8373-90FC491B4A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533B-4276-47B4-8A8B-A6769335F29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8968-9D85-46DF-8F2F-BE3F4E13135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923F-DFA9-404B-9D35-0DC26D0A4C6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47FD-593B-4B43-A8D9-751198D26D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885F-AB79-4FF2-945E-4710931EAAD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Вертикальный свиток 3"/>
          <p:cNvSpPr/>
          <p:nvPr/>
        </p:nvSpPr>
        <p:spPr>
          <a:xfrm>
            <a:off x="1500120" y="928800"/>
            <a:ext cx="6286680" cy="4286160"/>
          </a:xfrm>
          <a:prstGeom prst="vertic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"/>
          <p:cNvSpPr/>
          <p:nvPr/>
        </p:nvSpPr>
        <p:spPr>
          <a:xfrm>
            <a:off x="3143160" y="250020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Пища и утва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старожилов  Ал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500120" y="1428840"/>
            <a:ext cx="6929640" cy="30801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кие продукты использовали для приготовления блюд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кие блюда готов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Что выращивали на ого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кую утварь использов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кие существовали традиции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Горизонтальный свиток 2"/>
          <p:cNvSpPr/>
          <p:nvPr/>
        </p:nvSpPr>
        <p:spPr>
          <a:xfrm>
            <a:off x="2428920" y="357120"/>
            <a:ext cx="4857840" cy="207180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3286080" y="121428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одукты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Вертикальный свиток 4"/>
          <p:cNvSpPr/>
          <p:nvPr/>
        </p:nvSpPr>
        <p:spPr>
          <a:xfrm>
            <a:off x="642960" y="2786040"/>
            <a:ext cx="3643200" cy="3429000"/>
          </a:xfrm>
          <a:prstGeom prst="vertic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1500120" y="3643200"/>
            <a:ext cx="20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М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трелка вниз 6"/>
          <p:cNvSpPr/>
          <p:nvPr/>
        </p:nvSpPr>
        <p:spPr>
          <a:xfrm>
            <a:off x="2714760" y="2286000"/>
            <a:ext cx="7855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Вертикальный свиток 7"/>
          <p:cNvSpPr/>
          <p:nvPr/>
        </p:nvSpPr>
        <p:spPr>
          <a:xfrm>
            <a:off x="5643720" y="2928960"/>
            <a:ext cx="3500280" cy="3071880"/>
          </a:xfrm>
          <a:prstGeom prst="vertic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8"/>
          <p:cNvSpPr/>
          <p:nvPr/>
        </p:nvSpPr>
        <p:spPr>
          <a:xfrm>
            <a:off x="6429240" y="3643200"/>
            <a:ext cx="214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Хлебопаш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Постные д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трелка вправо 9"/>
          <p:cNvSpPr/>
          <p:nvPr/>
        </p:nvSpPr>
        <p:spPr>
          <a:xfrm>
            <a:off x="4214880" y="4214880"/>
            <a:ext cx="1357200" cy="928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1" descr="C:\Documents and Settings\Admin\Рабочий стол\быт крестьян\утварь 10-11_000.jpg"/>
          <p:cNvPicPr/>
          <p:nvPr/>
        </p:nvPicPr>
        <p:blipFill>
          <a:blip r:embed="rId1"/>
          <a:stretch/>
        </p:blipFill>
        <p:spPr>
          <a:xfrm>
            <a:off x="285840" y="3571920"/>
            <a:ext cx="4057560" cy="301608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2" descr="C:\Documents and Settings\Admin\Рабочий стол\быт крестьян\женский угол 10-03_000.jpg"/>
          <p:cNvPicPr/>
          <p:nvPr/>
        </p:nvPicPr>
        <p:blipFill>
          <a:blip r:embed="rId2"/>
          <a:stretch/>
        </p:blipFill>
        <p:spPr>
          <a:xfrm>
            <a:off x="4286160" y="285840"/>
            <a:ext cx="4357800" cy="3357360"/>
          </a:xfrm>
          <a:prstGeom prst="rect">
            <a:avLst/>
          </a:prstGeom>
          <a:ln w="0">
            <a:noFill/>
          </a:ln>
        </p:spPr>
      </p:pic>
      <p:sp>
        <p:nvSpPr>
          <p:cNvPr id="412" name="TextBox 3"/>
          <p:cNvSpPr/>
          <p:nvPr/>
        </p:nvSpPr>
        <p:spPr>
          <a:xfrm>
            <a:off x="2143080" y="285840"/>
            <a:ext cx="1143000" cy="9471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Б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714240" y="1500120"/>
            <a:ext cx="3357720" cy="1618560"/>
          </a:xfrm>
          <a:prstGeom prst="rect">
            <a:avLst/>
          </a:prstGeom>
          <a:solidFill>
            <a:srgbClr val="f0a22e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Лепё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Б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Пир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Олад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4714920" y="4143240"/>
            <a:ext cx="3786120" cy="1191240"/>
          </a:xfrm>
          <a:prstGeom prst="rect">
            <a:avLst/>
          </a:prstGeom>
          <a:solidFill>
            <a:srgbClr val="f0a22e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Кут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Завар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Зати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Кис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2" descr="C:\Documents and Settings\Admin\Рабочий стол\быт крестьян\у реки дома9-39_000.jpg"/>
          <p:cNvPicPr/>
          <p:nvPr/>
        </p:nvPicPr>
        <p:blipFill>
          <a:blip r:embed="rId1"/>
          <a:stretch/>
        </p:blipFill>
        <p:spPr>
          <a:xfrm>
            <a:off x="642960" y="642960"/>
            <a:ext cx="7858080" cy="5929200"/>
          </a:xfrm>
          <a:prstGeom prst="rect">
            <a:avLst/>
          </a:prstGeom>
          <a:ln w="0">
            <a:noFill/>
          </a:ln>
        </p:spPr>
      </p:pic>
      <p:sp>
        <p:nvSpPr>
          <p:cNvPr id="416" name="Овал 3"/>
          <p:cNvSpPr/>
          <p:nvPr/>
        </p:nvSpPr>
        <p:spPr>
          <a:xfrm>
            <a:off x="1571760" y="5072040"/>
            <a:ext cx="4071960" cy="13572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5"/>
          <p:cNvSpPr/>
          <p:nvPr/>
        </p:nvSpPr>
        <p:spPr>
          <a:xfrm flipV="1">
            <a:off x="2000160" y="5285880"/>
            <a:ext cx="1143000" cy="3574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7"/>
          <p:cNvSpPr/>
          <p:nvPr/>
        </p:nvSpPr>
        <p:spPr>
          <a:xfrm flipV="1">
            <a:off x="2071800" y="5429160"/>
            <a:ext cx="107136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9"/>
          <p:cNvSpPr/>
          <p:nvPr/>
        </p:nvSpPr>
        <p:spPr>
          <a:xfrm flipV="1">
            <a:off x="2143080" y="5572080"/>
            <a:ext cx="107172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2"/>
          <p:cNvSpPr/>
          <p:nvPr/>
        </p:nvSpPr>
        <p:spPr>
          <a:xfrm>
            <a:off x="3857760" y="5214960"/>
            <a:ext cx="1214280" cy="2858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4"/>
          <p:cNvSpPr/>
          <p:nvPr/>
        </p:nvSpPr>
        <p:spPr>
          <a:xfrm>
            <a:off x="3714840" y="5357880"/>
            <a:ext cx="135720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6"/>
          <p:cNvSpPr/>
          <p:nvPr/>
        </p:nvSpPr>
        <p:spPr>
          <a:xfrm>
            <a:off x="3714840" y="5500800"/>
            <a:ext cx="121428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18"/>
          <p:cNvSpPr/>
          <p:nvPr/>
        </p:nvSpPr>
        <p:spPr>
          <a:xfrm>
            <a:off x="3071880" y="5857920"/>
            <a:ext cx="1214280" cy="712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20"/>
          <p:cNvSpPr/>
          <p:nvPr/>
        </p:nvSpPr>
        <p:spPr>
          <a:xfrm>
            <a:off x="3071880" y="6072120"/>
            <a:ext cx="1143000" cy="716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22"/>
          <p:cNvSpPr/>
          <p:nvPr/>
        </p:nvSpPr>
        <p:spPr>
          <a:xfrm>
            <a:off x="3000240" y="6286680"/>
            <a:ext cx="1143000" cy="14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Горизонтальный свиток 13"/>
          <p:cNvSpPr/>
          <p:nvPr/>
        </p:nvSpPr>
        <p:spPr>
          <a:xfrm>
            <a:off x="1643040" y="285840"/>
            <a:ext cx="5929200" cy="228600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2643120" y="121428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городные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9"/>
          <p:cNvSpPr/>
          <p:nvPr/>
        </p:nvSpPr>
        <p:spPr>
          <a:xfrm>
            <a:off x="2071800" y="52862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Ре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Ре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1"/>
          <p:cNvSpPr/>
          <p:nvPr/>
        </p:nvSpPr>
        <p:spPr>
          <a:xfrm>
            <a:off x="3786120" y="5214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кап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3000240" y="59292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картоф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5857920" y="507204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греб-л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трелка углом 25"/>
          <p:cNvSpPr/>
          <p:nvPr/>
        </p:nvSpPr>
        <p:spPr>
          <a:xfrm>
            <a:off x="4357800" y="4643280"/>
            <a:ext cx="1428480" cy="428760"/>
          </a:xfrm>
          <a:custGeom>
            <a:avLst/>
            <a:gdLst/>
            <a:ahLst/>
            <a:rect l="l" t="t" r="r" b="b"/>
            <a:pathLst>
              <a:path w="1428750" h="428625">
                <a:moveTo>
                  <a:pt x="0" y="428625"/>
                </a:moveTo>
                <a:lnTo>
                  <a:pt x="0" y="241102"/>
                </a:lnTo>
                <a:cubicBezTo>
                  <a:pt x="0" y="137536"/>
                  <a:pt x="83957" y="53579"/>
                  <a:pt x="187523" y="53579"/>
                </a:cubicBezTo>
                <a:lnTo>
                  <a:pt x="1321594" y="53578"/>
                </a:lnTo>
                <a:lnTo>
                  <a:pt x="1321594" y="0"/>
                </a:lnTo>
                <a:lnTo>
                  <a:pt x="1428750" y="107156"/>
                </a:lnTo>
                <a:lnTo>
                  <a:pt x="1321594" y="214313"/>
                </a:lnTo>
                <a:lnTo>
                  <a:pt x="1321594" y="160734"/>
                </a:lnTo>
                <a:lnTo>
                  <a:pt x="187523" y="160734"/>
                </a:lnTo>
                <a:cubicBezTo>
                  <a:pt x="143138" y="160734"/>
                  <a:pt x="107156" y="196716"/>
                  <a:pt x="107156" y="241101"/>
                </a:cubicBezTo>
                <a:lnTo>
                  <a:pt x="107156" y="428625"/>
                </a:lnTo>
                <a:lnTo>
                  <a:pt x="0" y="428625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C:\Documents and Settings\Admin\Рабочий стол\быт крестьян\стол10-01_000.jpg"/>
          <p:cNvPicPr/>
          <p:nvPr/>
        </p:nvPicPr>
        <p:blipFill>
          <a:blip r:embed="rId1"/>
          <a:stretch/>
        </p:blipFill>
        <p:spPr>
          <a:xfrm>
            <a:off x="1071720" y="2571840"/>
            <a:ext cx="6786360" cy="3929040"/>
          </a:xfrm>
          <a:prstGeom prst="rect">
            <a:avLst/>
          </a:prstGeom>
          <a:ln w="0">
            <a:noFill/>
          </a:ln>
        </p:spPr>
      </p:pic>
      <p:sp>
        <p:nvSpPr>
          <p:cNvPr id="434" name="Горизонтальный свиток 2"/>
          <p:cNvSpPr/>
          <p:nvPr/>
        </p:nvSpPr>
        <p:spPr>
          <a:xfrm>
            <a:off x="1785960" y="428760"/>
            <a:ext cx="5572080" cy="185724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3143160" y="121428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рядок приёма пи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1" descr="C:\Documents and Settings\Admin\Рабочий стол\быт крестьян\утварь 10-14_000.jpg"/>
          <p:cNvPicPr/>
          <p:nvPr/>
        </p:nvPicPr>
        <p:blipFill>
          <a:blip r:embed="rId1"/>
          <a:stretch/>
        </p:blipFill>
        <p:spPr>
          <a:xfrm>
            <a:off x="285840" y="2571840"/>
            <a:ext cx="5143320" cy="392904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2" descr="C:\Documents and Settings\Admin\Рабочий стол\быт крестьян\утварь10-09_000.jpg"/>
          <p:cNvPicPr/>
          <p:nvPr/>
        </p:nvPicPr>
        <p:blipFill>
          <a:blip r:embed="rId2"/>
          <a:stretch/>
        </p:blipFill>
        <p:spPr>
          <a:xfrm>
            <a:off x="4000680" y="0"/>
            <a:ext cx="4851360" cy="36846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3" descr="C:\Documents and Settings\Admin\Рабочий стол\быт крестьян\коромысло9-36_000.jpg"/>
          <p:cNvPicPr/>
          <p:nvPr/>
        </p:nvPicPr>
        <p:blipFill>
          <a:blip r:embed="rId3"/>
          <a:stretch/>
        </p:blipFill>
        <p:spPr>
          <a:xfrm>
            <a:off x="5786280" y="4500720"/>
            <a:ext cx="2643480" cy="2000160"/>
          </a:xfrm>
          <a:prstGeom prst="rect">
            <a:avLst/>
          </a:prstGeom>
          <a:ln w="0">
            <a:noFill/>
          </a:ln>
        </p:spPr>
      </p:pic>
      <p:pic>
        <p:nvPicPr>
          <p:cNvPr id="439" name="TextBox 4" descr=""/>
          <p:cNvPicPr/>
          <p:nvPr/>
        </p:nvPicPr>
        <p:blipFill>
          <a:blip r:embed="rId4"/>
          <a:stretch/>
        </p:blipFill>
        <p:spPr>
          <a:xfrm>
            <a:off x="360360" y="506520"/>
            <a:ext cx="3668760" cy="23158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5"/>
          <p:cNvSpPr/>
          <p:nvPr/>
        </p:nvSpPr>
        <p:spPr>
          <a:xfrm>
            <a:off x="5643720" y="3857760"/>
            <a:ext cx="3000240" cy="642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Franklin Gothic Book"/>
              </a:rPr>
              <a:t>4.Для переноса тяже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C:\Documents and Settings\Admin\Рабочий стол\быт крестьян\утварь 10-14_000.jpg"/>
          <p:cNvPicPr/>
          <p:nvPr/>
        </p:nvPicPr>
        <p:blipFill>
          <a:blip r:embed="rId1"/>
          <a:stretch/>
        </p:blipFill>
        <p:spPr>
          <a:xfrm>
            <a:off x="0" y="285840"/>
            <a:ext cx="3571920" cy="392904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2" descr="C:\Documents and Settings\Admin\Рабочий стол\быт крестьян\утварь 10-11_000.jpg"/>
          <p:cNvPicPr/>
          <p:nvPr/>
        </p:nvPicPr>
        <p:blipFill>
          <a:blip r:embed="rId2"/>
          <a:stretch/>
        </p:blipFill>
        <p:spPr>
          <a:xfrm>
            <a:off x="3929040" y="357120"/>
            <a:ext cx="2897280" cy="285768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3" descr="C:\Documents and Settings\Admin\Рабочий стол\быт крестьян\утварь 10-14_000.jpg"/>
          <p:cNvPicPr/>
          <p:nvPr/>
        </p:nvPicPr>
        <p:blipFill>
          <a:blip r:embed="rId3"/>
          <a:srcRect l="45491" t="21397" r="32420" b="45429"/>
          <a:stretch/>
        </p:blipFill>
        <p:spPr>
          <a:xfrm>
            <a:off x="4000680" y="3714840"/>
            <a:ext cx="4286160" cy="257184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4" descr="C:\Documents and Settings\Admin\Рабочий стол\быт крестьян\утварь 10-14_000.jpg"/>
          <p:cNvPicPr/>
          <p:nvPr/>
        </p:nvPicPr>
        <p:blipFill>
          <a:blip r:embed="rId4"/>
          <a:srcRect l="46462" t="78529" r="17408" b="737"/>
          <a:stretch/>
        </p:blipFill>
        <p:spPr>
          <a:xfrm>
            <a:off x="1000080" y="4357800"/>
            <a:ext cx="4027680" cy="2131920"/>
          </a:xfrm>
          <a:prstGeom prst="rect">
            <a:avLst/>
          </a:prstGeom>
          <a:ln w="0">
            <a:noFill/>
          </a:ln>
        </p:spPr>
      </p:pic>
      <p:sp>
        <p:nvSpPr>
          <p:cNvPr id="445" name="TextBox 5"/>
          <p:cNvSpPr/>
          <p:nvPr/>
        </p:nvSpPr>
        <p:spPr>
          <a:xfrm>
            <a:off x="6929280" y="928800"/>
            <a:ext cx="22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Что за утв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9:42:03Z</dcterms:created>
  <dc:creator>Admin</dc:creator>
  <dc:description/>
  <dc:language>en-US</dc:language>
  <cp:lastModifiedBy>Admin</cp:lastModifiedBy>
  <dcterms:modified xsi:type="dcterms:W3CDTF">2012-04-28T16:48:13Z</dcterms:modified>
  <cp:revision>14</cp:revision>
  <dc:subject/>
  <dc:title>Слайд 1</dc:title>
</cp:coreProperties>
</file>