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8B4C-0A77-448D-B891-4200EA3B5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BB6F-8122-4D1A-914A-00DB103A6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1107-85FD-4BD8-86F3-961845BAC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AC24-0369-49ED-955A-3927FED0B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513F4-CF1E-45B1-B683-D6C08C3A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336F0-231B-4488-9D47-D7536335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B2BF5-8BCB-4CD2-92F6-4D4518E0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26F1D-15AB-4DC1-8B97-DD805D00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DDD81-D663-44BB-917C-43DA1987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1B9F2-AC5D-45CC-B984-BE5E52DC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8A758-042F-430A-BE72-D2CC6550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8C39-BFE3-42D2-88D5-AD26B8278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FA979-D973-47E8-98B6-5EEA666F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1C0B2-63B6-424A-8838-64F2287E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2467C-C9FD-436B-890A-CE2674B3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841A9-C5A9-4418-9D66-F8C151AE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C08DA-BC79-414B-874C-5B9554AC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2DFC-6D59-4C73-A8DD-B55527A06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2E25-4E2A-4753-83D7-AFA0480F2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BF06-52A9-4B6F-A604-76D8AC0A3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9874-C8A5-4674-B6DB-AF176DF13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441A-60DC-4B75-BDC2-61E149938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6876-A24D-425E-AA55-DD3EE3F7C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ED12-2D24-480A-962A-73BE09EEC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63CA-AB49-4EAA-92BD-9C7E2E0ECA3D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7404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80000"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42F6-F806-4785-8353-DEC70887ED34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05FD-8F26-4A65-BF8C-29AD938751BD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19320" y="2209680"/>
            <a:ext cx="76197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Государство 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первых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Романовых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3720" y="45720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рия Отечества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4FA470-1748-4FB8-9673-467CF490AD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90a11"/>
                </a:solidFill>
                <a:latin typeface="Times New Roman"/>
              </a:rPr>
              <a:t>4.Соборное уложение 1649 г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4305240" cy="5715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649 г. Земский Собор принял Соборное уло-жение-общерусский свод зако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нем отменялись уроч-ные лета-это означало окончательное закрепо-щение крестьян.Горо-жане были прикрепле-ны к посадам, а поме-щики стали отвечать за преступления своих крестьян.Главными объявлялись преступ-ления против царя и его имуществ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465720" cy="49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35800" y="5991120"/>
            <a:ext cx="41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оборное уложение 1649 г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аздел о беглых крестьянах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40320" cy="4800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2.Земские соборы и Боярская Дума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3.Органы исполнительной власти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4.Соборное уложение 1649 г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кажите,что при первых Романовых в России сформировалась самодержавная система управления?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7960" y="914400"/>
            <a:ext cx="4343400" cy="58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Михаил Федорович стал царем в 16 лет.Он попал в зависимость от свое-го окружения-сначала родственников матери, а затем отца,который в 1619 г.был избран патри архом.Филарет получил огромную власть и да-же ставил свою под-пись на государствен-ных документа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смерти отца Михил стал править самостоя-тельн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2860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138320"/>
            <a:ext cx="3855960" cy="5386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7960" y="914400"/>
            <a:ext cx="4343400" cy="58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645 г.на престол всту-пил Алексей Михайло-вич. Его воспитатель Б. Морозов привил ему лю бовь к чтению. Царь был набожным челове-ком,за что получил проз вище- «Тишайший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Алексей был женат дваж-ды.От брака с М.Милос-лавской у него роди-лось 13 детей, а от Н.На рышкиной-трое,в том числе будущий царь- Петр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860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127160"/>
            <a:ext cx="3514680" cy="547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1640" y="990360"/>
            <a:ext cx="4343400" cy="5715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Земский собор в н. прав-ления Михаила собирал ся регулярно.Он дол-жен был отстаивать ин-тересы населения пе-ред царем.Романовы были заинтересованы в поддержке Собора, но с укреплением государ-ства,особенно после смерти Филарета,они стали собираться не ре-гулярно-Романовы хо-тели «забыть выбор-ность» Михаил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1095480"/>
            <a:ext cx="3751200" cy="5573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2000" y="4508280"/>
            <a:ext cx="8982000" cy="2305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смерти Михаила возникла идея сделать Собор постоянно действующим по образу английского пар-ламента,но это предложение  мешало становлению самодержав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этому Соборы стали созываться только для утверж-дения царских законов.Последний раз Земский Собор был созван в 1653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484360" y="1052640"/>
            <a:ext cx="6480360" cy="3384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41840" y="2565360"/>
            <a:ext cx="22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.Ивано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Земский собор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52840" y="665280"/>
            <a:ext cx="5267160" cy="3527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320" y="4221000"/>
            <a:ext cx="8991360" cy="255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тепенно снижалась роль Боярской Думы-количест-во  ее членов сократилось.Царь стал созывать «ближ-нюю думу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Дума по-прежнему решала вопросы мира и войны, вве-дения налогов и т.д.,но все чаще последнее слово оказывалось за царем,хотя решения оформлялись записью «Царь решил и бояре приговорили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04920" y="4428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960" y="1484280"/>
            <a:ext cx="323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Рябушкин.Сидение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царя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хаила Федорович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 боярами в его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осударевой комнате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64000" y="682560"/>
            <a:ext cx="5040360" cy="3316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621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3.Органы исполнительной власт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8920" y="4076280"/>
            <a:ext cx="8534160" cy="2700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сполнительная власть принадлежала приказам.Кру-пнейшими были-Посольский ,Большого дворца,Ка-зенный,Разбойный и т.д.Но многие приказы часто имели сходные функции и мешали друг другу.В приказах царили взяточничество и казнокрадств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а местах власть принадлежала воеводам возглав-лявшим уезды,а те делились на станы и волости. Воеводы обладали всей полнотой власти в уезд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7160" y="2060640"/>
            <a:ext cx="304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.Иванов.В Приказ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осковских времен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Чернов Алексей</cp:lastModifiedBy>
  <cp:lastPrinted>1997-01-19T19:09:28Z</cp:lastPrinted>
  <dcterms:modified xsi:type="dcterms:W3CDTF">2002-08-17T11:29:31Z</dcterms:modified>
  <cp:revision>164</cp:revision>
  <dc:subject/>
  <dc:title>Заголовок слайда отсутствует</dc:title>
</cp:coreProperties>
</file>