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7B2C-223A-49D9-8A59-55B0FEEF4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EF933-2AFE-40C3-B4E5-980B013F8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86D1-70EF-4A9B-B489-CBD3054D6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2996-C86C-4413-BB7E-5270BEA74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8AD9F-B19A-4DB5-AD8F-56AA99B3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D43E1-1DCC-4738-AB92-445AC120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A2F86-27B1-4E82-B6F8-DE032FF9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580CE-F5A7-45DB-84F7-7398D58B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FEF1E-6A1C-4A10-8915-A4EE3965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8EF03-00A7-444D-9011-86623C11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AA321-AC11-4043-AE72-084BEF4D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144B-2D15-4411-9444-5AEB5967E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16CD9-850B-48B0-9DC8-77198827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E899F-5488-4884-BCB2-9C1A2162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D0453-52EA-4FE5-957E-F9783005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71601-8FE1-47DD-B2A3-B9FD187C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7CF9C-D141-48BA-A026-E3D10FD5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92A7-8D4D-4B84-8F9D-82F071C40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917C-2764-418C-8473-3AF7355B1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8780-E3BE-4652-9C9A-6592B52C5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7ACF2-E40C-405B-BA79-3EA3418CA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72C3-C269-4530-A603-B4178C940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D9F6-807F-4C6D-83CD-97231C521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0F5C-56B2-4A29-B7A6-22DE0D082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40C3-2E72-45EF-A124-83162B7993B0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7404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80000"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E8F7-D419-40F3-9D76-DD487DEFD1A2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C822-BD6F-476F-93FB-417FA417D975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19320" y="2209680"/>
            <a:ext cx="76197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Государство 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первых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Романовых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3720" y="45720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рия Отечества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DBD2D8-0912-4E14-B8FA-D252729F46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90a11"/>
                </a:solidFill>
                <a:latin typeface="Times New Roman"/>
              </a:rPr>
              <a:t>4.Соборное уложение 1649 г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4305240" cy="5715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649 г. Земский Собор принял Соборное уло-жение-общерусский свод зако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нем отменялись уроч-ные лета-это означало окончательное закрепо-щение крестьян.Горо-жане были прикрепле-ны к посадам, а поме-щики стали отвечать за преступления своих крестьян.Главными объявлялись преступ-ления против царя и его имуществ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465720" cy="49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35800" y="5991120"/>
            <a:ext cx="41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оборное уложение 1649 г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аздел о беглых крестьянах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40320" cy="4800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2.Земские соборы и Боярская Дума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3.Органы исполнительной власти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4.Соборное уложение 1649 г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кажите,что при первых Романовых в России сформировалась самодержавная система управления?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7960" y="914400"/>
            <a:ext cx="4343400" cy="58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Михаил Федорович стал царем в 16 лет.Он попал в зависимость от свое-го окружения-сначала родственников матери, а затем отца,который в 1619 г.был избран патри архом.Филарет получил огромную власть и да-же ставил свою под-пись на государствен-ных документа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смерти отца Михил стал править самостоя-тельн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2860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138320"/>
            <a:ext cx="3855960" cy="5386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7960" y="914400"/>
            <a:ext cx="4343400" cy="58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645 г.на престол всту-пил Алексей Михайло-вич. Его воспитатель Б. Морозов привил ему лю бовь к чтению. Царь был набожным челове-ком,за что получил проз вище- «Тишайший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Алексей был женат дваж-ды.От брака с М.Милос-лавской у него роди-лось 13 детей, а от Н.На рышкиной-трое,в том числе будущий царь- Петр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860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127160"/>
            <a:ext cx="3514680" cy="547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1640" y="990360"/>
            <a:ext cx="4343400" cy="5715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Земский собор в н. прав-ления Михаила собирал ся регулярно.Он дол-жен был отстаивать ин-тересы населения пе-ред царем.Романовы были заинтересованы в поддержке Собора, но с укреплением государ-ства,особенно после смерти Филарета,они стали собираться не ре-гулярно-Романовы хо-тели «забыть выбор-ность» Михаил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1095480"/>
            <a:ext cx="3751200" cy="5573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2000" y="4508280"/>
            <a:ext cx="8982000" cy="2305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смерти Михаила возникла идея сделать Собор постоянно действующим по образу английского пар-ламента,но это предложение  мешало становлению самодержав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этому Соборы стали созываться только для утверж-дения царских законов.Последний раз Земский Собор был созван в 1653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484360" y="1052640"/>
            <a:ext cx="6480360" cy="3384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41840" y="2565360"/>
            <a:ext cx="22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.Ивано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Земский собор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52840" y="665280"/>
            <a:ext cx="5267160" cy="3527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320" y="4221000"/>
            <a:ext cx="8991360" cy="255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тепенно снижалась роль Боярской Думы-количест-во  ее членов сократилось.Царь стал созывать «ближ-нюю думу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Дума по-прежнему решала вопросы мира и войны, вве-дения налогов и т.д.,но все чаще последнее слово оказывалось за царем,хотя решения оформлялись записью «Царь решил и бояре приговорили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04920" y="4428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960" y="1484280"/>
            <a:ext cx="323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Рябушкин.Сидение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царя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хаила Федорович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 боярами в его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осударевой комнате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64000" y="682560"/>
            <a:ext cx="5040360" cy="3316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621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3.Органы исполнительной власт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8920" y="4076280"/>
            <a:ext cx="8534160" cy="2700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сполнительная власть принадлежала приказам.Кру-пнейшими были-Посольский ,Большого дворца,Ка-зенный,Разбойный и т.д.Но многие приказы часто имели сходные функции и мешали друг другу.В приказах царили взяточничество и казнокрадств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а местах власть принадлежала воеводам возглав-лявшим уезды,а те делились на станы и волости. Воеводы обладали всей полнотой власти в уезд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7160" y="2060640"/>
            <a:ext cx="304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.Иванов.В Приказ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осковских времен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Чернов Алексей</cp:lastModifiedBy>
  <cp:lastPrinted>1997-01-19T19:09:28Z</cp:lastPrinted>
  <dcterms:modified xsi:type="dcterms:W3CDTF">2002-08-17T11:29:31Z</dcterms:modified>
  <cp:revision>164</cp:revision>
  <dc:subject/>
  <dc:title>Заголовок слайда отсутствует</dc:title>
</cp:coreProperties>
</file>