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0A38-58A0-47EC-B79E-831D6DE8E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AD0FA-48AA-4641-BC2B-A6C170B95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C6F40-000A-4DFF-810E-2C2C7599D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21AF7-8E7F-4B08-AF3B-6392113CF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943D5-EA15-4F3F-802E-AAAA5D55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105CA-1067-4CB1-AD33-FEDAA18C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F4853-5601-4021-B644-75E9D135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4E97A-2ECC-4571-A89F-EE8B2CFE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B9634-E683-4164-AF70-41B212EB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D7100-1372-4D66-804D-D013E0F3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D3926-8BAF-4256-B09B-12209630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334A7-0833-4A8A-94E8-3D7B88E55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012CA-5E72-467F-B58F-445E8B39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F2804-6EA9-4E98-B059-70F75E82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11D90-3D75-4F5B-9713-82B35A58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CE61A-CF00-4EF8-964E-1A00AACF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C53BF-69FD-4C55-8423-85BD7E57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9C414-B2D9-4C13-B138-3893939A2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DD535-65A0-4BD1-AF1A-51A9EDFCA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1CD90-AE3F-483B-9F47-4449BF2DC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22A32-2591-4C4D-BC8D-7B79D563B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FA7EF-385D-486C-9BA7-41D7CB41D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C5C4F-E182-48EB-9B71-7E6CA8E93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AFD27-1A99-4DDE-BCC9-920246AA8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FE84-85AB-40CB-805E-2C3B7953DDD1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7404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980000"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7260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C8C0-7E07-4B0C-B261-A783AB4E4630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28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C41B-C771-447C-BB40-2AEAA2E5D884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219320" y="2209680"/>
            <a:ext cx="76197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33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Государство </a:t>
            </a:r>
            <a:endParaRPr b="1" lang="en-US" sz="2400" spc="1" strike="noStrike">
              <a:ln cap="sq" w="28440">
                <a:solidFill>
                  <a:srgbClr val="33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33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первых</a:t>
            </a:r>
            <a:endParaRPr b="1" lang="en-US" sz="2400" spc="1" strike="noStrike">
              <a:ln cap="sq" w="28440">
                <a:solidFill>
                  <a:srgbClr val="3366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3366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Comic Sans MS"/>
              </a:rPr>
              <a:t>Романовых</a:t>
            </a:r>
            <a:endParaRPr b="1" lang="en-US" sz="2400" spc="1" strike="noStrike">
              <a:ln cap="sq" w="28440">
                <a:solidFill>
                  <a:srgbClr val="3366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33720" y="457200"/>
            <a:ext cx="6172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История Отечества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2275F4-6135-4FF9-9F3F-748E5F9591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90a11"/>
                </a:solidFill>
                <a:latin typeface="Times New Roman"/>
              </a:rPr>
              <a:t>4.Соборное уложение 1649 г.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4305240" cy="5715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649 г. Земский Собор принял Соборное уло-жение-общерусский свод законов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нем отменялись уроч-ные лета-это означало окончательное закрепо-щение крестьян.Горо-жане были прикрепле-ны к посадам, а поме-щики стали отвечать за преступления своих крестьян.Главными объявлялись преступ-ления против царя и его имуществ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465720" cy="4930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235800" y="5991120"/>
            <a:ext cx="411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оборное уложение 1649 г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Раздел о беглых крестьянах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520" y="1752120"/>
            <a:ext cx="7240320" cy="4800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1.Первые Романовы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2.Земские соборы и Боярская Дума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3.Органы исполнительной власти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4.Соборное уложение 1649 г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4360" y="151920"/>
            <a:ext cx="7240680" cy="98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урок.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4360" y="1599840"/>
            <a:ext cx="724068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кажите,что при первых Романовых в России сформировалась самодержавная система управления?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47960" y="914400"/>
            <a:ext cx="4343400" cy="5867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Михаил Федорович стал царем в 16 лет.Он попал в зависимость от свое-го окружения-сначала родственников матери, а затем отца,который в 1619 г.был избран патри архом.Филарет получил огромную власть и да-же ставил свою под-пись на государствен-ных документах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сле смерти отца Михил стал править самостоя-тельно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2860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1.Первые Романовы.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1138320"/>
            <a:ext cx="3855960" cy="5386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47960" y="914400"/>
            <a:ext cx="4343400" cy="5867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645 г.на престол всту-пил Алексей Михайло-вич. Его воспитатель Б. Морозов привил ему лю бовь к чтению. Царь был набожным челове-ком,за что получил проз вище- «Тишайший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Алексей был женат дваж-ды.От брака с М.Милос-лавской у него роди-лось 13 детей, а от Н.На рышкиной-трое,в том числе будущий царь- Петр 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2860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1.Первые Романовы.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1127160"/>
            <a:ext cx="3514680" cy="5470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1640" y="990360"/>
            <a:ext cx="4343400" cy="5715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Земский собор в н. прав-ления Михаила собирал ся регулярно.Он дол-жен был отстаивать ин-тересы населения пе-ред царем.Романовы были заинтересованы в поддержке Собора, но с укреплением государ-ства,особенно после смерти Филарета,они стали собираться не ре-гулярно-Романовы хо-тели «забыть выбор-ность» Михаил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2.Земские соборы и Боярская Дума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1095480"/>
            <a:ext cx="3751200" cy="55735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83844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Times New Roman"/>
              </a:rPr>
              <a:t>2.Земские соборы и Боярская Дума.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2000" y="4508280"/>
            <a:ext cx="8982000" cy="23050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сле смерти Михаила возникла идея сделать Собор постоянно действующим по образу английского пар-ламента,но это предложение  мешало становлению самодержавия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этому Соборы стали созываться только для утверж-дения царских законов.Последний раз Земский Собор был созван в 1653г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484360" y="1052640"/>
            <a:ext cx="6480360" cy="3384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41840" y="2565360"/>
            <a:ext cx="226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.Ивано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Земский собор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52840" y="665280"/>
            <a:ext cx="5267160" cy="3527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320" y="4221000"/>
            <a:ext cx="8991360" cy="2556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степенно снижалась роль Боярской Думы-количест-во  ее членов сократилось.Царь стал созывать «ближ-нюю думу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Дума по-прежнему решала вопросы мира и войны, вве-дения налогов и т.д.,но все чаще последнее слово оказывалось за царем,хотя решения оформлялись записью «Царь решил и бояре приговорили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04920" y="44280"/>
            <a:ext cx="8686800" cy="540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2.Земские соборы и Боярская Дума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960" y="1484280"/>
            <a:ext cx="323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А.Рябушкин.Сидение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царя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ихаила Федоровича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 боярами в его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государевой комнате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64000" y="682560"/>
            <a:ext cx="5040360" cy="3316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6210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3.Органы исполнительной власти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8920" y="4076280"/>
            <a:ext cx="8534160" cy="2700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Исполнительная власть принадлежала приказам.Кру-пнейшими были-Посольский ,Большого дворца,Ка-зенный,Разбойный и т.д.Но многие приказы часто имели сходные функции и мешали друг другу.В приказах царили взяточничество и казнокрадство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На местах власть принадлежала воеводам возглав-лявшим уезды,а те делились на станы и волости. Воеводы обладали всей полнотой власти в уезд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7160" y="2060640"/>
            <a:ext cx="304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.Иванов.В Приказе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московских времен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5:12:29Z</dcterms:created>
  <dc:creator>Чернов Алексей</dc:creator>
  <dc:description/>
  <dc:language>en-US</dc:language>
  <cp:lastModifiedBy>Чернов Алексей</cp:lastModifiedBy>
  <cp:lastPrinted>1997-01-19T19:09:28Z</cp:lastPrinted>
  <dcterms:modified xsi:type="dcterms:W3CDTF">2002-08-17T11:29:31Z</dcterms:modified>
  <cp:revision>164</cp:revision>
  <dc:subject/>
  <dc:title>Заголовок слайда отсутствует</dc:title>
</cp:coreProperties>
</file>