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55A-21C6-409E-BEC6-A2298DDA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A63A-7881-4945-AE58-9ED3C7EF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704-3C89-4B2C-8A4B-9ED97EDB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791-EE5E-4D2D-8774-F34B4203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250-B823-4F82-B2D5-950BA95C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7984-586C-44A1-AAC1-5D3B3617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EBF-10AA-4EC8-B9C7-7F3F11E9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3BD-86FC-4A06-AC42-0B502810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D9B-DFE7-4F30-80A6-CEF6026E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BCC-A4D3-499D-BFD0-16B4176F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0C1-4415-4BFF-9C27-F0C12D26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FB6-5E0A-41DF-8EFF-43304525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9999ff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F0C2-2403-4C30-91EC-565DBE9452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Владимир 1 в бронзе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5"/>
          <p:cNvSpPr/>
          <p:nvPr/>
        </p:nvSpPr>
        <p:spPr>
          <a:xfrm>
            <a:off x="5435640" y="1844640"/>
            <a:ext cx="3708360" cy="273672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Calibri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«ПРИ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ХРИСТИ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НА РУС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крещ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0" y="5091120"/>
            <a:ext cx="8820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И наступило утро крещ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«И вошли они в воду. И стояли одни по шею, а другие по грудь». Некоторые держали младенцев, а священники молилис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Был август 988 го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1" descr="Закладка церкви"/>
          <p:cNvPicPr/>
          <p:nvPr/>
        </p:nvPicPr>
        <p:blipFill>
          <a:blip r:embed="rId1"/>
          <a:stretch/>
        </p:blipFill>
        <p:spPr>
          <a:xfrm>
            <a:off x="3882960" y="0"/>
            <a:ext cx="52610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2"/>
          <p:cNvSpPr/>
          <p:nvPr/>
        </p:nvSpPr>
        <p:spPr>
          <a:xfrm>
            <a:off x="0" y="198900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Закл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Десятинной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в Киеве в 989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Художник В. Верещаг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19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Личность князя Влади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7720" y="1904760"/>
            <a:ext cx="3932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3399"/>
                </a:solidFill>
                <a:uFillTx/>
                <a:latin typeface="Calibri"/>
              </a:rPr>
              <a:t>     </a:t>
            </a:r>
            <a:r>
              <a:rPr b="0" lang="ru-RU" sz="3000" spc="-1" strike="noStrike" u="sng">
                <a:solidFill>
                  <a:srgbClr val="333399"/>
                </a:solidFill>
                <a:uFillTx/>
                <a:latin typeface="Calibri"/>
              </a:rPr>
              <a:t>до крещ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есток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руб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езжалост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12920" y="1904760"/>
            <a:ext cx="3932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3399"/>
                </a:solidFill>
                <a:uFillTx/>
                <a:latin typeface="Calibri"/>
              </a:rPr>
              <a:t>после крещ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зывчив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б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мощ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илосерд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лагочест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Архитектура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Софийский собор в Кие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софийский собор"/>
          <p:cNvPicPr/>
          <p:nvPr/>
        </p:nvPicPr>
        <p:blipFill>
          <a:blip r:embed="rId1"/>
          <a:stretch/>
        </p:blipFill>
        <p:spPr>
          <a:xfrm>
            <a:off x="611280" y="1700280"/>
            <a:ext cx="3727440" cy="496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интерьер"/>
          <p:cNvPicPr/>
          <p:nvPr/>
        </p:nvPicPr>
        <p:blipFill>
          <a:blip r:embed="rId2"/>
          <a:stretch/>
        </p:blipFill>
        <p:spPr>
          <a:xfrm>
            <a:off x="5076720" y="1700280"/>
            <a:ext cx="3527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Архитектура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Золотые вор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золотые ворота"/>
          <p:cNvPicPr/>
          <p:nvPr/>
        </p:nvPicPr>
        <p:blipFill>
          <a:blip r:embed="rId1"/>
          <a:stretch/>
        </p:blipFill>
        <p:spPr>
          <a:xfrm>
            <a:off x="1332000" y="170028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1640" y="1628640"/>
            <a:ext cx="4140360" cy="24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Иконопись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Икона Божьей Мат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403px-Vladimirskay_bogomater"/>
          <p:cNvPicPr/>
          <p:nvPr/>
        </p:nvPicPr>
        <p:blipFill>
          <a:blip r:embed="rId1"/>
          <a:stretch/>
        </p:blipFill>
        <p:spPr>
          <a:xfrm>
            <a:off x="0" y="0"/>
            <a:ext cx="460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Литература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Летописи, ж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7" descr="RG41_401.JPG"/>
          <p:cNvPicPr/>
          <p:nvPr/>
        </p:nvPicPr>
        <p:blipFill>
          <a:blip r:embed="rId1"/>
          <a:stretch/>
        </p:blipFill>
        <p:spPr>
          <a:xfrm>
            <a:off x="0" y="2000160"/>
            <a:ext cx="4268880" cy="3357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RG41_201.JPG"/>
          <p:cNvPicPr/>
          <p:nvPr/>
        </p:nvPicPr>
        <p:blipFill>
          <a:blip r:embed="rId2"/>
          <a:stretch/>
        </p:blipFill>
        <p:spPr>
          <a:xfrm>
            <a:off x="4786200" y="2000160"/>
            <a:ext cx="4184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Основополагающий вопрос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Благодаря кому пришло христианство на Ру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708360" y="2852640"/>
            <a:ext cx="417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Проблемный вопрос: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Как принятие христианства отразилось на развитии русской культуры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41-12_"/>
          <p:cNvPicPr/>
          <p:nvPr/>
        </p:nvPicPr>
        <p:blipFill>
          <a:blip r:embed="rId1"/>
          <a:stretch/>
        </p:blipFill>
        <p:spPr>
          <a:xfrm>
            <a:off x="0" y="2671920"/>
            <a:ext cx="3390840" cy="4186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140360" y="-549360"/>
            <a:ext cx="367344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6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2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63923e2be51c"/>
          <p:cNvPicPr/>
          <p:nvPr/>
        </p:nvPicPr>
        <p:blipFill>
          <a:blip r:embed="rId1"/>
          <a:stretch/>
        </p:blipFill>
        <p:spPr>
          <a:xfrm>
            <a:off x="179280" y="260280"/>
            <a:ext cx="8748720" cy="43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95280" y="486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e5a"/>
                </a:solidFill>
                <a:latin typeface="Arial"/>
              </a:rPr>
              <a:t>Издревле Русь была языческой. Славяне поклонялись многим богам, лесным и водяным духам. Свои первые знания о других верах они получали от заморских купцов и проповедников, в военных и торговых поход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4859280" y="1557360"/>
            <a:ext cx="388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Когда Владимир начал править, он был ярым язычником. Буйный нрав, много жён, убийство брата Ярополка, участие в человеческих жертвоприношениях – вот что пишут о нём летопис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vladimir1_1"/>
          <p:cNvPicPr/>
          <p:nvPr/>
        </p:nvPicPr>
        <p:blipFill>
          <a:blip r:embed="rId1"/>
          <a:stretch/>
        </p:blipFill>
        <p:spPr>
          <a:xfrm>
            <a:off x="0" y="0"/>
            <a:ext cx="4606920" cy="4681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0" y="494172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587"/>
                </a:solidFill>
                <a:latin typeface="Calibri"/>
              </a:rPr>
              <a:t>Владимир Святослав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587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ab0587"/>
                </a:solidFill>
                <a:latin typeface="Calibri"/>
              </a:rPr>
              <a:t>Красное Солныш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vlad_svjatopolk_christ"/>
          <p:cNvPicPr/>
          <p:nvPr/>
        </p:nvPicPr>
        <p:blipFill>
          <a:blip r:embed="rId1"/>
          <a:stretch/>
        </p:blipFill>
        <p:spPr>
          <a:xfrm>
            <a:off x="3995640" y="0"/>
            <a:ext cx="5195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0" y="981000"/>
            <a:ext cx="396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1e5a"/>
                </a:solidFill>
                <a:latin typeface="Calibri"/>
              </a:rPr>
              <a:t>К этому времени соседние народы исповедовали веры в единых Бог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e5a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1e5a"/>
                </a:solidFill>
                <a:latin typeface="Calibri"/>
              </a:rPr>
              <a:t>В Риме жили западные христиане, в Хазарии - иудеи, в Волжской Булгарии - мусульмане, в Византии - восточные христи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Resize of Копия Ландшафты России"/>
          <p:cNvPicPr/>
          <p:nvPr/>
        </p:nvPicPr>
        <p:blipFill>
          <a:blip r:embed="rId1"/>
          <a:srcRect l="1075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826920" y="4292640"/>
            <a:ext cx="1081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7812000" y="3500280"/>
            <a:ext cx="13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АЗА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5364000" y="1052640"/>
            <a:ext cx="144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Down">
              <a:avLst>
                <a:gd name="adj" fmla="val 25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У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4067280" y="5084640"/>
            <a:ext cx="208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ИЗАН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9" name="Oval 7"/>
          <p:cNvSpPr/>
          <p:nvPr/>
        </p:nvSpPr>
        <p:spPr>
          <a:xfrm>
            <a:off x="5651640" y="2421000"/>
            <a:ext cx="10764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5508720" y="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6300720" y="378936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5364000" y="4869000"/>
            <a:ext cx="10800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580000" y="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724360" y="2421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6372360" y="371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Херсо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5292720" y="450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Царь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5"/>
          <p:cNvSpPr txBox="1"/>
          <p:nvPr/>
        </p:nvSpPr>
        <p:spPr>
          <a:xfrm>
            <a:off x="7812000" y="0"/>
            <a:ext cx="1332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ЛЖ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ЛГА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WordArt 22"/>
          <p:cNvSpPr txBox="1"/>
          <p:nvPr/>
        </p:nvSpPr>
        <p:spPr>
          <a:xfrm>
            <a:off x="395280" y="2924280"/>
            <a:ext cx="1512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Запад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христиан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9" name="WordArt 23"/>
          <p:cNvSpPr txBox="1"/>
          <p:nvPr/>
        </p:nvSpPr>
        <p:spPr>
          <a:xfrm>
            <a:off x="8317080" y="4221000"/>
            <a:ext cx="826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Иуде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24"/>
          <p:cNvSpPr txBox="1"/>
          <p:nvPr/>
        </p:nvSpPr>
        <p:spPr>
          <a:xfrm>
            <a:off x="7885080" y="1197000"/>
            <a:ext cx="12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Мусульман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1" name="WordArt 25"/>
          <p:cNvSpPr txBox="1"/>
          <p:nvPr/>
        </p:nvSpPr>
        <p:spPr>
          <a:xfrm>
            <a:off x="4284720" y="6021360"/>
            <a:ext cx="15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Восточ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христиан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выбор веры"/>
          <p:cNvPicPr/>
          <p:nvPr/>
        </p:nvPicPr>
        <p:blipFill>
          <a:blip r:embed="rId1"/>
          <a:stretch/>
        </p:blipFill>
        <p:spPr>
          <a:xfrm>
            <a:off x="179280" y="190440"/>
            <a:ext cx="8785440" cy="4783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468360" y="5157720"/>
            <a:ext cx="838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Arial"/>
              </a:rPr>
              <a:t>В знаменитой легенде описывается выбор веры Владимир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Arial"/>
              </a:rPr>
              <a:t>Он пригласил к себе разных проповедников и греческого фи-лософа, которые рассказали ему о своих верах. Рассказ грека очень понравился Владимиру. Но он не спешил с выбор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Calibri"/>
              </a:rPr>
              <a:t>Выбор веры князем Владими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3" descr="EV6_100.JPG"/>
          <p:cNvPicPr/>
          <p:nvPr/>
        </p:nvPicPr>
        <p:blipFill>
          <a:blip r:embed="rId1"/>
          <a:stretch/>
        </p:blipFill>
        <p:spPr>
          <a:xfrm>
            <a:off x="0" y="1500120"/>
            <a:ext cx="3727440" cy="2500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EV6_101.JPG"/>
          <p:cNvPicPr/>
          <p:nvPr/>
        </p:nvPicPr>
        <p:blipFill>
          <a:blip r:embed="rId2"/>
          <a:stretch/>
        </p:blipFill>
        <p:spPr>
          <a:xfrm>
            <a:off x="5200560" y="1484280"/>
            <a:ext cx="3943440" cy="25002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EV6_102.JPG"/>
          <p:cNvPicPr/>
          <p:nvPr/>
        </p:nvPicPr>
        <p:blipFill>
          <a:blip r:embed="rId3"/>
          <a:stretch/>
        </p:blipFill>
        <p:spPr>
          <a:xfrm>
            <a:off x="2685960" y="4143240"/>
            <a:ext cx="389268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8"/>
          <p:cNvSpPr/>
          <p:nvPr/>
        </p:nvSpPr>
        <p:spPr>
          <a:xfrm>
            <a:off x="179280" y="1484280"/>
            <a:ext cx="4249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Ожидавший в Херсонесе приезда невесты Владимир неожиданно ослеп. Царевна Анна сказала ему: «Хочешь излечиться - крестись». Тогда князь повелел крестить себ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Нестор писал в своей летописи, что, когда епископ во время крещения возложил свою руку на голову князя, Владимир тотчас прозре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471c651234f0"/>
          <p:cNvPicPr/>
          <p:nvPr/>
        </p:nvPicPr>
        <p:blipFill>
          <a:blip r:embed="rId1"/>
          <a:stretch/>
        </p:blipFill>
        <p:spPr>
          <a:xfrm>
            <a:off x="4356000" y="260280"/>
            <a:ext cx="4594320" cy="568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4716360" y="602136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щение великого князя Владимира Художник В. Васнецов, 19 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0:42:37Z</dcterms:created>
  <dc:creator>Ultra</dc:creator>
  <dc:description/>
  <dc:language>en-US</dc:language>
  <cp:lastModifiedBy>HOME</cp:lastModifiedBy>
  <dcterms:modified xsi:type="dcterms:W3CDTF">2012-01-17T19:32:05Z</dcterms:modified>
  <cp:revision>3</cp:revision>
  <dc:subject/>
  <dc:title>Слайд 1</dc:title>
</cp:coreProperties>
</file>