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02E-CBA2-4CE2-8196-1F8604FD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B9F-D412-4A70-B272-E95FD500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219-42F1-4F7B-8E21-BE7F76F1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B2F-42BD-44E0-BACE-D39D991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374-CEA0-4617-8060-DC1C54A3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72C-D9D8-47CC-925A-61E988E0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DF5-1134-48DE-A046-2223F2C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1FC-AF95-4352-A1AD-AF34D801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582-6FFC-45BC-B96C-C520A7D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414-30DA-45AB-A985-3FF3454C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3AA-D305-4558-80B6-82190C5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382-697A-4DB3-839E-46E5062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9999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3DCC-D2E5-4659-B7BA-C24FFE9DA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Владимир 1 в бронзе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>
            <a:off x="5435640" y="1844640"/>
            <a:ext cx="3708360" cy="2736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Calibri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«ПРИ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ХРИСТИ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НА РУС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крещ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5091120"/>
            <a:ext cx="882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И наступило утро кре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«И вошли они в воду. И стояли одни по шею, а другие по грудь». Некоторые держали младенцев, а священники молилис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Был август 988 г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1" descr="Закладка церкви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2"/>
          <p:cNvSpPr/>
          <p:nvPr/>
        </p:nvSpPr>
        <p:spPr>
          <a:xfrm>
            <a:off x="0" y="1989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Зак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Десятинной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в Киеве в 98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Художник В. Верещаг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19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Личность князя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77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     </a:t>
            </a: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до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сток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уб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зжа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после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зывчи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илосерд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агочест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фийский собор в Кие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софийский собор"/>
          <p:cNvPicPr/>
          <p:nvPr/>
        </p:nvPicPr>
        <p:blipFill>
          <a:blip r:embed="rId1"/>
          <a:stretch/>
        </p:blipFill>
        <p:spPr>
          <a:xfrm>
            <a:off x="611280" y="1700280"/>
            <a:ext cx="372744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интерьер"/>
          <p:cNvPicPr/>
          <p:nvPr/>
        </p:nvPicPr>
        <p:blipFill>
          <a:blip r:embed="rId2"/>
          <a:stretch/>
        </p:blipFill>
        <p:spPr>
          <a:xfrm>
            <a:off x="5076720" y="1700280"/>
            <a:ext cx="3527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Золотые 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133200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1628640"/>
            <a:ext cx="41403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опись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а Божьей Мат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403px-Vladimirskay_bogomater"/>
          <p:cNvPicPr/>
          <p:nvPr/>
        </p:nvPicPr>
        <p:blipFill>
          <a:blip r:embed="rId1"/>
          <a:stretch/>
        </p:blipFill>
        <p:spPr>
          <a:xfrm>
            <a:off x="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итера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етописи, ж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7" descr="RG41_401.JPG"/>
          <p:cNvPicPr/>
          <p:nvPr/>
        </p:nvPicPr>
        <p:blipFill>
          <a:blip r:embed="rId1"/>
          <a:stretch/>
        </p:blipFill>
        <p:spPr>
          <a:xfrm>
            <a:off x="0" y="2000160"/>
            <a:ext cx="42688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RG41_201.JPG"/>
          <p:cNvPicPr/>
          <p:nvPr/>
        </p:nvPicPr>
        <p:blipFill>
          <a:blip r:embed="rId2"/>
          <a:stretch/>
        </p:blipFill>
        <p:spPr>
          <a:xfrm>
            <a:off x="4786200" y="2000160"/>
            <a:ext cx="4184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Основополагающий вопрос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Благодаря кому пришло христианство на Р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708360" y="2852640"/>
            <a:ext cx="41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Проблемный вопрос: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Как принятие христианства отразилось на развитии русской культуры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41-12_"/>
          <p:cNvPicPr/>
          <p:nvPr/>
        </p:nvPicPr>
        <p:blipFill>
          <a:blip r:embed="rId1"/>
          <a:stretch/>
        </p:blipFill>
        <p:spPr>
          <a:xfrm>
            <a:off x="0" y="2671920"/>
            <a:ext cx="3390840" cy="4186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140360" y="-549360"/>
            <a:ext cx="367344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3923e2be51c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43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5a"/>
                </a:solidFill>
                <a:latin typeface="Arial"/>
              </a:rPr>
              <a:t>Издревле Русь была языческой. Славяне поклонялись многим богам, лесным и водяным духам. Свои первые знания о других верах они получали от заморских купцов и проповедников, в военных и торговых пох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4859280" y="1557360"/>
            <a:ext cx="388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Когда Владимир начал править, он был ярым язычником. Буйный нрав, много жён, убийство брата Ярополка, участие в человеческих жертвоприношениях – вот что пишут о нём летопи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ladimir1_1"/>
          <p:cNvPicPr/>
          <p:nvPr/>
        </p:nvPicPr>
        <p:blipFill>
          <a:blip r:embed="rId1"/>
          <a:stretch/>
        </p:blipFill>
        <p:spPr>
          <a:xfrm>
            <a:off x="0" y="0"/>
            <a:ext cx="46069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4941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Владимир Святослав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Красное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vlad_svjatopolk_christ"/>
          <p:cNvPicPr/>
          <p:nvPr/>
        </p:nvPicPr>
        <p:blipFill>
          <a:blip r:embed="rId1"/>
          <a:stretch/>
        </p:blipFill>
        <p:spPr>
          <a:xfrm>
            <a:off x="399564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98100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К этому времени соседние народы исповедовали веры в единых Б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В Риме жили западные христиане, в Хазарии - иудеи, в Волжской Булгарии - мусульмане, в Византии - восточные христи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esize of Копия Ландшафты России"/>
          <p:cNvPicPr/>
          <p:nvPr/>
        </p:nvPicPr>
        <p:blipFill>
          <a:blip r:embed="rId1"/>
          <a:srcRect l="1075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826920" y="4292640"/>
            <a:ext cx="108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7812000" y="3500280"/>
            <a:ext cx="13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АЗ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5364000" y="105264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5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4067280" y="508464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ЗАН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651640" y="242100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5508720" y="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6300720" y="3789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5364000" y="48690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80000" y="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724360" y="242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37236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29272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Царь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5"/>
          <p:cNvSpPr txBox="1"/>
          <p:nvPr/>
        </p:nvSpPr>
        <p:spPr>
          <a:xfrm>
            <a:off x="7812000" y="0"/>
            <a:ext cx="1332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Ж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ЛГ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5280" y="2924280"/>
            <a:ext cx="1512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Запад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8317080" y="4221000"/>
            <a:ext cx="82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Иу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7885080" y="1197000"/>
            <a:ext cx="12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Мусульм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284720" y="6021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Восточ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выбор веры"/>
          <p:cNvPicPr/>
          <p:nvPr/>
        </p:nvPicPr>
        <p:blipFill>
          <a:blip r:embed="rId1"/>
          <a:stretch/>
        </p:blipFill>
        <p:spPr>
          <a:xfrm>
            <a:off x="179280" y="190440"/>
            <a:ext cx="8785440" cy="478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68360" y="5157720"/>
            <a:ext cx="83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В знаменитой легенде описывается выбор веры Владими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Он пригласил к себе разных проповедников и греческого фи-лософа, которые рассказали ему о своих верах. Рассказ грека очень понравился Владимиру. Но он не спешил с выбо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alibri"/>
              </a:rPr>
              <a:t>Выбор веры князем Владими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EV6_100.JPG"/>
          <p:cNvPicPr/>
          <p:nvPr/>
        </p:nvPicPr>
        <p:blipFill>
          <a:blip r:embed="rId1"/>
          <a:stretch/>
        </p:blipFill>
        <p:spPr>
          <a:xfrm>
            <a:off x="0" y="1500120"/>
            <a:ext cx="3727440" cy="2500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EV6_101.JPG"/>
          <p:cNvPicPr/>
          <p:nvPr/>
        </p:nvPicPr>
        <p:blipFill>
          <a:blip r:embed="rId2"/>
          <a:stretch/>
        </p:blipFill>
        <p:spPr>
          <a:xfrm>
            <a:off x="5200560" y="1484280"/>
            <a:ext cx="3943440" cy="250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EV6_102.JPG"/>
          <p:cNvPicPr/>
          <p:nvPr/>
        </p:nvPicPr>
        <p:blipFill>
          <a:blip r:embed="rId3"/>
          <a:stretch/>
        </p:blipFill>
        <p:spPr>
          <a:xfrm>
            <a:off x="2685960" y="4143240"/>
            <a:ext cx="3892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179280" y="1484280"/>
            <a:ext cx="4249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Ожидавший в Херсонесе приезда невесты Владимир неожиданно ослеп. Царевна Анна сказала ему: «Хочешь излечиться - крестись». Тогда князь повелел крестить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Нестор писал в своей летописи, что, когда епископ во время крещения возложил свою руку на голову князя, Владимир тотчас прозр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471c651234f0"/>
          <p:cNvPicPr/>
          <p:nvPr/>
        </p:nvPicPr>
        <p:blipFill>
          <a:blip r:embed="rId1"/>
          <a:stretch/>
        </p:blipFill>
        <p:spPr>
          <a:xfrm>
            <a:off x="4356000" y="260280"/>
            <a:ext cx="4594320" cy="568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716360" y="6021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щение великого князя Владимира Художник В. Васнецов, 19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0:42:37Z</dcterms:created>
  <dc:creator>Ultra</dc:creator>
  <dc:description/>
  <dc:language>en-US</dc:language>
  <cp:lastModifiedBy>HOME</cp:lastModifiedBy>
  <dcterms:modified xsi:type="dcterms:W3CDTF">2012-01-17T19:32:05Z</dcterms:modified>
  <cp:revision>3</cp:revision>
  <dc:subject/>
  <dc:title>Слайд 1</dc:title>
</cp:coreProperties>
</file>