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41.jpeg" ContentType="image/jpeg"/>
  <Override PartName="/ppt/media/image14.jpeg" ContentType="image/jpeg"/>
  <Override PartName="/ppt/media/image67.jpeg" ContentType="image/jpeg"/>
  <Override PartName="/ppt/media/image66.jpeg" ContentType="image/jpeg"/>
  <Override PartName="/ppt/media/image11.png" ContentType="image/png"/>
  <Override PartName="/ppt/media/image65.jpeg" ContentType="image/jpeg"/>
  <Override PartName="/ppt/media/image8.jpeg" ContentType="image/jpeg"/>
  <Override PartName="/ppt/media/image21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8.jpeg" ContentType="image/jpeg"/>
  <Override PartName="/ppt/media/image51.jpeg" ContentType="image/jpeg"/>
  <Override PartName="/ppt/media/image19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5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D79-3282-4502-B85A-1B6346EF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543-0C28-46A9-BD8F-F4C9BD61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693-C44F-4EFB-80F2-60892B0C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4A3-5DAE-440E-9B01-284026D0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4D4B-D480-4B41-90CF-922317D2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34A4-0FE4-4B3F-B865-EBAB706B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F188-12A0-4C47-93F6-E926F8A4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B8DA-C258-48F0-9B8A-6C128742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ED7F-C39D-4200-AC5C-F09AB6E5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C8BE-81B4-4174-80C9-C537522A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2353-49FD-40E8-B32A-70C1A26B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9BA-9A9C-4C3A-8A0E-A88CCB02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F984-9AA0-4FFC-88A3-805E2CF6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96DB-328D-4575-AE80-EAACA60F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AE1B-75F4-4B97-9AF9-79A7E1CF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0759-81F4-4DA8-8490-ED007559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2F7D-1B75-42B7-AECC-7D40A3E9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D61-6F48-4EEE-A7F1-0EBB2D78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CC1-048D-442C-BB86-FE7F6993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DC5-DBE5-4919-997C-0C33739C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88E-2A0F-4319-B80B-DEE32A33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C975-AA79-44B1-8FC6-E5CD4C52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89B-BCA1-4866-98B1-FBBCDA44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67A-77D0-48A9-BDD7-0FE3833B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E956-3F48-4601-A2B6-569B8C55B2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B65B-72B3-4004-9E4A-15543E9A5B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0866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Развитие жизни на Земл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для учащих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5 классов МОУ «Гимназия № 10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476360" y="847800"/>
            <a:ext cx="7442280" cy="56307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99840" y="3499920"/>
            <a:ext cx="75438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Горообразование перераспределяет сушу и океан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Накапливается кислород (к концу эры 1%), озоновый сло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уша безжизненна, по берегам начался процесс почвообразования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отерозо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6840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6156360" y="2708280"/>
            <a:ext cx="2790720" cy="40003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56756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Жизнь стала геологическим фактором – живые организмы меняли форму и состав Земной коры, формировали биосфер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0" y="2857680"/>
            <a:ext cx="2800440" cy="4000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3"/>
          <a:stretch/>
        </p:blipFill>
        <p:spPr>
          <a:xfrm>
            <a:off x="2484360" y="2133720"/>
            <a:ext cx="3886200" cy="2038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3132000" y="4365720"/>
            <a:ext cx="28767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алеозой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64090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386160" cy="504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524400" cy="2514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14" descr=""/>
          <p:cNvPicPr/>
          <p:nvPr/>
        </p:nvPicPr>
        <p:blipFill>
          <a:blip r:embed="rId3"/>
          <a:stretch/>
        </p:blipFill>
        <p:spPr>
          <a:xfrm>
            <a:off x="5148360" y="3068640"/>
            <a:ext cx="3095640" cy="1790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"/>
          <p:cNvPicPr/>
          <p:nvPr/>
        </p:nvPicPr>
        <p:blipFill>
          <a:blip r:embed="rId4"/>
          <a:stretch/>
        </p:blipFill>
        <p:spPr>
          <a:xfrm>
            <a:off x="5048280" y="4981680"/>
            <a:ext cx="40957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249120" y="907920"/>
            <a:ext cx="3654720" cy="5473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2143080" cy="2381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"/>
          <p:cNvPicPr/>
          <p:nvPr/>
        </p:nvPicPr>
        <p:blipFill>
          <a:blip r:embed="rId3"/>
          <a:stretch/>
        </p:blipFill>
        <p:spPr>
          <a:xfrm>
            <a:off x="4716360" y="0"/>
            <a:ext cx="4267440" cy="2886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4"/>
          <a:stretch/>
        </p:blipFill>
        <p:spPr>
          <a:xfrm>
            <a:off x="6227640" y="4076640"/>
            <a:ext cx="2772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6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4267440" cy="21906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5" descr="b5g0390i.bmp"/>
          <p:cNvPicPr/>
          <p:nvPr/>
        </p:nvPicPr>
        <p:blipFill>
          <a:blip r:embed="rId2"/>
          <a:stretch/>
        </p:blipFill>
        <p:spPr>
          <a:xfrm>
            <a:off x="0" y="0"/>
            <a:ext cx="2987640" cy="42069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b5g0396i.bmp"/>
          <p:cNvPicPr/>
          <p:nvPr/>
        </p:nvPicPr>
        <p:blipFill>
          <a:blip r:embed="rId3"/>
          <a:stretch/>
        </p:blipFill>
        <p:spPr>
          <a:xfrm>
            <a:off x="2639880" y="122400"/>
            <a:ext cx="3359160" cy="63277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372px-Meyers_b15_s0272b.jpg"/>
          <p:cNvPicPr/>
          <p:nvPr/>
        </p:nvPicPr>
        <p:blipFill>
          <a:blip r:embed="rId4"/>
          <a:stretch/>
        </p:blipFill>
        <p:spPr>
          <a:xfrm>
            <a:off x="6156360" y="-12600"/>
            <a:ext cx="3006720" cy="8955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3" descr="Первые голосеменные растения 1  гингко 2  секвойя.bmp"/>
          <p:cNvPicPr/>
          <p:nvPr/>
        </p:nvPicPr>
        <p:blipFill>
          <a:blip r:embed="rId5"/>
          <a:stretch/>
        </p:blipFill>
        <p:spPr>
          <a:xfrm>
            <a:off x="3822840" y="4127400"/>
            <a:ext cx="36018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5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114720" cy="32860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Meganeura.jpg"/>
          <p:cNvPicPr/>
          <p:nvPr/>
        </p:nvPicPr>
        <p:blipFill>
          <a:blip r:embed="rId3"/>
          <a:stretch/>
        </p:blipFill>
        <p:spPr>
          <a:xfrm>
            <a:off x="6480" y="2279520"/>
            <a:ext cx="3620880" cy="33228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yes36.png"/>
          <p:cNvPicPr/>
          <p:nvPr/>
        </p:nvPicPr>
        <p:blipFill>
          <a:blip r:embed="rId4"/>
          <a:stretch/>
        </p:blipFill>
        <p:spPr>
          <a:xfrm>
            <a:off x="2755800" y="249120"/>
            <a:ext cx="2444760" cy="5151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"/>
          <p:cNvPicPr/>
          <p:nvPr/>
        </p:nvPicPr>
        <p:blipFill>
          <a:blip r:embed="rId5"/>
          <a:stretch/>
        </p:blipFill>
        <p:spPr>
          <a:xfrm>
            <a:off x="6591240" y="2852640"/>
            <a:ext cx="255276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"/>
          <p:cNvPicPr/>
          <p:nvPr/>
        </p:nvPicPr>
        <p:blipFill>
          <a:blip r:embed="rId6"/>
          <a:stretch/>
        </p:blipFill>
        <p:spPr>
          <a:xfrm>
            <a:off x="1332000" y="4076640"/>
            <a:ext cx="2628720" cy="2533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image003"/>
          <p:cNvPicPr/>
          <p:nvPr/>
        </p:nvPicPr>
        <p:blipFill>
          <a:blip r:embed="rId7"/>
          <a:stretch/>
        </p:blipFill>
        <p:spPr>
          <a:xfrm>
            <a:off x="4211640" y="4724280"/>
            <a:ext cx="29527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73087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чало эры динозав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стоднзав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лтикозавр (6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леротора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льтоп (с кош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карозав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162160" cy="1552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3057480" cy="1371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2600280" cy="4267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4"/>
          <a:stretch/>
        </p:blipFill>
        <p:spPr>
          <a:xfrm>
            <a:off x="3419640" y="4292640"/>
            <a:ext cx="2628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6720" y="304920"/>
            <a:ext cx="3533760" cy="46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Образование звез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3730680" cy="475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5524560" y="476280"/>
            <a:ext cx="337176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285840" y="0"/>
            <a:ext cx="4468680" cy="111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219560" cy="3200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4267440" cy="1638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4"/>
          <a:stretch/>
        </p:blipFill>
        <p:spPr>
          <a:xfrm>
            <a:off x="5435640" y="1125360"/>
            <a:ext cx="348624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2917440" y="214200"/>
            <a:ext cx="37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7b3"/>
                </a:solidFill>
                <a:latin typeface="Tahoma"/>
              </a:rPr>
              <a:t>Птерозав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763640" y="2347920"/>
            <a:ext cx="7147080" cy="4290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2266920" cy="2267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5627520" y="189000"/>
            <a:ext cx="3376800" cy="6408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42670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88508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9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5119560" cy="6308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33680" cy="1704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"/>
          <p:cNvPicPr/>
          <p:nvPr/>
        </p:nvPicPr>
        <p:blipFill>
          <a:blip r:embed="rId3"/>
          <a:stretch/>
        </p:blipFill>
        <p:spPr>
          <a:xfrm>
            <a:off x="6372360" y="2492280"/>
            <a:ext cx="2552400" cy="185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"/>
          <p:cNvPicPr/>
          <p:nvPr/>
        </p:nvPicPr>
        <p:blipFill>
          <a:blip r:embed="rId4"/>
          <a:stretch/>
        </p:blipFill>
        <p:spPr>
          <a:xfrm>
            <a:off x="6300720" y="4869000"/>
            <a:ext cx="25527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0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5616720" cy="2206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1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2876760" cy="426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2" descr=""/>
          <p:cNvPicPr/>
          <p:nvPr/>
        </p:nvPicPr>
        <p:blipFill>
          <a:blip r:embed="rId3"/>
          <a:stretch/>
        </p:blipFill>
        <p:spPr>
          <a:xfrm>
            <a:off x="3348000" y="2554200"/>
            <a:ext cx="5562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Формирование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планетарных систем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(геологический этап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7885080" cy="5915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179280" y="4508640"/>
            <a:ext cx="2990880" cy="217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28810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4321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Образование органических соединени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051000" cy="468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"/>
          <p:cNvPicPr/>
          <p:nvPr/>
        </p:nvPicPr>
        <p:blipFill>
          <a:blip r:embed="rId2"/>
          <a:stretch/>
        </p:blipFill>
        <p:spPr>
          <a:xfrm>
            <a:off x="4597560" y="260280"/>
            <a:ext cx="4233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2133360"/>
            <a:ext cx="345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Жизнь возможна и в кратере вулкана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611600" y="260280"/>
            <a:ext cx="4286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370044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улканы, образованные ими горные хребты и водо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vulkan"/>
          <p:cNvPicPr/>
          <p:nvPr/>
        </p:nvPicPr>
        <p:blipFill>
          <a:blip r:embed="rId1"/>
          <a:stretch/>
        </p:blipFill>
        <p:spPr>
          <a:xfrm>
            <a:off x="5508720" y="907920"/>
            <a:ext cx="3065400" cy="2509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чсми"/>
          <p:cNvPicPr/>
          <p:nvPr/>
        </p:nvPicPr>
        <p:blipFill>
          <a:blip r:embed="rId2"/>
          <a:stretch/>
        </p:blipFill>
        <p:spPr>
          <a:xfrm>
            <a:off x="1116000" y="4221000"/>
            <a:ext cx="3030480" cy="2122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па"/>
          <p:cNvPicPr/>
          <p:nvPr/>
        </p:nvPicPr>
        <p:blipFill>
          <a:blip r:embed="rId3"/>
          <a:stretch/>
        </p:blipFill>
        <p:spPr>
          <a:xfrm>
            <a:off x="5580000" y="4292640"/>
            <a:ext cx="2592360" cy="17571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</a:rPr>
              <a:t>В конце архейской эры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никает Мировой океан, разделение на животный и растительный ми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6"/>
          <p:cNvPicPr/>
          <p:nvPr/>
        </p:nvPicPr>
        <p:blipFill>
          <a:blip r:embed="rId1"/>
          <a:stretch/>
        </p:blipFill>
        <p:spPr>
          <a:xfrm>
            <a:off x="395280" y="4292640"/>
            <a:ext cx="4422960" cy="2217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3495960" cy="1695240"/>
          </a:xfrm>
          <a:prstGeom prst="rect">
            <a:avLst/>
          </a:prstGeom>
          <a:ln w="0">
            <a:noFill/>
          </a:ln>
        </p:spPr>
      </p:pic>
    </p:spTree>
  </p:cSld>
  <p:transition advTm="13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Арх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6084720" cy="4522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1830240" cy="223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3"/>
          <a:stretch/>
        </p:blipFill>
        <p:spPr>
          <a:xfrm>
            <a:off x="0" y="4935600"/>
            <a:ext cx="305928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3:56:44Z</dcterms:created>
  <dc:creator>Лиля</dc:creator>
  <dc:description/>
  <dc:language>en-US</dc:language>
  <cp:lastModifiedBy>Коля</cp:lastModifiedBy>
  <dcterms:modified xsi:type="dcterms:W3CDTF">2013-05-15T14:30:53Z</dcterms:modified>
  <cp:revision>11</cp:revision>
  <dc:subject/>
  <dc:title>Основные этапы развития жизни на Земле</dc:title>
</cp:coreProperties>
</file>