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7C8-C07E-466A-9E9B-2BB4B658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8F8-9B22-4DA5-A3DD-E9FD62DC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957-2307-46E7-B764-F20B6006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890-DFF0-42F1-9D89-17327E2E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2FAB8-4DD4-4F74-B5B2-23B3AD39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E8293-1DFD-4181-A4E6-FBA3A028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A200-34FC-47F6-BF21-D2C01711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DD629-0684-484C-8941-6565EB25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2A67F-96A1-4A44-9348-392AC070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CED0B-18EA-4AED-BA8E-9475161F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7FA64-E9BA-47CB-BFB2-1307780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85B-D119-4042-8ED0-95E1A6E2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750EC-CF72-4684-A596-0E6ABDA3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4BFF4-E021-4447-8C4A-A13DD94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2EAF-DE0E-4A5D-A130-9AB5DC46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F0255-767A-43BA-86A7-31567D6C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E2A3-0FF8-43A1-A3E2-2A6A03F0F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5DC-1BF0-4CCC-BECF-B4D61A59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42F-35D1-4910-8D69-53C5B148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083-8127-458F-9FBD-1C345F73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BE7-D0AD-4895-AEA2-FF6DEC71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873-F4B3-4FEF-A859-8ABE3992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9C7-0A62-402E-A29A-9E11227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C0F-525F-4779-99FF-A53E3CC3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79E3-2654-46EB-9CEF-B42113F797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206E-5486-4346-907E-706769635B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3e3ff"/>
                </a:solidFill>
                <a:latin typeface="Arial"/>
              </a:rPr>
              <a:t>Правописание суффиксов глагола.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авописание суффиксов в начальной форме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е  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1403280" y="1700280"/>
            <a:ext cx="16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1403280" y="234936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1476360" y="292428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8" name="WordArt 13"/>
          <p:cNvSpPr txBox="1"/>
          <p:nvPr/>
        </p:nvSpPr>
        <p:spPr>
          <a:xfrm>
            <a:off x="1476360" y="350028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9" name="WordArt 14"/>
          <p:cNvSpPr txBox="1"/>
          <p:nvPr/>
        </p:nvSpPr>
        <p:spPr>
          <a:xfrm>
            <a:off x="1476360" y="4076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0" name="WordArt 15"/>
          <p:cNvSpPr txBox="1"/>
          <p:nvPr/>
        </p:nvSpPr>
        <p:spPr>
          <a:xfrm>
            <a:off x="1476360" y="4653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835280" y="5300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Написание суффиксов глагола в начальной форме нужно запомни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Написание суффиксов глагола в форме прошедшего времени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беж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х  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гляд  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е  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ог  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к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яук   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95640" y="177336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124000" y="234936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7" name="WordArt 7"/>
          <p:cNvSpPr txBox="1"/>
          <p:nvPr/>
        </p:nvSpPr>
        <p:spPr>
          <a:xfrm>
            <a:off x="1763640" y="407664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1619280" y="4653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1908000" y="522936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2340000" y="292428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1" name="WordArt 11"/>
          <p:cNvSpPr txBox="1"/>
          <p:nvPr/>
        </p:nvSpPr>
        <p:spPr>
          <a:xfrm>
            <a:off x="1835280" y="350028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У глагола в форме прошедшего времени сохраняется глагольный суффикс начальной фор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уффиксы повелительной формы глагол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ять – стрел        - ст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ять – довер       - дов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еть – сид         - с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истеть – свист        - св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ь – стро     - 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зать –расскаж    - расск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 –покаж    - пок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4284720" y="1628640"/>
            <a:ext cx="39060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6516720" y="1700280"/>
            <a:ext cx="743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4356000" y="2276640"/>
            <a:ext cx="390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6588000" y="2276640"/>
            <a:ext cx="743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йт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49" name="WordArt 8"/>
          <p:cNvSpPr txBox="1"/>
          <p:nvPr/>
        </p:nvSpPr>
        <p:spPr>
          <a:xfrm>
            <a:off x="3492360" y="2924280"/>
            <a:ext cx="1717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5580000" y="292428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4211640" y="342900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2" name="WordArt 11"/>
          <p:cNvSpPr txBox="1"/>
          <p:nvPr/>
        </p:nvSpPr>
        <p:spPr>
          <a:xfrm>
            <a:off x="6372360" y="342900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3" name="WordArt 12"/>
          <p:cNvSpPr txBox="1"/>
          <p:nvPr/>
        </p:nvSpPr>
        <p:spPr>
          <a:xfrm>
            <a:off x="3851280" y="407664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WordArt 13"/>
          <p:cNvSpPr txBox="1"/>
          <p:nvPr/>
        </p:nvSpPr>
        <p:spPr>
          <a:xfrm>
            <a:off x="5580000" y="4076640"/>
            <a:ext cx="476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й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4932360" y="465300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>
            <a:off x="7236000" y="4653000"/>
            <a:ext cx="4759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WordArt 16"/>
          <p:cNvSpPr txBox="1"/>
          <p:nvPr/>
        </p:nvSpPr>
        <p:spPr>
          <a:xfrm>
            <a:off x="4211640" y="5229360"/>
            <a:ext cx="1713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WordArt 17"/>
          <p:cNvSpPr txBox="1"/>
          <p:nvPr/>
        </p:nvSpPr>
        <p:spPr>
          <a:xfrm>
            <a:off x="6012000" y="5229360"/>
            <a:ext cx="476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т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верь себя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рет как баран на гумно. Бумага терп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ро пишит. И гладет, да неидет. Вер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зыком, что карова хвастом. Кто кого обиде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 того и ненавидет. Степнова коня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юшни не удержеш. Поменьше гавор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больше услышеш. За двумя зайц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онешся – ни одного непоймаи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мотрит как баран на гумно. Бумага терпит, перо пишет. И гладит, да не видит. Вертит языком, что корова хвостом. Кто кого обидит, тот того и ненавидит. Степного коня на конюшне не удержишь. Поменьше говори, побольше услышишь. За двумя зайцами погонишься – ни одного не поймаешь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2:53:39Z</dcterms:created>
  <dc:creator>User</dc:creator>
  <dc:description/>
  <dc:language>en-US</dc:language>
  <cp:lastModifiedBy>ZooM</cp:lastModifiedBy>
  <dcterms:modified xsi:type="dcterms:W3CDTF">2013-11-15T19:39:10Z</dcterms:modified>
  <cp:revision>7</cp:revision>
  <dc:subject/>
  <dc:title>Правописание суффиксов глагола.</dc:title>
</cp:coreProperties>
</file>