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B6977-7A7D-414A-8C8B-47B88C153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343E4-9D4C-4250-808E-98F4B08A2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28987-CED3-401C-B41A-A293E6E71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30988-5B1F-4EC2-ABDF-30E553059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052C63-CA66-444F-AB4B-7567DE9FD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16E89A-D194-42F7-9043-65962DD18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F85814-BAB6-4173-80CA-7445E907A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42406F-70D1-415B-8940-5EDC9F82D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25567B-D43D-4740-9C33-3E53D478C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246FDA-4B8E-4D29-86C3-0FADA6F99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4A87CF-13F9-4854-940F-44CCB5019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AA775-CC8A-4BD5-A029-D3C4A07E5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CFA930-0B2D-425C-ACC0-9E21D4CE0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4ECFF8-E5CF-4E1A-9CB7-48420176B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BF249C-170B-4D3B-B7A8-8AF41EB13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61E3B3-BA71-401C-B365-F817D26B6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161455-BF7F-4235-B628-50CD2F90C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217BA-136F-4FF4-A93A-CB99956D1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18421-327E-4C70-B65F-273716EBF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2D2D6-62F9-41D0-8756-B5D2F73E8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C93CD-1F1A-4055-8887-9D211CDC0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68F10-ED84-491A-A780-3D1439C9E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33830-29B2-4374-AE45-992AF1B04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5B766-F5B1-4C43-90DB-AACC9FD61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67DE6-8B6C-44E9-B730-63B3B9AE73FA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DFF77-923D-4DBD-AAA1-B7C831987C7C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e3e3ff"/>
                </a:solidFill>
                <a:latin typeface="Arial"/>
              </a:rPr>
              <a:t>Правописание суффиксов глагола.</a:t>
            </a:r>
            <a:endParaRPr b="0" lang="en-US" sz="72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Правописание суффиксов в начальной форме.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Ла  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а  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е  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е  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е  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ле  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ате  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WordArt 8"/>
          <p:cNvSpPr txBox="1"/>
          <p:nvPr/>
        </p:nvSpPr>
        <p:spPr>
          <a:xfrm>
            <a:off x="1403280" y="1700280"/>
            <a:ext cx="162000" cy="34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я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26" name="WordArt 11"/>
          <p:cNvSpPr txBox="1"/>
          <p:nvPr/>
        </p:nvSpPr>
        <p:spPr>
          <a:xfrm>
            <a:off x="1403280" y="2349360"/>
            <a:ext cx="14292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я</a:t>
            </a:r>
            <a:endParaRPr b="0" lang="en-US" sz="20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27" name="WordArt 12"/>
          <p:cNvSpPr txBox="1"/>
          <p:nvPr/>
        </p:nvSpPr>
        <p:spPr>
          <a:xfrm>
            <a:off x="1476360" y="2924280"/>
            <a:ext cx="14292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я</a:t>
            </a:r>
            <a:endParaRPr b="0" lang="en-US" sz="20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28" name="WordArt 13"/>
          <p:cNvSpPr txBox="1"/>
          <p:nvPr/>
        </p:nvSpPr>
        <p:spPr>
          <a:xfrm>
            <a:off x="1476360" y="3500280"/>
            <a:ext cx="14292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я</a:t>
            </a:r>
            <a:endParaRPr b="0" lang="en-US" sz="20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29" name="WordArt 14"/>
          <p:cNvSpPr txBox="1"/>
          <p:nvPr/>
        </p:nvSpPr>
        <p:spPr>
          <a:xfrm>
            <a:off x="1476360" y="4076640"/>
            <a:ext cx="14292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я</a:t>
            </a:r>
            <a:endParaRPr b="0" lang="en-US" sz="20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30" name="WordArt 15"/>
          <p:cNvSpPr txBox="1"/>
          <p:nvPr/>
        </p:nvSpPr>
        <p:spPr>
          <a:xfrm>
            <a:off x="1476360" y="4653000"/>
            <a:ext cx="14292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я</a:t>
            </a:r>
            <a:endParaRPr b="0" lang="en-US" sz="20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31" name="WordArt 16"/>
          <p:cNvSpPr txBox="1"/>
          <p:nvPr/>
        </p:nvSpPr>
        <p:spPr>
          <a:xfrm>
            <a:off x="1835280" y="5300640"/>
            <a:ext cx="14292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я</a:t>
            </a:r>
            <a:endParaRPr b="0" lang="en-US" sz="20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95280" y="1268280"/>
            <a:ext cx="8229600" cy="266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Написание суффиксов глагола в начальной форме нужно запомнить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Написание суффиксов глагола в форме прошедшего времени.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ыбеж  л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иех  л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ыгляд  л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ате  ли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рог  ли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ик  л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яук   л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WordArt 4"/>
          <p:cNvSpPr txBox="1"/>
          <p:nvPr/>
        </p:nvSpPr>
        <p:spPr>
          <a:xfrm>
            <a:off x="2195640" y="1773360"/>
            <a:ext cx="14292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а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36" name="WordArt 5"/>
          <p:cNvSpPr txBox="1"/>
          <p:nvPr/>
        </p:nvSpPr>
        <p:spPr>
          <a:xfrm>
            <a:off x="2124000" y="2349360"/>
            <a:ext cx="14292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а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37" name="WordArt 7"/>
          <p:cNvSpPr txBox="1"/>
          <p:nvPr/>
        </p:nvSpPr>
        <p:spPr>
          <a:xfrm>
            <a:off x="1763640" y="4076640"/>
            <a:ext cx="14292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а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38" name="WordArt 8"/>
          <p:cNvSpPr txBox="1"/>
          <p:nvPr/>
        </p:nvSpPr>
        <p:spPr>
          <a:xfrm>
            <a:off x="1619280" y="4653000"/>
            <a:ext cx="14292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а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39" name="WordArt 9"/>
          <p:cNvSpPr txBox="1"/>
          <p:nvPr/>
        </p:nvSpPr>
        <p:spPr>
          <a:xfrm>
            <a:off x="1908000" y="5229360"/>
            <a:ext cx="14292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а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40" name="WordArt 10"/>
          <p:cNvSpPr txBox="1"/>
          <p:nvPr/>
        </p:nvSpPr>
        <p:spPr>
          <a:xfrm>
            <a:off x="2340000" y="2924280"/>
            <a:ext cx="14292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е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41" name="WordArt 11"/>
          <p:cNvSpPr txBox="1"/>
          <p:nvPr/>
        </p:nvSpPr>
        <p:spPr>
          <a:xfrm>
            <a:off x="1835280" y="3500280"/>
            <a:ext cx="14292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я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p:transition>
    <p:wedge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95280" y="765000"/>
            <a:ext cx="8229600" cy="367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У глагола в форме прошедшего времени сохраняется глагольный суффикс начальной формы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Суффиксы повелительной формы глагола.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трелять – стрел        - стре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оверять – довер       - дове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идеть – сид         - сид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вистеть – свист        - свис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троить – стро     - стр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ссказать –расскаж    - расскаж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казать –покаж    - покаж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WordArt 4"/>
          <p:cNvSpPr txBox="1"/>
          <p:nvPr/>
        </p:nvSpPr>
        <p:spPr>
          <a:xfrm>
            <a:off x="4284720" y="1628640"/>
            <a:ext cx="390600" cy="400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яй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46" name="WordArt 5"/>
          <p:cNvSpPr txBox="1"/>
          <p:nvPr/>
        </p:nvSpPr>
        <p:spPr>
          <a:xfrm>
            <a:off x="6516720" y="1700280"/>
            <a:ext cx="743040" cy="39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яйте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47" name="WordArt 6"/>
          <p:cNvSpPr txBox="1"/>
          <p:nvPr/>
        </p:nvSpPr>
        <p:spPr>
          <a:xfrm>
            <a:off x="4356000" y="2276640"/>
            <a:ext cx="390600" cy="39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яй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48" name="WordArt 7"/>
          <p:cNvSpPr txBox="1"/>
          <p:nvPr/>
        </p:nvSpPr>
        <p:spPr>
          <a:xfrm>
            <a:off x="6588000" y="2276640"/>
            <a:ext cx="743040" cy="39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яйте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49" name="WordArt 8"/>
          <p:cNvSpPr txBox="1"/>
          <p:nvPr/>
        </p:nvSpPr>
        <p:spPr>
          <a:xfrm>
            <a:off x="3492360" y="2924280"/>
            <a:ext cx="171720" cy="34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и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50" name="WordArt 9"/>
          <p:cNvSpPr txBox="1"/>
          <p:nvPr/>
        </p:nvSpPr>
        <p:spPr>
          <a:xfrm>
            <a:off x="5580000" y="2924280"/>
            <a:ext cx="476280" cy="34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ите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51" name="WordArt 10"/>
          <p:cNvSpPr txBox="1"/>
          <p:nvPr/>
        </p:nvSpPr>
        <p:spPr>
          <a:xfrm>
            <a:off x="4211640" y="3429000"/>
            <a:ext cx="171360" cy="3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и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52" name="WordArt 11"/>
          <p:cNvSpPr txBox="1"/>
          <p:nvPr/>
        </p:nvSpPr>
        <p:spPr>
          <a:xfrm>
            <a:off x="6372360" y="3429000"/>
            <a:ext cx="476280" cy="3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ите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53" name="WordArt 12"/>
          <p:cNvSpPr txBox="1"/>
          <p:nvPr/>
        </p:nvSpPr>
        <p:spPr>
          <a:xfrm>
            <a:off x="3851280" y="4076640"/>
            <a:ext cx="171360" cy="3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54" name="WordArt 13"/>
          <p:cNvSpPr txBox="1"/>
          <p:nvPr/>
        </p:nvSpPr>
        <p:spPr>
          <a:xfrm>
            <a:off x="5580000" y="4076640"/>
            <a:ext cx="476280" cy="3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йте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55" name="WordArt 14"/>
          <p:cNvSpPr txBox="1"/>
          <p:nvPr/>
        </p:nvSpPr>
        <p:spPr>
          <a:xfrm>
            <a:off x="4932360" y="4653000"/>
            <a:ext cx="171360" cy="34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и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56" name="WordArt 15"/>
          <p:cNvSpPr txBox="1"/>
          <p:nvPr/>
        </p:nvSpPr>
        <p:spPr>
          <a:xfrm>
            <a:off x="7236000" y="4653000"/>
            <a:ext cx="475920" cy="34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ите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57" name="WordArt 16"/>
          <p:cNvSpPr txBox="1"/>
          <p:nvPr/>
        </p:nvSpPr>
        <p:spPr>
          <a:xfrm>
            <a:off x="4211640" y="5229360"/>
            <a:ext cx="171360" cy="34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и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58" name="WordArt 17"/>
          <p:cNvSpPr txBox="1"/>
          <p:nvPr/>
        </p:nvSpPr>
        <p:spPr>
          <a:xfrm>
            <a:off x="6012000" y="5229360"/>
            <a:ext cx="476280" cy="34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ите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p:transition>
    <p:wedge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Проверь себя.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9144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морет как баран на гумно. Бумага терпет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иро пишит. И гладет, да неидет. Верте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языком, что карова хвастом. Кто кого обидет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от того и ненавидет. Степнова коня н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онюшни не удержеш. Поменьше гавори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абольше услышеш. За двумя зайцами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гонешся – ни одного непоймаиш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3e3ff"/>
                </a:solidFill>
                <a:latin typeface="Arial"/>
              </a:rPr>
              <a:t>Смотрит как баран на гумно. Бумага терпит, перо пишет. И гладит, да не видит. Вертит языком, что корова хвостом. Кто кого обидит, тот того и ненавидит. Степного коня на конюшне не удержишь. Поменьше говори, побольше услышишь. За двумя зайцами погонишься – ни одного не поймаешь.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0T12:53:39Z</dcterms:created>
  <dc:creator>User</dc:creator>
  <dc:description/>
  <dc:language>en-US</dc:language>
  <cp:lastModifiedBy>ZooM</cp:lastModifiedBy>
  <dcterms:modified xsi:type="dcterms:W3CDTF">2013-11-15T19:39:10Z</dcterms:modified>
  <cp:revision>7</cp:revision>
  <dc:subject/>
  <dc:title>Правописание суффиксов глагола.</dc:title>
</cp:coreProperties>
</file>