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5BE-843F-4900-94CB-8A2958DC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620-41C7-4C94-BA8E-C258780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C7E-0255-4C2F-A0C4-4ACED39B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7FB-D94C-466A-907C-6C986768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66D59-1369-4BF1-BAE4-50ABA20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FE8A8-F71B-4453-B009-E5C742D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EF60-5A1B-4E48-9008-2895046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52D2-7AC8-429C-8749-2A8ACBC7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45F27-49E1-49F4-94D6-6362E94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94600-D6CB-4D12-B7EF-7AFD916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7134-EBA7-4CE0-A522-435B8397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C05-EB1D-42A3-9F1D-73A61BD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89CAF-5090-4328-96ED-176CBAA8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FB2D-11F4-478F-932A-DC5BDFF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FD03-0C5D-4352-B4D8-3F3A157C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CC16-02F8-445F-8711-C537D69D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B2A3C-A34F-4E71-8466-D5FC63FD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F26-8232-4292-9F91-BBF051DA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ECD-FA9D-4DFE-8C60-677092E7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81A-BEDD-405B-92E2-3BEF000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995-C0D2-4F2E-A6B4-85E2DAC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BA2-A951-4B4E-9C5D-77E3BC6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0BB-6279-4290-8851-B718607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FD2-DCF7-4ED8-9DD6-0C37C1A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0D18-A970-4BB5-B304-912F76F18A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581-3320-4433-8EFF-85F60398F4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e3ff"/>
                </a:solidFill>
                <a:latin typeface="Arial"/>
              </a:rPr>
              <a:t>Правописание суффиксов глагола.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вописание суффиксов в начальной форм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1403280" y="170028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140328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147636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147636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147636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0" name="WordArt 15"/>
          <p:cNvSpPr txBox="1"/>
          <p:nvPr/>
        </p:nvSpPr>
        <p:spPr>
          <a:xfrm>
            <a:off x="147636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835280" y="5300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писание суффиксов глагола в начальной форме нужно запомн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писание суффиксов глагола в форме прошедшего времен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еж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х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гляд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г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к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ук 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95640" y="1773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12400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76364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161928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1908000" y="5229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234000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183528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У глагола в форме прошедшего времени сохраняется глагольный суффикс начальной фор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уффиксы повелительной формы глагол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ять – стрел        - ст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ять – довер       - дов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еть – сид         - 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стеть – свист        - св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– стро     - 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–расскаж    - расс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–покаж    - по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284720" y="1628640"/>
            <a:ext cx="390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6516720" y="170028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356000" y="2276640"/>
            <a:ext cx="390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6588000" y="227664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492360" y="292428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580000" y="292428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4211640" y="342900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6372360" y="342900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3851280" y="407664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13"/>
          <p:cNvSpPr txBox="1"/>
          <p:nvPr/>
        </p:nvSpPr>
        <p:spPr>
          <a:xfrm>
            <a:off x="5580000" y="407664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4932360" y="465300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7236000" y="4653000"/>
            <a:ext cx="4759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WordArt 16"/>
          <p:cNvSpPr txBox="1"/>
          <p:nvPr/>
        </p:nvSpPr>
        <p:spPr>
          <a:xfrm>
            <a:off x="4211640" y="522936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6012000" y="522936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рет как баран на гумно. Бумага терп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ро пишит. И гладет, да неидет. Вер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ыком, что карова хвастом. Кто кого обид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 того и ненавидет. Степнова кон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юшни не удержеш. Поменьше гавор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больше услышеш. За двумя зайц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нешся – ни одного непоймаи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мотрит как баран на гумно. Бумага терпит, перо пишет. И гладит, да не видит. Вертит языком, что корова хвостом. Кто кого обидит, тот того и ненавидит. Степного коня на конюшне не удержишь. Поменьше говори, побольше услышишь. За двумя зайцами погонишься – ни одного не поймаешь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53:39Z</dcterms:created>
  <dc:creator>User</dc:creator>
  <dc:description/>
  <dc:language>en-US</dc:language>
  <cp:lastModifiedBy>ZooM</cp:lastModifiedBy>
  <dcterms:modified xsi:type="dcterms:W3CDTF">2013-11-15T19:39:10Z</dcterms:modified>
  <cp:revision>7</cp:revision>
  <dc:subject/>
  <dc:title>Правописание суффиксов глагола.</dc:title>
</cp:coreProperties>
</file>