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5891-B3F8-4507-AFCB-5483E10F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44A-389F-4D9A-AC6E-1B786203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22D-DDE3-4034-95D7-E725ACE8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B66-C09E-4CB9-BCC1-CE122028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9C5B-5DEA-4BF3-81AA-54B85818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EB42-8B7D-44C0-B4B3-6D63F1F2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7AC8-A56C-4850-ACFC-20290E61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0465-241A-479C-B53A-24302EB5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44C0-BA8D-4A92-9ACB-A5102B79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F7CA-0AD0-4D67-B873-2E41C300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1026-BACB-4F02-A0CD-E90E11F3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12E5-8288-4A44-9D5B-EFCE3A6E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2F82-EE30-4005-B30B-6E3BEB5A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B792-C7C8-4F93-A6DB-0D5E6BE1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D266-52CC-4780-885F-049936C7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78FF-ABCD-4396-88D5-2D72C010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1B86-8714-4892-8BEA-FE1D86AC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EA853-F14A-49E3-AD04-359B9C33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54BB4-9EE8-42D7-B76A-DE5E4B21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EC7CF-EE92-4A5C-A050-5E6AD63D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17E55-4D98-4224-8D77-7A44E168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7A0A7-0E23-4097-AAC1-3BB5DF76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B96-5843-4AC1-BDFB-9A910649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A6488-9756-49A0-993B-0532C2E6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AE113-7DFF-47E5-A853-714B0E5D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052EA-3172-4E36-936C-DB56C46D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CC8C3-63A4-42E1-A762-E89B9FAA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26868-5E32-4169-8ACB-F692CA01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B5CF2-052C-4B47-9CDD-F2CE3062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A2641-EF75-45AA-9456-51A1ADD4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E5CBB-4AC0-4284-86BE-BC236CDB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73A8E-04F5-4002-8810-F177A122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EAF77-DF80-4314-9533-A4C80BBE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36DD-8F51-440C-AE72-4FACE9E3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E1AFC-99D8-460F-A83A-0A30D763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4B2CE-B195-45F7-A8CB-DF53E528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4A21E-00CC-4432-B82A-84B1F6AB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DF868-DAC8-4486-B850-32FAEB52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F562E-DDE4-4A59-A097-1E666D9C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3911B-7332-452B-83BA-0417EADF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2DCE2-45E4-478F-A651-836B75DB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ED19F-A042-4EB7-B7F0-2DCA49A7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0C0C0-9FBC-411B-BFF0-7CC86700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ABF1C-D184-4350-AB60-2E676F20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B1DF-8577-4290-8B3C-159FD12C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0CE32-50A0-4570-A1C8-E0CE92BE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77BFE-CFFD-4579-9751-625CE172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1F6E4-5AF8-42DF-8647-A5C34FFA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2A61F-8B93-4F34-AD34-10CC7D05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8A3AD-C328-469C-B783-68EBEDF9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4B872-5435-4CE2-A3CF-A9647FF9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6DBA2-3C26-4BB5-BD95-8BFF6F28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7D0B7-48A7-4994-9D31-0694A876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D3BBA-B1F7-46AB-BC36-C21E67CA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71E47-47A9-4D0F-B474-FA0CAD16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A9FD-A67F-4B08-8913-386D1695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63F45-FD11-4A66-A516-26109971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D50-3B8E-4C35-B5CE-2D205F5E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CA3-14AC-499A-8F1D-9C9662F2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EEA4-28C2-4667-BC05-CE2B50E2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B2AD-2B28-4310-9BF3-0485D2DFB77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B8B1-E6E1-4B08-86B8-0E6A8FC033C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E2A3-BA9C-4CC1-BA0B-7050D8205E3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2464-0B33-4BB4-B7F7-B80C2B856E3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C558-BF8D-4555-8313-6736D5573F0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96464"/>
                </a:solidFill>
                <a:latin typeface="Cambria"/>
              </a:rPr>
              <a:t>Презентация подготовлена по материалам книги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96464"/>
                </a:solidFill>
                <a:latin typeface="Cambria"/>
              </a:rPr>
              <a:t>«Учись быть пешеходом», авт. Е.М. Сосунова, М.Л. Форша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Остановочный путь автомобил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Проверь себя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85840" y="1447920"/>
            <a:ext cx="8572320" cy="51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2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чему улицы, по которым редко проезжают машины, могут быть опасными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2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Чем зонтик и капюшон куртки опасны для пешехода при переходе дороги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2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огда аварий больше – в начале гололёда или на второй день? Почему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3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3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3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3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3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3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3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3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3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2514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2d1f"/>
                </a:solidFill>
                <a:latin typeface="Calibri"/>
              </a:rPr>
              <a:t>Кроссворд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1143000" y="928800"/>
            <a:ext cx="66438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Всегда ли пешеходы ходят только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 по тротуару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714240" y="2500200"/>
            <a:ext cx="785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Где можно переходить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роезжую часть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357120" y="457200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На каком расстоянии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т едущего автомобиля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безопасно пересекать проезжую часть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2d1f"/>
                </a:solidFill>
                <a:latin typeface="Calibri"/>
              </a:rPr>
              <a:t>Что такое «остановочный путь»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2571840" y="78588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34817"/>
                </a:solidFill>
                <a:latin typeface="Cambria"/>
              </a:rPr>
              <a:t>Водитель заметил опасность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57120" y="1143000"/>
            <a:ext cx="8072640" cy="1000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285840" y="2786040"/>
            <a:ext cx="8143920" cy="118584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27"/>
          <p:cNvSpPr/>
          <p:nvPr/>
        </p:nvSpPr>
        <p:spPr>
          <a:xfrm>
            <a:off x="1214280" y="2000160"/>
            <a:ext cx="650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42217"/>
                </a:solidFill>
                <a:latin typeface="Cambria"/>
              </a:rPr>
              <a:t>Реакция водителя- </a:t>
            </a:r>
            <a:r>
              <a:rPr b="0" lang="ru-RU" sz="2400" spc="-1" strike="noStrike">
                <a:solidFill>
                  <a:srgbClr val="d34817"/>
                </a:solidFill>
                <a:latin typeface="Cambria"/>
              </a:rPr>
              <a:t>17 метров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(при скорости 60 км/ч)</a:t>
            </a:r>
            <a:r>
              <a:rPr b="0" lang="ru-RU" sz="1800" spc="-1" strike="noStrike">
                <a:solidFill>
                  <a:srgbClr val="742217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TextBox 28"/>
          <p:cNvSpPr/>
          <p:nvPr/>
        </p:nvSpPr>
        <p:spPr>
          <a:xfrm>
            <a:off x="5000760" y="257184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34817"/>
                </a:solidFill>
                <a:latin typeface="Cambria"/>
              </a:rPr>
              <a:t>Водитель нажал на тормоз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39" name="Прямая со стрелкой 30"/>
          <p:cNvCxnSpPr/>
          <p:nvPr/>
        </p:nvCxnSpPr>
        <p:spPr>
          <a:xfrm flipH="1">
            <a:off x="4428360" y="2856600"/>
            <a:ext cx="857880" cy="500760"/>
          </a:xfrm>
          <a:prstGeom prst="straightConnector1">
            <a:avLst/>
          </a:prstGeom>
          <a:ln w="507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40" name="TextBox 33"/>
          <p:cNvSpPr/>
          <p:nvPr/>
        </p:nvSpPr>
        <p:spPr>
          <a:xfrm>
            <a:off x="3786120" y="371484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42217"/>
                </a:solidFill>
                <a:latin typeface="Cambria"/>
              </a:rPr>
              <a:t>Срабатывание тормоза – </a:t>
            </a:r>
            <a:r>
              <a:rPr b="0" lang="ru-RU" sz="2400" spc="-1" strike="noStrike">
                <a:solidFill>
                  <a:srgbClr val="d34817"/>
                </a:solidFill>
                <a:latin typeface="Cambria"/>
              </a:rPr>
              <a:t>3 метр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3"/>
          <a:stretch/>
        </p:blipFill>
        <p:spPr>
          <a:xfrm>
            <a:off x="357120" y="4643280"/>
            <a:ext cx="8143920" cy="1235160"/>
          </a:xfrm>
          <a:prstGeom prst="rect">
            <a:avLst/>
          </a:prstGeom>
          <a:ln w="0">
            <a:noFill/>
          </a:ln>
        </p:spPr>
      </p:pic>
      <p:cxnSp>
        <p:nvCxnSpPr>
          <p:cNvPr id="242" name="Прямая со стрелкой 36"/>
          <p:cNvCxnSpPr/>
          <p:nvPr/>
        </p:nvCxnSpPr>
        <p:spPr>
          <a:xfrm flipH="1">
            <a:off x="1571400" y="1070640"/>
            <a:ext cx="1072080" cy="572040"/>
          </a:xfrm>
          <a:prstGeom prst="straightConnector1">
            <a:avLst/>
          </a:prstGeom>
          <a:ln w="507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43" name="TextBox 39"/>
          <p:cNvSpPr/>
          <p:nvPr/>
        </p:nvSpPr>
        <p:spPr>
          <a:xfrm>
            <a:off x="5143680" y="428616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34817"/>
                </a:solidFill>
                <a:latin typeface="Cambria"/>
              </a:rPr>
              <a:t>Начало торможения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44" name="Прямая со стрелкой 41"/>
          <p:cNvCxnSpPr/>
          <p:nvPr/>
        </p:nvCxnSpPr>
        <p:spPr>
          <a:xfrm flipH="1">
            <a:off x="4928400" y="4572000"/>
            <a:ext cx="429480" cy="572400"/>
          </a:xfrm>
          <a:prstGeom prst="straightConnector1">
            <a:avLst/>
          </a:prstGeom>
          <a:ln w="507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45" name="TextBox 43"/>
          <p:cNvSpPr/>
          <p:nvPr/>
        </p:nvSpPr>
        <p:spPr>
          <a:xfrm>
            <a:off x="4000680" y="5357880"/>
            <a:ext cx="47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42217"/>
                </a:solidFill>
                <a:latin typeface="Cambria"/>
              </a:rPr>
              <a:t>Тормозной путь по инерции – </a:t>
            </a:r>
            <a:r>
              <a:rPr b="0" lang="ru-RU" sz="2400" spc="-1" strike="noStrike">
                <a:solidFill>
                  <a:srgbClr val="d34817"/>
                </a:solidFill>
                <a:latin typeface="Cambria"/>
              </a:rPr>
              <a:t>20 метров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TextBox 44"/>
          <p:cNvSpPr/>
          <p:nvPr/>
        </p:nvSpPr>
        <p:spPr>
          <a:xfrm>
            <a:off x="1571760" y="5857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mbria"/>
              </a:rPr>
              <a:t>ОСТАНОВОЧНЫЙ ПУТЬ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b2d1f"/>
                </a:solidFill>
                <a:latin typeface="Calibri"/>
              </a:rPr>
              <a:t>Остановочный путь удлиняется из-за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928800"/>
            <a:ext cx="777240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lnSpc>
                <a:spcPct val="2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Увеличения скорости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вижения автомобил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lnSpc>
                <a:spcPct val="2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Невнима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или </a:t>
            </a: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недомогания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водител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lnSpc>
                <a:spcPct val="2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Неисправных тормозов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ли </a:t>
            </a: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изношенных ши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lnSpc>
                <a:spcPct val="2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Неблагоприятных погодных условий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снег, дождь, гололёд, опавшие листья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Внимание, опасность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2071800" y="1571760"/>
            <a:ext cx="5429160" cy="428616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Внимание, опасность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643040" y="1571760"/>
            <a:ext cx="6437160" cy="421452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b2d1f"/>
                </a:solidFill>
                <a:latin typeface="Calibri"/>
              </a:rPr>
              <a:t>У какого автомобиля </a:t>
            </a:r>
            <a:br>
              <a:rPr sz="3600"/>
            </a:br>
            <a:r>
              <a:rPr b="0" lang="ru-RU" sz="3600" spc="-1" strike="noStrike">
                <a:solidFill>
                  <a:srgbClr val="9b2d1f"/>
                </a:solidFill>
                <a:latin typeface="Calibri"/>
              </a:rPr>
              <a:t>тормозной путь будет больше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4" name="Содержимое 3" descr="задание.png"/>
          <p:cNvPicPr/>
          <p:nvPr/>
        </p:nvPicPr>
        <p:blipFill>
          <a:blip r:embed="rId1"/>
          <a:srcRect l="5009" t="8805" r="4321" b="5658"/>
          <a:stretch/>
        </p:blipFill>
        <p:spPr>
          <a:xfrm>
            <a:off x="571680" y="1500120"/>
            <a:ext cx="79009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b2d1f"/>
                </a:solidFill>
                <a:latin typeface="Calibri"/>
              </a:rPr>
              <a:t>Скорость автомобилей одинаковая. </a:t>
            </a:r>
            <a:br>
              <a:rPr sz="3600"/>
            </a:br>
            <a:r>
              <a:rPr b="0" lang="ru-RU" sz="3600" spc="-1" strike="noStrike">
                <a:solidFill>
                  <a:srgbClr val="9b2d1f"/>
                </a:solidFill>
                <a:latin typeface="Calibri"/>
              </a:rPr>
              <a:t>На что указывают стрелки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928800" y="1386000"/>
            <a:ext cx="749304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b2d1f"/>
                </a:solidFill>
                <a:latin typeface="Calibri"/>
              </a:rPr>
              <a:t>У какого автомобиля тормозной путь будет больше и почему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7981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7:01:05Z</dcterms:created>
  <dc:creator>Galanovi</dc:creator>
  <dc:description/>
  <dc:language>en-US</dc:language>
  <cp:lastModifiedBy>Galanovi</cp:lastModifiedBy>
  <dcterms:modified xsi:type="dcterms:W3CDTF">2011-05-09T13:35:25Z</dcterms:modified>
  <cp:revision>15</cp:revision>
  <dc:subject/>
  <dc:title>Остановочный путь автомобиля</dc:title>
</cp:coreProperties>
</file>