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508-2DE4-42F2-807D-91AA0CBF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9F4-3512-4014-9353-6068FC1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B82-C8E9-4FFB-AC13-408EA56A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370-FF49-496F-9525-BFF9E20C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A6F-CB1B-429A-B5FA-4955611D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260D-5B3F-4862-B54E-2A2A0BE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960-70AF-4A7E-839F-3AE52702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8539-0CB6-4AEE-8A46-783626A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DEA0-D0B1-4891-A778-C80701B4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0181-95A1-40DD-91F4-42E005BF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EBA-98F4-409A-B0D6-A3229D0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33D-C6E4-473E-92EF-2C8C961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F3A-055D-4FFA-894D-A910456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B35-694D-4D8B-829D-8E1FBDD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51C-49FE-4E0A-88C1-D18A348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46C-F418-4A64-B461-A44A8B39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C61-A532-491D-8F9D-4AD57689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5BD1-4D42-4FCF-9A42-5FB769AD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C7AB-AEF4-44C1-9548-E838C404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B1D3-EB43-440B-BD70-EF7F0919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B783-A194-487B-91AC-BC7B6A42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1C1C-8057-4BD8-8DE9-A925548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6EC-9457-4B47-9622-D4D936BD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BD19-6E46-4C6E-8350-28EFCB1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35B4-794A-4ECA-A623-F7FB31F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FD8D-0835-4BA1-AE61-09FE246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5764-CA14-443B-8CEE-844B44D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9463-8A2E-456C-A3B9-18054C3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5C7A-EFA4-42EB-BC90-F9A3C7D0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05EF-2467-4831-BB16-82EAD7AA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9E09-4F3E-41CE-9853-4EF36384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071D-D306-4311-A80B-FB8684BB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9990-45CC-497F-8F93-E8D946A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C19-E6B5-42F7-B048-FEAC726D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2F3A-3EDC-46CA-AF10-B2E4963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29C6-A24C-4A76-863B-C09B03F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C79D-0D78-41DD-9EBD-AA86251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6279-80FE-468E-B1E4-974B576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1317-FA00-4CFA-83AD-F8E1DBA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AB57-5CED-4D40-8BB2-74DA6C9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925B-06DA-4A13-B6EB-BFF34D84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B6A0-14FB-4ECC-BD4F-B96FA467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5169-0AA9-4EDE-A4E7-E1DE297D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242FD-B70C-4089-A65E-D0F78927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2B3-933A-4FE3-A2E7-F733E59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E6EE-2722-428E-8E89-31DD6C19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DD39-4814-4BB3-BD02-5AA971D1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B5C1-3858-4212-B2F8-5F9CB39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4B2D-FEC8-4E56-9349-4CE47E2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F816-64B7-47A9-9E6C-B3C5678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0E43-42D3-485C-99AB-9EAD1E2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FC3D-B5F6-42B9-818E-E44EEB3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8C43-46B8-41E9-9CF9-A8060C6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E677-E87E-42AC-8CFA-3816F28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F3686-58EF-4A41-9116-DFD82D74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EAF-F90C-469D-A9B1-208ED18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9EFD-6CFF-4984-800C-F554B151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C69-30E0-4674-8D9F-08F5D35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A76-8263-4AB1-A0C4-188FA1E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0E2-D877-471D-8471-972353E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0C18-7E85-4AEE-A210-DA4B9651FD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CDF2-DCB0-4C93-A87E-C095102A7E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B5C-22DB-43D9-87AD-4396861568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7AA3-4ACF-47C7-B1A2-0F06F0D8A46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B1D-761D-44B4-80E4-CD163BEBCA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Cambria"/>
              </a:rPr>
              <a:t>Презентация подготовлена по материалам книг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Cambria"/>
              </a:rPr>
              <a:t>«Учись быть пешеходом», авт. Е.М. Сосунова, М.Л. Форша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становочный путь автомобил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85840" y="1447920"/>
            <a:ext cx="857232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улицы, по которым редко проезжают машины, могут быть опасным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ем зонтик и капюшон куртки опасны для пешехода при переходе дорог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аварий больше – в начале гололёда или на второй день? Почему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2514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Кроссвор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643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сегда ли пешеходы ходят только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по тротуар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714240" y="250020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Где можно переходить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роезжую част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57120" y="45720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На каком расстоянии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 едущего автомобиля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безопасно пересекать проезжую част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Что такое «остановочный путь»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2571840" y="7858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Водитель заметил опасност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7120" y="1143000"/>
            <a:ext cx="8072640" cy="100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143920" cy="11858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7"/>
          <p:cNvSpPr/>
          <p:nvPr/>
        </p:nvSpPr>
        <p:spPr>
          <a:xfrm>
            <a:off x="1214280" y="2000160"/>
            <a:ext cx="650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Реакция водителя-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17 метров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при скорости 60 км/ч)</a:t>
            </a: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5000760" y="2571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Водитель нажал на тормоз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39" name="Прямая со стрелкой 30"/>
          <p:cNvCxnSpPr/>
          <p:nvPr/>
        </p:nvCxnSpPr>
        <p:spPr>
          <a:xfrm flipH="1">
            <a:off x="4428360" y="2856600"/>
            <a:ext cx="857880" cy="50076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0" name="TextBox 33"/>
          <p:cNvSpPr/>
          <p:nvPr/>
        </p:nvSpPr>
        <p:spPr>
          <a:xfrm>
            <a:off x="3786120" y="37148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Срабатывание тормоза –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3 мет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357120" y="4643280"/>
            <a:ext cx="8143920" cy="1235160"/>
          </a:xfrm>
          <a:prstGeom prst="rect">
            <a:avLst/>
          </a:prstGeom>
          <a:ln w="0">
            <a:noFill/>
          </a:ln>
        </p:spPr>
      </p:pic>
      <p:cxnSp>
        <p:nvCxnSpPr>
          <p:cNvPr id="242" name="Прямая со стрелкой 36"/>
          <p:cNvCxnSpPr/>
          <p:nvPr/>
        </p:nvCxnSpPr>
        <p:spPr>
          <a:xfrm flipH="1">
            <a:off x="1571400" y="1070640"/>
            <a:ext cx="1072080" cy="57204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3" name="TextBox 39"/>
          <p:cNvSpPr/>
          <p:nvPr/>
        </p:nvSpPr>
        <p:spPr>
          <a:xfrm>
            <a:off x="5143680" y="42861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Начало торможения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4" name="Прямая со стрелкой 41"/>
          <p:cNvCxnSpPr/>
          <p:nvPr/>
        </p:nvCxnSpPr>
        <p:spPr>
          <a:xfrm flipH="1">
            <a:off x="4928400" y="4572000"/>
            <a:ext cx="429480" cy="57240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5" name="TextBox 43"/>
          <p:cNvSpPr/>
          <p:nvPr/>
        </p:nvSpPr>
        <p:spPr>
          <a:xfrm>
            <a:off x="4000680" y="535788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Тормозной путь по инерции –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20 метров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TextBox 44"/>
          <p:cNvSpPr/>
          <p:nvPr/>
        </p:nvSpPr>
        <p:spPr>
          <a:xfrm>
            <a:off x="1571760" y="5857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ОСТАНОВОЧНЫЙ ПУТЬ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Остановочный путь удлиняется из-з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928800"/>
            <a:ext cx="7772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Увеличения скорости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вижения автомоби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внима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домог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одите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исправных тормозов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ли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изношенных ш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благоприятных погодных условий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снег, дождь, гололёд, опавшие листья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нимание, опаснос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429160" cy="42861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нимание, опаснос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6437160" cy="4214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У какого автомобиля </a:t>
            </a:r>
            <a:br>
              <a:rPr sz="3600"/>
            </a:b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тормозной путь будет больше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4" name="Содержимое 3" descr="задание.png"/>
          <p:cNvPicPr/>
          <p:nvPr/>
        </p:nvPicPr>
        <p:blipFill>
          <a:blip r:embed="rId1"/>
          <a:srcRect l="5009" t="8805" r="4321" b="5658"/>
          <a:stretch/>
        </p:blipFill>
        <p:spPr>
          <a:xfrm>
            <a:off x="571680" y="1500120"/>
            <a:ext cx="7900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Скорость автомобилей одинаковая. </a:t>
            </a:r>
            <a:br>
              <a:rPr sz="3600"/>
            </a:b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На что указывают стрелки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28800" y="1386000"/>
            <a:ext cx="74930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У какого автомобиля тормозной путь будет больше и почем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798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7:01:05Z</dcterms:created>
  <dc:creator>Galanovi</dc:creator>
  <dc:description/>
  <dc:language>en-US</dc:language>
  <cp:lastModifiedBy>Galanovi</cp:lastModifiedBy>
  <dcterms:modified xsi:type="dcterms:W3CDTF">2011-05-09T13:35:25Z</dcterms:modified>
  <cp:revision>15</cp:revision>
  <dc:subject/>
  <dc:title>Остановочный путь автомобиля</dc:title>
</cp:coreProperties>
</file>