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275-CB8A-465C-BDB1-0A2C3DA9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173-DC28-425F-9287-91A33677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E57-C612-4838-8D67-B895436C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B97-A783-4BD3-875F-EBA66A60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B0C-1A2C-4528-A09E-822BB8CC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0BE-8628-4DE5-A964-CA1DFC09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1CD-C2FF-4C29-8237-A91F0A26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9FB-2590-440D-97C0-04A6817A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E73-2026-4E57-B597-9725FAB1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B53-1C4D-4461-B487-7A74F8FF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1DD-0C08-475C-AC54-5224BCC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844-5CBA-42ED-9A96-3B92344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2BF9-C6E9-4656-95AF-BA8BD44BE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1413000"/>
            <a:ext cx="6851880" cy="28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НТРОПОГЕННО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ЗДЕЙСТВ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БИОСФЕР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584680" y="573336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а: Вольските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581440" y="61650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ила: Щур Н.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а – важный компонент биосферы и один из необходимых факторов существования живых организмов. Основная ее часть (95%) находится в Мировом океане, который занимает около 70 % поверхности Земного шара и содержит 1 300 млн. к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1930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ое значение имеют газы, растворенные в воде: кислород и диоксид углерода. Их содержание широко варьируется в зависимости от температуры и присутствия живых организмов. В воде содержится в 60 раз больше диоксида углерода, чем в атм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 формировалась в связи с развитием литосферы, которая в течение геологической истории Земли выделяла большое количество водяного п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2421000"/>
            <a:ext cx="626436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Лит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ая масса организмов, обитающих в пределах литосферы, находится в почвенном слое, глубина которого не превышает нескольких метров. Почва включает минеральные вещества, образующиеся при разрушении горных пород, и органические вещества – продукты жизнедеятельности организм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-53002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ый человек сформировался около 30-40 тыс. лет назад. С этого времени в эволюции биосферы стал действовать новый фактор – антропогенный. С появлением и развитием челове­чества процесс эволюции заметно видоизменил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шь в последние 2 тысячи лет антропогенное влияние на биосферу стало ощущаться в связи с выпасом скота, подсечно-огневой системой земледелия и добычей полезных ископ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351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ящие сдвиги в биосферных процессах начались в ХХ веке в результате научно-технической (промышленной) ре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ческая деятельность стала сравнима по масштабам с естественными процессами происходящими в биосф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ость потре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чеством энер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атериальных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т пропорцион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енности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аже опереж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прир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a056f36cefa4e20bba07a823524c405"/>
          <p:cNvPicPr/>
          <p:nvPr/>
        </p:nvPicPr>
        <p:blipFill>
          <a:blip r:embed="rId1"/>
          <a:stretch/>
        </p:blipFill>
        <p:spPr>
          <a:xfrm>
            <a:off x="5867280" y="2708280"/>
            <a:ext cx="2963880" cy="395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4723920"/>
            <a:ext cx="882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т населения и расширяюшееся развитие сельского хозяйства, промышленности, строительства, транспорта вызвали массовое уничтожение л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J0289252"/>
          <p:cNvPicPr/>
          <p:nvPr/>
        </p:nvPicPr>
        <p:blipFill>
          <a:blip r:embed="rId1"/>
          <a:stretch/>
        </p:blipFill>
        <p:spPr>
          <a:xfrm>
            <a:off x="826920" y="189000"/>
            <a:ext cx="7510680" cy="4513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-5156640"/>
            <a:ext cx="277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4869000"/>
            <a:ext cx="85186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реблены десятки видов животных и сотни видов видов растений. В их числе мамонт, сумчатый волк, европейский тур, дикая лошадь, европейский слон, квагга, европейский носорог и многие други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00052"/>
          <p:cNvPicPr/>
          <p:nvPr/>
        </p:nvPicPr>
        <p:blipFill>
          <a:blip r:embed="rId1"/>
          <a:stretch/>
        </p:blipFill>
        <p:spPr>
          <a:xfrm>
            <a:off x="1116000" y="115920"/>
            <a:ext cx="6769080" cy="464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859280" y="404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мчатый 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____(2)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6659640" y="83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ваг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68360" y="1094760"/>
            <a:ext cx="8285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сегда использовал окружающую среду как источник ресурсов. В течение длительного времени его деятельность не оказывала заметного влияния на биосферу. В конц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олетия изменения биосферы под влиянием хозяйственной деятельности обратили на себя внимание ученых. С первой полов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 эти изменения нарастали и в настоящее время лавиной обрушились на человеческую цивилизацию. Стремясь к улучшению условий своей жизни, человек постоянно наращивает темпы материального производства, не задумываясь о последствиях. Это создает угрозу и существованию биосферы, и сам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95280" y="5300640"/>
            <a:ext cx="410364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 р о ф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79"/>
            </a:gs>
            <a:gs pos="50000">
              <a:srgbClr val="ffffff"/>
            </a:gs>
            <a:gs pos="100000">
              <a:srgbClr val="ffc9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грязнение природной среды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грязн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наличие в окружающей среде вредных веществ, нарушающих функционирование экологических систем или их отдельных элементов и снижающих качество среды с точки зрения проживания человека или ведения им хозяйствен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53002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грязнение поч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мадные площади плодородных земель погибают при горнопромышленных работах, при строительстве предприятий и городов. Уничтожение лесов и естественного травянистого покрова, многократная распашка земли без соблюдения правил агротехники приводит к  возникновению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роз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вы - разрушению и  смыву плодородного слоя водой и вет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68360" y="4292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оли основных загрязнителей почв выступают металлы и их соединения, радиоактивные элементы, а также удобрения и ядохимикаты, применяемые в сельском хозяй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СВАЛКА"/>
          <p:cNvPicPr/>
          <p:nvPr/>
        </p:nvPicPr>
        <p:blipFill>
          <a:blip r:embed="rId1"/>
          <a:stretch/>
        </p:blipFill>
        <p:spPr>
          <a:xfrm>
            <a:off x="2195640" y="189000"/>
            <a:ext cx="5327640" cy="36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ТЯЖЁЛЫЕ МЕТАЛЛЫ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ff"/>
            </a:gs>
            <a:gs pos="50000">
              <a:srgbClr val="ffffff"/>
            </a:gs>
            <a:gs pos="100000">
              <a:srgbClr val="c5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грязнение природных вод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 загрязнением водоемов понимается снижение их биосферных функций и экономического значения в результате поступления в них вредных вещест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c97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504864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496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основных загрязнителей воды является нефть и нефтепродук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источники загрязнения связаны с человеческой деятельностью: нефтедобычей, транспортировкой, переработкой и использованием нефти в качестве топлива и промышленного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185091"/>
          <p:cNvPicPr/>
          <p:nvPr/>
        </p:nvPicPr>
        <p:blipFill>
          <a:blip r:embed="rId1"/>
          <a:stretch/>
        </p:blipFill>
        <p:spPr>
          <a:xfrm>
            <a:off x="5003640" y="404640"/>
            <a:ext cx="3962520" cy="5877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040" y="-4152600"/>
            <a:ext cx="92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чество сегодня самая мощная глобальная сила в биосфере. В своем стремлении к улучшению условий существования оно постоянно наращивает темпы материального производства, зачастую не задумываясь о последствия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51566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человек увеличил объем привычных для природы загрязнений настолько, что она не успевает их перерабатывать. Он  стал вырабатывать такие загрязнения, для переработки которых в природе пока нет соответствующих видов, а для некоторых загрязнений, к примеру, радиоактивных, их никогда и не поя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ff"/>
            </a:gs>
            <a:gs pos="50000">
              <a:srgbClr val="ffffff"/>
            </a:gs>
            <a:gs pos="100000">
              <a:srgbClr val="c5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-523584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выхода из  этой ситуации имеются лишь два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либо положиться на волю стихии, ̶  в этом случае наступающий кризис приведёт к уничтожению человече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либо разработать разумную стратегию природопользования, общую для всего человечества. Она должна быть направлена на преобразование биосферы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50000">
              <a:srgbClr val="ffffff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24000" y="327240"/>
            <a:ext cx="5398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60 лет назад выдающийся русский ученый академик Владимир Иванович Вернадский разработал учение о биосфере – оболочке Земли, населенной живыми организмами. В.И.Вернадский распространил понятие биосферы не только на организмы, но и на среду обитания. Он выявил геологическую роль живых организмов и показал, что их деятельность представляет собой важнейший фактор преобразования минеральных оболочек план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v_021"/>
          <p:cNvPicPr/>
          <p:nvPr/>
        </p:nvPicPr>
        <p:blipFill>
          <a:blip r:embed="rId1"/>
          <a:stretch/>
        </p:blipFill>
        <p:spPr>
          <a:xfrm>
            <a:off x="6084720" y="1773360"/>
            <a:ext cx="2548080" cy="2835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900000" y="1341360"/>
            <a:ext cx="56199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763640" y="3933720"/>
            <a:ext cx="605016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00424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оставе биосферы различают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живое вещество, образованное совокупностью организмов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иогенное вещество, которое создается в процессе жизнедеятельности организмов (газы атмосферы, каменный уголь, известняки и другие)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сное вещество, образующееся без участия живых организмов (основные породы, лава вулканов, метеориты)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иокосное вещество, представляющее собой совместный результат жизнедеятельности организмов и абиогенных процессов (почв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16000" y="1773360"/>
            <a:ext cx="6840720" cy="19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Атм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зовая оболочка состоит в основном из азота и кислорода. В небольших количествах в ней содержится диоксид углерода(0,003 %) и озон. Состояние атмосферы оказывает большое влияние на физические, химические и биологические процессы на поверхности Земли и в водной сред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иологических процессов наибольшее значение имеют: кислород, используемый для дыхания и минерализации мертвого органического вещества, диоксид углерода, участвующий в фотосинтезе, и озон экранирующий земную поверхность от жесткого ультрафиолетового излучения. Азот, диоксид углерода, пары воды образовались в значительной мере благодаря вулканической деятельности, а кислород – в результате фотосинт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1403280" y="2997360"/>
            <a:ext cx="640872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Гидр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6:27:03Z</dcterms:created>
  <dc:creator>7</dc:creator>
  <dc:description/>
  <dc:language>en-US</dc:language>
  <cp:lastModifiedBy>Administrator</cp:lastModifiedBy>
  <dcterms:modified xsi:type="dcterms:W3CDTF">2011-05-18T06:58:08Z</dcterms:modified>
  <cp:revision>6</cp:revision>
  <dc:subject/>
  <dc:title>Слайд 1</dc:title>
</cp:coreProperties>
</file>