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70B-7E3F-40B6-BF22-04CAE4C7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31A-525A-4602-A873-69448FA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07E-659A-4162-B246-FD088CFD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2E2-7E5C-431F-B232-6EC12175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BA79-5FF0-45D0-9BAE-B2EBF1D9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322D-DF38-48D5-A3EA-155B8081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96C-7B84-4B07-9DF5-FE6B4ED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D90-A11C-47D0-80CF-87045E0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DCC-9C56-423A-A255-56D60F62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1F7E-286D-417D-BE6F-E2C45FD2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AEC2-DBDE-4501-AB7A-9E3E6ED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D0A-96F6-48A8-AD5B-E204C7C2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135C-0BA6-480A-B4D2-2BBC3BF6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1AEC-1545-41D3-AC4E-414E3D36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2119-A905-4A75-A0C4-4BE91F3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E62C-49DD-4149-9F86-DEF64756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321-B8F8-4047-BFD7-54583885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A8D-52CE-47FD-8FCC-DC6669A6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D4C-F2C3-40EA-8438-25CC4D4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DAD-9CA5-46DE-9A19-9303CA3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561-9D1D-4288-A223-37A00387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B507-21A4-4F5C-A7EA-4E42BF96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ABD-091E-45EA-A79F-38A84EF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D51-301C-4E35-A190-1BC3615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94BB-23C5-4AB1-B9A8-283036A8DF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0B5E-8685-45F6-A931-16EB43BE9E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Единственное существо, у которого мы все в неоплатном долгу-</a:t>
            </a:r>
            <a:br>
              <a:rPr sz="5000"/>
            </a:br>
            <a:br>
              <a:rPr sz="5000"/>
            </a:br>
            <a:r>
              <a:rPr b="0" lang="ru-RU" sz="50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5000" spc="-1" strike="noStrike">
                <a:solidFill>
                  <a:srgbClr val="ff3305"/>
                </a:solidFill>
                <a:latin typeface="Arial Black"/>
              </a:rPr>
              <a:t>мама!</a:t>
            </a:r>
            <a:br>
              <a:rPr sz="5000"/>
            </a:br>
            <a:endParaRPr b="0" lang="en-US" sz="5000" spc="-1" strike="noStrike">
              <a:solidFill>
                <a:srgbClr val="ffff99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300400" cy="25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3292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Своей жизнью мы обязаны матери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68980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растит нас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2767320" cy="310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23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Мама заботится о нас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80836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32360" y="1916280"/>
            <a:ext cx="26924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Мама </a:t>
            </a:r>
            <a:r>
              <a:rPr b="0" lang="en-US" sz="3600" spc="-1" strike="noStrike">
                <a:solidFill>
                  <a:srgbClr val="ffff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работает и воспитывает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095640" cy="2268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251928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Кто ждет  ?..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2378160" cy="180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3284640"/>
            <a:ext cx="2522520" cy="2719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2737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 Black"/>
              </a:rPr>
              <a:t>Образ матери в исскустве.</a:t>
            </a:r>
            <a:endParaRPr b="0" lang="en-US" sz="3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8748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76360" y="1268280"/>
            <a:ext cx="2232000" cy="2497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1729080" cy="2409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219640" y="2133720"/>
            <a:ext cx="2665440" cy="3759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Помни о матери всегда…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3513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Это тоже по теме.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4263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19:52Z</dcterms:created>
  <dc:creator>USER20</dc:creator>
  <dc:description/>
  <cp:keywords/>
  <dc:language>en-US</dc:language>
  <cp:lastModifiedBy>ad</cp:lastModifiedBy>
  <dcterms:modified xsi:type="dcterms:W3CDTF">2009-10-18T17:10:49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