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D849-F8EE-4038-9204-D49524CA6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7543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3872160"/>
            <a:ext cx="7543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1449-D469-4ABC-B533-11A7697F3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7440" y="152352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387216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7440" y="387216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FF2A-EEA5-447E-9C89-CECF92EE6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242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360" y="1523520"/>
            <a:ext cx="242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3320" y="1523520"/>
            <a:ext cx="242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3872160"/>
            <a:ext cx="242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360" y="3872160"/>
            <a:ext cx="242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3320" y="3872160"/>
            <a:ext cx="242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B1D6-E7C6-489E-B230-F38BE7EE9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85267-A514-414F-83D2-3D15F242A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1760" y="15235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D4AD3-D6E9-4554-80EE-1AABEA68A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CFDD3-3F58-4E5B-81C6-0FAB20A22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36813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27440" y="1523520"/>
            <a:ext cx="36813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D1D90-C3A5-48CF-A123-3C8F2C658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B02D0-1F65-47A6-8D35-FB7787E0E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1760" y="3045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51C59-AF2C-4351-B8FE-9C1AAE079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7440" y="1523520"/>
            <a:ext cx="36813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1760" y="387216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F8128-7708-4B70-B105-CBB485BED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15235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88CC-43EE-493C-BE5C-1D5D27602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36813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7440" y="152352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27440" y="387216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64ACD-6381-44E1-B5EF-79F9B42D4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7440" y="152352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1760" y="3872160"/>
            <a:ext cx="7543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7A9AB-9A53-4B45-AECD-30228631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7543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1760" y="3872160"/>
            <a:ext cx="7543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3AB6D-1ABA-49A8-9C3F-01BD872B2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27440" y="152352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1760" y="387216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27440" y="387216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E2314-4914-43D7-96CE-61D424AEE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242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2360" y="1523520"/>
            <a:ext cx="242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63320" y="1523520"/>
            <a:ext cx="242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1760" y="3872160"/>
            <a:ext cx="242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2360" y="3872160"/>
            <a:ext cx="242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63320" y="3872160"/>
            <a:ext cx="242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0AC51-FEBF-402E-B192-0CE3FFB21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70EE-331A-4F94-96A4-A8106ED0D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36813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7440" y="1523520"/>
            <a:ext cx="36813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AAEC-43C8-4D88-AF0C-5536C7C96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0A93-B8B9-4A86-91DC-1715C54BE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3045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0934-D81B-4D28-B491-D05134A20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7440" y="1523520"/>
            <a:ext cx="36813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387216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88E1-9517-4112-AD30-C31456E48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36813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7440" y="152352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7440" y="387216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2EAA-C0E2-4381-87BA-FDA312EA8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7440" y="152352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3872160"/>
            <a:ext cx="7543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A539-F2B6-432C-B53B-D5F1F8BAC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5235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590920" y="609588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96216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4320" y="609588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A90DC-A300-4F58-9805-D48BA374061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0"/>
            <a:ext cx="7467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99"/>
                </a:solidFill>
                <a:latin typeface="Arial Black"/>
              </a:rPr>
              <a:t>Click to edit the title text format</a:t>
            </a:r>
            <a:endParaRPr b="0" lang="en-US" sz="56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6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361960" y="617220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102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7BD71-BAE2-4D06-86BD-5ED07806BBB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286000"/>
            <a:ext cx="7467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99"/>
                </a:solidFill>
                <a:latin typeface="Arial Black"/>
              </a:rPr>
              <a:t>Единственное существо, у которого мы все в неоплатном долгу-</a:t>
            </a:r>
            <a:br>
              <a:rPr sz="5000"/>
            </a:br>
            <a:br>
              <a:rPr sz="5000"/>
            </a:br>
            <a:r>
              <a:rPr b="0" lang="ru-RU" sz="5000" spc="-1" strike="noStrike">
                <a:solidFill>
                  <a:srgbClr val="ffff99"/>
                </a:solidFill>
                <a:latin typeface="Arial Black"/>
              </a:rPr>
              <a:t> </a:t>
            </a:r>
            <a:r>
              <a:rPr b="0" lang="ru-RU" sz="5000" spc="-1" strike="noStrike">
                <a:solidFill>
                  <a:srgbClr val="ff3305"/>
                </a:solidFill>
                <a:latin typeface="Arial Black"/>
              </a:rPr>
              <a:t>мама!</a:t>
            </a:r>
            <a:br>
              <a:rPr sz="5000"/>
            </a:br>
            <a:endParaRPr b="0" lang="en-US" sz="5000" spc="-1" strike="noStrike">
              <a:solidFill>
                <a:srgbClr val="ffff99"/>
              </a:solidFill>
              <a:latin typeface="Arial Black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156360" y="3789360"/>
            <a:ext cx="2300400" cy="25192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971640" y="4508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232922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99"/>
                </a:solidFill>
                <a:latin typeface="Arial Black"/>
              </a:rPr>
              <a:t>Своей жизнью мы обязаны матери.</a:t>
            </a:r>
            <a:endParaRPr b="0" lang="en-US" sz="36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547640" y="2133720"/>
            <a:ext cx="5689800" cy="372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 Black"/>
              </a:rPr>
              <a:t>Мама растит нас</a:t>
            </a: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003640" y="2492280"/>
            <a:ext cx="2767320" cy="3105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403280" y="1916280"/>
            <a:ext cx="22320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 Black"/>
              </a:rPr>
              <a:t>Мама заботится о нас.</a:t>
            </a: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971640" y="2205000"/>
            <a:ext cx="2808360" cy="1800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4932360" y="1916280"/>
            <a:ext cx="2692440" cy="33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00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99"/>
                </a:solidFill>
                <a:latin typeface="Arial Black"/>
              </a:rPr>
              <a:t>Мама </a:t>
            </a:r>
            <a:r>
              <a:rPr b="0" lang="en-US" sz="3600" spc="-1" strike="noStrike">
                <a:solidFill>
                  <a:srgbClr val="ffff99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ffff99"/>
                </a:solidFill>
                <a:latin typeface="Arial Black"/>
              </a:rPr>
              <a:t>работает и воспитывает.</a:t>
            </a:r>
            <a:endParaRPr b="0" lang="en-US" sz="36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932360" y="1628640"/>
            <a:ext cx="3095640" cy="22687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692360" y="2276640"/>
            <a:ext cx="2519280" cy="31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 Black"/>
              </a:rPr>
              <a:t>Кто ждет  ?...</a:t>
            </a: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867280" y="1341360"/>
            <a:ext cx="2378160" cy="18050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211640" y="3284640"/>
            <a:ext cx="2522520" cy="2719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1042920" y="2492280"/>
            <a:ext cx="273708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6000"/>
                            </p:stCondLst>
                            <p:childTnLst>
                              <p:par>
                                <p:cTn id="7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99"/>
                </a:solidFill>
                <a:latin typeface="Arial Black"/>
              </a:rPr>
              <a:t>Образ матери в исскустве.</a:t>
            </a:r>
            <a:endParaRPr b="0" lang="en-US" sz="36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812000" y="333360"/>
            <a:ext cx="987480" cy="13716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1476360" y="1268280"/>
            <a:ext cx="2232000" cy="24973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826920" y="3500280"/>
            <a:ext cx="1729080" cy="24098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5219640" y="2133720"/>
            <a:ext cx="2665440" cy="37591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8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500"/>
                            </p:stCondLst>
                            <p:childTnLst>
                              <p:par>
                                <p:cTn id="1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7500"/>
                            </p:stCondLst>
                            <p:childTnLst>
                              <p:par>
                                <p:cTn id="1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 Black"/>
              </a:rPr>
              <a:t>Помни о матери всегда…</a:t>
            </a: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627280" y="1628640"/>
            <a:ext cx="351324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 Black"/>
              </a:rPr>
              <a:t>Это тоже по теме.</a:t>
            </a: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195640" y="1557360"/>
            <a:ext cx="426384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4:19:52Z</dcterms:created>
  <dc:creator>USER20</dc:creator>
  <dc:description/>
  <cp:keywords/>
  <dc:language>en-US</dc:language>
  <cp:lastModifiedBy>ad</cp:lastModifiedBy>
  <dcterms:modified xsi:type="dcterms:W3CDTF">2009-10-18T17:10:49Z</dcterms:modified>
  <cp:revision>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211049</vt:lpwstr>
  </property>
</Properties>
</file>