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A9E-6927-46F4-A43A-6847BA38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AB3-2F29-4589-AC26-F348FC5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EE1-5B59-42C2-BD3E-3D9CA9E0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A9A-AB1B-4CC8-BE5C-B86F5BDE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DB2E-5A59-4B24-A633-1B7F4900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BF21-B8F9-422B-AC39-EA06F607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8B4C-D492-4D3B-B91A-122B69C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6EC7-DB2A-4EAB-98C5-FDDD1D42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13C-6ADC-48B1-80C2-A1E0CB6E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D0A-C761-4DD6-AA19-124E3A1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06C-0DDB-458F-B956-C67D225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11C-F908-4471-8E04-A13B92E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C130-2BAD-46AE-A6B8-8513ED6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350-2627-499D-8DBC-57E1A631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1E9B-0928-46F1-AC2E-8687A3C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9454-3066-4D07-BCE0-AFAAB2B5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81E-16CF-4FCF-8445-8EF5837B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0A2-8547-4ABB-9B2F-54A87AC4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C4C-A0D6-4D31-BFFE-91E8293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54D-B2C6-4C85-90BF-86A4FBD7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670-E413-42DD-B5C0-D5121AE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871-7FEF-4873-AC22-F82555A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350-074E-4464-BE3E-22D9117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A30-6909-4C2A-93DD-FE9C936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E02-A1D6-4E53-A9CE-9FD73AE097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A37-21BB-4B08-89F6-DD0DF7A948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Единственное существо, у которого мы все в неоплатном долгу-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5000" spc="-1" strike="noStrike">
                <a:solidFill>
                  <a:srgbClr val="ff3305"/>
                </a:solidFill>
                <a:latin typeface="Arial Black"/>
              </a:rPr>
              <a:t>мама!</a:t>
            </a:r>
            <a:br>
              <a:rPr sz="5000"/>
            </a:br>
            <a:endParaRPr b="0" lang="en-US" sz="5000" spc="-1" strike="noStrike">
              <a:solidFill>
                <a:srgbClr val="ffff99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30040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292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Своей жизнью мы обязаны матери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68980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растит нас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2767320" cy="310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23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заботится о нас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26924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Мама </a:t>
            </a: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работает и воспитывает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095640" cy="22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25192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Кто ждет  ?..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378160" cy="180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2522520" cy="271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273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Образ матери в исскустве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8748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232000" cy="249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7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219640" y="2133720"/>
            <a:ext cx="2665440" cy="3759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Помни о матери всегда…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3513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Это тоже по теме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426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19:52Z</dcterms:created>
  <dc:creator>USER20</dc:creator>
  <dc:description/>
  <cp:keywords/>
  <dc:language>en-US</dc:language>
  <cp:lastModifiedBy>ad</cp:lastModifiedBy>
  <dcterms:modified xsi:type="dcterms:W3CDTF">2009-10-18T17:10:4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