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5827-3867-4274-A040-0FF44265D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7837-DA67-44CC-A430-A70EBCF6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B8B8-8DA5-43C4-AFD2-B553E3E6B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8F63-7253-494C-B169-3527FB204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BF82-3820-4649-BC37-032C83CD5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FB28-AF4D-4600-BC4C-EA748CBA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931B-8FFD-40A2-8A17-4346A797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8DF5-6B48-4370-8E7D-B9FE7D01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E550-EA89-4E6D-9F29-3B690905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1CE6-19A9-42ED-BA55-9F559EB0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980E-B330-411F-895A-9D87E418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1864-6EC8-4794-8B03-5DFD4813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43DE-0C7A-497F-9E7B-FBE09633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6014-EAEF-456A-91A1-918D689D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AC2B-3DBD-4B1D-B126-E913404F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DD99-8561-4BDD-9741-0F7E3717B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7C81-3596-46D3-BF50-08903C5E7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4026-DCF7-4329-BA66-E40D7853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BD7B-7D34-4BD9-92D8-74EBEA1F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9C2C-A454-4760-A6FE-94A1B746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A730-1671-4EDB-B27A-33794FA8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DD9E-A6ED-4AE8-A866-1B78A09B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823B-73B8-4BAC-BC3E-4A91B90A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8C68-BC98-43CC-A269-2C787937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F2DB-1350-417B-BCEC-6E5419706EE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4250-A763-4015-8E74-712EFDF141A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214200" y="1500120"/>
            <a:ext cx="857268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Verdana"/>
              </a:rPr>
              <a:t>Словосочетание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Verdana"/>
              </a:rPr>
              <a:t>Способы связи слов в словосочетании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Verdana"/>
              </a:rPr>
              <a:t>8 клас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8" descr="C:\Documents and Settings\Admin\Рабочий стол\f_4834625921350465981.jpg"/>
          <p:cNvPicPr/>
          <p:nvPr/>
        </p:nvPicPr>
        <p:blipFill>
          <a:blip r:embed="rId1"/>
          <a:stretch/>
        </p:blipFill>
        <p:spPr>
          <a:xfrm>
            <a:off x="6143760" y="285840"/>
            <a:ext cx="2786040" cy="156528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6"/>
          <p:cNvSpPr/>
          <p:nvPr/>
        </p:nvSpPr>
        <p:spPr>
          <a:xfrm>
            <a:off x="5357880" y="5214960"/>
            <a:ext cx="378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дготовила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.Н.Мусаэлян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читель русского язык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 литературы МБОУ СОШ №6 г.Георгиевск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Прямоугольник 7"/>
          <p:cNvSpPr/>
          <p:nvPr/>
        </p:nvSpPr>
        <p:spPr>
          <a:xfrm>
            <a:off x="1175040" y="642960"/>
            <a:ext cx="30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дготовка к ГИА и ЕГЭ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547640" y="0"/>
            <a:ext cx="69948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В каком предложении выделенные слов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Verdana"/>
              </a:rPr>
              <a:t>НЕ являются словосочетаниями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1889280"/>
            <a:ext cx="8928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Мы 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встречались с тобой</a:t>
            </a: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 на закате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Нас море примчало 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к земле одичалой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Последние дни осени 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пасмурны и холодны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Летит, летит степная кобылица и 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мнёт ковыль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heel spokes="8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160"/>
                            </p:stCondLst>
                            <p:childTnLst>
                              <p:par>
                                <p:cTn id="32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6400"/>
                            </p:stCondLst>
                            <p:childTnLst>
                              <p:par>
                                <p:cTn id="33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8800"/>
                            </p:stCondLst>
                            <p:childTnLst>
                              <p:par>
                                <p:cTn id="33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ru-RU" sz="6600" spc="-1" strike="noStrike">
                <a:solidFill>
                  <a:srgbClr val="ff0000"/>
                </a:solidFill>
                <a:latin typeface="Comic Sans MS"/>
              </a:rPr>
              <a:t>Что такое </a:t>
            </a:r>
            <a:br>
              <a:rPr sz="6600"/>
            </a:br>
            <a:r>
              <a:rPr b="1" lang="ru-RU" sz="6600" spc="-1" strike="noStrike">
                <a:solidFill>
                  <a:srgbClr val="ff0000"/>
                </a:solidFill>
                <a:latin typeface="Comic Sans MS"/>
              </a:rPr>
              <a:t>словосочетание?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142920" y="2708280"/>
            <a:ext cx="9001080" cy="30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Словосочетание </a:t>
            </a: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1" lang="ru-RU" sz="3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сочетание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двух и более знаменательных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слов, связанных по смыслу 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подчинительной связью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heel spokes="8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omic Sans MS"/>
              </a:rPr>
              <a:t>Виды словосочетаний</a:t>
            </a: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по типу главного слова: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Verdana"/>
              </a:rPr>
              <a:t>Именные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(письмо мужу, верные мне, трое в масках, кто-то из вас)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Verdana"/>
              </a:rPr>
              <a:t>Наречные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(очень быстро)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Verdana"/>
              </a:rPr>
              <a:t>Глагольные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(пилить дрова)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heel spokes="8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820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12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156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Виды словосочетаний по способу связи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AutoShape 4"/>
          <p:cNvSpPr/>
          <p:nvPr/>
        </p:nvSpPr>
        <p:spPr>
          <a:xfrm rot="10800000">
            <a:off x="214200" y="2928960"/>
            <a:ext cx="2928960" cy="3571920"/>
          </a:xfrm>
          <a:prstGeom prst="wedgeRoundRectCallout">
            <a:avLst>
              <a:gd name="adj1" fmla="val -61592"/>
              <a:gd name="adj2" fmla="val 88833"/>
              <a:gd name="adj3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Согласова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Зависимое слово отвечает на вопросы Какой? Чей? И обозначает признак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AutoShape 6"/>
          <p:cNvSpPr/>
          <p:nvPr/>
        </p:nvSpPr>
        <p:spPr>
          <a:xfrm rot="10800000">
            <a:off x="3286080" y="3000240"/>
            <a:ext cx="2519280" cy="3857760"/>
          </a:xfrm>
          <a:prstGeom prst="wedgeRoundRectCallout">
            <a:avLst>
              <a:gd name="adj1" fmla="val -1986"/>
              <a:gd name="adj2" fmla="val 95000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Управле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Зависимое слово отвечает на вопросы косвенных падежей и обозначает предмет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AutoShape 7"/>
          <p:cNvSpPr/>
          <p:nvPr/>
        </p:nvSpPr>
        <p:spPr>
          <a:xfrm rot="10800000">
            <a:off x="6000840" y="3143160"/>
            <a:ext cx="2916000" cy="3456000"/>
          </a:xfrm>
          <a:prstGeom prst="wedgeRoundRectCallout">
            <a:avLst>
              <a:gd name="adj1" fmla="val 44879"/>
              <a:gd name="adj2" fmla="val 95199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Примыка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Зависимое слово – неизменяемая часть речи 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наречие, деепричастие,инфинитив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heel spokes="8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400"/>
                            </p:stCondLst>
                            <p:childTnLst>
                              <p:par>
                                <p:cTn id="1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900"/>
                            </p:stCondLst>
                            <p:childTnLst>
                              <p:par>
                                <p:cTn id="1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7400"/>
                            </p:stCondLst>
                            <p:childTnLst>
                              <p:par>
                                <p:cTn id="1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900"/>
                            </p:stCondLst>
                            <p:childTnLst>
                              <p:par>
                                <p:cTn id="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540"/>
                            </p:stCondLst>
                            <p:childTnLst>
                              <p:par>
                                <p:cTn id="1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1040"/>
                            </p:stCondLst>
                            <p:childTnLst>
                              <p:par>
                                <p:cTn id="1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1540"/>
                            </p:stCondLst>
                            <p:childTnLst>
                              <p:par>
                                <p:cTn id="1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2040"/>
                            </p:stCondLst>
                            <p:childTnLst>
                              <p:par>
                                <p:cTn id="1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Распределите словосочетания по трем столбикам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43040"/>
            <a:ext cx="8472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Липовый чай, пилить дрова, идти быстро, любящая тебя, второй поющий, готовый уйти, мой милый, спящий храпя, идёт к окну, чей-то дом, желание спать, шёл впереди, этот человек, летящая утка, быстрее лани, белый от пыли, доволен одним, валясь набок, мечты любящи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heel spokes="8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991280" cy="32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omic Sans MS"/>
              </a:rPr>
              <a:t>Выпишите из приведённых ниже предложений все словосочетания по типам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0" y="285264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cc"/>
                </a:solidFill>
                <a:latin typeface="Times New Roman"/>
              </a:rPr>
              <a:t>После трудной рабочей недели каждый хочет немного отдохнуть.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cc"/>
                </a:solidFill>
                <a:latin typeface="Times New Roman"/>
              </a:rPr>
              <a:t>Курортные уголки нашего края</a:t>
            </a:r>
            <a:br>
              <a:rPr sz="4800"/>
            </a:br>
            <a:r>
              <a:rPr b="1" i="1" lang="ru-RU" sz="4800" spc="-1" strike="noStrike">
                <a:solidFill>
                  <a:srgbClr val="3333cc"/>
                </a:solidFill>
                <a:latin typeface="Times New Roman"/>
              </a:rPr>
              <a:t> рады помочь вам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4800" spc="-1" strike="noStrike">
                <a:solidFill>
                  <a:srgbClr val="3333cc"/>
                </a:solidFill>
                <a:latin typeface="Times New Roman"/>
              </a:rPr>
              <a:t>в этом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8" descr="C:\Documents and Settings\Admin\Рабочий стол\kavminvody3.jpg"/>
          <p:cNvPicPr/>
          <p:nvPr/>
        </p:nvPicPr>
        <p:blipFill>
          <a:blip r:embed="rId2"/>
          <a:stretch/>
        </p:blipFill>
        <p:spPr>
          <a:xfrm>
            <a:off x="571680" y="214200"/>
            <a:ext cx="3286080" cy="24638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C:\Documents and Settings\Admin\Рабочий стол\kavkaz738.jpg"/>
          <p:cNvPicPr/>
          <p:nvPr/>
        </p:nvPicPr>
        <p:blipFill>
          <a:blip r:embed="rId3"/>
          <a:stretch/>
        </p:blipFill>
        <p:spPr>
          <a:xfrm>
            <a:off x="5429160" y="285840"/>
            <a:ext cx="3286080" cy="2428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Не являются словосочетаниями!!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Основа предложения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мальчик уехал)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Однородные член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быстрый и внимательный)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Предлоги со словам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в течение часа)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Составные формы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двадцать второй, будет писать, более сладкий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heel spokes="8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72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360"/>
                            </p:stCondLst>
                            <p:childTnLst>
                              <p:par>
                                <p:cTn id="2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960"/>
                            </p:stCondLst>
                            <p:childTnLst>
                              <p:par>
                                <p:cTn id="2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680"/>
                            </p:stCondLst>
                            <p:childTnLst>
                              <p:par>
                                <p:cTn id="2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320"/>
                            </p:stCondLst>
                            <p:childTnLst>
                              <p:par>
                                <p:cTn id="2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920"/>
                            </p:stCondLst>
                            <p:childTnLst>
                              <p:par>
                                <p:cTn id="2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42960" y="285840"/>
            <a:ext cx="8215200" cy="40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Какие слова в предложении </a:t>
            </a:r>
            <a:r>
              <a:rPr b="1" lang="ru-RU" sz="2800" spc="-1" strike="noStrike">
                <a:solidFill>
                  <a:srgbClr val="00ff00"/>
                </a:solidFill>
                <a:latin typeface="Verdana"/>
              </a:rPr>
              <a:t>НЕ являются словосочетаниями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По-байроновски наша собачонка меня встречала с лаем у ворот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88800" y="3573360"/>
            <a:ext cx="8679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Встречала меня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Собачонка встречал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Встречала по-байроновски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Встречала с лаем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heel spokes="8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560"/>
                            </p:stCondLst>
                            <p:childTnLst>
                              <p:par>
                                <p:cTn id="288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320"/>
                            </p:stCondLst>
                            <p:childTnLst>
                              <p:par>
                                <p:cTn id="2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728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09:58:24Z</dcterms:created>
  <dc:creator>Доска</dc:creator>
  <dc:description/>
  <dc:language>en-US</dc:language>
  <cp:lastModifiedBy>Admin</cp:lastModifiedBy>
  <dcterms:modified xsi:type="dcterms:W3CDTF">2013-03-23T10:57:27Z</dcterms:modified>
  <cp:revision>13</cp:revision>
  <dc:subject/>
  <dc:title>Слайд 1</dc:title>
</cp:coreProperties>
</file>