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9AC-AA2F-4D1A-9A3C-2D2B0DD6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F34-F70D-42D6-BBAC-94C4C9B1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D7C-C6F4-426A-A8C8-10D88E85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26E-1BC7-488A-B209-C62AA45F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550D-2482-4CB8-A201-86532672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0656-876D-4A7C-AAA6-6E163FAB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E4C9-150D-4FC9-A07B-EBA466CC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52D3-08B3-44B4-A144-79A6D8B9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D6A5-EE23-4523-9A7A-23A2E80A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76B3-7D05-4415-9FB6-F64EC07C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DD01-ED9E-4BA5-84A0-3502F340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342-9295-4787-85C5-3BDBE75C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B36E-6616-4783-B065-12316E0F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4614-D318-4226-B35C-F9E5B837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D9CA-9570-4332-8591-8D351D02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EF82-B00D-4461-8800-955BF58E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D2F7-E5BA-4CA8-B0E6-67A40A07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715-30C0-47D8-96D9-CA9BCD1D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A316-1164-4F01-A53F-7367BD50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374-B5E7-4395-AFD6-3817A435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40C-C5A7-4C27-ACF5-A096C8C3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E899-FC5D-4DB1-8BE1-AA0B197B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063-00FD-416D-9F4B-C27351DE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F2C5-04BA-48F4-8A4D-49A1A34C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DC90-5E8C-4D4C-9483-CE835A34257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BD97-A4F4-4838-BDD0-5879EF624F0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214200" y="1500120"/>
            <a:ext cx="85726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Verdana"/>
              </a:rPr>
              <a:t>Словосочетание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Verdana"/>
              </a:rPr>
              <a:t>Способы связи слов в словосочетании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Verdana"/>
              </a:rPr>
              <a:t>8 клас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8" descr="C:\Documents and Settings\Admin\Рабочий стол\f_4834625921350465981.jpg"/>
          <p:cNvPicPr/>
          <p:nvPr/>
        </p:nvPicPr>
        <p:blipFill>
          <a:blip r:embed="rId1"/>
          <a:stretch/>
        </p:blipFill>
        <p:spPr>
          <a:xfrm>
            <a:off x="6143760" y="285840"/>
            <a:ext cx="2786040" cy="156528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6"/>
          <p:cNvSpPr/>
          <p:nvPr/>
        </p:nvSpPr>
        <p:spPr>
          <a:xfrm>
            <a:off x="5357880" y="5214960"/>
            <a:ext cx="378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дготовил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.Н.Мусаэлян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итель русского язы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литературы МБОУ СОШ №6 г.Георгиевс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1175040" y="64296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готовка к ГИА и ЕГЭ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547640" y="0"/>
            <a:ext cx="6994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 каком предложении выделенные слов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Verdana"/>
              </a:rPr>
              <a:t>НЕ являются словосочетаниями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1889280"/>
            <a:ext cx="8928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Мы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встречались с тобой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 на закат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Нас море примчало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к земле одичало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Последние дни осени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асмурны и холодны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Летит, летит степная кобылица и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мнёт ковыль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16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40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80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Что такое 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словосочетание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142920" y="2708280"/>
            <a:ext cx="900108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Словосочетание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сочетание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двух и более знаменательных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слов, связанных по смыслу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одчинительной связью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Виды словосочетаний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по типу главного слова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Verdana"/>
              </a:rPr>
              <a:t>Именные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(письмо мужу, верные мне, трое в масках, кто-то из вас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Verdana"/>
              </a:rPr>
              <a:t>Наречные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(очень быстро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Verdana"/>
              </a:rPr>
              <a:t>Глагольные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(пилить дрова)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2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12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56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Виды словосочетаний по способу связ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 rot="10800000">
            <a:off x="214200" y="2928960"/>
            <a:ext cx="2928960" cy="3571920"/>
          </a:xfrm>
          <a:prstGeom prst="wedgeRoundRectCallout">
            <a:avLst>
              <a:gd name="adj1" fmla="val -61592"/>
              <a:gd name="adj2" fmla="val 88833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огласов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Зависимое слово отвечает на вопросы Какой? Чей? И обозначает признак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AutoShape 6"/>
          <p:cNvSpPr/>
          <p:nvPr/>
        </p:nvSpPr>
        <p:spPr>
          <a:xfrm rot="10800000">
            <a:off x="3286080" y="3000240"/>
            <a:ext cx="2519280" cy="3857760"/>
          </a:xfrm>
          <a:prstGeom prst="wedgeRoundRectCallout">
            <a:avLst>
              <a:gd name="adj1" fmla="val -1986"/>
              <a:gd name="adj2" fmla="val 95000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правл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Зависимое слово отвечает на вопросы косвенных падежей и обозначает предмет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utoShape 7"/>
          <p:cNvSpPr/>
          <p:nvPr/>
        </p:nvSpPr>
        <p:spPr>
          <a:xfrm rot="10800000">
            <a:off x="6000840" y="3143160"/>
            <a:ext cx="2916000" cy="3456000"/>
          </a:xfrm>
          <a:prstGeom prst="wedgeRoundRectCallout">
            <a:avLst>
              <a:gd name="adj1" fmla="val 44879"/>
              <a:gd name="adj2" fmla="val 95199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имык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Зависимое слово – неизменяемая часть речи 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наречие, деепричастие,инфинитив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40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9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4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90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540"/>
                            </p:stCondLst>
                            <p:childTnLst>
                              <p:par>
                                <p:cTn id="1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104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154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4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Распределите словосочетания по трем столбикам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43040"/>
            <a:ext cx="8472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иповый чай, пилить дрова, идти быстро, любящая тебя, второй поющий, готовый уйти, мой милый, спящий храпя, идёт к окну, чей-то дом, желание спать, шёл впереди, этот человек, летящая утка, быстрее лани, белый от пыли, доволен одним, валясь набок, мечты любящи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991280" cy="32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omic Sans MS"/>
              </a:rPr>
              <a:t>Выпишите из приведённых ниже предложений все словосочетания по типам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0" y="285264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Times New Roman"/>
              </a:rPr>
              <a:t>После трудной рабочей недели каждый хочет немного отдохнуть.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Times New Roman"/>
              </a:rPr>
              <a:t>Курортные уголки нашего края</a:t>
            </a:r>
            <a:br>
              <a:rPr sz="4800"/>
            </a:br>
            <a:r>
              <a:rPr b="1" i="1" lang="ru-RU" sz="4800" spc="-1" strike="noStrike">
                <a:solidFill>
                  <a:srgbClr val="3333cc"/>
                </a:solidFill>
                <a:latin typeface="Times New Roman"/>
              </a:rPr>
              <a:t> рады помочь вам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3333cc"/>
                </a:solidFill>
                <a:latin typeface="Times New Roman"/>
              </a:rPr>
              <a:t>в этом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8" descr="C:\Documents and Settings\Admin\Рабочий стол\kavminvody3.jpg"/>
          <p:cNvPicPr/>
          <p:nvPr/>
        </p:nvPicPr>
        <p:blipFill>
          <a:blip r:embed="rId2"/>
          <a:stretch/>
        </p:blipFill>
        <p:spPr>
          <a:xfrm>
            <a:off x="571680" y="21420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C:\Documents and Settings\Admin\Рабочий стол\kavkaz738.jpg"/>
          <p:cNvPicPr/>
          <p:nvPr/>
        </p:nvPicPr>
        <p:blipFill>
          <a:blip r:embed="rId3"/>
          <a:stretch/>
        </p:blipFill>
        <p:spPr>
          <a:xfrm>
            <a:off x="5429160" y="285840"/>
            <a:ext cx="328608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Не являются словосочетаниями!!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снова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мальчик уехал)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днородные чле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быстрый и внимательный)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редлоги со словам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 течение часа)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оставные форм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двадцать второй, будет писать, более сладкий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72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36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96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68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32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92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42960" y="285840"/>
            <a:ext cx="821520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акие слова в предложении </a:t>
            </a:r>
            <a:r>
              <a:rPr b="1" lang="ru-RU" sz="2800" spc="-1" strike="noStrike">
                <a:solidFill>
                  <a:srgbClr val="00ff00"/>
                </a:solidFill>
                <a:latin typeface="Verdana"/>
              </a:rPr>
              <a:t>НЕ являются словосочетаниям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-байроновски наша собачонка меня встречала с лаем у ворот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88800" y="3573360"/>
            <a:ext cx="867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стречала мен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Собачонка встречал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стречала по-байроновск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стречала с лаем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6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32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28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9:58:24Z</dcterms:created>
  <dc:creator>Доска</dc:creator>
  <dc:description/>
  <dc:language>en-US</dc:language>
  <cp:lastModifiedBy>Admin</cp:lastModifiedBy>
  <dcterms:modified xsi:type="dcterms:W3CDTF">2013-03-23T10:57:27Z</dcterms:modified>
  <cp:revision>13</cp:revision>
  <dc:subject/>
  <dc:title>Слайд 1</dc:title>
</cp:coreProperties>
</file>