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0C1-2CB9-4D7A-B2ED-8D3D09F2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406-A923-4316-BCC5-75E6581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6B7-2F8A-4D9D-AB3B-A5E9D4C8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573-1550-4F14-9035-922A7E8C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C43-6689-4658-ACBA-62AAD511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A67-0BA5-40FD-A167-DC4D0DD2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83A-FD34-451F-9F93-DF10494F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FEA7-8ACF-488A-8E0E-12187AC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769E-48FE-42FC-A274-8D5C3BBD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2A95-3699-4150-80F6-97B886A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DE86-728A-484B-AAF3-71E55A6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7EC-24C9-4135-876C-03DACF5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756A-B36B-40B2-8267-F16B3FB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969C-0ADC-4841-B228-E271A79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0CB9-B47E-4D5A-BE01-392E0E4D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31AF-0334-4291-B3DC-333FD865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AB32-FA4A-4663-B6D4-40F88C24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611-24B7-4A91-9B36-7AFB6A1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7EE-1EA6-4877-8DA0-3DE266A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3D0-E4A9-4D89-BF62-9D10C1FF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C4A-8865-44C9-989B-39DD853F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F3A-FA47-407A-BC83-971F9286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B8F-A1E4-48E3-89CE-96E8C1C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A01-20E1-43AA-9490-AB2693A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36D-72DE-4698-B59B-B0A08DBA02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5408-CD74-4B21-AFBF-0AC6752DDE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214200" y="150012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Словосочетани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Способы связи слов в словосочетани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8 клас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8" descr="C:\Documents and Settings\Admin\Рабочий стол\f_4834625921350465981.jpg"/>
          <p:cNvPicPr/>
          <p:nvPr/>
        </p:nvPicPr>
        <p:blipFill>
          <a:blip r:embed="rId1"/>
          <a:stretch/>
        </p:blipFill>
        <p:spPr>
          <a:xfrm>
            <a:off x="6143760" y="285840"/>
            <a:ext cx="2786040" cy="1565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5357880" y="521496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готовил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.Н.Мусаэлян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ель русского язы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литературы МБОУ СОШ №6 г.Георгиев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175040" y="6429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готовка к ГИА и ЕГЭ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47640" y="0"/>
            <a:ext cx="699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 каком предложении выделенные сл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НЕ являются словосочетаниям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188928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встречались с тобой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на закат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ас море примчало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 земле одичало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следние дни осени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асмурны и холодн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Летит, летит степная кобылица и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нёт ковыл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6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4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8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Что такое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ловосочетание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42920" y="2708280"/>
            <a:ext cx="900108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ловосочетание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очета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двух и более знаменательных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лов, связанных по смыслу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одчинительной связью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Виды словосочетаний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о типу главного слов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Именные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(письмо мужу, верные мне, трое в масках, кто-то из вас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Наречные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(очень быстр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Глагольны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(пилить дрова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Виды словосочетаний по способу связ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 rot="10800000">
            <a:off x="214200" y="2928960"/>
            <a:ext cx="2928960" cy="3571920"/>
          </a:xfrm>
          <a:prstGeom prst="wedgeRoundRectCallout">
            <a:avLst>
              <a:gd name="adj1" fmla="val -61592"/>
              <a:gd name="adj2" fmla="val 88833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глас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акой? Чей? И обозначает призна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6"/>
          <p:cNvSpPr/>
          <p:nvPr/>
        </p:nvSpPr>
        <p:spPr>
          <a:xfrm rot="10800000">
            <a:off x="3286080" y="3000240"/>
            <a:ext cx="2519280" cy="3857760"/>
          </a:xfrm>
          <a:prstGeom prst="wedgeRoundRectCallout">
            <a:avLst>
              <a:gd name="adj1" fmla="val -1986"/>
              <a:gd name="adj2" fmla="val 95000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освенных падежей и обозначает предмет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7"/>
          <p:cNvSpPr/>
          <p:nvPr/>
        </p:nvSpPr>
        <p:spPr>
          <a:xfrm rot="10800000">
            <a:off x="6000840" y="3143160"/>
            <a:ext cx="2916000" cy="3456000"/>
          </a:xfrm>
          <a:prstGeom prst="wedgeRoundRectCallout">
            <a:avLst>
              <a:gd name="adj1" fmla="val 44879"/>
              <a:gd name="adj2" fmla="val 9519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ык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– неизменяемая часть речи 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речие, деепричастие,инфинитив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4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9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54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4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4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Распределите словосочетания по трем столбика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472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иповый чай, пилить дрова, идти быстро, любящая тебя, второй поющий, готовый уйти, мой милый, спящий храпя, идёт к окну, чей-то дом, желание спать, шёл впереди, этот человек, летящая утка, быстрее лани, белый от пыли, доволен одним, валясь набок, мечты любящ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99128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Выпишите из приведённых ниже предложений все словосочетания по типа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0" y="285264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После трудной рабочей недели каждый хочет немного отдохнуть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Курортные уголки нашего края</a:t>
            </a:r>
            <a:br>
              <a:rPr sz="4800"/>
            </a:b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 рады помочь вам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в этом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C:\Documents and Settings\Admin\Рабочий стол\kavminvody3.jpg"/>
          <p:cNvPicPr/>
          <p:nvPr/>
        </p:nvPicPr>
        <p:blipFill>
          <a:blip r:embed="rId2"/>
          <a:stretch/>
        </p:blipFill>
        <p:spPr>
          <a:xfrm>
            <a:off x="571680" y="21420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kavkaz738.jpg"/>
          <p:cNvPicPr/>
          <p:nvPr/>
        </p:nvPicPr>
        <p:blipFill>
          <a:blip r:embed="rId3"/>
          <a:stretch/>
        </p:blipFill>
        <p:spPr>
          <a:xfrm>
            <a:off x="5429160" y="285840"/>
            <a:ext cx="328608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е являются словосочетаниям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снов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альчик уехал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днородные чле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быстрый и внимательный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редлоги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 течение часа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оставные фор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вадцать второй, будет писать, более сладк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72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6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6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68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32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92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42960" y="285840"/>
            <a:ext cx="8215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ие слова в предложении </a:t>
            </a: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НЕ являются словосочетаниям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-байроновски наша собачонка меня встречала с лаем у воро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8800" y="3573360"/>
            <a:ext cx="867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мен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Собачонка встреча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по-байроновс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с лае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32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2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9:58:24Z</dcterms:created>
  <dc:creator>Доска</dc:creator>
  <dc:description/>
  <dc:language>en-US</dc:language>
  <cp:lastModifiedBy>Admin</cp:lastModifiedBy>
  <dcterms:modified xsi:type="dcterms:W3CDTF">2013-03-23T10:57:27Z</dcterms:modified>
  <cp:revision>13</cp:revision>
  <dc:subject/>
  <dc:title>Слайд 1</dc:title>
</cp:coreProperties>
</file>