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E6E-6084-4509-A6E7-75E12975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20C-BE69-47D2-9F7A-232E88A9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FA1-AF81-474A-B627-11FEC4CA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A6D-BE06-47A4-8D3F-D6A16A4F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0129-3E2A-4F60-AB85-AC145C4E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FA1D-8E01-4586-A6EB-3EE76A68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5483-CAF0-483B-A1A4-491E05DB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B1FC-367A-4C4D-A482-A386259B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6632-767B-4F1C-9779-58D3D59A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0F8-992E-446A-8687-AA5F2047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A75B-255C-41EB-AA02-B956BEF0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55C-1CAB-46C0-AD17-0AC14E1B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A97C-CE1F-4F74-B9B5-990EE52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6B37-5440-428B-A3CD-C2846FE4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8DA0-3A92-4F4B-884A-CF921EC0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A959-1410-4D36-8244-BD3033F3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45A6-75F9-417B-961C-6B92540D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B60-C547-4AFA-98FE-0B7D0FE8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535-5378-4915-BBCC-9C4738E4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3D1-80D2-4E7C-940E-1FE5850E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D91-6B7C-4D86-AEAF-D2F23FDF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A4F-AF7A-4A33-AB5A-0CDE5AAA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C40-6B9B-41A3-AA80-98DB0B3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C2E-14B8-4101-8C59-7553FF8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ECF1-0F25-4DAA-B778-D562DD97E5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82B1-2CF5-441D-8EBB-A357FEF2DE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itywalls.ru/photo1996-0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Осенний день здоров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 сентября 2009 года в нашем лицее традиционно прошел день здоровья, который мы решили провести на катке в парке имени Бабушки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19971600">
            <a:off x="228240" y="380880"/>
            <a:ext cx="1371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19813200">
            <a:off x="456840" y="91440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 rot="1265400">
            <a:off x="4852800" y="773280"/>
            <a:ext cx="3870000" cy="3200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4190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286000" y="365760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1045800">
            <a:off x="5028840" y="228240"/>
            <a:ext cx="3581280" cy="380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 rot="20649600">
            <a:off x="456840" y="228600"/>
            <a:ext cx="3832200" cy="3657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62320" y="3505320"/>
            <a:ext cx="4876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м всем очень понравилось!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КВН в 6-х класса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4 января 2010 года в нашем лицее прошел КВН между командами 6-х клас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анду 6-б класса представляли следующие участни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аджая Валера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питан коман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ьяконов Вади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авердян Нар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оржная Ан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гапова Светл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аблина Анаста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приянова Антон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жкова Татья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ша команда называлась «ПИНГВИНЫ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ЛЕНЫ ЖЮР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лена Александ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льга Александ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лександр Анатольеви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льга Алексе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449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шу команду активно поддерживала группа поддерж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частники команды за обсуждением заданий КВ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378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362320" y="3606840"/>
            <a:ext cx="4876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Экскурсия в Музей гигиен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октября 2009 года - экскурсия в Музей гигие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191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ыступления команды:</a:t>
            </a:r>
            <a:br>
              <a:rPr sz="4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Новогодняя открытка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Конкурс стихов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Танцевальный конкурс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Конкурс капитанов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3635280" cy="2438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029200" y="838080"/>
            <a:ext cx="3657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манда 6-б класса заняла почетное 2 место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оздравляем всех участников команды и тех, кто поддерживал команду на протяжении всей игры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айонный конкурс рисунков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 9 ноября 2009 года по 13 ноября 2009 года ЛДДТ провел районный конкурс рисунков "Сказки народов мира", который был посвящен Дню примирения и согласия в рамках программы "Толерантность". Наш лицей принял участие в конкурсе, на который были представлены иллюстрации к сказкам А.С. Пушкина и русским народным сказкам следующими учениками нашего класса: Каторжная Анна (6-б класс), Дьяконов Вадим (6-б класс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учитель изобразительного искусств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ломатина Алена Александровна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иплом I степени получи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торжная Анна, 6-б кла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здравляем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айонная краеведческая игровая программа "Отчизна моя, Петербург"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 октября 2009 года на базе Дома детского творчества "Левобережный" в рамках районной комплексной познавательной программы "Отчизна моя, Петербург" состоялся первый тур игры "Славные люди России". Тема I тура - "Семейная хроника. История дворянских родов". Команда 6 классов (руководитель Иванова Светлана Юрьевна) по итогам тура заняла I место, что позволило ей выйти в следующий тур - "Слава и гордость России". II тур игры состоялся1 декабря 2009 года и команда 6 классов нашего лицея заняла I место, что позволило ей выйти в следующий тур - "Славные дела потомкам". III тур игры будет проводиться в феврале 2010 года. Из 6-б класса в команде участвую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ванов Ник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торжная 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3276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Автобусная экскурс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8 ноября 2009 года в рамках Дней культуры и толерантности наш класс ездил на экскурсию по теме «Санкт-Петербург – город различных конфессий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егиональный конкурс чтец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648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Новый год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вый год в этом году мы решили  отметить в Аничковом дворце 24 декабря 2009 года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аблина Наст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авердян Нар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ешкова Ва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ваджая Вале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ванов Ник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уренков да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оров Ди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кунова Кат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оянова Але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ченко В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ронкова Р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267440" cy="3352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886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400800" y="914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8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267080" y="36576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47:59Z</dcterms:created>
  <dc:creator>Валентина</dc:creator>
  <dc:description/>
  <dc:language>en-US</dc:language>
  <cp:lastModifiedBy>Валентина</cp:lastModifiedBy>
  <dcterms:modified xsi:type="dcterms:W3CDTF">2010-01-24T15:25:0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