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3DFE-6C82-435D-91A1-99E0D74A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C92-58E5-43CD-98E0-9E02A75E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C65B-34E8-42E8-B642-BAC3EA87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393-41F2-475A-8FC0-E0AB2EEB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8C4D-8C38-492D-8CC6-50D54340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94FD-951C-4B7D-9304-768C8561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4187-6C53-4AE4-AD23-49E9E898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3E58-7600-49B0-B4CD-8CEC15B8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F1B2-7F68-48B8-8297-FA0F15A2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3C50-7EBE-4063-8377-83C6CEAD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07D0-F814-4B10-8077-8630BEF7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2984-C4CD-4882-A4E0-A0367E5A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3B3D-B54B-4D3B-8535-017BFD09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13E6-F6AA-425D-BF7E-7E4E054F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6053-1449-4596-AD17-FE7CAEB2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9F31-FE10-4FEE-BAD3-5F61016E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144E-AA12-4AC0-A685-D58431BF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4343-E6B7-463D-A060-BB9FF32A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9455-4BB3-4664-890C-6733909D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C60C-20ED-4C45-9188-5DF3EAF1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0D08-7D96-4B65-B425-D8D4ABE9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50D6-5436-4FB7-AB2B-9678F681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1AD-2C2B-47EC-80C3-FE5FE1C0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758-6C23-4D35-9965-A6489F06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AC64-30D4-4CFD-BE02-828CFA2CE08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BAC8-22DD-47B6-AE1B-42DC24B5EF6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itywalls.ru/photo1996-0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Осенний день здоровь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 сентября 2009 года в нашем лицее традиционно прошел день здоровья, который мы решили провести на катке в парке имени Бабушкин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71800" y="3962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 rot="19971600">
            <a:off x="228240" y="380880"/>
            <a:ext cx="1371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 rot="19813200">
            <a:off x="456840" y="91440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 rot="1265400">
            <a:off x="4852800" y="773280"/>
            <a:ext cx="3870000" cy="3200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590920" y="3733920"/>
            <a:ext cx="41907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2286000" y="365760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 rot="1045800">
            <a:off x="5028840" y="228240"/>
            <a:ext cx="3581280" cy="3809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 rot="20649600">
            <a:off x="456840" y="228600"/>
            <a:ext cx="3832200" cy="3657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362320" y="3505320"/>
            <a:ext cx="4876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4038480" cy="2971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800600" y="30492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м всем очень понравилось!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095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КВН в 6-х класса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4 января 2010 года в нашем лицее прошел КВН между командами 6-х класс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анду 6-б класса представляли следующие участник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ваджая Валера 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питан коман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ьяконов Вади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авердян Наре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торжная Ан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гапова Светл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аблина Анаста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иприянова Антон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жкова Татья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ша команда называлась «ПИНГВИНЫ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ЛЕНЫ ЖЮР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лена Александро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льга Александро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лександр Анатольеви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льга Алексее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4496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шу команду активно поддерживала группа поддержк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715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Участники команды за обсуждением заданий КВН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267440" cy="3378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362320" y="3606840"/>
            <a:ext cx="48765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Экскурсия в Музей гигиен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октября 2009 года - экскурсия в Музей гигие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4191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Выступления команды:</a:t>
            </a:r>
            <a:br>
              <a:rPr sz="4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Новогодняя открытка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Конкурс стихов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Танцевальный конкурс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Конкурс капитанов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66680" y="441972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04920" y="1752480"/>
            <a:ext cx="3635280" cy="2438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029200" y="838080"/>
            <a:ext cx="36576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оманда 6-б класса заняла почетное 2 место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181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оздравляем всех участников команды и тех, кто поддерживал команду на протяжении всей игры!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Районный конкурс рисунков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 9 ноября 2009 года по 13 ноября 2009 года ЛДДТ провел районный конкурс рисунков "Сказки народов мира", который был посвящен Дню примирения и согласия в рамках программы "Толерантность". Наш лицей принял участие в конкурсе, на который были представлены иллюстрации к сказкам А.С. Пушкина и русским народным сказкам следующими учениками нашего класса: Каторжная Анна (6-б класс), Дьяконов Вадим (6-б класс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учитель изобразительного искусств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оломатина Алена Александровна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иплом I степени получи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аторжная Анна, 6-б клас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здравляем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3429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Районная краеведческая игровая программа "Отчизна моя, Петербург"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86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 октября 2009 года на базе Дома детского творчества "Левобережный" в рамках районной комплексной познавательной программы "Отчизна моя, Петербург" состоялся первый тур игры "Славные люди России". Тема I тура - "Семейная хроника. История дворянских родов". Команда 6 классов (руководитель Иванова Светлана Юрьевна) по итогам тура заняла I место, что позволило ей выйти в следующий тур - "Слава и гордость России". II тур игры состоялся1 декабря 2009 года и команда 6 классов нашего лицея заняла I место, что позволило ей выйти в следующий тур - "Славные дела потомкам". III тур игры будет проводиться в феврале 2010 года. Из 6-б класса в команде участвую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ванов Ники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аторжная 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867280" y="1981080"/>
            <a:ext cx="3276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Автобусная экскурс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8 ноября 2009 года в рамках Дней культуры и толерантности наш класс ездил на экскурсию по теме «Санкт-Петербург – город различных конфессий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4495680"/>
            <a:ext cx="2666880" cy="190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2590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Региональный конкурс чтец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86200" y="1981080"/>
            <a:ext cx="46483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eec94"/>
                </a:solidFill>
                <a:uFillTx/>
                <a:latin typeface="Times New Roman"/>
              </a:rPr>
              <a:t>Новый год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вый год в этом году мы решили  отметить в Аничковом дворце 24 декабря 2009 года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раблина Наст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лавердян Нар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ешкова Ва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ваджая Вале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ванов Ники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уренков дан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едоров Дим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кунова Кат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оянова Але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ченко Ви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ронкова Р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9810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267440" cy="3352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8862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89548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400800" y="91440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990720"/>
            <a:ext cx="3200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267080" cy="380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67080" cy="3657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267080" y="3657600"/>
            <a:ext cx="4876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0:47:59Z</dcterms:created>
  <dc:creator>Валентина</dc:creator>
  <dc:description/>
  <dc:language>en-US</dc:language>
  <cp:lastModifiedBy>Валентина</cp:lastModifiedBy>
  <dcterms:modified xsi:type="dcterms:W3CDTF">2010-01-24T15:25:0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