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BBA1-8DCF-43E9-9137-FCB28E223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F80B-D50C-4E3C-B8CD-C73F918B4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A7F2-5FEE-42AD-9CF4-C4540C58B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66B5-4C44-4EF4-8CD5-6DE6785FD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0BBE7-DC2D-4AF6-AAB9-D50701434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50B91-8313-4989-A067-0CD9FE04A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38A61-48A2-4258-92EB-987D31150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E7677-6B2E-46C3-BB5A-26BBE19E0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12DE7-F40A-46D0-BB10-FBDB275F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2AFF6-96F8-4BEF-84E3-D48F1903B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3FFD7-36A8-41FA-B0A3-8D5E963B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6BAD-D9BC-415B-82E6-270E96B34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033BE-E179-44F9-ADAA-001FE237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76FA3-AC9A-4ED6-9B98-583CE6CE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A6677-9AC6-43F7-8E00-06551545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3D23B-55E6-4788-BE0A-579EA7AE3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112E2-1005-4727-855E-1E91236FC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979A-4ADA-4BF4-AD1C-71D0BFA6E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26DA-0BA9-45BA-B790-4A61C2DED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7963-4E72-49B2-AFE3-D99D9E803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7B40-6FCD-439F-A716-81B07761E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8281-7DF1-42FD-B498-5ED01EBA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3734-9727-46D8-BA49-DAA7D04C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51F4-8F4D-4C33-9680-3EEEF023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0E399-EE57-4F3F-B392-75B76712E6E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9EC57-0BC2-4AE2-B054-07E6C24B1AB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itywalls.ru/photo1996-0.html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eec94"/>
                </a:solidFill>
                <a:uFillTx/>
                <a:latin typeface="Times New Roman"/>
              </a:rPr>
              <a:t>Осенний день здоровь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 сентября 2009 года в нашем лицее традиционно прошел день здоровья, который мы решили провести на катке в парке имени Бабушкин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971800" y="396252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 rot="19971600">
            <a:off x="228240" y="380880"/>
            <a:ext cx="1371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 rot="19813200">
            <a:off x="456840" y="914400"/>
            <a:ext cx="4038480" cy="32004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 rot="1265400">
            <a:off x="4852800" y="773280"/>
            <a:ext cx="3870000" cy="32004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2590920" y="3733920"/>
            <a:ext cx="41907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4419720" cy="36576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572000" y="152280"/>
            <a:ext cx="4572000" cy="36576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2286000" y="3657600"/>
            <a:ext cx="48769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 rot="1045800">
            <a:off x="5028840" y="228240"/>
            <a:ext cx="3581280" cy="38098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 rot="20649600">
            <a:off x="456840" y="228600"/>
            <a:ext cx="3832200" cy="36576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2362320" y="3505320"/>
            <a:ext cx="48765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800600" y="3429000"/>
            <a:ext cx="4038480" cy="29718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304920" y="3429000"/>
            <a:ext cx="4114800" cy="29718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4800600" y="304920"/>
            <a:ext cx="4038480" cy="26668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304920" y="304920"/>
            <a:ext cx="4114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Нам всем очень понравилось! 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0958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eec94"/>
                </a:solidFill>
                <a:uFillTx/>
                <a:latin typeface="Times New Roman"/>
              </a:rPr>
              <a:t>КВН в 6-х классах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4 января 2010 года в нашем лицее прошел КВН между командами 6-х класс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манду 6-б класса представляли следующие участник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ваджая Валера –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апитан команд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ьяконов Вади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лавердян Наре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торжная Ан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гапова Светла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раблина Анастас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иприянова Антони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ожкова Татья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Наша команда называлась «ПИНГВИНЫ»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67820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ЧЛЕНЫ ЖЮР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Алена Александровн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льга Александровн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Александр Анатольеви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льга Алексеевн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495680" y="3352680"/>
            <a:ext cx="44960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Нашу команду активно поддерживала группа поддержки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5715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Участники команды за обсуждением заданий КВН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4267440" cy="33782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5334120" y="1600200"/>
            <a:ext cx="3657600" cy="34290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2362320" y="3606840"/>
            <a:ext cx="487656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eec94"/>
                </a:solidFill>
                <a:uFillTx/>
                <a:latin typeface="Times New Roman"/>
              </a:rPr>
              <a:t>Экскурсия в Музей гигиен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0 октября 2009 года - экскурсия в Музей гигиен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438280" y="3124080"/>
            <a:ext cx="4191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Выступления команды:</a:t>
            </a:r>
            <a:br>
              <a:rPr sz="4000"/>
            </a:b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Новогодняя открытка</a:t>
            </a:r>
            <a:br>
              <a:rPr sz="2000"/>
            </a:b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Конкурс стихов</a:t>
            </a:r>
            <a:br>
              <a:rPr sz="2000"/>
            </a:b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Танцевальный конкурс</a:t>
            </a:r>
            <a:br>
              <a:rPr sz="2000"/>
            </a:b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Конкурс капитанов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066680" y="4419720"/>
            <a:ext cx="3733920" cy="24382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257800" y="373392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304920" y="1752480"/>
            <a:ext cx="3635280" cy="24386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5029200" y="838080"/>
            <a:ext cx="365760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Команда 6-б класса заняла почетное 2 место!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057400" y="2057400"/>
            <a:ext cx="51814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Поздравляем всех участников команды и тех, кто поддерживал команду на протяжении всей игры!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77724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eec94"/>
                </a:solidFill>
                <a:uFillTx/>
                <a:latin typeface="Times New Roman"/>
              </a:rPr>
              <a:t>Районный конкурс рисунков 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С 9 ноября 2009 года по 13 ноября 2009 года ЛДДТ провел районный конкурс рисунков "Сказки народов мира", который был посвящен Дню примирения и согласия в рамках программы "Толерантность". Наш лицей принял участие в конкурсе, на который были представлены иллюстрации к сказкам А.С. Пушкина и русским народным сказкам следующими учениками нашего класса: Каторжная Анна (6-б класс), Дьяконов Вадим (6-б класс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учитель изобразительного искусства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Соломатина Алена Александровна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Диплом I степени получил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Каторжная Анна, 6-б класс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оздравляем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5334120" y="2590920"/>
            <a:ext cx="3429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eec94"/>
                </a:solidFill>
                <a:uFillTx/>
                <a:latin typeface="Times New Roman"/>
              </a:rPr>
              <a:t>Районная краеведческая игровая программа "Отчизна моя, Петербург"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486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0 октября 2009 года на базе Дома детского творчества "Левобережный" в рамках районной комплексной познавательной программы "Отчизна моя, Петербург" состоялся первый тур игры "Славные люди России". Тема I тура - "Семейная хроника. История дворянских родов". Команда 6 классов (руководитель Иванова Светлана Юрьевна) по итогам тура заняла I место, что позволило ей выйти в следующий тур - "Слава и гордость России". II тур игры состоялся1 декабря 2009 года и команда 6 классов нашего лицея заняла I место, что позволило ей выйти в следующий тур - "Славные дела потомкам". III тур игры будет проводиться в феврале 2010 года. Из 6-б класса в команде участвуют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Иванов Никит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Каторжная Ан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867280" y="1981080"/>
            <a:ext cx="327672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eec94"/>
                </a:solidFill>
                <a:uFillTx/>
                <a:latin typeface="Times New Roman"/>
              </a:rPr>
              <a:t>Автобусная экскурс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8 ноября 2009 года в рамках Дней культуры и толерантности наш класс ездил на экскурсию по теме «Санкт-Петербург – город различных конфессий»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14400" y="4495680"/>
            <a:ext cx="2666880" cy="19051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791320" y="4572000"/>
            <a:ext cx="25905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eec94"/>
                </a:solidFill>
                <a:uFillTx/>
                <a:latin typeface="Times New Roman"/>
              </a:rPr>
              <a:t>Региональный конкурс чтецов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886200" y="1981080"/>
            <a:ext cx="464832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eec94"/>
                </a:solidFill>
                <a:uFillTx/>
                <a:latin typeface="Times New Roman"/>
              </a:rPr>
              <a:t>Новый год 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овый год в этом году мы решили  отметить в Аничковом дворце 24 декабря 2009 года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раблина Наст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лавердян Наре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решкова Вал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ваджая Валер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ванов Никит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уренков дан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Федоров Дим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лкунова Кат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роянова Але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авченко Вик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оронкова Ра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1981080"/>
            <a:ext cx="3809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4267440" cy="3352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800600" y="2133720"/>
            <a:ext cx="38862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895480" y="32004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400800" y="914400"/>
            <a:ext cx="2743200" cy="36576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0" y="990720"/>
            <a:ext cx="3200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267080" cy="38098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267080" y="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67080" cy="36576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4267080" y="3657600"/>
            <a:ext cx="48769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3T10:47:59Z</dcterms:created>
  <dc:creator>Валентина</dc:creator>
  <dc:description/>
  <dc:language>en-US</dc:language>
  <cp:lastModifiedBy>Валентина</cp:lastModifiedBy>
  <dcterms:modified xsi:type="dcterms:W3CDTF">2010-01-24T15:25:0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