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680-E316-45AF-9661-816AFF14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A2E-0790-49AE-AE47-F589CAF2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761F0-8D88-490C-A30A-2B1E934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D415-E64F-45B6-B58E-8D2B4258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1C2CF-83BF-4553-9293-62EADB45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DEAD9-A259-41E1-8EC2-1F427C4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97531-C0E1-4583-B1A5-5506778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05FB8-E193-4B3D-800F-5210A54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3A1E9-1AE9-4323-87DF-2DEEE86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18AD-B599-4609-98DC-A369B706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6FE5A-A000-4436-A847-0639BFE7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249C1-F623-477D-B065-23A23371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26F-012E-4AC1-8DA8-24940F18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4B96D-CF46-41CF-9ECA-C9970375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C5FF1-DB36-45B8-BE3A-0A6F2A22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9188F-2B49-4C3B-9F4E-B53A1377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B7BFD-21E2-460E-AF72-47F5A3F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8AFFF-E1EA-4E1A-B5F6-515CF21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DC12E-39A3-42E9-8347-DF2F728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C3758-7D76-40D0-BC17-0F37E64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0276F-3B03-4989-A7A9-8A9CCAFF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9BB87-7CAE-43B4-AA09-D0946322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EAFE9-19B1-4A29-B3B1-2336E0D8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3FF-47A2-4E99-91A5-53F2701E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8A2F9-B101-4901-9F9C-694509FF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BF34-98B2-49EB-870B-9994A372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04D95-FD2E-4CAD-96FB-8D950F28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45221-EBD6-4FBA-A065-11D058A8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7A59D-5EB1-4AD9-AB1F-3107EB2E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49149-D768-474E-AF9C-A38C6F3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9FFBE-9DE5-4626-883B-A967C40F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84098-A255-481C-8597-4A406C0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0BEBB-6C6B-49F6-8873-1D643D4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5BF9-2634-4A7C-A94C-103DD03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EA0-E7C5-40B6-97B8-4A4C1F15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EA5E-BD15-443F-B4E2-AE917C76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6DE9-6EB0-4DF3-B5C9-68C2AFA1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1F38A-4047-4CCC-B4E6-AD071E95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32D57-8B09-41E4-9EF3-690C05E1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A37C0-E26D-4C56-8763-096C1C3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F4125-8CCB-4F92-B26C-9B649621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D9713-6F3F-4483-BE0D-16F3212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34054-C281-4346-A01E-C8CBAB5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18ECC-43A6-4A81-AE24-C7E970A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B8A4A-082D-47F5-9EDE-B2397F7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C02B-D7FA-48B6-BA4F-0839F69E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2A98F-ED8F-4F9B-BF42-DFDC617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54210-0A53-4D11-98D8-BF55FA5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372B9-0B8C-46E0-BBDE-BE22833E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A034E-A798-4782-8D2C-86E241AE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64318-0125-432B-82BC-0FA95E3A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AC269-3C92-4DCB-B2EA-371B3709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6C5DD-C7E1-4EB6-B0E0-C0C3C70B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06636-2324-452C-8B48-7CC6451A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8A439-8F38-44A3-BCCB-63FFED2F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1F048-5769-4475-8C85-1AF99D3D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975-7108-479A-BF71-E0AABB0C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4BCC9-964F-492D-857F-3042C16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FBB9B-5C7F-4511-82D0-14D9222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9C2DF-4626-4EC3-B42E-255F02B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48F8B-10C7-4C78-80E9-CC02DB0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4EB39-1656-4786-ACA7-054DE079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4514D-1B50-4C35-B5ED-513DD037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45BD1-D1A1-4D72-AE75-0F7D81FA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4A789-624B-4621-8524-9B991B29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CDD62-1167-4908-940E-8B8F24B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29FB9-8127-415F-A6FE-F7DB1092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5C33-8E21-4BF2-9835-C1BF2357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7DEC1-5F5A-4471-8408-F86FCD3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B172A-57F4-4815-A248-04D469C3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62033-701B-4A73-90E0-5030C7C7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65248-D111-4F63-8E4B-7FC5890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AE115-5C31-4045-A0CC-BBB2F83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BAE3F-81D6-40BF-95F6-2EAF9BD4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E6CDE-66D6-4D8C-BA4C-875BD4FD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79DE0-7EA4-4F9E-B17D-F05CF24A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9CAE9-0754-4B71-9103-8814517B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85E065-9099-4724-B550-D6E8591C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BE0B-C5D2-4689-A73E-F2CBA03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57E985-82DE-436A-9414-F5D22F74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0E5018-A814-464F-A1E4-6D7C3ED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50B420-FF33-430D-A6CC-F37ADB3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406C6B-57A4-40DE-96A5-81846F8D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9E8FFC-642C-4AA9-837E-22B8C1B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33CCCA-7458-4CB3-8504-654C68C1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09F1E6-68AA-4C11-8FC7-CBD8A2E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B0B44D-901A-4F5F-ACDA-BA7E53E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94FBA9-EA04-433B-833F-780CECD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83B080-D276-48D7-A333-C794FE99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C957-B23A-42FD-9FC8-3B11DA0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DFD6AC-C6C0-4EB5-A21B-4AB95FFC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AF50-BFFE-460D-B864-A6A6029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AB0-1984-4D3F-9FA5-E1293E2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8D67-0CD5-4104-B84B-E391DA7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9B3-91FA-4024-8B0F-7A293474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99F-5076-41DA-AF25-188213B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8D0B-B2A6-4E19-B203-88A57EDE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45A-5304-4FAC-818E-412E4590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E6C3-D00D-4288-A753-F450018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52F1-27E4-468C-810F-0BE0E298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8F60-E31F-4E0D-A6A9-BFBC911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C69A-D417-4D73-962C-E45C48CC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3F01-4C09-473F-A809-9BD952D4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EEE-EAE5-4C94-ABF8-3002DAEC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3EFE-3BB4-4E14-ACA2-E5B8599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1D35-3C39-4587-9DD2-C7B3708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D2F4-7FF7-4573-A42E-DD36BFC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F8EC-DBC7-4B46-9CC5-0127F5A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43C2-AD7C-4950-8B04-EF1FDBE9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F582-5CED-42A7-8952-05FA8AE7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DC30-CA38-4131-AB41-EC7ED28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71030-39F5-445A-9901-457128C1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53446-A3D5-47EE-813C-2B34F92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D5DE6-0017-4E40-9ADE-DC7AC60F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4B5-835E-421C-A7F6-89B3215F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A536E-74AC-4016-8E49-F9E3F63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A7AFC-DDE1-4945-BD83-D8897731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9D055-D374-4850-B58C-3B974CBE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679F9-CE61-41A2-A155-ABBD3C1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31387-9BEE-4B2D-B5C6-99C84010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81E5D-F59B-4571-BD99-AF9824DE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AEC92-03BB-423D-9F65-DC67254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E1E96-4791-4847-8B5A-A8C47BC8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97734-EAE8-4D3A-A2FA-9567F316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98AF5-C3BD-4FB6-B61B-E68CF1BD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24B-6461-4F72-BDC0-6E6B622F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643EF-FDE0-4029-A55B-A3F8FD86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48ADC-9465-420B-84B1-9015258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BED46-6E48-457A-8774-466DA61C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2169E-BA5C-43D1-9494-DA1C760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98F62-0702-4BC6-AFEB-7656D01B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8536C-1E22-488E-85BB-9610D9ED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85E1E-45B6-4FCF-8C03-7D5F9F0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2F504-6C2F-4FB3-A4DC-224AF82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21782-A1CA-4F27-A19B-146ACDA7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E5B71-73D6-48B3-82DB-1396CBE3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C90-CCDE-44B1-8533-8E11F5AF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0FA20-D83D-42E3-ABC9-5BAC86B7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1182-A288-49B4-ADE4-9E5593B2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17E47-C196-42A1-9F13-DAACEE9F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86CEE-3863-4D49-90ED-037A895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809B-892D-4083-AA22-12E5736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5802-E8E9-4261-B347-3EA5B66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C1739-6AC3-4651-B5B9-9527CCE3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8D36-4231-43A2-8F49-BF1EDEB5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C1BD-C585-42BD-96C2-6EF0ECA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84D4-9406-41A7-AC2C-BECAEFA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898-F4A2-4BFC-8158-2C46EEE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3BCF-97F9-4005-B9E0-988B585D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36A7-24C6-401A-A9C0-70D1C620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F547-6E94-4067-A63A-D8E220AE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7CB26-3758-48CD-9BD8-DC80B29A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B873B-CE9C-49C4-96BE-FC570726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8BD78-4594-41AF-B98D-91B6B0F1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755F8-0A09-47FF-BD89-4EFD48B9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2AC84-4ECA-462F-98C6-A04FD99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1EC6F-B930-424F-BE73-0075D7E6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530D-FD84-4791-A9C4-ECCE0D1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3BD-61D4-4B64-A3A6-27B49E4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D9FA1-6C27-4130-8290-87F25A1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AD56-A899-4148-AAF6-753DA47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C2E8D-25C7-4345-90D0-1A0E1729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0DEFF-492C-4841-AC1B-EEA72BB9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FC66-DB2E-434B-BC5E-DD0A0494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F5D5F-6791-4563-AEB3-C4241102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3B3E0-04A5-44ED-AC38-255D26C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EACD-E597-4AA9-BD61-9B3C2833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BB769-425B-4F1F-B285-665A2BCE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C3F6-0AA5-4BD4-B4C3-CBD39193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54E-64B2-4229-804F-41D35FA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041B-5F76-4626-82EC-1675549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38D4-B2C2-436A-A570-EA0FD090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2E6E-4490-4FDA-A1D4-91B4884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8C1B-DB08-4734-A80F-B2A80C4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4F18F-63E6-4F6D-B79E-68D6AAE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EE26-9208-40C6-8DB4-67BF552F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CD5AD-762E-4722-90B1-4BB3C92D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880F3-47C9-4C4D-AA82-9CFD07DC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BA186-E6DD-4251-9AF5-25D30598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C3F81-0CCB-45A2-9B47-CDAAF5B1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6F41-6800-45C9-8F05-DFCF006551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559-B7F7-46A8-BF60-C3EFD6106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E4C-B3F9-41AE-A3A8-173263FAB3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8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6064-4258-47E4-AA1C-6826B9F085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106E-C769-4A2B-A32A-5B77295AE7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DF56-A2FE-42A5-91FF-26B9CCFA09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DDEC-BC18-4251-8955-8B4AC0F7C1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5144-67A3-46CB-845D-E6FBCE8C60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E553-4534-424D-8221-C4C1D61504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CB0D-90EB-42AE-A48E-98F91E3704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DD89-8AB3-4424-8269-AF4AA4B8BA2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0B21-E008-41B5-9CFB-708809ACD83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288D-BA3A-48AB-A15F-A7E72EC93C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23A0-B9A5-4229-B2AD-21B1963906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700-478F-41EA-9612-5D8B0BB3C2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имат и погода Великобрита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: Артюхов Д., 9Б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илина Ю.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2448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c6180"/>
                </a:solidFill>
                <a:latin typeface="Tahoma"/>
              </a:rPr>
              <a:t>«Я буду славить английский климат, пока не умру, даже если умру именно от него. Нет на свете погоды лучше английской. В сущности, нигде, кроме Англии, вообще нет погоды. Во Франции — много солнца и немного дождя; в Италии — жаркий ветер и ветер холодный; в Шотландии или Ирландии — дождь погуще и дождь пожиже; в Америке — адская жара и адский холод; в тропиках — солнечные удары и, для разнообразия, удары молний. Все сильно, все резко, все вызывает восторг или отчаяние. И только в нашей романтической стране есть поистине романтическая вещь — погода, изменчивая и прелестная, как женщина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c6180"/>
                </a:solidFill>
                <a:latin typeface="Tahoma"/>
              </a:rPr>
              <a:t>                                                    </a:t>
            </a:r>
            <a:r>
              <a:rPr b="0" i="1" lang="en-US" sz="2400" spc="-1" strike="noStrike">
                <a:solidFill>
                  <a:srgbClr val="fca2a2"/>
                </a:solidFill>
                <a:latin typeface="Tahoma"/>
              </a:rPr>
              <a:t>Гилберт Честерт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падение осад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79280" y="1916280"/>
          <a:ext cx="8748720" cy="4311360"/>
        </p:xfrm>
        <a:graphic>
          <a:graphicData uri="http://schemas.openxmlformats.org/drawingml/2006/table">
            <a:tbl>
              <a:tblPr/>
              <a:tblGrid>
                <a:gridCol w="930240"/>
                <a:gridCol w="628920"/>
                <a:gridCol w="717480"/>
                <a:gridCol w="718920"/>
                <a:gridCol w="717840"/>
                <a:gridCol w="723600"/>
                <a:gridCol w="717840"/>
                <a:gridCol w="720720"/>
                <a:gridCol w="714240"/>
                <a:gridCol w="722160"/>
                <a:gridCol w="719280"/>
                <a:gridCol w="717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2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8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5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редняя темп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95280" y="1600200"/>
          <a:ext cx="8291520" cy="4600440"/>
        </p:xfrm>
        <a:graphic>
          <a:graphicData uri="http://schemas.openxmlformats.org/drawingml/2006/table">
            <a:tbl>
              <a:tblPr/>
              <a:tblGrid>
                <a:gridCol w="906480"/>
                <a:gridCol w="671400"/>
                <a:gridCol w="671760"/>
                <a:gridCol w="666720"/>
                <a:gridCol w="671400"/>
                <a:gridCol w="674640"/>
                <a:gridCol w="671400"/>
                <a:gridCol w="671760"/>
                <a:gridCol w="671400"/>
                <a:gridCol w="671400"/>
                <a:gridCol w="668520"/>
                <a:gridCol w="674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рафик осад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рафик темп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тя для природы 10 лет – это очень мало, но и здесь можно увидеть небольшую тенденцию к потеплению клим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ые Великобритании очень обеспокоены этой проблемой. Ведь в первую очередь последствия, а это повышение уровня океана , коснутся островов этой страны. Здесь очень часто проводятся конференции, посвященные глобальному климату, издают все больше законов, направленных на защиту окружающей среды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ходят массовые митинги против загрязнения атмосфе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cademy Engraved LET"/>
              </a:rPr>
              <a:t>На климат Британских островов влияют</a:t>
            </a: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 близость океана и особенно течения Гольфстр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В Великобритании преобладает влажный и мягкий морской климат </a:t>
            </a:r>
            <a:r>
              <a:rPr b="0" lang="en-US" sz="2400" spc="-1" strike="noStrike">
                <a:solidFill>
                  <a:srgbClr val="fca2a2"/>
                </a:solidFill>
                <a:latin typeface="Academy Engraved LET"/>
              </a:rPr>
              <a:t>Западного побережья</a:t>
            </a: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с тёплой зимой и прохладным летом и большим количеством осад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a2a2"/>
                </a:solidFill>
                <a:latin typeface="comic"/>
              </a:rPr>
              <a:t>Традиционная английская пог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— это дождь и сырость: температура зимой очень редко опускается ниже нуля (в среднем 3-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).     Интересно, что в разных районах Англии климат не очень различается.  Немного прохладнее погодные условия в горах Шотландии,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Уэль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Северн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Шотланд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  В западной части Великобритании климат влажнее, чем в Восточной, из-за господствующих западных ветров с Атлантического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04000" y="501336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2a2"/>
                </a:solidFill>
                <a:latin typeface="Tahoma"/>
              </a:rPr>
              <a:t>Средняя температур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самого  холодного месяца - января - не опускается ниже  </a:t>
            </a:r>
            <a:r>
              <a:rPr b="0" lang="en-US" sz="2400" spc="-1" strike="noStrike">
                <a:solidFill>
                  <a:srgbClr val="4c6180"/>
                </a:solidFill>
                <a:latin typeface="Tahoma"/>
              </a:rPr>
              <a:t>+3,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радусов даже на крайнем северо-востоке Великобритании,  а на юго-западе достигает  </a:t>
            </a:r>
            <a:r>
              <a:rPr b="0" lang="en-US" sz="2400" spc="-1" strike="noStrike">
                <a:solidFill>
                  <a:srgbClr val="4c6180"/>
                </a:solidFill>
                <a:latin typeface="Tahoma"/>
              </a:rPr>
              <a:t>+5,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радусов, и растения там вегетируют круглый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Cloud"/>
          <p:cNvSpPr/>
          <p:nvPr/>
        </p:nvSpPr>
        <p:spPr>
          <a:xfrm>
            <a:off x="5796000" y="4221000"/>
            <a:ext cx="2303280" cy="1543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сной дуют  холодные  северные ветры,  значительно задерживающие</a:t>
            </a:r>
            <a:r>
              <a:rPr b="0" lang="en-US" sz="2400" spc="-1" strike="noStrike">
                <a:solidFill>
                  <a:srgbClr val="4c61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ст сельскохозяйственных культур на востоке </a:t>
            </a:r>
            <a:r>
              <a:rPr b="0" lang="en-US" sz="2400" spc="-1" strike="noStrike">
                <a:solidFill>
                  <a:srgbClr val="fca2a2"/>
                </a:solidFill>
                <a:latin typeface="Arial"/>
              </a:rPr>
              <a:t>Шотланд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иногда - сухие восточные.  Это время года обычно наименее дождливое. Весна на Британских островах прохладнее и продолжительнее,  чем на тех же  широтах на континен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еликобритании, как и в других странах с морским климатом, лето сравнительно прохладное:  средняя температура самого теплого месяца  - июля - 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1 -  2  граду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иже,  чем на тех же широтах матер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на юго-востоке страны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,  а на крайнем  северо-западе 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градусов.  Максимальная температура на юго-востоке Англии иногда поднимается выше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2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,  а иногда и до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900000" y="454824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енью усиливается циклоническая деятельность, погода становиться пасмурной и дождливой, иногда с сильными штормами, особенно в сентябре и  октябре.  Самый "</a:t>
            </a:r>
            <a:r>
              <a:rPr b="0" lang="en-US" sz="2400" spc="-1" strike="noStrike">
                <a:solidFill>
                  <a:srgbClr val="fca2a2"/>
                </a:solidFill>
                <a:latin typeface="Times New Roman"/>
              </a:rPr>
              <a:t>мокры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 месяц в году - </a:t>
            </a:r>
            <a:r>
              <a:rPr b="0" lang="en-US" sz="2400" spc="-1" strike="noStrike">
                <a:solidFill>
                  <a:srgbClr val="fca2a2"/>
                </a:solidFill>
                <a:latin typeface="Times New Roman"/>
              </a:rPr>
              <a:t>ноябр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 середины осени и до середины зимы  часто бывают тум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Главными причинами, от которых зависит уровень осадок в Великобритании, являются области низкого давления, которые идут на восток через </a:t>
            </a:r>
            <a:r>
              <a:rPr b="0" lang="en-US" sz="2400" spc="-1" strike="noStrike">
                <a:solidFill>
                  <a:srgbClr val="cf3707"/>
                </a:solidFill>
                <a:latin typeface="Edwardian Script ITC"/>
              </a:rPr>
              <a:t>Атлантический Океан</a:t>
            </a:r>
            <a:r>
              <a:rPr b="0" lang="en-US" sz="2400" spc="-1" strike="noStrike">
                <a:solidFill>
                  <a:srgbClr val="fca2a2"/>
                </a:solidFill>
                <a:latin typeface="Edwardian Script ITC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 превалирующие в течение года юго-западные ветры, открытость западного побережья Атлантическому Океану и тот факт, что большая часть горной и холмистой местности находится на запад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аксимальный уровень осадков наблюдается на севере и западе  (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1600 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, в основном осенью и зимой. Возвышенности на западе защищают низины на юге и востоке страны, поэтому «годовой уровень осадков здесь гораздо меньше  (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800 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, с увеличением интенсивности летом. Общий средний уровень осадков составляет более 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1100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в год. Период с марта по июнь является самым сухим, с сентября по январь - самым дождливым. Засухи не часты, однако они все-таки бывают, что создает проблемы фермерам и жителям засушливых район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57:45Z</dcterms:created>
  <dc:creator>User</dc:creator>
  <dc:description/>
  <dc:language>en-US</dc:language>
  <cp:lastModifiedBy>Юля</cp:lastModifiedBy>
  <dcterms:modified xsi:type="dcterms:W3CDTF">2009-01-14T19:48:13Z</dcterms:modified>
  <cp:revision>4</cp:revision>
  <dc:subject/>
  <dc:title>Климат и погода Великобритании.</dc:title>
</cp:coreProperties>
</file>