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13E9-EF11-4E16-8593-04BEAC5E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E00F-EBF9-44C7-B845-68E841D0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1DC77-D218-4405-90EA-E5558492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691DF-AACF-4F61-86EB-DF1C2EAB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DF65D-5BC9-4D5A-9D96-85BD497F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335F7-6ABD-40A9-AB18-20FA7515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168E4-C314-4F3B-9308-A2FA17C8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C1000-61B3-4CCE-A81D-98FA2EB6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E72A9-4A8D-49F1-8ECB-826467EF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C718E-7694-4C31-B02A-31CED34C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94E65-7131-4F47-A01E-66D6BB99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EA7FB-10DE-43C4-8576-69FF53CD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FDE-CEC3-4B44-90EB-78CA4FAC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BD6A4-3D33-43B7-9A20-3B95E185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2D089-C5B7-4D4B-A80D-8F60B4E4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22B69-6A24-4AED-B974-1F7F1542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98738-D4C2-4B17-8A7D-748560B0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76949-F581-4304-92E9-FCC0AD89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A9F91-A17A-468E-BB2E-A8D583F0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91DE9-F433-4E6E-AD4F-602ED34D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A6428-8351-40C7-8507-9C93D604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64B85-9FD6-4D16-9F34-B7AEEAF1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CD2C6-BEC3-45B7-9529-6132CDF0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9B0D-1BC6-461E-947B-82EC9FA7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71EF0-D62C-42C0-9AAE-FAC21C1F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A2AC8-1455-4E3C-9D33-71CBB682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A476A-AC04-4953-82C6-C9FF25CF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D4BB1-3958-49A1-BF0A-CA0A0C33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280E4-80E3-4250-8D3A-BD9715D8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B890E-AE03-4D71-89FD-B3F3956E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7C043-6370-4D45-8226-1A4FC9D0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A6E7F-8A1C-4318-8465-3C27FE3A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0D872-EC2B-440C-85F9-F11E5C05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D79B3-60ED-43A0-83E6-F9686A53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33D3-7B4D-4AB9-BB60-58D5BE2F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3617B-783F-4712-8F92-43069777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C0FE8-2410-406C-A4E7-4C729148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BD7BA-2402-499E-8EBF-FC40D7BC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AC0A4-7544-4103-AE9F-2BF2A043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1ECAA-E557-4E14-8405-371D700B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646C4-2ACF-40D2-B6B2-01DC64AE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DA335-4321-4E46-9326-D49DC371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F3C64-B952-4B27-B54B-AC845CAD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BB208-E7D2-4349-B98B-F8D65129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067FD-6662-467E-87C1-AFA6B006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3AC0-DC78-4A0B-B0E3-EA2837D6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06667-65B1-4E40-A775-037C313F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2EB21-5797-4060-8AFE-03900056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43B74-D463-4DCB-B970-BF66B039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9A509-AD5B-40F5-B040-25D81F8B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1644D-B674-48E2-93B9-96F4E96B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C1632-B044-4524-AFEA-0D4EB2E8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AEE555-E2A6-468E-A59F-FC6503BF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7F75C8-6676-4A65-8957-7493E51E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6C48E-4EA3-44A6-BCEB-E79971EE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810C65-155B-4820-8106-2A58F394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FF83-DC84-455F-ACAC-F4C4D0ED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5B2AF-C3E6-4BA3-A2AA-9AAF9F8A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EB4386-E0C3-47BD-8A80-D2AC7B82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3E8BB-A981-4F86-A201-803F947F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27127-98C8-47EE-BE1B-F49DE745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EB271-D30B-49C1-830F-4DA7B26F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3DE6FE-E61C-4773-B4FD-F7B9A5B6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1168B-3599-4F07-9990-129C8C63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528E39-4CDA-47C4-9A15-3F05B67E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49BE6-E5B0-414D-83BD-B3FA596A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B1F684-B981-4EFC-A47A-F9BC7156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F7B9-EE2C-4F2D-ABBD-2881C96A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B22D25-6909-47DF-8917-CCA0F977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AC46E0-E747-4195-9AAB-4C6641E1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90CA8C-E5E2-4B04-993C-0FE6973D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4F20BF-0B34-4FEE-BB4E-B69340C0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834993-D11B-46DA-BD32-5BE13ABB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B1A43B-80CD-4B03-869C-AF2339D1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00153D-2E65-4C92-9A0D-A7078367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016445-8014-4CA0-8417-943D6829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473F5-D037-4AE1-85CA-2964AA9F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F4DCCB-C140-4920-8658-CE7C3EE4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F969-127A-4687-9702-9C254151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C1813AD-C99D-4C2D-90B9-296AD8F1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5AFAA7-F1D4-4952-89A1-19CFF643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D80B09-AC8B-47DD-A33C-47836A1F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F4B25A-C899-4B34-8257-D9186979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362161-3790-4EB4-ACAB-4E3E69C8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23601B-2844-48CC-A47F-A6786641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7EAEC9-AEB3-4EA8-BBF1-00947223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EC453E-16E3-4001-8672-62192C64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4C8CD0C-8F2F-4DEF-9022-60817B8C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70BDCA-27B0-4F1C-A543-E2CFEDE9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5BBB-49D8-40F1-91BA-3B26B198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5D44DC-E42C-4304-A5EB-98E936C6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9245-84A6-4B4A-9107-41D7C8B7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67E8-4F1F-424E-8E5A-A4446EC1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6875-95C1-4B34-8362-B75E7AE8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B40B-234B-4215-9C04-9EA43011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2981-B063-4626-B5C7-B4B519CA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69D8-C815-4E0B-8BCF-EDE65341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3ED6-DF4C-4862-A55E-0425D806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B1762-2781-40F3-BA46-B6740AD8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68E7D-171E-494A-A5BF-8E5D8B88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5D29A-D920-4BC3-BF94-0D9243A6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F0182-B12A-4E69-A595-F56E0B30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57F49-9AB2-490F-8AAD-76CE654E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25C-C063-4939-A474-F9242C91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72CB6-305D-432B-AA17-097C52BD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12A0D-A78D-44C1-838B-AC800046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72CC8-2A72-49B8-8FCD-3C9BFFCF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CD414-EEE7-42D9-B74B-D94661CE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8D91C-E924-40DC-A0CF-857D53DF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65040-AFAB-4089-915A-4A3F33E7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7A445-0C0E-4817-B6F7-06319BAD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A26FDB-06EC-4900-AE3D-6820EB8E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44A9F4-ACC1-4E64-B3E3-454F7469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73F265-2A7C-4ECB-9332-C9D5150F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848-D48E-4115-AAF9-D72034EC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A4ED81-769C-4E47-A593-EBD7A8F3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B8EE10-FF24-445D-82CF-65DFB67B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E58A4E-CD5B-45EA-BCEE-F1B0CAF4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86E22D-46A4-4B00-88A9-C0DD7728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1B4B28-BA5E-4A92-ABCE-01A5DC27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7A4D58-C750-4012-B316-EE5BF151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EF987-AC61-4B1C-ABAE-1B2CBE43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75EA44-23E2-4F46-96D2-72880EE3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B55CDA-70E8-40A2-BAD6-F4AA48BF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E5BEA9-EADB-4FF0-88CD-B5478803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CA0-921D-46F8-960D-BDF1C50A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A54D48-371A-472C-A5DF-788446E8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18C931-4835-436E-8B10-DEC30FDD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12C66C-5537-46A7-BE0C-51C7D453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F07DD9-C04C-4E6F-B488-37617C9A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C5BB4A-989A-4FA1-AAEE-C80A67EB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2591C-DD62-4839-89D9-BC1D2E38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BBCE71-6B18-432F-8332-44ABE6C6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673468-FCC4-42BF-BDE1-D6193197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2124C8-71D3-48A5-AE58-67F8F7A3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322A8-7090-409B-B481-B39CACFD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194-161C-4C04-97E9-395D2A80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4AEF28-970E-4BC5-B7C1-E39FA773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2D17E-BAAD-410E-B940-55460EA6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D500C-AD68-4B19-9649-A4A81924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CEDE3-C320-4C2B-901B-0A119D4E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53DAA-179C-45C3-8BD0-06BD6754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FBE65-7E3D-4EDB-A60D-84FE845F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DB920-037E-4761-AF92-BFC8FD29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80B4A-D3AE-4BBE-A19F-36930BFE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3CA64-8EA3-4BAD-8A06-46288CAB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61500-75E9-4DA0-B9E0-B9DC48E9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9B52-ACEA-4D21-8734-4534B680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4620D-3700-459A-8114-0477193B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71095-2A9D-4C0F-A071-2DF23D59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21162-432E-454D-8B9A-2D0B90E9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73F6A-95F9-42A1-9916-ACD845DB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B9FF0-8C18-47D6-BF85-86B2279A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8FD82-37B4-447E-8010-085FC3CF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3036C-654E-48FE-BE42-8CE96F50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22BE5-1446-44DE-AC3C-4D708335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42DF1-F091-4F92-B39E-953FEA36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44A32-599D-4B14-B5C2-55A9E491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795A-1DB3-4020-AF3B-E9F6CD5A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21BFF-87CA-4F98-8B76-2610AD63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5E596-793C-4A90-A08F-A3181D53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791F7-0C0D-4850-81E3-D7BDB4A0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7A7A0-2770-4E01-8E4D-7DA0F79F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7E8F3-45AA-4446-A1FC-93007343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C9032-2B20-4E10-8F21-8CE33D7C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6B826-1598-4837-AF66-63BFD3F7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23A0D-CBC0-43EA-B782-771F1225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0B7E0-0FA0-4C8C-86E8-925F0703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78B23-00B6-4C1A-A6AC-B71A81AD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1D29-FC59-4873-B859-B6E41FEA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53F6E-2950-407D-8523-7E5B04A8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B506E-21EB-47CF-9952-EC9FD3E7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A2627-2524-413B-B75B-D5565FFD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ECD99-A945-45D2-AF17-7C215F90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81827-4111-4094-81AF-56119A36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16F85-3826-445C-9D34-AEC46A94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F6E6E-3E2D-4E8B-B520-310A5D8C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5AEF1-E925-42FD-BA41-0FCA80AF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2117E-279A-45C0-BBB8-6A5191CB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4C2F4-9D83-4C79-9578-9B635D5D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27B8-BFF1-494A-963F-8F4D6F8428D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7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8B7D-B805-4B34-A505-0BA8431B3F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3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3593-1655-41EA-AFF2-AA71761968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8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3FAD-53C3-47E4-89CD-DB29B98CC3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5F20-315F-495E-ABE4-3F8A855340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B833-4E46-48AA-9C33-53DD289966A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9D41-E6CF-4331-B945-C65D8AB1E9E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3636-68BE-4C2F-AD14-B1576B8564B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40C7-D6D8-49FF-8ADA-7E4961724FF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5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5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6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0DF4-764A-4913-B634-022192EBD8D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079F-4F28-4769-8AD2-641A5A2338E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7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B02C-E678-4695-8257-027CFE02508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915A-312F-4731-B982-2953D74ECC9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D086-9BA6-413C-B248-834E5BB0A9E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1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5B6B-8698-4549-9A4D-029B9D3365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лимат и погода Великобритан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: Артюхов Д., 9Б к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тилина Ю.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2843280" y="404640"/>
            <a:ext cx="244800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c6180"/>
                </a:solidFill>
                <a:latin typeface="Tahoma"/>
              </a:rPr>
              <a:t>«Я буду славить английский климат, пока не умру, даже если умру именно от него. Нет на свете погоды лучше английской. В сущности, нигде, кроме Англии, вообще нет погоды. Во Франции — много солнца и немного дождя; в Италии — жаркий ветер и ветер холодный; в Шотландии или Ирландии — дождь погуще и дождь пожиже; в Америке — адская жара и адский холод; в тропиках — солнечные удары и, для разнообразия, удары молний. Все сильно, все резко, все вызывает восторг или отчаяние. И только в нашей романтической стране есть поистине романтическая вещь — погода, изменчивая и прелестная, как женщина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c6180"/>
                </a:solidFill>
                <a:latin typeface="Tahoma"/>
              </a:rPr>
              <a:t>                                                    </a:t>
            </a:r>
            <a:r>
              <a:rPr b="0" i="1" lang="en-US" sz="2400" spc="-1" strike="noStrike">
                <a:solidFill>
                  <a:srgbClr val="fca2a2"/>
                </a:solidFill>
                <a:latin typeface="Tahoma"/>
              </a:rPr>
              <a:t>Гилберт Честерт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Выпадение осадк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179280" y="1916280"/>
          <a:ext cx="8748720" cy="4311360"/>
        </p:xfrm>
        <a:graphic>
          <a:graphicData uri="http://schemas.openxmlformats.org/drawingml/2006/table">
            <a:tbl>
              <a:tblPr/>
              <a:tblGrid>
                <a:gridCol w="930240"/>
                <a:gridCol w="628920"/>
                <a:gridCol w="717480"/>
                <a:gridCol w="718920"/>
                <a:gridCol w="717840"/>
                <a:gridCol w="723600"/>
                <a:gridCol w="717840"/>
                <a:gridCol w="720720"/>
                <a:gridCol w="714240"/>
                <a:gridCol w="722160"/>
                <a:gridCol w="719280"/>
                <a:gridCol w="7174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Месяц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19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19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Ию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Ию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Авгу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За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9.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2.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8.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9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3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5.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7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9.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9.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Средняя температу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395280" y="1600200"/>
          <a:ext cx="8291520" cy="4600440"/>
        </p:xfrm>
        <a:graphic>
          <a:graphicData uri="http://schemas.openxmlformats.org/drawingml/2006/table">
            <a:tbl>
              <a:tblPr/>
              <a:tblGrid>
                <a:gridCol w="906480"/>
                <a:gridCol w="671400"/>
                <a:gridCol w="671760"/>
                <a:gridCol w="666720"/>
                <a:gridCol w="671400"/>
                <a:gridCol w="674640"/>
                <a:gridCol w="671400"/>
                <a:gridCol w="671760"/>
                <a:gridCol w="671400"/>
                <a:gridCol w="671400"/>
                <a:gridCol w="668520"/>
                <a:gridCol w="674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Месяц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19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19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Ию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Ию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2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Авгу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1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1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За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.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График осадк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График температу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569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тя для природы 10 лет – это очень мало, но и здесь можно увидеть небольшую тенденцию к потеплению клима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ые Великобритании очень обеспокоены этой проблемой. Ведь в первую очередь последствия, а это повышение уровня океана , коснутся островов этой страны. Здесь очень часто проводятся конференции, посвященные глобальному климату, издают все больше законов, направленных на защиту окружающей среды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ходят массовые митинги против загрязнения атмосфер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250560" y="170028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cademy Engraved LET"/>
              </a:rPr>
              <a:t>На климат Британских островов влияют</a:t>
            </a:r>
            <a:r>
              <a:rPr b="0" lang="en-US" sz="2400" spc="-1" strike="noStrike">
                <a:solidFill>
                  <a:srgbClr val="ffffff"/>
                </a:solidFill>
                <a:latin typeface="Academy Engraved LET"/>
              </a:rPr>
              <a:t> близость океана и особенно течения Гольфстр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cademy Engraved LET"/>
              </a:rPr>
              <a:t>В Великобритании преобладает влажный и мягкий морской климат </a:t>
            </a:r>
            <a:r>
              <a:rPr b="0" lang="en-US" sz="2400" spc="-1" strike="noStrike">
                <a:solidFill>
                  <a:srgbClr val="fca2a2"/>
                </a:solidFill>
                <a:latin typeface="Academy Engraved LET"/>
              </a:rPr>
              <a:t>Западного побережья</a:t>
            </a:r>
            <a:r>
              <a:rPr b="0" lang="en-US" sz="2400" spc="-1" strike="noStrike">
                <a:solidFill>
                  <a:srgbClr val="ffffff"/>
                </a:solidFill>
                <a:latin typeface="Academy Engraved LET"/>
              </a:rPr>
              <a:t>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cademy Engraved LET"/>
              </a:rPr>
              <a:t>с тёплой зимой и прохладным летом и большим количеством осад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250560" y="1125360"/>
            <a:ext cx="8893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a2a2"/>
                </a:solidFill>
                <a:latin typeface="comic"/>
              </a:rPr>
              <a:t>Традиционная английская погод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— это дождь и сырость: температура зимой очень редко опускается ниже нуля (в среднем 3-5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).     Интересно, что в разных районах Англии климат не очень различается.  Немного прохладнее погодные условия в горах Шотландии, </a:t>
            </a:r>
            <a:r>
              <a:rPr b="0" lang="ru-RU" sz="2800" spc="-1" strike="noStrike">
                <a:solidFill>
                  <a:srgbClr val="fca2a2"/>
                </a:solidFill>
                <a:latin typeface="Tahoma"/>
              </a:rPr>
              <a:t>Уэльс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800" spc="-1" strike="noStrike">
                <a:solidFill>
                  <a:srgbClr val="fca2a2"/>
                </a:solidFill>
                <a:latin typeface="Tahoma"/>
              </a:rPr>
              <a:t>Северно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ca2a2"/>
                </a:solidFill>
                <a:latin typeface="Tahoma"/>
              </a:rPr>
              <a:t>Шотланди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   В западной части Великобритании климат влажнее, чем в Восточной, из-за господствующих западных ветров с Атлантического оке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6804000" y="5013360"/>
            <a:ext cx="18064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a2a2"/>
                </a:solidFill>
                <a:latin typeface="Tahoma"/>
              </a:rPr>
              <a:t>Средняя температур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самого  холодного месяца - января - не опускается ниже  </a:t>
            </a:r>
            <a:r>
              <a:rPr b="0" lang="en-US" sz="2400" spc="-1" strike="noStrike">
                <a:solidFill>
                  <a:srgbClr val="4c6180"/>
                </a:solidFill>
                <a:latin typeface="Tahoma"/>
              </a:rPr>
              <a:t>+3,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градусов даже на крайнем северо-востоке Великобритании,  а на юго-западе достигает  </a:t>
            </a:r>
            <a:r>
              <a:rPr b="0" lang="en-US" sz="2400" spc="-1" strike="noStrike">
                <a:solidFill>
                  <a:srgbClr val="4c6180"/>
                </a:solidFill>
                <a:latin typeface="Tahoma"/>
              </a:rPr>
              <a:t>+5,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градусов, и растения там вегетируют круглый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Cloud"/>
          <p:cNvSpPr/>
          <p:nvPr/>
        </p:nvSpPr>
        <p:spPr>
          <a:xfrm>
            <a:off x="5796000" y="4221000"/>
            <a:ext cx="2303280" cy="1543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сной дуют  холодные  северные ветры,  значительно задерживающие</a:t>
            </a:r>
            <a:r>
              <a:rPr b="0" lang="en-US" sz="2400" spc="-1" strike="noStrike">
                <a:solidFill>
                  <a:srgbClr val="4c61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ст сельскохозяйственных культур на востоке </a:t>
            </a:r>
            <a:r>
              <a:rPr b="0" lang="en-US" sz="2400" spc="-1" strike="noStrike">
                <a:solidFill>
                  <a:srgbClr val="fca2a2"/>
                </a:solidFill>
                <a:latin typeface="Arial"/>
              </a:rPr>
              <a:t>Шотланд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а иногда - сухие восточные.  Это время года обычно наименее дождливое. Весна на Британских островах прохладнее и продолжительнее,  чем на тех же  широтах на континен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914400" y="126828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Великобритании, как и в других странах с морским климатом, лето сравнительно прохладное:  средняя температура самого теплого месяца  - июля - 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cf3707"/>
                </a:solidFill>
                <a:latin typeface="Arial"/>
              </a:rPr>
              <a:t>1 -  2  градус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иже,  чем на тех же широтах матери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на юго-востоке страны  </a:t>
            </a:r>
            <a:r>
              <a:rPr b="0" lang="ru-RU" sz="2400" spc="-1" strike="noStrike">
                <a:solidFill>
                  <a:srgbClr val="cf3707"/>
                </a:solidFill>
                <a:latin typeface="Arial"/>
              </a:rPr>
              <a:t>+16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градусов,  а на крайнем  северо-западе   </a:t>
            </a:r>
            <a:r>
              <a:rPr b="0" lang="ru-RU" sz="2400" spc="-1" strike="noStrike">
                <a:solidFill>
                  <a:srgbClr val="cf3707"/>
                </a:solidFill>
                <a:latin typeface="Arial"/>
              </a:rPr>
              <a:t>+1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градусов.  Максимальная температура на юго-востоке Англии иногда поднимается выше  </a:t>
            </a:r>
            <a:r>
              <a:rPr b="0" lang="ru-RU" sz="2400" spc="-1" strike="noStrike">
                <a:solidFill>
                  <a:srgbClr val="cf3707"/>
                </a:solidFill>
                <a:latin typeface="Arial"/>
              </a:rPr>
              <a:t>+27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градусов,  а иногда и до  </a:t>
            </a:r>
            <a:r>
              <a:rPr b="0" lang="ru-RU" sz="2400" spc="-1" strike="noStrike">
                <a:solidFill>
                  <a:srgbClr val="cf3707"/>
                </a:solidFill>
                <a:latin typeface="Arial"/>
              </a:rPr>
              <a:t>+3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граду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900000" y="4548240"/>
            <a:ext cx="26989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сенью усиливается циклоническая деятельность, погода становиться пасмурной и дождливой, иногда с сильными штормами, особенно в сентябре и  октябре.  Самый "</a:t>
            </a:r>
            <a:r>
              <a:rPr b="0" lang="en-US" sz="2400" spc="-1" strike="noStrike">
                <a:solidFill>
                  <a:srgbClr val="fca2a2"/>
                </a:solidFill>
                <a:latin typeface="Times New Roman"/>
              </a:rPr>
              <a:t>мокры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 месяц в году - </a:t>
            </a:r>
            <a:r>
              <a:rPr b="0" lang="en-US" sz="2400" spc="-1" strike="noStrike">
                <a:solidFill>
                  <a:srgbClr val="fca2a2"/>
                </a:solidFill>
                <a:latin typeface="Times New Roman"/>
              </a:rPr>
              <a:t>ноябр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С середины осени и до середины зимы  часто бывают туман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dwardian Script ITC"/>
              </a:rPr>
              <a:t>Главными причинами, от которых зависит уровень осадок в Великобритании, являются области низкого давления, которые идут на восток через </a:t>
            </a:r>
            <a:r>
              <a:rPr b="0" lang="en-US" sz="2400" spc="-1" strike="noStrike">
                <a:solidFill>
                  <a:srgbClr val="cf3707"/>
                </a:solidFill>
                <a:latin typeface="Edwardian Script ITC"/>
              </a:rPr>
              <a:t>Атлантический Океан</a:t>
            </a:r>
            <a:r>
              <a:rPr b="0" lang="en-US" sz="2400" spc="-1" strike="noStrike">
                <a:solidFill>
                  <a:srgbClr val="fca2a2"/>
                </a:solidFill>
                <a:latin typeface="Edwardian Script ITC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Edwardian Script ITC"/>
              </a:rPr>
              <a:t> превалирующие в течение года юго-западные ветры, открытость западного побережья Атлантическому Океану и тот факт, что большая часть горной и холмистой местности находится на западе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6300720" y="4292640"/>
            <a:ext cx="1746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Максимальный уровень осадков наблюдается на севере и западе  (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1600  мм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) , в основном осенью и зимой. Возвышенности на западе защищают низины на юге и востоке страны, поэтому «годовой уровень осадков здесь гораздо меньше  (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800  мм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) , с увеличением интенсивности летом. Общий средний уровень осадков составляет более  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1100 мм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в год. Период с марта по июнь является самым сухим, с сентября по январь - самым дождливым. Засухи не часты, однако они все-таки бывают, что создает проблемы фермерам и жителям засушливых районо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6:57:45Z</dcterms:created>
  <dc:creator>User</dc:creator>
  <dc:description/>
  <dc:language>en-US</dc:language>
  <cp:lastModifiedBy>Юля</cp:lastModifiedBy>
  <dcterms:modified xsi:type="dcterms:W3CDTF">2009-01-14T19:48:13Z</dcterms:modified>
  <cp:revision>4</cp:revision>
  <dc:subject/>
  <dc:title>Климат и погода Великобритании.</dc:title>
</cp:coreProperties>
</file>