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D7A-FA88-4607-A0CE-1549A2DA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0FA-C19B-4486-8E16-4347DD5D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A5FB7-5207-4D7A-8B50-E20A8C0A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BA17D-9BA2-44CE-A5EE-54651AE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FF326-C27F-416D-8A16-3702852A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15749-5DAB-4010-B9D2-854540A9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2ACD3-A0A3-479A-B5DE-1204F8E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DFE3E-1AA7-4507-96CF-F1A7FC44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E3EF0-F97A-4AC3-B8C5-92EC54AB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A3B88-1B76-43D6-9A2C-F917347B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25386-3615-4BA5-8E82-248CD6F6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2736A-99EB-450D-AB0D-0A0AE6AF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073-5F69-4536-B20F-A4929629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8C986-6FF3-48BE-8AE4-49970B7F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FD759-CF35-420E-885F-737024BB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A80F6-0352-4BFE-A81A-3F59520B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46036-BF67-4D24-B3B3-83079B28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545B0-5234-471A-8990-3D21F93C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60886-2D82-45D0-9A1F-1C42E67E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EAC1A-DC42-4111-8E1F-4F3E90F0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BE6FB-96E9-4205-8526-D7936272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EA396-5401-4CFC-9E40-4F7699CE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885AF-1692-44A4-B27B-AB2597DE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834-F2B1-4DF2-9756-8E5E61D0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28F73-F987-48A0-99B7-E63FAC96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D18B3-4BDD-4DED-AD68-1D16E5FD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4AA5F-425E-4466-8E0D-29716523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9D737-26C4-4F5E-8C77-AC3479CC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43960-1BD2-4DF8-8F1B-951C16BB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67B49-88C9-459A-9AC5-ABCB63D9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F3834-7D11-42B3-8B28-B3771C67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DF540-F0DE-47E1-B6A4-95A7A14D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361FE-9F14-4F48-91A8-7D940B8D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EDBB0-1763-471B-8508-28A6F21A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663B-19F1-474A-87FF-163E9AD8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D825C-2F87-46EC-A388-E6816ED1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968CF-8709-458E-9791-11EC2933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57C47-63BF-435E-99D8-83544C8A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81E7B-652B-4673-9032-63C6F2FD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C6ED4-2644-433D-A8E3-4304D0EF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44393-7D87-46BC-A419-C0317E73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1EB46-B7E3-4D15-81BD-28CBE9AA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086FB-6F5E-44EE-9781-E9945705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45DA3-2148-45A3-B8D5-61F3A02B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4A53C-40E4-4645-9017-C15E9D7B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E8E7-4E68-428B-BEA2-BEC9294C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67874-C6D8-4601-9337-23CFF16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AD407-EC5F-4DB6-A894-AE27E598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E14CE-726A-4986-9CB6-1F937E2D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8B59B-EC08-49CD-AC55-2079C76C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ADF67-DDA2-47E7-B59D-6D402AC9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8D856-7E8C-40D8-A6C5-7762D500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8D371-DC81-4AB7-9EC6-DED3D3EC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85F50-ADC1-4411-B270-ED755EA2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16065-6F74-46DC-85AE-9144B86E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FECA2-AC76-4A5A-A184-8029387B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BF22-A5FB-4D36-B15E-70C4C97A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65B7E-E53E-498A-848C-272BD322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5F97B-3CB1-4D73-974D-29211D0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4FE32-F5F8-4B79-9E57-F2AE65AF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33B0A-C4A7-428E-9FFF-504980AB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78328-05EE-4D28-9527-686BA1B2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9EDB9-13C3-45E6-8084-6EB35550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C748F-68EA-40FD-AB32-E8572FF4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517C3-30DB-4ACC-81EB-EAF575EA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C8719-7F11-4C5F-A46F-B8852F48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6E906-3FB4-4CF7-97D5-3C9B4913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DC39-6403-4635-87D5-981049B8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B1E2F-C259-45D0-901E-5081E409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24EF67-35A8-40C8-8D07-E496A50A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400A4-4A2E-4D36-AF85-0AFCF078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624D1-5C9D-43F3-9C27-F89B822E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92503-3091-421B-B3D5-9927E60A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D995D-3FEB-4E38-8FF5-A38F6AD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62F3C-1E37-44D8-9892-F57F298D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6610B-DE90-487B-89E6-1550EB35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A3AAC-3716-4086-B229-26BB8180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390F12-92FB-4A86-997F-BEE58B96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109D-9CC3-44DD-BFC6-090CE490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87E799-BECC-4DF2-8887-4629DDD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F16CD6-E216-482B-BEEA-CF477062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14C7BD-4FC6-4C9D-A4C0-0CBB5DCC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FED4E8-2E51-4D7A-8400-FADD14A5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48A912-DE4C-4185-A099-93C36938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050ED6-8BBC-497B-9D92-67DAFF8A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3314AD-61A2-4186-9ECC-2902645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223463-D2CB-4132-A91F-30563FB9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EAB414-D945-421F-898D-E1880569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43BF6E-5600-4D85-96CD-30D2C66C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5F60-8224-4BD6-8DE4-3C9CF34A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553212-2028-4991-8369-635A157C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21B2-E7AA-4CEC-923D-A243DD3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EE4-DD31-4644-8264-352D0768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4165-91C5-48CD-8EF5-BA0DE3CB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71AB-CA43-468C-ABD3-C32C9B69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DC0C-2DBF-4736-86B2-360BDB63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25B1-139E-452E-AD82-040EF895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D441-CA00-439F-A885-1BA28B96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17B6-965F-487C-B83D-6636A5F2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D301-B8CA-4CE1-8C70-72FDC4A0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A42C-D11B-4C19-ACD7-58A15AD6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2B42-510F-4B2F-9BA7-801817DC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D9615-D6F5-49A3-95F1-1D7C77A0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139-027F-4BB4-87EE-B46908CD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1F5E2-3215-42D0-BF9B-C6926F87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15B7-E470-4C42-A548-A7EEF2AC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113A-AFFD-4070-8A4F-42F841DD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38F7-DE46-4504-BB64-A0655E4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FCD13-B607-42F6-AE82-A3A9A052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5936-7BF9-4854-BD7E-BBB4ACD5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C419-E367-45FC-BEB0-23688408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DE451-CC66-4803-92E7-E5F49A9D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D0375-7E68-443A-AC34-C516F881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A8011-F7A4-4EC5-91A1-750A123B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4F1-A16C-4A95-9C67-B52FDD09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4E202-65B6-4A4E-BE3F-DFE2A5B7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B67AA-8C7A-415F-8BAD-712EBDDE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DE96C-4C12-4F29-A631-A38D86F7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27ED4-2DF7-47F3-ADAD-C074CB66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D9B1E-019C-4367-BCF5-6D88A9D3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3A02E-E94D-49F9-82D8-0E10969F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3A5DD-84A1-4CCB-AA28-5899CA80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85845E-A774-45F6-80FC-C07465AC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5C3E2-9A98-4C38-8BF0-41056D53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AFDF2-466F-4A89-BA52-EB6CE3BF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957-3BE2-4A9F-9CE0-0316FC14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243DB-2CA7-4200-A7DA-72EB93F9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23447-F7F9-44E0-BD1B-9C62EC8A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2C49E-CF6F-4342-BE7E-5175B363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0EB2F-737E-49CB-9931-9B68F4C4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46A56-D38D-417D-AFD7-2588CB9B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9EF3D-2C3C-4C16-9884-8F15655C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A2267-75E9-4B67-9053-8A7DBAC5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FD2A7-C2F2-4511-B90B-A4D61C92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EC409-042F-43EC-8A49-C1EFB52B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D1A3F-882C-4A7E-A629-EDB7209D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ACA-6DF5-4F4D-BFAA-8669E1DA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E2F85-AC01-425E-8860-62AA5249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0681C-811C-4E98-ADAD-03E0AACD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20CA-F47A-465F-8C3B-B8F9B4F3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51DE8-610E-4BDA-996B-CB87DD2C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2FA52-1322-467D-85CB-04D9853D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E08F6-417F-42D5-83BB-7236D961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26689-67C5-465C-9B6F-AEC49291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190F9-3E83-4740-BB75-AF834135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061AA-1897-4895-A03C-5F753952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CC0C-76E9-42D4-8BEC-5D6C692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B82E-3348-4AA9-A5CA-7300060B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A28E7-88DC-4EF1-B26B-792B0880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881FA-DA1D-4D61-B9CE-4474E7D4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5DC70-D7C4-4E1D-8F6E-A3900716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4F7D7-1E79-413A-9528-F6F8D66A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865FB-CD8C-4DCE-B592-761C2D07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E7487-0922-4ADD-964D-6832EE4F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D41A7-30D4-42A2-A96B-E8BE28B8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997B5-7F7C-4B04-ADDF-880C8827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1481-1426-4C62-A348-9083E33B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6615F-57AE-4AEA-943E-D3965C1C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D98-AB08-4828-A332-572C79F0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5D6EE-0E9B-4101-ACA0-91FEB31E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4EE19-25B3-4CD0-95FE-F2A92558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8C5BD-C5CA-43F2-B331-1CE7BC2F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7650F-8815-4CFE-9D1C-677CE1FD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7C1C2-1001-4EAD-BAC0-9D92C292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9505B-ED2F-411B-A6FA-0E6D1476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CE74D-CAA4-443A-921E-60B86C82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9BB62-174F-4898-B030-B2B797B0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5A639-B04F-4698-947B-B9D1ED7E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EE7AF-1D5E-48BE-9B52-95BD28C4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752-BC84-4317-B16E-933AD0BE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17A28-130F-4DC8-8262-82D5B9B0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0D148-34BF-49F9-927B-571579AB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105B0-0DF2-4D66-B046-A2093E3F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62007-21F5-45E5-BDFB-51C11CCF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0B70F-87C4-42C5-8BEE-AA3C94DF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894DF-C182-447C-B6E6-1452A75C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018A8-A76B-4985-B8D8-0ED8AB1F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A297C-7A42-41F9-93E4-9D947FDF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5F8C7-2635-420B-8361-0C985C69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4BDFE-3B9C-490C-AA11-1EF1B44B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B736-7415-4A1D-B32E-BA938F488F7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7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0906-77AE-4F6B-8007-985AE20F43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3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C42B-94F1-4817-A8FF-730032A6CC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8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2EAD-B567-4B63-B2B7-298F6767B5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4FA1-9A23-4903-A955-7C8D4430B2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CC4C-A21E-428A-8551-AB6D367B38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7600-5240-4554-A497-7357711BCA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8FF9-45B4-451F-BD92-56576370FB6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BE35-7E30-4CD3-9946-B4B38FE0B99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5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5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6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6855-D593-4CA3-9F7E-D595DE230A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790D-CF44-4C53-B777-EDFE520C201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3869-D813-43E0-B2B2-0A8D5CB6940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DCE0-82EB-40DC-ACA8-FD44C7EC45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7580-C1E0-4B07-B2F2-7DCE7C89BC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1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BB18-7EBE-4A02-88F5-53BC437B59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имат и погода Великобритан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: Артюхов Д., 9Б 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илина Ю.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2448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c6180"/>
                </a:solidFill>
                <a:latin typeface="Tahoma"/>
              </a:rPr>
              <a:t>«Я буду славить английский климат, пока не умру, даже если умру именно от него. Нет на свете погоды лучше английской. В сущности, нигде, кроме Англии, вообще нет погоды. Во Франции — много солнца и немного дождя; в Италии — жаркий ветер и ветер холодный; в Шотландии или Ирландии — дождь погуще и дождь пожиже; в Америке — адская жара и адский холод; в тропиках — солнечные удары и, для разнообразия, удары молний. Все сильно, все резко, все вызывает восторг или отчаяние. И только в нашей романтической стране есть поистине романтическая вещь — погода, изменчивая и прелестная, как женщина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c6180"/>
                </a:solidFill>
                <a:latin typeface="Tahoma"/>
              </a:rPr>
              <a:t>                                                    </a:t>
            </a:r>
            <a:r>
              <a:rPr b="0" i="1" lang="en-US" sz="2400" spc="-1" strike="noStrike">
                <a:solidFill>
                  <a:srgbClr val="fca2a2"/>
                </a:solidFill>
                <a:latin typeface="Tahoma"/>
              </a:rPr>
              <a:t>Гилберт Честерт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ыпадение осад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179280" y="1916280"/>
          <a:ext cx="8748720" cy="4311360"/>
        </p:xfrm>
        <a:graphic>
          <a:graphicData uri="http://schemas.openxmlformats.org/drawingml/2006/table">
            <a:tbl>
              <a:tblPr/>
              <a:tblGrid>
                <a:gridCol w="930240"/>
                <a:gridCol w="628920"/>
                <a:gridCol w="717480"/>
                <a:gridCol w="718920"/>
                <a:gridCol w="717840"/>
                <a:gridCol w="723600"/>
                <a:gridCol w="717840"/>
                <a:gridCol w="720720"/>
                <a:gridCol w="714240"/>
                <a:gridCol w="722160"/>
                <a:gridCol w="719280"/>
                <a:gridCol w="717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Меся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9.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2.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8.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5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9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редняя темп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395280" y="1600200"/>
          <a:ext cx="8291520" cy="4600440"/>
        </p:xfrm>
        <a:graphic>
          <a:graphicData uri="http://schemas.openxmlformats.org/drawingml/2006/table">
            <a:tbl>
              <a:tblPr/>
              <a:tblGrid>
                <a:gridCol w="906480"/>
                <a:gridCol w="671400"/>
                <a:gridCol w="671760"/>
                <a:gridCol w="666720"/>
                <a:gridCol w="671400"/>
                <a:gridCol w="674640"/>
                <a:gridCol w="671400"/>
                <a:gridCol w="671760"/>
                <a:gridCol w="671400"/>
                <a:gridCol w="671400"/>
                <a:gridCol w="668520"/>
                <a:gridCol w="674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Месяц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Lucida Sans Unicode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н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Ию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Авгу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Сен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6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5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f3707"/>
                          </a:solidFill>
                          <a:latin typeface="Arial"/>
                          <a:ea typeface="Lucida Sans Unicode"/>
                        </a:rPr>
                        <a:t>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.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2.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График осад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График темпера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отя для природы 10 лет – это очень мало, но и здесь можно увидеть небольшую тенденцию к потеплению клима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ые Великобритании очень обеспокоены этой проблемой. Ведь в первую очередь последствия, а это повышение уровня океана , коснутся островов этой страны. Здесь очень часто проводятся конференции, посвященные глобальному климату, издают все больше законов, направленных на защиту окружающей среды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ходят массовые митинги против загрязнения атмосфер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250560" y="1700280"/>
            <a:ext cx="828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cademy Engraved LET"/>
              </a:rPr>
              <a:t>На климат Британских островов влияют</a:t>
            </a: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 близость океана и особенно течения Гольфстр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В Великобритании преобладает влажный и мягкий морской климат </a:t>
            </a:r>
            <a:r>
              <a:rPr b="0" lang="en-US" sz="2400" spc="-1" strike="noStrike">
                <a:solidFill>
                  <a:srgbClr val="fca2a2"/>
                </a:solidFill>
                <a:latin typeface="Academy Engraved LET"/>
              </a:rPr>
              <a:t>Западного побережья</a:t>
            </a: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cademy Engraved LET"/>
              </a:rPr>
              <a:t>с тёплой зимой и прохладным летом и большим количеством осад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893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a2a2"/>
                </a:solidFill>
                <a:latin typeface="comic"/>
              </a:rPr>
              <a:t>Традиционная английская погод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— это дождь и сырость: температура зимой очень редко опускается ниже нуля (в среднем 3-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).     Интересно, что в разных районах Англии климат не очень различается.  Немного прохладнее погодные условия в горах Шотландии, </a:t>
            </a:r>
            <a:r>
              <a:rPr b="0" lang="ru-RU" sz="2800" spc="-1" strike="noStrike">
                <a:solidFill>
                  <a:srgbClr val="fca2a2"/>
                </a:solidFill>
                <a:latin typeface="Tahoma"/>
              </a:rPr>
              <a:t>Уэльс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800" spc="-1" strike="noStrike">
                <a:solidFill>
                  <a:srgbClr val="fca2a2"/>
                </a:solidFill>
                <a:latin typeface="Tahoma"/>
              </a:rPr>
              <a:t>Северно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ca2a2"/>
                </a:solidFill>
                <a:latin typeface="Tahoma"/>
              </a:rPr>
              <a:t>Шотланд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   В западной части Великобритании климат влажнее, чем в Восточной, из-за господствующих западных ветров с Атлантического оке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6804000" y="5013360"/>
            <a:ext cx="18064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2a2"/>
                </a:solidFill>
                <a:latin typeface="Tahoma"/>
              </a:rPr>
              <a:t>Средняя температур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самого  холодного месяца - января - не опускается ниже  </a:t>
            </a:r>
            <a:r>
              <a:rPr b="0" lang="en-US" sz="2400" spc="-1" strike="noStrike">
                <a:solidFill>
                  <a:srgbClr val="4c6180"/>
                </a:solidFill>
                <a:latin typeface="Tahoma"/>
              </a:rPr>
              <a:t>+3,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градусов даже на крайнем северо-востоке Великобритании,  а на юго-западе достигает  </a:t>
            </a:r>
            <a:r>
              <a:rPr b="0" lang="en-US" sz="2400" spc="-1" strike="noStrike">
                <a:solidFill>
                  <a:srgbClr val="4c6180"/>
                </a:solidFill>
                <a:latin typeface="Tahoma"/>
              </a:rPr>
              <a:t>+5,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градусов, и растения там вегетируют круглый г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Cloud"/>
          <p:cNvSpPr/>
          <p:nvPr/>
        </p:nvSpPr>
        <p:spPr>
          <a:xfrm>
            <a:off x="5796000" y="4221000"/>
            <a:ext cx="2303280" cy="15433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сной дуют  холодные  северные ветры,  значительно задерживающие</a:t>
            </a:r>
            <a:r>
              <a:rPr b="0" lang="en-US" sz="2400" spc="-1" strike="noStrike">
                <a:solidFill>
                  <a:srgbClr val="4c61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ст сельскохозяйственных культур на востоке </a:t>
            </a:r>
            <a:r>
              <a:rPr b="0" lang="en-US" sz="2400" spc="-1" strike="noStrike">
                <a:solidFill>
                  <a:srgbClr val="fca2a2"/>
                </a:solidFill>
                <a:latin typeface="Arial"/>
              </a:rPr>
              <a:t>Шотланд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а иногда - сухие восточные.  Это время года обычно наименее дождливое. Весна на Британских островах прохладнее и продолжительнее,  чем на тех же  широтах на континен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Великобритании, как и в других странах с морским климатом, лето сравнительно прохладное:  средняя температура самого теплого месяца  - июля - 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1 -  2  градус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иже,  чем на тех же широтах материк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на юго-востоке страны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16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радусов,  а на крайнем  северо-западе 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градусов.  Максимальная температура на юго-востоке Англии иногда поднимается выше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2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радусов,  а иногда и до  </a:t>
            </a:r>
            <a:r>
              <a:rPr b="0" lang="ru-RU" sz="2400" spc="-1" strike="noStrike">
                <a:solidFill>
                  <a:srgbClr val="cf3707"/>
                </a:solidFill>
                <a:latin typeface="Arial"/>
              </a:rPr>
              <a:t>+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раду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900000" y="4548240"/>
            <a:ext cx="26989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енью усиливается циклоническая деятельность, погода становиться пасмурной и дождливой, иногда с сильными штормами, особенно в сентябре и  октябре.  Самый "</a:t>
            </a:r>
            <a:r>
              <a:rPr b="0" lang="en-US" sz="2400" spc="-1" strike="noStrike">
                <a:solidFill>
                  <a:srgbClr val="fca2a2"/>
                </a:solidFill>
                <a:latin typeface="Times New Roman"/>
              </a:rPr>
              <a:t>мокры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 месяц в году - </a:t>
            </a:r>
            <a:r>
              <a:rPr b="0" lang="en-US" sz="2400" spc="-1" strike="noStrike">
                <a:solidFill>
                  <a:srgbClr val="fca2a2"/>
                </a:solidFill>
                <a:latin typeface="Times New Roman"/>
              </a:rPr>
              <a:t>ноябр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С середины осени и до середины зимы  часто бывают тум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dwardian Script ITC"/>
              </a:rPr>
              <a:t>Главными причинами, от которых зависит уровень осадок в Великобритании, являются области низкого давления, которые идут на восток через </a:t>
            </a:r>
            <a:r>
              <a:rPr b="0" lang="en-US" sz="2400" spc="-1" strike="noStrike">
                <a:solidFill>
                  <a:srgbClr val="cf3707"/>
                </a:solidFill>
                <a:latin typeface="Edwardian Script ITC"/>
              </a:rPr>
              <a:t>Атлантический Океан</a:t>
            </a:r>
            <a:r>
              <a:rPr b="0" lang="en-US" sz="2400" spc="-1" strike="noStrike">
                <a:solidFill>
                  <a:srgbClr val="fca2a2"/>
                </a:solidFill>
                <a:latin typeface="Edwardian Script ITC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Edwardian Script ITC"/>
              </a:rPr>
              <a:t> превалирующие в течение года юго-западные ветры, открытость западного побережья Атлантическому Океану и тот факт, что большая часть горной и холмистой местности находится на запад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6300720" y="429264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аксимальный уровень осадков наблюдается на севере и западе  (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1600  м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 , в основном осенью и зимой. Возвышенности на западе защищают низины на юге и востоке страны, поэтому «годовой уровень осадков здесь гораздо меньше  (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800  м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) , с увеличением интенсивности летом. Общий средний уровень осадков составляет более  </a:t>
            </a: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1100 м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в год. Период с марта по июнь является самым сухим, с сентября по январь - самым дождливым. Засухи не часты, однако они все-таки бывают, что создает проблемы фермерам и жителям засушливых районо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57:45Z</dcterms:created>
  <dc:creator>User</dc:creator>
  <dc:description/>
  <dc:language>en-US</dc:language>
  <cp:lastModifiedBy>Юля</cp:lastModifiedBy>
  <dcterms:modified xsi:type="dcterms:W3CDTF">2009-01-14T19:48:13Z</dcterms:modified>
  <cp:revision>4</cp:revision>
  <dc:subject/>
  <dc:title>Климат и погода Великобритании.</dc:title>
</cp:coreProperties>
</file>