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media/image33.png" ContentType="image/png"/>
  <Override PartName="/ppt/media/image11.jpeg" ContentType="image/jpeg"/>
  <Override PartName="/ppt/media/image9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B4A1-9DDC-492E-B954-F43D4673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179D-CCBB-40ED-A5B4-31D9F2E3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EF31-CCF0-4C7B-85A8-793A19DE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3703-6690-4E25-BABD-FB926E66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15A5-ADE7-4890-999A-BD01E062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7DCD-6A16-4C90-8E88-0B58D9EE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AB41-3566-4556-BE7F-9E605FAC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5FB7-1064-44E3-9FB4-C3B93B10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54FC-C563-4EDD-BA99-8783AAC7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23B7-7172-489B-AC01-DE03856E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CBF8-ABA0-4C7A-847C-2ED05795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2973-4F67-4CFA-960B-9F3E57CC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762D-93B6-40CB-B9C4-E7898252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CAFC-7A63-4347-985D-506F0366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EDA8-4103-424C-A652-A45962E8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0578-1E86-4916-A5C3-100570BEC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AE21-E90A-408F-83B6-44BAB27C6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17229A-D391-4E33-8C0D-356C74D3D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DAEB07-7FF5-4854-90DF-E458C20A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D1644A-94B6-4515-B6EB-FB6A1CA0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8DF7B4-3DA3-4994-A741-88EEA14F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AC6657-3462-43E6-9672-507B2506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2FA8-270D-404F-BE33-A0DA32E3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30A744-2504-4669-ACFA-90E4FE58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C72107-AD59-47D4-8597-BFD3B68A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1FB765-1569-40AB-AF70-0C25F510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012EA2-32F9-459B-9E51-FF113302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A8689A-B7EF-4ADE-83DB-8E556B92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A96564-33CF-46B0-9DEA-F9CD08900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E48379-8D59-4863-9B8B-CABB45EBD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39947-6065-4105-8684-128FE35D5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FFFC3-8DA5-45AC-8D71-A073989D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F7E8D-D31F-4FEA-8D5D-6FBEFC39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DC22-84CE-44D3-B57C-47D8382B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04493-4993-4DBE-8BD6-737388CA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1AF80-A981-432C-9669-02385079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B54B1-3DC9-44FA-9825-EEA7D88A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B2D47-38D6-4158-89B0-93B6AEDA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02076-B8BB-4124-88F0-C09B0B12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BE7B7-48B7-467E-8F49-CCA58ABE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71FF1-06D8-4DF0-ACCF-2BFFF5C0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D8F2E-8C5E-4334-A8BA-77290150A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196D8-43F1-4081-B81C-BFA6EBC98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C84C5-C54E-49CF-BBAA-CC40EAEE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BD40-87FB-4123-A714-94DDB80C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DE8CF-8BCD-4A94-B454-00F5AFB3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0D23E-AD1B-49E1-A091-28DAFE48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C16A6-195B-442F-899C-EF0B36F2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C9CAB-EA8E-4783-9EA0-EA8569F7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C8181-C56E-465E-BD0F-0E3157E4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4E66A-5183-4CED-A4B9-748A8BBA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DF30B-ED56-4A51-85B3-2A9B68E8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D5B0C-D34C-480B-848A-AD761257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0F71A-415F-43F8-A174-46CF3F29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FB60D-923B-4B81-B3FF-3BB4F629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6E13-006D-41B4-B7CF-CEB763B6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1BC49-4F1C-438D-9569-D92BBADA6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2403-4311-407E-8018-D6FF1F00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229D-5426-4FC2-8392-C884EA23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1D98-56FA-4820-AE2C-83A989A2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42EF-6B7F-423D-959B-DEC91A49AF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D281-ED5C-4541-A05E-6ABC64796EA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8971-DB35-4BE4-A355-5AA5829E68A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93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97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203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207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097E-2A00-40A3-8B5F-D9BF0FFA696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5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12A3-E7D0-47EE-86E9-1C740B3AF67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0" y="1969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Тема: Ф.М. Достое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Этапы биографии и твор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0" y="932040"/>
            <a:ext cx="5522760" cy="552276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4"/>
          <p:cNvSpPr/>
          <p:nvPr/>
        </p:nvSpPr>
        <p:spPr>
          <a:xfrm>
            <a:off x="1080" y="530712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1821-188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1757880" y="4122360"/>
            <a:ext cx="706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Цель :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познакомиться с биографией писател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особенностями его мировоззрения, своеобраз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творч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2743200" y="5235480"/>
            <a:ext cx="640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емеровская обл. г. Новокузнецк ФГОУ СПО «КИТ» ШАБАЛИНА ОКСАНА ВИКТОРОВНА-учитель русского языка и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"/>
          <p:cNvPicPr/>
          <p:nvPr/>
        </p:nvPicPr>
        <p:blipFill>
          <a:blip r:embed="rId1">
            <a:lum bright="-8000"/>
          </a:blip>
          <a:stretch/>
        </p:blipFill>
        <p:spPr>
          <a:xfrm>
            <a:off x="0" y="0"/>
            <a:ext cx="5010120" cy="6858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4100400" y="0"/>
            <a:ext cx="5043600" cy="6858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3">
            <a:lum bright="-10000"/>
          </a:blip>
          <a:srcRect l="0" t="2219" r="3510" b="2219"/>
          <a:stretch/>
        </p:blipFill>
        <p:spPr>
          <a:xfrm>
            <a:off x="2209680" y="152280"/>
            <a:ext cx="48769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5367240" cy="5715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2"/>
          <a:stretch/>
        </p:blipFill>
        <p:spPr>
          <a:xfrm>
            <a:off x="5418000" y="457200"/>
            <a:ext cx="372600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2"/>
          <p:cNvSpPr/>
          <p:nvPr/>
        </p:nvSpPr>
        <p:spPr>
          <a:xfrm>
            <a:off x="4648320" y="2438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67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5264280" cy="6858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152280" y="0"/>
            <a:ext cx="541044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5"/>
          <p:cNvSpPr/>
          <p:nvPr/>
        </p:nvSpPr>
        <p:spPr>
          <a:xfrm>
            <a:off x="5791320" y="36576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868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4038480" y="63244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866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10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2057400" y="0"/>
            <a:ext cx="468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506556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3"/>
          <p:cNvSpPr/>
          <p:nvPr/>
        </p:nvSpPr>
        <p:spPr>
          <a:xfrm>
            <a:off x="6120" y="3120840"/>
            <a:ext cx="9382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Князь Мышкин) был молодой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чело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век…лет двадцати ше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или двадцати семи, роста немного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овыше среднего, оч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белокур, густоволос, со впалыми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щ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еками и с легонько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остренькою, почти совершенно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бе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лою бородкой. Глаза его бы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большие, голубые и пристальные;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 во взгляде их было что-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олное того странного выражения,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по которому некотор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угадывают с первого взгляда в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уб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ъ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екте падучую болез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Лицо молодого человека было,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про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чем, приятно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тонкое и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ухое,   но бесцветно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67028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3"/>
          <p:cNvSpPr/>
          <p:nvPr/>
        </p:nvSpPr>
        <p:spPr>
          <a:xfrm>
            <a:off x="0" y="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872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2"/>
          <a:stretch/>
        </p:blipFill>
        <p:spPr>
          <a:xfrm>
            <a:off x="2514600" y="1905120"/>
            <a:ext cx="6629400" cy="454176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5"/>
          <p:cNvSpPr/>
          <p:nvPr/>
        </p:nvSpPr>
        <p:spPr>
          <a:xfrm>
            <a:off x="3585600" y="6399720"/>
            <a:ext cx="51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рновые наброски романа «Бес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4" descr=""/>
          <p:cNvPicPr/>
          <p:nvPr/>
        </p:nvPicPr>
        <p:blipFill>
          <a:blip r:embed="rId1"/>
          <a:stretch/>
        </p:blipFill>
        <p:spPr>
          <a:xfrm>
            <a:off x="4992840" y="838080"/>
            <a:ext cx="4151160" cy="6019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3"/>
          <p:cNvSpPr/>
          <p:nvPr/>
        </p:nvSpPr>
        <p:spPr>
          <a:xfrm>
            <a:off x="0" y="1143000"/>
            <a:ext cx="22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880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"/>
          <p:cNvPicPr/>
          <p:nvPr/>
        </p:nvPicPr>
        <p:blipFill>
          <a:blip r:embed="rId3"/>
          <a:stretch/>
        </p:blipFill>
        <p:spPr>
          <a:xfrm>
            <a:off x="1066680" y="2362320"/>
            <a:ext cx="5639040" cy="325584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6"/>
          <p:cNvSpPr/>
          <p:nvPr/>
        </p:nvSpPr>
        <p:spPr>
          <a:xfrm>
            <a:off x="-380880" y="4342320"/>
            <a:ext cx="853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cc00"/>
                </a:solidFill>
                <a:latin typeface="Times New Roman"/>
              </a:rPr>
              <a:t>Кабинет Ф. М. Достоевского, в доме на угл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cc00"/>
                </a:solidFill>
                <a:latin typeface="Times New Roman"/>
              </a:rPr>
              <a:t>Кузнецкого переулка и  Ямской улиц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cc00"/>
                </a:solidFill>
                <a:latin typeface="Times New Roman"/>
              </a:rPr>
              <a:t>в Петербурге. Здесь написаны отдельные глав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cc00"/>
                </a:solidFill>
                <a:latin typeface="Times New Roman"/>
              </a:rPr>
              <a:t>романа  ,,Братья Карамазов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5"/>
          <p:cNvPicPr/>
          <p:nvPr/>
        </p:nvPicPr>
        <p:blipFill>
          <a:blip r:embed="rId1"/>
          <a:srcRect l="0" t="0" r="-113" b="3912"/>
          <a:stretch/>
        </p:blipFill>
        <p:spPr>
          <a:xfrm>
            <a:off x="0" y="0"/>
            <a:ext cx="536112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5410080" y="4210200"/>
            <a:ext cx="3733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1 февраля - погребение Достоевского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Тихвинском кладбище Александро-Невской лав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2,-84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2,-84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5608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олстой и Достоевский - два величайших гения, силою своих талантов они потрясли весь мир, они обратили на Россию изумленное внимание всей Европы и оба встали как равные в великие ряды людей чьи име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Шекспир, Данте, Сервантес, Руссо, Г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М. Горь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462960" y="3200040"/>
            <a:ext cx="83098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ПЛАН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Творческие искания Достоев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биография писател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Мировоззрение писателя и связь его творч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русской действитель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04920" y="2436480"/>
            <a:ext cx="84582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КРИТИЧЕСКИЙ РЕАЛИЗМ- преобладание критическог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отношения к изображаемой реа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2590920" y="304920"/>
            <a:ext cx="556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Словарная работ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762120" y="380880"/>
            <a:ext cx="7740360" cy="347832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3"/>
          <p:cNvSpPr/>
          <p:nvPr/>
        </p:nvSpPr>
        <p:spPr>
          <a:xfrm>
            <a:off x="378360" y="3947040"/>
            <a:ext cx="49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А. Достоевский — отец писателя. 1823 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4147200" y="4342320"/>
            <a:ext cx="50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. Ф.Достоевская — мать писателя. 1823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5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467840" cy="52279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6"/>
          <p:cNvSpPr/>
          <p:nvPr/>
        </p:nvSpPr>
        <p:spPr>
          <a:xfrm>
            <a:off x="762120" y="4952880"/>
            <a:ext cx="7315200" cy="82548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Мариинская больница для бедны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левый флигель. Здесь родился Ф. М. Достое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7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7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180px-Ann_Radcliffe"/>
          <p:cNvPicPr/>
          <p:nvPr/>
        </p:nvPicPr>
        <p:blipFill>
          <a:blip r:embed="rId1"/>
          <a:stretch/>
        </p:blipFill>
        <p:spPr>
          <a:xfrm>
            <a:off x="152280" y="304920"/>
            <a:ext cx="3538800" cy="61722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3"/>
          <p:cNvSpPr/>
          <p:nvPr/>
        </p:nvSpPr>
        <p:spPr>
          <a:xfrm>
            <a:off x="304920" y="5181480"/>
            <a:ext cx="32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АННА РАДКЛИФ</a:t>
            </a: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2895480" y="304920"/>
            <a:ext cx="556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Словарная работ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7920" y="1905120"/>
            <a:ext cx="88736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ГОТИЧЕСКИЙ СТИЛЬ РОМАНА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Готический роман показыва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звечное борение противостоящ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чал — добра и з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0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180"/>
                            </p:stCondLst>
                            <p:childTnLst>
                              <p:par>
                                <p:cTn id="1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227520" y="426960"/>
            <a:ext cx="86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40-е гг. Достоевский пишет повесть </a:t>
            </a: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«Бедные люди» (1845),</a:t>
            </a: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весть Достоевского означала дв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сской литературы вперед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2613240" cy="3581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"/>
          <p:cNvPicPr/>
          <p:nvPr/>
        </p:nvPicPr>
        <p:blipFill>
          <a:blip r:embed="rId2"/>
          <a:srcRect l="2665" t="3479" r="0" b="6124"/>
          <a:stretch/>
        </p:blipFill>
        <p:spPr>
          <a:xfrm>
            <a:off x="3200400" y="2514600"/>
            <a:ext cx="5562720" cy="396252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5"/>
          <p:cNvSpPr/>
          <p:nvPr/>
        </p:nvSpPr>
        <p:spPr>
          <a:xfrm>
            <a:off x="3726360" y="6476040"/>
            <a:ext cx="514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кар Девушкин и Варенька Добросе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0" y="-28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0" y="-282600"/>
          <a:ext cx="208080" cy="357192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57192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Rectangle 14"/>
          <p:cNvSpPr/>
          <p:nvPr/>
        </p:nvSpPr>
        <p:spPr>
          <a:xfrm>
            <a:off x="1800" y="3288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5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4876920" y="1143000"/>
            <a:ext cx="4071960" cy="5715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"/>
          <p:cNvPicPr/>
          <p:nvPr/>
        </p:nvPicPr>
        <p:blipFill>
          <a:blip r:embed="rId4">
            <a:lum bright="-10000"/>
          </a:blip>
          <a:stretch/>
        </p:blipFill>
        <p:spPr>
          <a:xfrm>
            <a:off x="3048120" y="0"/>
            <a:ext cx="6095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4618080" y="1219320"/>
            <a:ext cx="4525920" cy="56386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0" y="1066680"/>
            <a:ext cx="4800600" cy="306072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4"/>
          <p:cNvSpPr/>
          <p:nvPr/>
        </p:nvSpPr>
        <p:spPr>
          <a:xfrm>
            <a:off x="0" y="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1845 – 1848 ГОДЫ КРУЖОК БУТАШЕВИЧА -ПЕТРАШЕВСК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5" descr="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1295280" y="1066680"/>
            <a:ext cx="6172200" cy="515484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6"/>
          <p:cNvSpPr/>
          <p:nvPr/>
        </p:nvSpPr>
        <p:spPr>
          <a:xfrm>
            <a:off x="1523880" y="57913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3 ДЕКАБРЯ 1849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7" descr=""/>
          <p:cNvPicPr/>
          <p:nvPr/>
        </p:nvPicPr>
        <p:blipFill>
          <a:blip r:embed="rId4"/>
          <a:stretch/>
        </p:blipFill>
        <p:spPr>
          <a:xfrm>
            <a:off x="838080" y="1127160"/>
            <a:ext cx="7086600" cy="5730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8" descr=""/>
          <p:cNvPicPr/>
          <p:nvPr/>
        </p:nvPicPr>
        <p:blipFill>
          <a:blip r:embed="rId5">
            <a:lum bright="-10000"/>
          </a:blip>
          <a:stretch/>
        </p:blipFill>
        <p:spPr>
          <a:xfrm>
            <a:off x="914400" y="1158840"/>
            <a:ext cx="7010280" cy="56991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"/>
          <p:cNvPicPr/>
          <p:nvPr/>
        </p:nvPicPr>
        <p:blipFill>
          <a:blip r:embed="rId6"/>
          <a:stretch/>
        </p:blipFill>
        <p:spPr>
          <a:xfrm>
            <a:off x="228600" y="1195560"/>
            <a:ext cx="861048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2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1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8381880" cy="50673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"/>
          <p:cNvPicPr/>
          <p:nvPr/>
        </p:nvPicPr>
        <p:blipFill>
          <a:blip r:embed="rId3"/>
          <a:stretch/>
        </p:blipFill>
        <p:spPr>
          <a:xfrm>
            <a:off x="1752480" y="1752480"/>
            <a:ext cx="6191280" cy="3929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"/>
          <p:cNvPicPr/>
          <p:nvPr/>
        </p:nvPicPr>
        <p:blipFill>
          <a:blip r:embed="rId4"/>
          <a:stretch/>
        </p:blipFill>
        <p:spPr>
          <a:xfrm>
            <a:off x="3324240" y="2895480"/>
            <a:ext cx="5819760" cy="39625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"/>
          <p:cNvPicPr/>
          <p:nvPr/>
        </p:nvPicPr>
        <p:blipFill>
          <a:blip r:embed="rId5"/>
          <a:stretch/>
        </p:blipFill>
        <p:spPr>
          <a:xfrm>
            <a:off x="6458040" y="5878440"/>
            <a:ext cx="268596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9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2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абалина о. в.</dc:creator>
  <dc:description/>
  <cp:keywords>достоевский</cp:keywords>
  <dc:language>en-US</dc:language>
  <cp:lastModifiedBy>Коля</cp:lastModifiedBy>
  <dcterms:modified xsi:type="dcterms:W3CDTF">2013-04-27T17:22:33Z</dcterms:modified>
  <cp:revision>12</cp:revision>
  <dc:subject>Этапы творчества и биографии Ф М. Достоевского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