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33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8E8-8C51-4B5D-8673-FA1E631C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EC1-0551-4ACF-9492-5C77EF42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FE2-629F-4F17-B40F-CD699B72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4B0-413F-4109-8B63-267B0882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0935-DB13-475E-A42D-F5EB5EC3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8026-31A7-4EB9-9853-B799FB29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DAC6-F0E6-4835-ACE2-F0569A82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BEEC-1382-4D3B-89D0-EEA27D90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7CFE-298E-462E-B905-DAA0297B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B016-B0FE-41B4-9440-7AC1CCF8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CB91-98AF-4E1E-8269-8D8325A5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EF3-BD85-46B7-93D5-41E1B52E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91A2-3C7C-440D-A632-3C76D106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524B-8DF7-4F20-9B62-DACFA48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DDE4-3A22-4F9D-913F-4807D705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256-6E7E-4B9E-842B-75CD8949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0FAD-E9A5-4FA1-9286-A9FF0A8D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F63F5-25EA-4496-9C4E-6528A7B3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9403B-CE23-46CE-A21F-303652BC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24989-B4BB-45CA-966E-770FE7E4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566C7-7F85-404A-B82A-DFFD9F6B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27220-9FA4-40BA-8C48-4F32FE8D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68F-E28B-4D35-B4D5-4680417D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C7C78-5A90-41F3-B5D4-7C296343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41A2E-AC97-44A5-810B-3D3C06A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CC362-091F-4CA1-93C4-530AD186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E91C5-749A-4E76-8C92-EC0380D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59C39-E0DF-4EF3-B4A5-1890BBDA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7360F-FFB1-4C37-92D9-4FB7FDFA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6BFE6-A030-43A0-8BD7-4DF33045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DD75F-5C57-40AD-B4F2-3E92FD47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709EB-85E9-4A28-A27C-7403FEB0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8FA6E-39E4-461E-9326-96B22903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C72-BD33-49BA-8267-0D884781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61D97-7B70-4D7A-AE1A-86EBB228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EF34F-CA51-4E2F-9BC3-05AED06F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4EB95-CA22-4678-9452-9EDC883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69BC7-86D3-42C6-9739-5668B262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1B42-5C9D-4435-BCBD-60F062A1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0188-4C1C-4132-8C0E-4E8464CD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C5CE2-301D-41C9-BF81-896C2017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345FE-D022-473C-9C54-22A18745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46FE-0C38-4A61-8800-7B33B91F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8522-B819-4C41-9B51-C0B057D8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928-2F85-45F3-AA58-D939BD64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7B04-B43A-4D4E-837D-ABA0456E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33B3B-D3D2-4FEA-8FE4-2CAD6682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A6FCA-2E61-43D5-A029-2E2039D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F784B-89CE-4209-8BEF-16ED9480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8A4E5-9C6D-4BA8-9FA6-AE49B039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926F6-5311-4205-ABE8-C2AC5D9A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50CF-8A86-40E1-83CE-C903106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0889B-953D-4C9D-8E85-9CAF9CF1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7F142-6CCD-4B5F-A902-98DA4077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319B0-5985-480D-9DAF-B3ECD1C9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B0A-FC42-4AA6-B3BA-01B2100A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5063-6F69-4716-9996-DECC9EA8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9E1-D428-4E03-9572-904CD441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6E7-AB57-4578-BF3E-F3784852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880-EF9F-4A95-B0A0-E0DA541F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7E23-313F-4AC6-839C-11E30E7833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FE0-72EB-4A38-98E3-95B2FC618FF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552D-AD6E-4B12-AB89-12BA0B9BCBB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3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03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0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7AAF-BE72-4A54-A0FB-00ACE6F4334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7734-E0F7-4F89-B563-86EC1D0E502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196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ема: Ф.М. Досто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Этапы биографии и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0" y="932040"/>
            <a:ext cx="5522760" cy="55227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1080" y="5307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821-188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757880" y="4122360"/>
            <a:ext cx="706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Цель :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знакомиться с биографией писател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собенностями его мировоззрения, своеобраз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твор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743200" y="523548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емеровская обл. г. Новокузнецк ФГОУ СПО «КИТ» ШАБАЛИНА ОКСАНА ВИКТОРОВНА-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0" y="0"/>
            <a:ext cx="501012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4100400" y="0"/>
            <a:ext cx="50436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3">
            <a:lum bright="-10000"/>
          </a:blip>
          <a:srcRect l="0" t="2219" r="3510" b="2219"/>
          <a:stretch/>
        </p:blipFill>
        <p:spPr>
          <a:xfrm>
            <a:off x="2209680" y="152280"/>
            <a:ext cx="4876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5367240" cy="5715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5418000" y="457200"/>
            <a:ext cx="37260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4648320" y="2438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6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526428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152280" y="0"/>
            <a:ext cx="541044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5791320" y="3657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6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4038480" y="6324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6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0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2057400" y="0"/>
            <a:ext cx="46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5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506556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6120" y="3120840"/>
            <a:ext cx="9382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нязь Мышкин) был молодой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чел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ек…лет двадцати ш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ли двадцати семи, роста немног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выше среднего, о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елокур, густоволос, со впалыми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щ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ками и с легонько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стренькою, почти совершенн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е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лою бородкой. Глаза его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ольшие, голубые и пристальные;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во взгляде их было чт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лное того странного выражения,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по которому не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гадывают с первого взгляда в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уб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ъ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екте падучую болез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ицо молодого человека было,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про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чем, прият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онкое и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ухое,   но бесцветно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7028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"/>
          <p:cNvSpPr/>
          <p:nvPr/>
        </p:nvSpPr>
        <p:spPr>
          <a:xfrm>
            <a:off x="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7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2514600" y="1905120"/>
            <a:ext cx="6629400" cy="454176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5"/>
          <p:cNvSpPr/>
          <p:nvPr/>
        </p:nvSpPr>
        <p:spPr>
          <a:xfrm>
            <a:off x="3585600" y="6399720"/>
            <a:ext cx="51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новые наброски романа «Бе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4992840" y="838080"/>
            <a:ext cx="4151160" cy="6019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0" y="114300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8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1066680" y="2362320"/>
            <a:ext cx="5639040" cy="32558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-380880" y="434232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Кабинет Ф. М. Достоевского, в доме на угл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Кузнецкого переулка и  Ямской ул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в Петербурге. Здесь написаны отдельные гла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00"/>
                </a:solidFill>
                <a:latin typeface="Times New Roman"/>
              </a:rPr>
              <a:t>романа  ,,Братья Карамазо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5"/>
          <p:cNvPicPr/>
          <p:nvPr/>
        </p:nvPicPr>
        <p:blipFill>
          <a:blip r:embed="rId1"/>
          <a:srcRect l="0" t="0" r="-113" b="3912"/>
          <a:stretch/>
        </p:blipFill>
        <p:spPr>
          <a:xfrm>
            <a:off x="0" y="0"/>
            <a:ext cx="536112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5410080" y="421020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1 февраля - погребение Достоевского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Тихвинском кладбище Александро-Невской лав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56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лстой и Достоевский - два величайших гения, силою своих талантов они потрясли весь мир, они обратили на Россию изумленное внимание всей Европы и оба встали как равные в великие ряды людей чьи им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експир, Данте, Сервантес, Руссо, Г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М. Горь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62960" y="3200040"/>
            <a:ext cx="8309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ЛАН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Творческие искания Достое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биография писател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Мировоззрение писателя и связь его твор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русской действите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04920" y="243648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РИТИЧЕСКИЙ РЕАЛИЗМ- преобладание критическ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тношения к изображаемой реа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590920" y="3049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Словарная рабо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762120" y="380880"/>
            <a:ext cx="7740360" cy="3478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378360" y="3947040"/>
            <a:ext cx="49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А. Достоевский — отец писателя. 1823 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4147200" y="4342320"/>
            <a:ext cx="50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. Ф.Достоевская — мать писателя. 182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467840" cy="52279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762120" y="4952880"/>
            <a:ext cx="7315200" cy="82548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ариинская больница для бед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левый флигель. Здесь родился Ф. М. Досто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80px-Ann_Radcliffe"/>
          <p:cNvPicPr/>
          <p:nvPr/>
        </p:nvPicPr>
        <p:blipFill>
          <a:blip r:embed="rId1"/>
          <a:stretch/>
        </p:blipFill>
        <p:spPr>
          <a:xfrm>
            <a:off x="152280" y="304920"/>
            <a:ext cx="3538800" cy="6172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304920" y="51814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ННА РАДКЛИФ</a:t>
            </a: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895480" y="3049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Словарная рабо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7920" y="1905120"/>
            <a:ext cx="887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ГОТИЧЕСКИЙ СТИЛЬ РОМАН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отический роман показыва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звечное борение противостоящ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ачал — добра и з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18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27520" y="426960"/>
            <a:ext cx="86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40-е гг. Достоевский пишет повесть 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«Бедные люди» (1845),</a:t>
            </a: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весть Достоевского означала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сской литературы вперед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2613240" cy="3581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2"/>
          <a:srcRect l="2665" t="3479" r="0" b="6124"/>
          <a:stretch/>
        </p:blipFill>
        <p:spPr>
          <a:xfrm>
            <a:off x="3200400" y="2514600"/>
            <a:ext cx="5562720" cy="3962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5"/>
          <p:cNvSpPr/>
          <p:nvPr/>
        </p:nvSpPr>
        <p:spPr>
          <a:xfrm>
            <a:off x="3726360" y="6476040"/>
            <a:ext cx="51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ар Девушкин и Варенька Добросе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-28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0" y="-282600"/>
          <a:ext cx="208080" cy="35719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57192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Rectangle 14"/>
          <p:cNvSpPr/>
          <p:nvPr/>
        </p:nvSpPr>
        <p:spPr>
          <a:xfrm>
            <a:off x="1800" y="3288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5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4876920" y="1143000"/>
            <a:ext cx="4071960" cy="5715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4618080" y="1219320"/>
            <a:ext cx="4525920" cy="5638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0" y="1066680"/>
            <a:ext cx="4800600" cy="3060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4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845 – 1848 ГОДЫ КРУЖОК БУТАШЕВИЧА -ПЕТРАШЕВ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1295280" y="1066680"/>
            <a:ext cx="6172200" cy="51548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1523880" y="57913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3 ДЕКАБРЯ 184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4"/>
          <a:stretch/>
        </p:blipFill>
        <p:spPr>
          <a:xfrm>
            <a:off x="838080" y="1127160"/>
            <a:ext cx="7086600" cy="5730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914400" y="1158840"/>
            <a:ext cx="7010280" cy="5699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6"/>
          <a:stretch/>
        </p:blipFill>
        <p:spPr>
          <a:xfrm>
            <a:off x="228600" y="1195560"/>
            <a:ext cx="86104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81880" cy="5067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1752480" y="1752480"/>
            <a:ext cx="6191280" cy="392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4"/>
          <a:stretch/>
        </p:blipFill>
        <p:spPr>
          <a:xfrm>
            <a:off x="3324240" y="2895480"/>
            <a:ext cx="5819760" cy="3962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5"/>
          <a:stretch/>
        </p:blipFill>
        <p:spPr>
          <a:xfrm>
            <a:off x="6458040" y="5878440"/>
            <a:ext cx="26859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абалина о. в.</dc:creator>
  <dc:description/>
  <cp:keywords>достоевский</cp:keywords>
  <dc:language>en-US</dc:language>
  <cp:lastModifiedBy>Коля</cp:lastModifiedBy>
  <dcterms:modified xsi:type="dcterms:W3CDTF">2013-04-27T17:22:33Z</dcterms:modified>
  <cp:revision>12</cp:revision>
  <dc:subject>Этапы творчества и биографии Ф М. Достоевского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