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196-4074-4091-BAE8-8E246621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3B3-4789-4540-9F08-8BBE5EEF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F06-DF06-4960-A184-73ACB467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E97-EC60-4743-BB56-473F488B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51CF-A395-4969-A982-769EDD06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87BC-82ED-47BD-803C-1DE37FB4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0E1C-A009-4778-A3D5-EA91714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D910-BE3A-4376-A974-408969A7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BE3F-6C0C-482B-B6A4-8A88D73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71AB-A290-4D8D-992B-0B089C30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8930-9C6D-4551-9069-5A68BCE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4BC-F1F2-4895-9ECD-89DAE68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32BC-7705-4204-B13B-911244B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8DC-39EF-4990-9475-D762916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44F9-D59B-4FAF-9F42-084B480E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D60-FFBB-4214-B863-4E732A69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828D-B6D2-45EC-908E-E6FBCE74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DF6FF-9189-40A6-9199-C9BF5A27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094D7-3299-496C-8491-72AB345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C6A32-5893-4DDB-A27D-5C90CBEA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9E619-BFB7-42AD-82FD-66EC7F89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93DCF-C1C5-4E41-94CB-47F6AF1B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1A7-3054-457B-8FDA-DD1DDABF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994AD-E7C1-4160-BF2F-4036E722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B1089-CBD0-4322-81FF-C1B5FCB2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F68B6-1A49-4E7E-8717-DE9521E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07758-6441-4724-B8C9-31BB5A8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CD348-AB86-493A-8173-0AD92E3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7BA9A-7C97-4641-A873-789F82E3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1BD00-5FBE-4EBE-A0EB-E0CE4A84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246A-39E4-4A64-B3CB-BB292130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B363-872C-4440-A42E-391CF603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520A-8C91-4EB8-84DE-8A0AA528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77E-EDA8-4042-AE1D-4127742F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ABB9-2978-4C5A-838A-DFCA4C3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09AD-142C-4F05-8954-A054033F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48F7-0BE4-4D87-A897-4692C450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6CCD-F366-4E5D-937B-11C89FF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B064-53C0-4810-8F77-FCB50F48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825E-84C5-4933-A847-4F01673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24FE-87EE-4D5A-B871-ADCBE88A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C94B-66FD-44C1-9315-0ECD3148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9965-37A4-4BE4-B807-719C8045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7CF2-A573-42AF-BD34-5D037033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905-A96A-43EF-9B8E-49475AEC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36463-3401-4B36-A278-B28666C5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0DA1-21F6-471D-891B-66AE7D3A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EB4C-88B7-4357-932E-E17A913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3C0CC-7BF8-4964-8BA6-3C70FEA7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D31E-4096-4343-A6CC-53669C61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CB5BC-B013-4040-8335-9691D6F1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3C4B5-D67E-4ED5-A230-80A6DA7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4C9C-606A-48A7-985C-0EB4908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3361F-9424-4D95-8B98-ABDD36DF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AF1B0-AA71-4F8E-9A3A-759FB7EB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0E3-3F8B-462F-9DDC-008F877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B034-B1DB-489D-9311-21C502C1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CB9-15A1-4678-B503-606DBD3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BEE-7D83-4278-8F6A-78C3092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5FF-659E-432D-AB03-B3A1763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51A6-3B92-41BB-A2AA-A73B1451B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FBB1-08AE-4A31-8C91-AE529983A18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AFCF-AFF4-439D-B6C6-B9CF11AE839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48B3-5D00-4923-AE95-6B9A677281A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63D2-283A-4237-8E9D-6A82C344554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196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ема: Ф.М. Досто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Этапы биографии и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0" y="932040"/>
            <a:ext cx="5522760" cy="55227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1080" y="5307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821-188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57880" y="4122360"/>
            <a:ext cx="70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Цель :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знакомиться с биографией писате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собенностями его мировоззрения, своеобраз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вор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743200" y="523548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емеровская обл. г. Новокузнецк ФГОУ СПО «КИТ» ШАБАЛИНА ОКСАНА ВИКТОРОВНА-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0" y="0"/>
            <a:ext cx="501012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100400" y="0"/>
            <a:ext cx="50436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>
            <a:lum bright="-10000"/>
          </a:blip>
          <a:srcRect l="0" t="2219" r="3510" b="2219"/>
          <a:stretch/>
        </p:blipFill>
        <p:spPr>
          <a:xfrm>
            <a:off x="2209680" y="152280"/>
            <a:ext cx="4876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367240" cy="5715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418000" y="457200"/>
            <a:ext cx="3726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46483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6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26428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52280" y="0"/>
            <a:ext cx="541044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5791320" y="3657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6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0384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6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2057400" y="0"/>
            <a:ext cx="46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06556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6120" y="3120840"/>
            <a:ext cx="938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нязь Мышкин) был молодой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чел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ек…лет двадцати ш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ли двадцати семи, роста немног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выше среднего,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локур, густоволос, со впалыми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щ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ками и с легонько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стренькою, почти совершенн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лою бородкой. Глаза его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ольшие, голубые и пристальные;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во взгляде их было чт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лное того странного выражения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по которому не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гадывают с первого взгляда в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уб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ъ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кте падучую боле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ицо молодого человека было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пр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чем, прият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нкое и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ухое,   но бесцветно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7028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7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6629400" cy="45417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3585600" y="639972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новые наброски романа «Бе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992840" y="838080"/>
            <a:ext cx="4151160" cy="6019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0" y="114300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5639040" cy="32558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-380880" y="434232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Кабинет Ф. М. Достоевского, в доме на уг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Кузнецкого переулка и  Ямской ул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в Петербурге. Здесь написаны отдельные гла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романа  ,,Братья Карамазо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5"/>
          <p:cNvPicPr/>
          <p:nvPr/>
        </p:nvPicPr>
        <p:blipFill>
          <a:blip r:embed="rId1"/>
          <a:srcRect l="0" t="0" r="-113" b="3912"/>
          <a:stretch/>
        </p:blipFill>
        <p:spPr>
          <a:xfrm>
            <a:off x="0" y="0"/>
            <a:ext cx="536112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5410080" y="421020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1 февраля - погребение Достоевского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Тихвинском кладбище Александро-Невской лав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56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лстой и Достоевский - два величайших гения, силою своих талантов они потрясли весь мир, они обратили на Россию изумленное внимание всей Европы и оба встали как равные в великие ряды людей чьи им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експир, Данте, Сервантес, Руссо, 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М. Горь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62960" y="3200040"/>
            <a:ext cx="8309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Творческие искания Досто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биография писа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Мировоззрение писателя и связь его твор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русской действи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04920" y="243648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РИТИЧЕСКИЙ РЕАЛИЗМ- преобладание критическ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тношения к изображаемой ре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590920" y="304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Словарная рабо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62120" y="380880"/>
            <a:ext cx="7740360" cy="3478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78360" y="3947040"/>
            <a:ext cx="49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А. Достоевский — отец писателя. 1823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4147200" y="434232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. Ф.Достоевская — мать писателя. 182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467840" cy="5227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762120" y="4952880"/>
            <a:ext cx="7315200" cy="825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ариинская больница для бед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левый флигель. Здесь родился Ф. М. Досто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80px-Ann_Radcliffe"/>
          <p:cNvPicPr/>
          <p:nvPr/>
        </p:nvPicPr>
        <p:blipFill>
          <a:blip r:embed="rId1"/>
          <a:stretch/>
        </p:blipFill>
        <p:spPr>
          <a:xfrm>
            <a:off x="152280" y="304920"/>
            <a:ext cx="3538800" cy="6172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304920" y="5181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ННА РАДКЛИФ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895480" y="3049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Словарная рабо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7920" y="1905120"/>
            <a:ext cx="887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ГОТИЧЕСКИЙ СТИЛЬ РОМАН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отический роман показыва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вечное борение противостоящ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чал — добра и з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18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27520" y="426960"/>
            <a:ext cx="86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40-е гг. Достоевский пишет повесть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«Бедные люди» (1845),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есть Достоевского означала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й литературы вперед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613240" cy="358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rcRect l="2665" t="3479" r="0" b="6124"/>
          <a:stretch/>
        </p:blipFill>
        <p:spPr>
          <a:xfrm>
            <a:off x="3200400" y="2514600"/>
            <a:ext cx="5562720" cy="3962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3726360" y="6476040"/>
            <a:ext cx="51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ар Девушкин и Варенька Добросе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-28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0" y="-282600"/>
          <a:ext cx="208080" cy="3571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5719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Rectangle 14"/>
          <p:cNvSpPr/>
          <p:nvPr/>
        </p:nvSpPr>
        <p:spPr>
          <a:xfrm>
            <a:off x="1800" y="328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5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4876920" y="1143000"/>
            <a:ext cx="4071960" cy="571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618080" y="1219320"/>
            <a:ext cx="4525920" cy="5638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1066680"/>
            <a:ext cx="4800600" cy="3060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845 – 1848 ГОДЫ КРУЖОК БУТАШЕВИЧА -ПЕТРАШЕ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1295280" y="1066680"/>
            <a:ext cx="6172200" cy="51548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1523880" y="57913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3 ДЕКАБРЯ 184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4"/>
          <a:stretch/>
        </p:blipFill>
        <p:spPr>
          <a:xfrm>
            <a:off x="838080" y="1127160"/>
            <a:ext cx="7086600" cy="5730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914400" y="1158840"/>
            <a:ext cx="7010280" cy="5699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6"/>
          <a:stretch/>
        </p:blipFill>
        <p:spPr>
          <a:xfrm>
            <a:off x="228600" y="1195560"/>
            <a:ext cx="8610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81880" cy="506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1752480" y="1752480"/>
            <a:ext cx="6191280" cy="392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4"/>
          <a:stretch/>
        </p:blipFill>
        <p:spPr>
          <a:xfrm>
            <a:off x="3324240" y="2895480"/>
            <a:ext cx="5819760" cy="3962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5"/>
          <a:stretch/>
        </p:blipFill>
        <p:spPr>
          <a:xfrm>
            <a:off x="6458040" y="5878440"/>
            <a:ext cx="26859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абалина о. в.</dc:creator>
  <dc:description/>
  <cp:keywords>достоевский</cp:keywords>
  <dc:language>en-US</dc:language>
  <cp:lastModifiedBy>Коля</cp:lastModifiedBy>
  <dcterms:modified xsi:type="dcterms:W3CDTF">2013-04-27T17:22:33Z</dcterms:modified>
  <cp:revision>12</cp:revision>
  <dc:subject>Этапы творчества и биографии Ф М. Достоевского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