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28.png" ContentType="image/png"/>
  <Override PartName="/ppt/media/image5.jpeg" ContentType="image/jpeg"/>
  <Override PartName="/ppt/media/image11.jpeg" ContentType="image/jpeg"/>
  <Override PartName="/ppt/media/image6.jpeg" ContentType="image/jpeg"/>
  <Override PartName="/ppt/media/image4.gif" ContentType="image/gif"/>
  <Override PartName="/ppt/media/image3.gif" ContentType="image/gif"/>
  <Override PartName="/ppt/media/image26.gif" ContentType="image/gif"/>
  <Override PartName="/ppt/media/image12.jpeg" ContentType="image/jpeg"/>
  <Override PartName="/ppt/media/image7.jpeg" ContentType="image/jpeg"/>
  <Override PartName="/ppt/media/image20.png" ContentType="image/png"/>
  <Override PartName="/ppt/media/image25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gif" ContentType="image/gif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4B0A-93BB-411B-809D-95BA7F996E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CC7E-986A-486A-A6EB-402E97D87D7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D8D-99D3-46F8-B096-0A0770B4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E30-85BD-4E11-9F7B-E2327710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0E8-1465-4A77-A0EA-5CB3A96A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42E-BDFA-4AA9-BFC8-9D377E24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1ED-7AE9-4A2A-BB8C-2F2B0DA5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9F8-3335-4BE5-A908-96AC2404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65B-3692-4803-8430-504FE50A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8E85-1FC0-4E05-AA5D-5A002D58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F4B-0625-4464-BE03-3C31DF31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4C8-9703-4C1F-BE86-68C304A4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D9C2-3715-4D02-9BAA-B6C2F22C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F0B4-5DA4-47A5-BEDF-81D79A54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CBBC-4F9E-4C71-87B2-2694E2FEE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6.gif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c_colier/ph01231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darudar.org/var/files/img/59/cf/59cfbb03801cbafbd050c4ccdacc4cd1_600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novoskop.ru/files/u4/konbu.jpg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www.aquaforum.ua/gallery/data/media/19/_111_.jpg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samsay.ru/uploads/posts/2009-10/1254505605_agro-27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interfotki.ru/content/photo/14/29/142963/1c6kfj_cont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lorall.ru/files/images/f_0028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51964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88000" y="333360"/>
            <a:ext cx="2303640" cy="201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79280" y="4581360"/>
            <a:ext cx="2374920" cy="2089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659640" y="4581360"/>
            <a:ext cx="2232000" cy="2013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340000" y="981000"/>
            <a:ext cx="4465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3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99cc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Ткани </a:t>
            </a:r>
            <a:endParaRPr b="1" lang="en-US" sz="1800" spc="1" strike="noStrike">
              <a:ln w="63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99cc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3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99cc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растений</a:t>
            </a:r>
            <a:endParaRPr b="1" lang="en-US" sz="1800" spc="1" strike="noStrike">
              <a:ln w="63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99cc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9960" y="3645000"/>
            <a:ext cx="496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я  к уроку биологии в 6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 учитель  МОУСОШ № 4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Ряз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люпа Ираида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водящая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тка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272960" cy="360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3692520" cy="504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289400" y="333360"/>
            <a:ext cx="2984400" cy="3095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77440" y="371628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одящ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24360" y="213372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4292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Строение  тка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ртвые клетки – древесина (проводит воду с минеральными вещества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ивые клетки – луб (проводит органические вещ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Функции тка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дение питательных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тка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95640" y="260280"/>
            <a:ext cx="4826160" cy="3024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Картинка 28 из 5266"/>
          <p:cNvPicPr/>
          <p:nvPr/>
        </p:nvPicPr>
        <p:blipFill>
          <a:blip r:embed="rId2"/>
          <a:stretch/>
        </p:blipFill>
        <p:spPr>
          <a:xfrm>
            <a:off x="324000" y="3860640"/>
            <a:ext cx="3097080" cy="2737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635280" y="3573360"/>
            <a:ext cx="518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Строение  тка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якоть листьев (содержат хлороплас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якоть плодов(содержат крупные вакуо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ягкие части цв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ра, сердцевина стеблей, кор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Функции тка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ование и накопление питательных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30240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1. Заполните пропуски в текст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Кончик корня, побега, зародыш растения состоит из ______тка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Скорлупа грецкого ореха состоит из _________ тка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Поверхность всех органов состоит из _________ тка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Мякоть листа, плодов, сердцевина стеблей - это_______ тк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) Трубочки, сосуды корня, стебля, жилки листов - это______тк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йти соответствие между разными столбикам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855720"/>
          <a:ext cx="8651880" cy="6002280"/>
        </p:xfrm>
        <a:graphic>
          <a:graphicData uri="http://schemas.openxmlformats.org/drawingml/2006/table">
            <a:tbl>
              <a:tblPr/>
              <a:tblGrid>
                <a:gridCol w="2017440"/>
                <a:gridCol w="3095640"/>
                <a:gridCol w="3538800"/>
              </a:tblGrid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Образова-тель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Опора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Мёртвые клетки с толстыми оболочкам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кров-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Образование и накопление питательных вещест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 Мелкие клетки, постоянно деля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Механи-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Защ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. Клетки плотно примыкают друг к друг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роводя-щ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Р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. Клетки образуют сосуды или труб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Основ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Проведение воды и веществ по растени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 Клетки содержат хлоропласты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ебник с. 29 – 31 уч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бочая тетрадь с.15 –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задание 21, 22, 24) письмен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378000" y="0"/>
            <a:ext cx="9332640" cy="15908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" descr="image448.gif"/>
          <p:cNvPicPr/>
          <p:nvPr/>
        </p:nvPicPr>
        <p:blipFill>
          <a:blip r:embed="rId2"/>
          <a:stretch/>
        </p:blipFill>
        <p:spPr>
          <a:xfrm>
            <a:off x="1143000" y="307188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3"/>
          <a:srcRect l="11548" t="0" r="0" b="0"/>
          <a:stretch/>
        </p:blipFill>
        <p:spPr>
          <a:xfrm>
            <a:off x="1143000" y="485784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4"/>
          <a:srcRect l="19319" t="11653" r="22758" b="26165"/>
          <a:stretch/>
        </p:blipFill>
        <p:spPr>
          <a:xfrm>
            <a:off x="1143000" y="1428840"/>
            <a:ext cx="1785960" cy="15872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7"/>
          <p:cNvSpPr/>
          <p:nvPr/>
        </p:nvSpPr>
        <p:spPr>
          <a:xfrm>
            <a:off x="3357720" y="1714680"/>
            <a:ext cx="535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Урок не понравился,                       не узнал ничего нов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500280" y="3571920"/>
            <a:ext cx="47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Урок прошел как обы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3357720" y="5214960"/>
            <a:ext cx="514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Урок  понравился,                     узнал много нов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2" descr="image448.gif"/>
          <p:cNvPicPr/>
          <p:nvPr/>
        </p:nvPicPr>
        <p:blipFill>
          <a:blip r:embed="rId5"/>
          <a:stretch/>
        </p:blipFill>
        <p:spPr>
          <a:xfrm>
            <a:off x="1143000" y="307188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6"/>
          <a:srcRect l="11548" t="0" r="0" b="0"/>
          <a:stretch/>
        </p:blipFill>
        <p:spPr>
          <a:xfrm>
            <a:off x="1143000" y="485784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7"/>
          <a:srcRect l="19319" t="11653" r="22758" b="26165"/>
          <a:stretch/>
        </p:blipFill>
        <p:spPr>
          <a:xfrm>
            <a:off x="1143000" y="1428840"/>
            <a:ext cx="1785960" cy="15872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0"/>
          <p:cNvSpPr/>
          <p:nvPr/>
        </p:nvSpPr>
        <p:spPr>
          <a:xfrm>
            <a:off x="3492360" y="3573360"/>
            <a:ext cx="47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alibri"/>
                <a:ea typeface="Arial"/>
              </a:rPr>
              <a:t>Урок прошел как обы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ижний колонтитул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350028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0099"/>
                </a:solidFill>
                <a:uFillTx/>
                <a:latin typeface="Arial"/>
              </a:rPr>
              <a:t>Ткань</a:t>
            </a: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 состоит из клет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и межклеточно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веще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 rot="10800000">
            <a:off x="537840" y="548280"/>
            <a:ext cx="813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Arial"/>
              </a:rPr>
              <a:t>Ткань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– это  группа клеток, сходных по размерам, строению и выполняемым функция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Картинка 2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429000"/>
            <a:ext cx="4032000" cy="319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Картинка 7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3500280"/>
            <a:ext cx="4113360" cy="3084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Картинка 6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16360" y="333360"/>
            <a:ext cx="4162680" cy="30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Картинка 60 из 6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260280"/>
            <a:ext cx="388944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763200"/>
            <a:ext cx="360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Одежда, защита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Опора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Вода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Питание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Рост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91240" y="981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окров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90120" y="1989000"/>
            <a:ext cx="389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Механическ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5400" y="2803680"/>
            <a:ext cx="340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роводящ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6880" y="3524400"/>
            <a:ext cx="26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Основ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8680" y="4316400"/>
            <a:ext cx="468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Образователь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136000" cy="4464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627280" y="69228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Times New Roman"/>
              </a:rPr>
              <a:t>Псилофи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981000"/>
          <a:ext cx="8229240" cy="51447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ка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тельна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тка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245736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Картинка 76 из 238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989000"/>
            <a:ext cx="3468600" cy="4537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Картинка 30 из 89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981000"/>
            <a:ext cx="2346120" cy="3129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51280" y="4723200"/>
            <a:ext cx="489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Строение  тка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лкие клетки с тонкой оболоч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них нет вакуо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и постоянно деля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Функции тка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ст 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6160" y="414972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родыш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7440" y="32846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чик кор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кровная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тка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нчик кор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Картинка 7 из 16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484280"/>
            <a:ext cx="2979720" cy="4680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Картинка 1 из 138"/>
          <p:cNvPicPr/>
          <p:nvPr/>
        </p:nvPicPr>
        <p:blipFill>
          <a:blip r:embed="rId3"/>
          <a:stretch/>
        </p:blipFill>
        <p:spPr>
          <a:xfrm>
            <a:off x="5580000" y="260280"/>
            <a:ext cx="3313080" cy="2305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Картинка 8 из 13"/>
          <p:cNvPicPr/>
          <p:nvPr/>
        </p:nvPicPr>
        <p:blipFill>
          <a:blip r:embed="rId4"/>
          <a:stretch/>
        </p:blipFill>
        <p:spPr>
          <a:xfrm>
            <a:off x="3419640" y="260280"/>
            <a:ext cx="2052360" cy="3311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85000" y="3645000"/>
            <a:ext cx="25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тьица и чечеви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55960" y="278136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бка стволов дерев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6320" y="623736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жица лист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4022640"/>
            <a:ext cx="586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Строение  тка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ртвые клетки с толстой оболочкой (пробк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вые клетки (кожица листьев и стеб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тьица и чечев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Функции тка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щита от неблагоприятных воздействий, от пов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ыхание и испарени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ханическа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тка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Картинка 60 из 662"/>
          <p:cNvPicPr/>
          <p:nvPr/>
        </p:nvPicPr>
        <p:blipFill>
          <a:blip r:embed="rId1"/>
          <a:stretch/>
        </p:blipFill>
        <p:spPr>
          <a:xfrm>
            <a:off x="250920" y="2997360"/>
            <a:ext cx="4186080" cy="324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48000" y="907920"/>
            <a:ext cx="2376360" cy="1605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Картинка 20 из 69"/>
          <p:cNvPicPr/>
          <p:nvPr/>
        </p:nvPicPr>
        <p:blipFill>
          <a:blip r:embed="rId3"/>
          <a:stretch/>
        </p:blipFill>
        <p:spPr>
          <a:xfrm>
            <a:off x="5940360" y="260280"/>
            <a:ext cx="2952720" cy="2287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95240" y="256536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сточка абрик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5960" y="2565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ханические воло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6160" y="6237360"/>
            <a:ext cx="30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орлупа грецкого ор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16360" y="3573360"/>
            <a:ext cx="4103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Строение  тка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ртвые клетки с толстой оболочкой (каменистые клетки, лубяные волокн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тянутые клетки – механические волок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Функции тка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ркас, оп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4:54:12Z</dcterms:created>
  <dc:creator>Агат</dc:creator>
  <dc:description/>
  <dc:language>en-US</dc:language>
  <cp:lastModifiedBy>User</cp:lastModifiedBy>
  <dcterms:modified xsi:type="dcterms:W3CDTF">2011-11-02T18:45:46Z</dcterms:modified>
  <cp:revision>10</cp:revision>
  <dc:subject/>
  <dc:title>Слайд 1</dc:title>
</cp:coreProperties>
</file>