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8.png" ContentType="image/png"/>
  <Override PartName="/ppt/media/image5.jpeg" ContentType="image/jpeg"/>
  <Override PartName="/ppt/media/image11.jpeg" ContentType="image/jpeg"/>
  <Override PartName="/ppt/media/image6.jpeg" ContentType="image/jpeg"/>
  <Override PartName="/ppt/media/image4.gif" ContentType="image/gif"/>
  <Override PartName="/ppt/media/image3.gif" ContentType="image/gif"/>
  <Override PartName="/ppt/media/image26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92DA-4888-4C0E-A6D2-F592388D1F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B4C1-5FED-46B3-B662-FFD7EA78AF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FE3-19D6-4C8C-8DE0-A3704197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8A9-1EB2-4A19-990E-B05C1271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527-84ED-4FDB-A04B-31E537CE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2B3-7141-472F-B887-BB5068E8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D91-E0F0-4D3A-B458-D98AFA7B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764-1D4D-466C-898C-88BEF060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B56-CE95-4184-922B-68991817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F41-2C8F-4FCB-89D8-8A667B77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FCD-B3F3-4CCC-9DC4-9787423B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16B-B1DC-44D2-975A-82137401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39A-30DD-45E0-AA48-83F9E3FE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0D3-C456-4507-AA17-1A755C57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288D-B897-4CA3-8B11-8EE5C40DE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6.gi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colier/ph0123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darudar.org/var/files/img/59/cf/59cfbb03801cbafbd050c4ccdacc4cd1_600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novoskop.ru/files/u4/konbu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aquaforum.ua/gallery/data/media/19/_111_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samsay.ru/uploads/posts/2009-10/1254505605_agro-27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interfotki.ru/content/photo/14/29/142963/1c6kfj_cont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lorall.ru/files/images/f_0028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51964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303640" cy="201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2374920" cy="208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659640" y="4581360"/>
            <a:ext cx="2232000" cy="2013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340000" y="981000"/>
            <a:ext cx="4465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cc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Ткани </a:t>
            </a:r>
            <a:endParaRPr b="1" lang="en-US" sz="1800" spc="1" strike="noStrike">
              <a:ln w="63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cc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cc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растений</a:t>
            </a:r>
            <a:endParaRPr b="1" lang="en-US" sz="1800" spc="1" strike="noStrike">
              <a:ln w="63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cc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9960" y="3645000"/>
            <a:ext cx="496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 к уроку биологии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итель  МОУСОШ № 4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Ря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люпа Ираид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водящ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272960" cy="36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692520" cy="504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289400" y="333360"/>
            <a:ext cx="298440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7440" y="37162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одя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213372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4292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ртвые клетки – древесина (проводит воду с минеральными веществ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вые клетки – луб (проводит органические ве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дение питатель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826160" cy="302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28 из 5266"/>
          <p:cNvPicPr/>
          <p:nvPr/>
        </p:nvPicPr>
        <p:blipFill>
          <a:blip r:embed="rId2"/>
          <a:stretch/>
        </p:blipFill>
        <p:spPr>
          <a:xfrm>
            <a:off x="324000" y="3860640"/>
            <a:ext cx="3097080" cy="273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35280" y="3573360"/>
            <a:ext cx="51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якоть листьев (содержат хлороплас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якоть плодов(содержат крупные вакуо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ягкие части цв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, сердцевина стеблей,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е и накопление питатель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3024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1. Заполните пропуски в текс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Кончик корня, побега, зародыш растения состоит из ______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корлупа грецкого ореха состоит из _________ 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Поверхность всех органов состоит из _________ 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Мякоть листа, плодов, сердцевина стеблей - это_______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Трубочки, сосуды корня, стебля, жилки листов - это______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йти соответствие между разными столбик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855720"/>
          <a:ext cx="8651880" cy="6002280"/>
        </p:xfrm>
        <a:graphic>
          <a:graphicData uri="http://schemas.openxmlformats.org/drawingml/2006/table">
            <a:tbl>
              <a:tblPr/>
              <a:tblGrid>
                <a:gridCol w="2017440"/>
                <a:gridCol w="3095640"/>
                <a:gridCol w="353880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Образова-те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Опор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Мёртвые клетки с толстыми оболочкам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кров-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Образование и накопление питательных веще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Мелкие клетки, постоянно деля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Механи-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Защ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 Клетки плотно примыкают друг к дру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роводя-щ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Р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. Клетки образуют сосуды или труб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Осно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Проведение воды и веществ по растени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Клетки содержат хлоропласты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бник с. 29 – 31 уч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бочая тетрадь с.15 –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задание 21, 22, 24) письме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78000" y="0"/>
            <a:ext cx="93326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image448.gif"/>
          <p:cNvPicPr/>
          <p:nvPr/>
        </p:nvPicPr>
        <p:blipFill>
          <a:blip r:embed="rId2"/>
          <a:stretch/>
        </p:blipFill>
        <p:spPr>
          <a:xfrm>
            <a:off x="1143000" y="30718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rcRect l="11548" t="0" r="0" b="0"/>
          <a:stretch/>
        </p:blipFill>
        <p:spPr>
          <a:xfrm>
            <a:off x="1143000" y="485784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4"/>
          <a:srcRect l="19319" t="11653" r="22758" b="26165"/>
          <a:stretch/>
        </p:blipFill>
        <p:spPr>
          <a:xfrm>
            <a:off x="1143000" y="1428840"/>
            <a:ext cx="1785960" cy="1587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3357720" y="1714680"/>
            <a:ext cx="53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Урок не понравился,                       не узнал ничего но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500280" y="357192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Урок прошел как об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357720" y="521496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Урок  понравился,                     узнал много но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" descr="image448.gif"/>
          <p:cNvPicPr/>
          <p:nvPr/>
        </p:nvPicPr>
        <p:blipFill>
          <a:blip r:embed="rId5"/>
          <a:stretch/>
        </p:blipFill>
        <p:spPr>
          <a:xfrm>
            <a:off x="1143000" y="30718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rcRect l="11548" t="0" r="0" b="0"/>
          <a:stretch/>
        </p:blipFill>
        <p:spPr>
          <a:xfrm>
            <a:off x="1143000" y="485784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7"/>
          <a:srcRect l="19319" t="11653" r="22758" b="26165"/>
          <a:stretch/>
        </p:blipFill>
        <p:spPr>
          <a:xfrm>
            <a:off x="1143000" y="1428840"/>
            <a:ext cx="1785960" cy="1587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3492360" y="357336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Урок прошел как об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ижний колонтитул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350028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99"/>
                </a:solidFill>
                <a:uFillTx/>
                <a:latin typeface="Arial"/>
              </a:rPr>
              <a:t>Ткань</a:t>
            </a: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 состоит из клет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и межклеточ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вещ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 rot="10800000">
            <a:off x="537840" y="548280"/>
            <a:ext cx="81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Arial"/>
              </a:rPr>
              <a:t>Ткань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– это  группа клеток, сходных по размерам, строению и выполняемым функция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2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429000"/>
            <a:ext cx="4032000" cy="319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Картинка 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500280"/>
            <a:ext cx="4113360" cy="3084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6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33360"/>
            <a:ext cx="416268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60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260280"/>
            <a:ext cx="3889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763200"/>
            <a:ext cx="360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Одежда, защит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Опора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Вода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Питани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Рост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1240" y="981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окр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90120" y="1989000"/>
            <a:ext cx="38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Механическ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5400" y="2803680"/>
            <a:ext cx="340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оводя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6880" y="3524400"/>
            <a:ext cx="26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сн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8680" y="4316400"/>
            <a:ext cx="46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Образовате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136000" cy="4464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27280" y="692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Times New Roman"/>
              </a:rPr>
              <a:t>Псилофи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981000"/>
          <a:ext cx="8229240" cy="51447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тельна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5736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76 из 238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989000"/>
            <a:ext cx="3468600" cy="453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30 из 8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981000"/>
            <a:ext cx="2346120" cy="312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51280" y="4723200"/>
            <a:ext cx="489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лкие клетки с тонкой оболоч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них нет ваку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и постоянно деля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ст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6160" y="414972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родыш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7440" y="3284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чик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кров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чик кор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Картинка 7 из 16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84280"/>
            <a:ext cx="2979720" cy="468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Картинка 1 из 138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30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а 8 из 13"/>
          <p:cNvPicPr/>
          <p:nvPr/>
        </p:nvPicPr>
        <p:blipFill>
          <a:blip r:embed="rId4"/>
          <a:stretch/>
        </p:blipFill>
        <p:spPr>
          <a:xfrm>
            <a:off x="3419640" y="260280"/>
            <a:ext cx="205236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85000" y="364500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ьица и чечев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5960" y="278136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бка стволов дере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6320" y="6237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жица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022640"/>
            <a:ext cx="586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ртвые клетки с толстой оболочкой (проб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вые клетки (кожица листьев и сте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ьица и чечев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щита от неблагоприятных воздействий, от пов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ыхание и испаре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тинка 60 из 662"/>
          <p:cNvPicPr/>
          <p:nvPr/>
        </p:nvPicPr>
        <p:blipFill>
          <a:blip r:embed="rId1"/>
          <a:stretch/>
        </p:blipFill>
        <p:spPr>
          <a:xfrm>
            <a:off x="250920" y="2997360"/>
            <a:ext cx="4186080" cy="324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48000" y="907920"/>
            <a:ext cx="2376360" cy="1605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Картинка 20 из 69"/>
          <p:cNvPicPr/>
          <p:nvPr/>
        </p:nvPicPr>
        <p:blipFill>
          <a:blip r:embed="rId3"/>
          <a:stretch/>
        </p:blipFill>
        <p:spPr>
          <a:xfrm>
            <a:off x="5940360" y="260280"/>
            <a:ext cx="2952720" cy="228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5240" y="256536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сточка абрик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5960" y="2565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ханические вол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6160" y="623736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лупа грецкого ор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357336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троение 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ртвые клетки с толстой оболочкой (каменистые клетки, лубяные волокн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тянутые клетки – механические 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Функции тка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кас, о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54:12Z</dcterms:created>
  <dc:creator>Агат</dc:creator>
  <dc:description/>
  <dc:language>en-US</dc:language>
  <cp:lastModifiedBy>User</cp:lastModifiedBy>
  <dcterms:modified xsi:type="dcterms:W3CDTF">2011-11-02T18:45:46Z</dcterms:modified>
  <cp:revision>10</cp:revision>
  <dc:subject/>
  <dc:title>Слайд 1</dc:title>
</cp:coreProperties>
</file>