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F109-DFDA-442A-96E8-60B6A74846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5186-55FB-4852-A492-46BF5A8089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24C2-653A-4658-A499-52A9C16B04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BD93-D2BC-46C7-BCA9-08CD4E5483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0177-B4A7-4809-B2FA-2DC84D79FD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32CB-811E-4A3F-9D00-66B037E559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C9F2-180E-4705-B55D-783F50A5B4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FAF8-3273-458F-8987-4C25A3DC11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B2AF-2BB1-4C05-9C69-BF0CC4C38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B153-91E7-4226-993B-8E35633774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2658-A89F-451F-A366-09FFB8348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5A8B-AB79-42C0-8851-63E75A8C0A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C8B0-6622-42E5-94D6-A8588F527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C348-2965-4535-A4C4-B914B926E4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45E4-F19E-4C73-9443-24F5D01E2B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791-E706-4E92-9EEF-475BBC87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DAC-4DBA-4DDD-9F0D-BAD8FAA3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245-1224-4B3E-8173-E49C146B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5F4-6B68-4804-AE21-338D8D62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FB0-E6F6-48C6-A7F8-7B9C80D1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AE9-8BB2-4D93-BFDC-F3F4E178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726-D317-4CBD-8103-4B668045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086-0673-415E-B495-7425E6E0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BDC-BD4E-4637-887D-306B77F4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1C7-B1C9-4CEA-B6FE-1E77158A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424-1492-4B7B-858D-504DB967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37F-10FA-489D-B3C4-388DEE1D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2924-AC37-48D3-8A3B-7BB1AACDDC4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99960" y="189000"/>
            <a:ext cx="8132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9933"/>
                </a:solidFill>
                <a:latin typeface="Arial"/>
              </a:rPr>
              <a:t>Глава Х</a:t>
            </a:r>
            <a:r>
              <a:rPr b="0" i="1" lang="en-US" sz="2800" spc="-1" strike="noStrike">
                <a:solidFill>
                  <a:srgbClr val="339933"/>
                </a:solidFill>
                <a:latin typeface="Arial"/>
              </a:rPr>
              <a:t>V</a:t>
            </a:r>
            <a:r>
              <a:rPr b="0" i="1" lang="ru-RU" sz="2800" spc="-1" strike="noStrike">
                <a:solidFill>
                  <a:srgbClr val="339933"/>
                </a:solidFill>
                <a:latin typeface="Arial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339933"/>
                </a:solidFill>
                <a:latin typeface="Arial"/>
              </a:rPr>
              <a:t> Основы экологии. </a:t>
            </a:r>
            <a:r>
              <a:rPr b="0" i="1" lang="ru-RU" sz="2800" spc="-1" strike="noStrike">
                <a:solidFill>
                  <a:srgbClr val="009900"/>
                </a:solidFill>
                <a:latin typeface="Arial"/>
              </a:rPr>
              <a:t>Эко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516720" y="6308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именов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867280" y="189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ом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14240" y="200016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ма: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Сообщества. Экосистем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785880" y="4062240"/>
            <a:ext cx="742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ать характеристику биоценозу и экосистеме; функциональным группам живых организмов в биогеоценозе, показать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68360" y="513252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Редуц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лагают органическое вещество до углекислого газа и минеральных веществ, замыкают круговорот биогенных элементов в природ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4679640" cy="4200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5219640" y="826920"/>
            <a:ext cx="3672000" cy="2962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5183280" y="3781440"/>
            <a:ext cx="374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ожно ли гиен, дождевых червей, жуков-навозников отнести к редуцент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Мелкие животные, питающиеся неживыми органическими веществами — дождевые черви, жуки-мертвоеды, навозники относятся к консументам—детритофаг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5219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е организмы биоценоза связаны в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цепи пит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стой пример пищевой цепи: растительность — насекомое, питающееся растительностью — хищное насекомое — насекомоядная птица — хищная пт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3454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24000" y="54435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растительноядное насекомое питается на нескольких видах растений, хищное насекомое — многими видами насекомых, насекомоядная и хищная птицы — многими видами животных. Таким образом, цепи питания образуют пищевые сети,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сети питания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4752720" cy="4636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24000" y="571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ем сложнее сети питания, чем больше видов в экосистеме, тем устойчивее данная эко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6119640" cy="4646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24000" y="63453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относится к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едуцент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анной экосисте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785960" y="692280"/>
            <a:ext cx="5518080" cy="538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6"/>
          <p:cNvSpPr/>
          <p:nvPr/>
        </p:nvSpPr>
        <p:spPr>
          <a:xfrm>
            <a:off x="5253120" y="2357280"/>
            <a:ext cx="3676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Характеристика биоцено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энерг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цен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менты 1-го поряд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менты 2-го поряд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менты 3-го поряд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уцен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991040" cy="4071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Подведем ито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14200" y="78588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цено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Живые организмы в природе объединены в сообщества, приспособленные к определенным условиям существования. Такое сообщество взаимосвязанных живых организмов, называют биоцено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о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Совокупность всех абиотических факторов, определяющих условия существования живых организмов называют биотопом. Среда об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геоцено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Устойчивая, саморегулирующаяся система, образованная живыми организмами, приспособленными к совместной жизни на определенной территории с более или менее однородными условиями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 энергии для существования биогеоценоз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Солнечный свет, энергия окисления органических и неорганических соеди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трофы? На какие группы они деля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рганизмы, способные образовывать органическое вещество, используя неорганический источник углерода и энергию света (</a:t>
            </a:r>
            <a:r>
              <a:rPr b="0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фотоавтотроф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) или энергию окисления неорганических веществ (</a:t>
            </a:r>
            <a:r>
              <a:rPr b="0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хемоавтотроф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теротроф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рганизмы, использующие энергию окисления органических веществ и органические источники угле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Подведем ито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14200" y="785880"/>
            <a:ext cx="86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кие группы делятся гетеротроф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Консументы — потребители и редуценты — разрушители органического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относится к редуцент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Бактерии и гри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Биогеоценоз, эко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786120" y="1181160"/>
            <a:ext cx="5072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е организмы в природе объединены в сообщества, приспособленные к определенным условиям существования. Такое сообщество взаимосвязанных живых организмов, называю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биоцено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совокупность всех абиотических факторов, определяющих условия их существования называю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биотоп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иоценоз и биотоп образую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биогеоцен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мин биогеоценоз в 1942 г. был предложен академиком В.Н.Сукачевым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д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биогеоценозом понимают устойчивую, саморегулирующуюся систему, образованную живыми организмами, приспособленными к совместной жизни на определенной территории с более или менее однородными условиями существования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325680" cy="5032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00040" y="42876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огеоце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11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5286240" y="1353960"/>
            <a:ext cx="385776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Биогеоценоз, эко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708360" y="1536840"/>
            <a:ext cx="52927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временно английским ботаником А.Тенсли был предложен термин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экосистем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д экосистемой он понимал и каплю воды с микроорганизмами, в ней обитающими, и аквариум, и природный водоем и планету Зем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ученые ставят знак равенства между понятиями биогеоценоз и экосистема. Но многие не считают эти термины синонимами, понимая под биогеоценозом конкретное, исторически сложившееся природное сообщество, а экосистема — понятие более размытое, «безразмерное». То есть любой биогеоценоз является экосистемой, но не всякая экосистема может считаться биогеоцено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325680" cy="5032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Характеристика биогеоценоза. 1. Источник 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4067280" y="2227320"/>
            <a:ext cx="493380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уществования любого биогеоценоза необходима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энер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сточником энергии для большинства биогеоценозов является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солнечный с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энергия которого используется для синтеза органических соединений из неорганических веще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543120" cy="460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4000680" y="1581120"/>
            <a:ext cx="493380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экологические системы существуют в полной темноте (морское дно, куда не доходит солнечные свет, пещеры). Источником энергии для их существования будет попадающее в эту экосистему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рганическое веще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гибших или живых орган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того, некоторые экосистемы существуют за сче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хемоавтотрофных организ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пособных образовывать органическое вещество, используя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энергию окисления неорганических соединений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543120" cy="4606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Характеристика биогеоценоза. 1. Источник 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324000" y="4005360"/>
            <a:ext cx="849600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живые организмы экосистемы по способу получения энергии делятся на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автотроф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гетеротроф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тотрофы способны образовывать органическое вещество, используя неорганический источник углерода и энергию света (</a:t>
            </a:r>
            <a:r>
              <a:rPr b="0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фотоавтотроф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) или энергию окисления неорганических веществ (</a:t>
            </a:r>
            <a:r>
              <a:rPr b="0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хемоавтотроф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Гетеротрофы используют энергию окисления органических веществ и используют органические источники угле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143840" cy="3133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Характеристика биогеоценоза. 1. Источник 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513252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у биоценоза составляю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автотрофные организм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—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продуценты (образователи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рганического вещества. Сообщество растений называю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фитоцено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животных —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зооцено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процессе фотосинтеза происходит образование органического вещества, за счет которого питаются гетеротроф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680000" cy="4200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95280" y="51577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Гетеротрофные организ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ятся на две группы: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консумент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—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потребител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редуцент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—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разрушител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ческого вещества.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Консументы 1-го порядка — растительноядные, консументы 2-го порядка — плотоядные животные, консументы 3-го порядка — хищ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680000" cy="4200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2:16:34Z</dcterms:created>
  <dc:creator>Pimenov AV</dc:creator>
  <dc:description/>
  <dc:language>en-US</dc:language>
  <cp:lastModifiedBy>Коля</cp:lastModifiedBy>
  <dcterms:modified xsi:type="dcterms:W3CDTF">2013-05-15T11:32:06Z</dcterms:modified>
  <cp:revision>32</cp:revision>
  <dc:subject/>
  <dc:title>Тема: «Сообщества. Экосистемы»</dc:title>
</cp:coreProperties>
</file>