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7840-C4B0-4E7B-A359-C213E5049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C8C-9746-4F6F-B372-CC8723529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E3DC-FA69-4120-962E-1A8C6124B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F657-3A9F-450D-9A45-1F534B05F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1C53-A52E-44FB-81CD-E4125FF34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9F8-0EA9-45E8-A256-3F5C147E21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F69-64BF-414C-9B74-B5DC3CECE8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8AC-EA67-4DE3-B12B-D942BC0C41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54E-2F90-486E-A708-0E4AD9D05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5A49-305E-4B01-8D32-E75128BC9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2EA-C1DC-4050-8D3F-8DAB1CF3B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229-E2E3-4CD9-B286-B4233670EF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DBB3-A1FB-4C5C-B1B6-507A9B7BE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12D3-CD40-4976-903C-2792161B4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8752-BB99-4B46-80B3-CB1F0D7B9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C67-DBFF-461F-957F-5C4A52AB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D8F-C0E5-4827-9EAC-5C2A5C8C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DAC-4087-4BF2-9302-EB544C92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B92-D6FE-4F5B-A79F-2B248AB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305-D87D-414C-8252-B72CA837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B4A-2EF0-43E9-8EE0-5B5CA5F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8F6-4465-4E84-838C-6952D92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886-A05B-4B9C-8BF7-B4CF2FCA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86B-E879-4BC8-B85D-BA826D8A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D27-7AC9-4D9D-9B53-CB1E838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744-0A0D-432E-A3BB-0A7B0D8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AC3-9342-4354-9453-C4EC9323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B409-D2B8-4857-B6DB-1D711B8A3D7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Глава Х</a:t>
            </a:r>
            <a:r>
              <a:rPr b="0" i="1" lang="en-US" sz="2800" spc="-1" strike="noStrike">
                <a:solidFill>
                  <a:srgbClr val="339933"/>
                </a:solidFill>
                <a:latin typeface="Arial"/>
              </a:rPr>
              <a:t>V</a:t>
            </a: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339933"/>
                </a:solidFill>
                <a:latin typeface="Arial"/>
              </a:rPr>
              <a:t> Основы экологии. </a:t>
            </a:r>
            <a:r>
              <a:rPr b="0" i="1" lang="ru-RU" sz="2800" spc="-1" strike="noStrike">
                <a:solidFill>
                  <a:srgbClr val="009900"/>
                </a:solidFill>
                <a:latin typeface="Arial"/>
              </a:rPr>
              <a:t>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516720" y="630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именов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5867280" y="18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ом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14240" y="200016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«Сообщества. Экосисте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785880" y="406224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ть характеристику биоценозу и экосистеме; функциональным группам живых организмов в биогеоценозе, показать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5132520"/>
            <a:ext cx="44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лагают органическое вещество до углекислого газа и минеральных веществ, замыкают круговорот биогенных элементов в природ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679640" cy="4200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219640" y="826920"/>
            <a:ext cx="3672000" cy="29624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5183280" y="3781440"/>
            <a:ext cx="374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ожно ли гиен, дождевых червей, жуков-навозников отнести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елкие животные, питающиеся неживыми органическими веществами — дождевые черви, жуки-мертвоеды, навозники относятся к консументам—детритофа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5219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биоценоза связаны в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цепи 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стой пример пищевой цепи: растительность — насекомое, питающееся растительностью — хищное насекомое — насекомоядная птица — хищная пт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345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24000" y="54435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растительноядное насекомое питается на нескольких видах растений, хищное насекомое — многими видами насекомых, насекомоядная и хищная птицы — многими видами животных. Таким образом, цепи питания образуют пищевые сети,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ети питания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752720" cy="4636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24000" y="571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м сложнее сети питания, чем больше видов в экосистеме, тем устойчивее данная эко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119640" cy="464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24000" y="63453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дуцент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анной экосисте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785960" y="692280"/>
            <a:ext cx="551808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5253120" y="2357280"/>
            <a:ext cx="367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арактеристика биоце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энерг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1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2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менты 3-го поряд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дуцен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991040" cy="4071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4200" y="78588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би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то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вокупность всех абиотических факторов, определяющих условия существования живых организмов называют биотопом. Среда об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геоцен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Устойчивая, саморегулирующаяся система, образованная живыми организмами, приспособленными к совместной жизни на определенной территории с более или менее однородными условиями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энергии для существования биогеоценоз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олнечный свет, энергия окисления органических и неорганически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трофы? На какие группы они деля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способные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змы, использующие энергию окисления органических веществ и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одведем итог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14200" y="78588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ие группы делятся гетеротроф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— потребители и редуценты — разрушители органического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относится к редуцента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актерии и гри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86120" y="1181160"/>
            <a:ext cx="5072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ые организмы в природе объединены в сообщества, приспособленные к определенным условиям существования. Такое сообщество взаимосвязанных живых организмов,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совокупность всех абиотических факторов, определяющих условия их существования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топ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иоценоз и биотоп образу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биогеоцено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 биогеоценоз в 1942 г. был предложен академиком В.Н.Сукачевым,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биогеоценозом понимают устойчивую, саморегулирующуюся систему, образованную живыми организмами, приспособленными к совместной жизни на определенной территории с более или менее однородными условиями существования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00040" y="42876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огеоцен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11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5286240" y="1353960"/>
            <a:ext cx="385776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Биогеоценоз, эко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708360" y="1536840"/>
            <a:ext cx="5292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о английским ботаником А.Тенсли был предложен терми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косисте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д экосистемой он понимал и каплю воды с микроорганизмами, в ней обитающими, и аквариум, и природный водоем и планету З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ученые ставят знак равенства между понятиями биогеоценоз и экосистема. Но многие не считают эти термины синонимами, понимая под биогеоценозом конкретное, исторически сложившееся природное сообщество, а экосистема — понятие более размытое, «безразмерное». То есть любой биогеоценоз является экосистемой, но не всякая экосистема может считаться биогеоцено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325680" cy="503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067280" y="2227320"/>
            <a:ext cx="493380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уществования любого биогеоценоза необходим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сточником энергии для большинства биогеоценозов является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солнечный с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энергия которого используется для синтеза органических соединений из неорганических веще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4000680" y="1581120"/>
            <a:ext cx="4933800" cy="37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экологические системы существуют в полной темноте (морское дно, куда не доходит солнечные свет, пещеры). Источником энергии для их существования будет попадающее в эту экосистему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рганическое веще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гибших или живых орг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ого, некоторые экосистемы существуют за сч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хемоавтотрофных орг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пособных образовывать органическое вещество, используя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энергию окисления неорганических соединений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543120" cy="4606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324000" y="4005360"/>
            <a:ext cx="8496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живые организмы экосистемы по способу получения энергии делятся н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тотрофы способны образовывать органическое вещество, используя неорганический источник углерода и энергию света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от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 или энергию окисления неорганических веществ (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хемоавтотроф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Гетеротрофы используют энергию окисления органических веществ и используют органические источник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143840" cy="3133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Характеристика биогеоценоза. 1. Источник энер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513252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у биоценоза составля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втотрофные организм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дуценты (образовател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рганического вещества. Сообщество растений называю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фит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животных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зооценоз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процессе фотосинтеза происходит образование органического вещества, за счет которого питаются гетеротроф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260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2. Функциональные группы организмов в со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5280" y="5157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Гетеротрофные организ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ятся на две группы: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отреб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едуцент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разрушител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ческого вещества.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Консументы 1-го порядка — растительноядные, консументы 2-го порядка — плотоядные животные, консументы 3-го порядка — хищн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80000" cy="420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2:16:34Z</dcterms:created>
  <dc:creator>Pimenov AV</dc:creator>
  <dc:description/>
  <dc:language>en-US</dc:language>
  <cp:lastModifiedBy>Коля</cp:lastModifiedBy>
  <dcterms:modified xsi:type="dcterms:W3CDTF">2013-05-15T11:32:06Z</dcterms:modified>
  <cp:revision>32</cp:revision>
  <dc:subject/>
  <dc:title>Тема: «Сообщества. Экосистемы»</dc:title>
</cp:coreProperties>
</file>