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761D-6247-4DD5-9B71-44F7C41101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AC94-08C1-487B-8C98-5EF7B80835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E7FF-DC21-4F63-82E2-12202A640A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1174-43E8-4830-A000-420FBEC825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6936-A649-4881-B770-C8BCCE47A0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CCF6-6E44-4164-9EE6-059C7F8D2E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CD6B-29E9-4276-B9AB-F4AC22C49A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A1F1-60F7-452D-9E64-BE4B705189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EF8D-375B-4375-B1DF-46591C8AD7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BC2E-C3AA-4D3B-8960-2009E3BD67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D864-8342-44A0-9C21-9D3D3AEA3A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D082-6BDE-47ED-8E15-23CF7B78A6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D707-3F25-4367-989D-CECCC2C27B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597D-5C7B-4296-A1AE-F26CF07D22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9A67-A0A2-4AC2-81C0-0B0E1CA293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B882-6772-4F63-9E8E-5E01D6AA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15A4-16CF-41CA-A937-D9F68989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27E8-4812-4FB8-B3D4-A20F3C5F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041C-6631-4B72-BE23-755F2276B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455F-DCCC-4FF0-A8D8-EFA277A7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D34B-87F4-4B4E-B70E-8FA19D45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9E69-2B5C-4F5E-BB27-5EAF1E4C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ED04-AAAC-42E3-A236-6BDC6803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DFEE-3515-4FBE-AC4A-ABEC3B5C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BC7F-76B6-49CC-B741-692BE538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2A4D-84FF-48E1-861B-D2870CB2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F7F3-654B-4F3A-8CE1-41A8B65E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5BD6-1BEF-4326-AE36-1D69EADBF93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399960" y="189000"/>
            <a:ext cx="81327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9933"/>
                </a:solidFill>
                <a:latin typeface="Arial"/>
              </a:rPr>
              <a:t>Глава Х</a:t>
            </a:r>
            <a:r>
              <a:rPr b="0" i="1" lang="en-US" sz="2800" spc="-1" strike="noStrike">
                <a:solidFill>
                  <a:srgbClr val="339933"/>
                </a:solidFill>
                <a:latin typeface="Arial"/>
              </a:rPr>
              <a:t>V</a:t>
            </a:r>
            <a:r>
              <a:rPr b="0" i="1" lang="ru-RU" sz="2800" spc="-1" strike="noStrike">
                <a:solidFill>
                  <a:srgbClr val="339933"/>
                </a:solidFill>
                <a:latin typeface="Arial"/>
              </a:rPr>
              <a:t>. </a:t>
            </a:r>
            <a:br>
              <a:rPr sz="2800"/>
            </a:br>
            <a:r>
              <a:rPr b="0" i="1" lang="ru-RU" sz="2800" spc="-1" strike="noStrike">
                <a:solidFill>
                  <a:srgbClr val="339933"/>
                </a:solidFill>
                <a:latin typeface="Arial"/>
              </a:rPr>
              <a:t> Основы экологии. </a:t>
            </a:r>
            <a:r>
              <a:rPr b="0" i="1" lang="ru-RU" sz="2800" spc="-1" strike="noStrike">
                <a:solidFill>
                  <a:srgbClr val="009900"/>
                </a:solidFill>
                <a:latin typeface="Arial"/>
              </a:rPr>
              <a:t>Эко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6516720" y="630864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именов А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5867280" y="18900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дом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714240" y="2000160"/>
            <a:ext cx="77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Тема:</a:t>
            </a:r>
            <a:br>
              <a:rPr sz="4000"/>
            </a:br>
            <a:r>
              <a:rPr b="1" i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«Сообщества. Экосистем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785880" y="4062240"/>
            <a:ext cx="7429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ать характеристику биоценозу и экосистеме; функциональным группам живых организмов в биогеоценозе, показать их взаимосвяз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2. Функциональные группы организмов в сообще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468360" y="5132520"/>
            <a:ext cx="44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Редуце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злагают органическое вещество до углекислого газа и минеральных веществ, замыкают круговорот биогенных элементов в природ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4679640" cy="4200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5219640" y="826920"/>
            <a:ext cx="3672000" cy="29624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5183280" y="3781440"/>
            <a:ext cx="3746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ожно ли гиен, дождевых червей, жуков-навозников отнести к редуцента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Мелкие животные, питающиеся неживыми органическими веществами — дождевые черви, жуки-мертвоеды, навозники относятся к консументам—детритофаг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2. Функциональные группы организмов в сообще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24000" y="521964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ые организмы биоценоза связаны в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цепи пит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остой пример пищевой цепи: растительность — насекомое, питающееся растительностью — хищное насекомое — насекомоядная птица — хищная пти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971640" y="836640"/>
            <a:ext cx="734544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2. Функциональные группы организмов в сообще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24000" y="54435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растительноядное насекомое питается на нескольких видах растений, хищное насекомое — многими видами насекомых, насекомоядная и хищная птицы — многими видами животных. Таким образом, цепи питания образуют пищевые сети,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сети питания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195640" y="692280"/>
            <a:ext cx="4752720" cy="4636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2. Функциональные группы организмов в сообще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24000" y="5715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Чем сложнее сети питания, чем больше видов в экосистеме, тем устойчивее данная экосисте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1619280" y="765000"/>
            <a:ext cx="6119640" cy="4646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2. Функциональные группы организмов в сообще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24000" y="634536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относится к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едуцента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анной экосистем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785960" y="692280"/>
            <a:ext cx="5518080" cy="5383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6"/>
          <p:cNvSpPr/>
          <p:nvPr/>
        </p:nvSpPr>
        <p:spPr>
          <a:xfrm>
            <a:off x="5253120" y="2357280"/>
            <a:ext cx="3676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Характеристика биоценоз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 энерг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уцент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ументы 1-го поряд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ументы 2-го поряд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ументы 3-го поряд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уцент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85840" y="1500120"/>
            <a:ext cx="4991040" cy="40719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2. Функциональные группы организмов в сообще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Подведем итог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14200" y="785880"/>
            <a:ext cx="8640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ценоз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Живые организмы в природе объединены в сообщества, приспособленные к определенным условиям существования. Такое сообщество взаимосвязанных живых организмов, называют биоцено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топ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Совокупность всех абиотических факторов, определяющих условия существования живых организмов называют биотопом. Среда об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геоценоз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Устойчивая, саморегулирующаяся система, образованная живыми организмами, приспособленными к совместной жизни на определенной территории с более или менее однородными условиями существ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и энергии для существования биогеоценоз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Солнечный свет, энергия окисления органических и неорганических соеди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трофы? На какие группы они деля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Организмы, способные образовывать органическое вещество, используя неорганический источник углерода и энергию света (</a:t>
            </a:r>
            <a:r>
              <a:rPr b="0" i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фотоавтотрофы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) или энергию окисления неорганических веществ (</a:t>
            </a:r>
            <a:r>
              <a:rPr b="0" i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хемоавтотрофы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теротроф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Организмы, использующие энергию окисления органических веществ и органические источники угле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Подведем итог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14200" y="785880"/>
            <a:ext cx="864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акие группы делятся гетеротроф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Консументы — потребители и редуценты — разрушители органического ве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относится к редуцента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Бактерии и гри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пасибо за внима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Биогеоценоз, эко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3786120" y="1181160"/>
            <a:ext cx="50720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ые организмы в природе объединены в сообщества, приспособленные к определенным условиям существования. Такое сообщество взаимосвязанных живых организмов, называют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биоценоз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совокупность всех абиотических факторов, определяющих условия их существования называют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биотоп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Биоценоз и биотоп образуют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биогеоцено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рмин биогеоценоз в 1942 г. был предложен академиком В.Н.Сукачевым,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под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биогеоценозом понимают устойчивую, саморегулирующуюся систему, образованную живыми организмами, приспособленными к совместной жизни на определенной территории с более или менее однородными условиями существования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325680" cy="5032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4"/>
          <p:cNvSpPr/>
          <p:nvPr/>
        </p:nvSpPr>
        <p:spPr>
          <a:xfrm>
            <a:off x="500040" y="42876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иогеоцен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11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5286240" y="1353960"/>
            <a:ext cx="3857760" cy="4075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Биогеоценоз, эко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708360" y="1536840"/>
            <a:ext cx="529272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овременно английским ботаником А.Тенсли был предложен термин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экосистем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Под экосистемой он понимал и каплю воды с микроорганизмами, в ней обитающими, и аквариум, и природный водоем и планету Зем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ие ученые ставят знак равенства между понятиями биогеоценоз и экосистема. Но многие не считают эти термины синонимами, понимая под биогеоценозом конкретное, исторически сложившееся природное сообщество, а экосистема — понятие более размытое, «безразмерное». То есть любой биогеоценоз является экосистемой, но не всякая экосистема может считаться биогеоцено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325680" cy="5032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Характеристика биогеоценоза. 1. Источник энер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4067280" y="2227320"/>
            <a:ext cx="493380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уществования любого биогеоценоза необходима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энерг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Источником энергии для большинства биогеоценозов является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солнечный св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энергия которого используется для синтеза органических соединений из неорганических вещест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3543120" cy="4606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4000680" y="1581120"/>
            <a:ext cx="4933800" cy="37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торые экологические системы существуют в полной темноте (морское дно, куда не доходит солнечные свет, пещеры). Источником энергии для их существования будет попадающее в эту экосистему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органическое веще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гибших или живых организ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 того, некоторые экосистемы существуют за счет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хемоавтотрофных организм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пособных образовывать органическое вещество, используя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энергию окисления неорганических соединений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3543120" cy="46069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Характеристика биогеоценоза. 1. Источник энер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5"/>
          <p:cNvSpPr/>
          <p:nvPr/>
        </p:nvSpPr>
        <p:spPr>
          <a:xfrm>
            <a:off x="324000" y="4005360"/>
            <a:ext cx="8496000" cy="21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живые организмы экосистемы по способу получения энергии делятся на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автотроф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гетеротроф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втотрофы способны образовывать органическое вещество, используя неорганический источник углерода и энергию света (</a:t>
            </a:r>
            <a:r>
              <a:rPr b="0" i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фотоавтотрофы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) или энергию окисления неорганических веществ (</a:t>
            </a:r>
            <a:r>
              <a:rPr b="0" i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хемоавтотрофы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Гетеротрофы используют энергию окисления органических веществ и используют органические источники угле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7143840" cy="31338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Характеристика биогеоценоза. 1. Источник энер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2. Функциональные группы организмов в сообще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95280" y="5132520"/>
            <a:ext cx="83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у биоценоза составляют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автотрофные организмы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—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продуценты (образователи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рганического вещества. Сообщество растений называют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фитоценоз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животных —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зооценоз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процессе фотосинтеза происходит образование органического вещества, за счет которого питаются гетеротроф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2340000" y="765000"/>
            <a:ext cx="4680000" cy="4200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2. Функциональные группы организмов в сообще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95280" y="515772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Гетеротрофные организ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лятся на две группы: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консументы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—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потребители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редуценты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—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разрушители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ческого вещества.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Консументы 1-го порядка — растительноядные, консументы 2-го порядка — плотоядные животные, консументы 3-го порядка — хищн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340000" y="765000"/>
            <a:ext cx="4680000" cy="4200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12:16:34Z</dcterms:created>
  <dc:creator>Pimenov AV</dc:creator>
  <dc:description/>
  <dc:language>en-US</dc:language>
  <cp:lastModifiedBy>Коля</cp:lastModifiedBy>
  <dcterms:modified xsi:type="dcterms:W3CDTF">2013-05-15T11:32:06Z</dcterms:modified>
  <cp:revision>32</cp:revision>
  <dc:subject/>
  <dc:title>Тема: «Сообщества. Экосистемы»</dc:title>
</cp:coreProperties>
</file>