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B37-7C04-44FD-BA6B-4DBA54F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3AD-257A-4D53-80CC-AD73E55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A00-0696-45DD-AFC4-6F13D5CD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F05-09F0-40EC-B973-175F7381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891-2F3F-445E-B565-428A499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C58-FABC-4C9A-9D60-9619289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66E-9390-4807-98A7-5CC5FDC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FF4-7B87-427E-96F2-35344E24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FE8-65FA-4BEB-999C-908D51A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FE5-C439-499A-9789-D7EEBBC6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82-75AA-4BE4-927E-21D3383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D60-5335-4A94-BACA-1EBC7B4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C00B-2F73-4D8A-9BCB-E53BBAD5C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ноо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осфера – новое состояние биосферы, при котором разумная, научно-обоснованная деятельность человека становится одним из главных, определяющих факторов ее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П Р А В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ЛОГИЯ – наука об истории развития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Я – история развития органическо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ТЕЗИСЫ, КАСАЮЩИЕСЯ УЧЕНИЯ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Человечество неразрывно связано с биосфе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0304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 развитием мозга человек становится мощным фактором эволюции на Земле. Роль человека в эволюции биосферы: человек мощная геологическая сила (окружающая среда существенно изменяется человеком благодаря его тру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4720" y="1125000"/>
            <a:ext cx="4248000" cy="452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413"/>
          <p:cNvPicPr/>
          <p:nvPr/>
        </p:nvPicPr>
        <p:blipFill>
          <a:blip r:embed="rId2"/>
          <a:stretch/>
        </p:blipFill>
        <p:spPr>
          <a:xfrm>
            <a:off x="4140360" y="1100160"/>
            <a:ext cx="4679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 настоящий момент существует необходимость РАЗУМНОГО развития производства, потребления энергии, использования природных богатств, не нарушая при этом природных закономерностей, существующих в биосфере (охрана окружающей среды). Ограничения в преобразовании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0360"/>
          <p:cNvPicPr/>
          <p:nvPr/>
        </p:nvPicPr>
        <p:blipFill>
          <a:blip r:embed="rId1"/>
          <a:stretch/>
        </p:blipFill>
        <p:spPr>
          <a:xfrm>
            <a:off x="4643280" y="981000"/>
            <a:ext cx="4038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ноосфере должна господствовать мысль о РАЗУМНОМ, БЕРЕЖНОМ отношении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orld"/>
          <p:cNvPicPr/>
          <p:nvPr/>
        </p:nvPicPr>
        <p:blipFill>
          <a:blip r:embed="rId2"/>
          <a:stretch/>
        </p:blipFill>
        <p:spPr>
          <a:xfrm>
            <a:off x="4572000" y="162864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еловек должен изменить свое экологическое сознание (этика благоговения перед жизн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0383"/>
          <p:cNvPicPr/>
          <p:nvPr/>
        </p:nvPicPr>
        <p:blipFill>
          <a:blip r:embed="rId1"/>
          <a:stretch/>
        </p:blipFill>
        <p:spPr>
          <a:xfrm>
            <a:off x="4356000" y="1341360"/>
            <a:ext cx="4392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Ноосфера – высшая стадия развития би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40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1:00:01Z</dcterms:created>
  <dc:creator>Ирина</dc:creator>
  <dc:description/>
  <dc:language>en-US</dc:language>
  <cp:lastModifiedBy>Коля</cp:lastModifiedBy>
  <dcterms:modified xsi:type="dcterms:W3CDTF">2013-05-14T21:25:07Z</dcterms:modified>
  <cp:revision>5</cp:revision>
  <dc:subject/>
  <dc:title>Что такое ноосфера</dc:title>
</cp:coreProperties>
</file>