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11D-03EC-4753-810C-52F22C8F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192-C9FB-4E66-9EFC-EB4E20E3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0F6-2886-4DBE-9D9E-F985E7E1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CF6-134B-4792-BB27-8DA32930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63D-1639-4A1E-A6F7-25AB9AE3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25F-97BC-4B22-B7F9-97669350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DBA-6C65-4D73-9F32-7D62A6E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5E0-F66F-4E2D-8C13-0EED50B7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364-EC36-41DE-A36F-C713D92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46C-9628-4901-9C3A-365C7BA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21E-9159-47D3-A6F9-042DEEA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6A4-F8A2-4758-A1CC-F63A6F4A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F7D-8873-4D11-A1AC-9C8E94172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ноо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осфера – новое состояние биосферы, при котором разумная, научно-обоснованная деятельность человека становится одним из главных, определяющих факторов ее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П Р А В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ЛОГИЯ – наука об истории развития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Я – история развития органическо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ТЕЗИСЫ, КАСАЮЩИЕСЯ УЧЕНИЯ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Человечество неразрывно связано с биосфе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0304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 развитием мозга человек становится мощным фактором эволюции на Земле. Роль человека в эволюции биосферы: человек мощная геологическая сила (окружающая среда существенно изменяется человеком благодаря его тру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4720" y="1125000"/>
            <a:ext cx="4248000" cy="452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413"/>
          <p:cNvPicPr/>
          <p:nvPr/>
        </p:nvPicPr>
        <p:blipFill>
          <a:blip r:embed="rId2"/>
          <a:stretch/>
        </p:blipFill>
        <p:spPr>
          <a:xfrm>
            <a:off x="4140360" y="1100160"/>
            <a:ext cx="4679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0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В настоящий момент существует необходимость РАЗУМНОГО развития производства, потребления энергии, использования природных богатств, не нарушая при этом природных закономерностей, существующих в биосфере (охрана окружающей среды). Ограничения в преобразовании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0360"/>
          <p:cNvPicPr/>
          <p:nvPr/>
        </p:nvPicPr>
        <p:blipFill>
          <a:blip r:embed="rId1"/>
          <a:stretch/>
        </p:blipFill>
        <p:spPr>
          <a:xfrm>
            <a:off x="4643280" y="981000"/>
            <a:ext cx="4038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ноосфере должна господствовать мысль о РАЗУМНОМ, БЕРЕЖНОМ отношении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orld"/>
          <p:cNvPicPr/>
          <p:nvPr/>
        </p:nvPicPr>
        <p:blipFill>
          <a:blip r:embed="rId2"/>
          <a:stretch/>
        </p:blipFill>
        <p:spPr>
          <a:xfrm>
            <a:off x="4572000" y="162864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еловек должен изменить свое экологическое сознание (этика благоговения перед жизн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0383"/>
          <p:cNvPicPr/>
          <p:nvPr/>
        </p:nvPicPr>
        <p:blipFill>
          <a:blip r:embed="rId1"/>
          <a:stretch/>
        </p:blipFill>
        <p:spPr>
          <a:xfrm>
            <a:off x="4356000" y="1341360"/>
            <a:ext cx="4392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Ноосфера – высшая стадия развития би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40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1:00:01Z</dcterms:created>
  <dc:creator>Ирина</dc:creator>
  <dc:description/>
  <dc:language>en-US</dc:language>
  <cp:lastModifiedBy>Коля</cp:lastModifiedBy>
  <dcterms:modified xsi:type="dcterms:W3CDTF">2013-05-14T21:25:07Z</dcterms:modified>
  <cp:revision>5</cp:revision>
  <dc:subject/>
  <dc:title>Что такое ноосфера</dc:title>
</cp:coreProperties>
</file>