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C83E-2B00-45AD-84FD-6101B108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A664-43E8-4B92-9A30-278BB889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B24E-ED1D-4B7B-A486-E6B09916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4734-E774-4A07-AD8C-5869B7A9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C66E-8BD3-4071-B376-0E25880B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6CD9-B135-4752-A052-CCF2958E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CEE5-8691-40EB-8D4E-024DBF05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9663-206D-4624-8DDA-9DB322A5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D87C-7570-4F06-BF46-3F59788F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3E2B-707C-4FA2-82F6-BE8B3F26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B7A6-0FBE-4C34-9C63-C5135742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020B-603B-46A4-BBB3-CABD1F8C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5D9E-119A-4209-857D-5246ED2CB8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vine.com.ua/content/view/309/75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Черви параз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килостома - кривоголо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68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рослые черви имеют размер 5-13 мм, обитают в кишечнике, где прикрепляются к ворсинкам, засасывая их в ро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ая численность может достигать от нескольких штук до 2 миллионов. В сутки самка откладывает до 20 000 я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ttp://tbn0.google.com/images?q=tbn:NQXJUv9tNwc1PM:http://douan.pp.net.ua/Chinamedic/Toxoc.jpg"/>
          <p:cNvPicPr/>
          <p:nvPr/>
        </p:nvPicPr>
        <p:blipFill>
          <a:blip r:embed="rId1"/>
          <a:stretch/>
        </p:blipFill>
        <p:spPr>
          <a:xfrm>
            <a:off x="380880" y="1295280"/>
            <a:ext cx="22860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зревшие в почве личинки гельминтов  попадают в человека через грязные руки. Мигрируя по организму по кровеносным сосудам, оседают в легких, серд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растая, попадают в ротовую полость и заглатываются, питаются кровь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Arial"/>
              </a:rPr>
              <a:t>Класс Ленточные чер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ычий цеп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иной цеп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хинокок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http://images.picsearch.com/is?gDQCQ4AmYQbL5jd7zqihc7mVExHSL81evPcfPeTx6lQ"/>
          <p:cNvPicPr/>
          <p:nvPr/>
        </p:nvPicPr>
        <p:blipFill>
          <a:blip r:embed="rId1"/>
          <a:stretch/>
        </p:blipFill>
        <p:spPr>
          <a:xfrm rot="16200000">
            <a:off x="1333440" y="2823480"/>
            <a:ext cx="3165480" cy="4464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{B16ED97D-0AFA-4D42-8AD8-A129CF1EDC88}"/>
          <p:cNvPicPr/>
          <p:nvPr/>
        </p:nvPicPr>
        <p:blipFill>
          <a:blip r:embed="rId2"/>
          <a:stretch/>
        </p:blipFill>
        <p:spPr>
          <a:xfrm>
            <a:off x="5724360" y="2637000"/>
            <a:ext cx="3225960" cy="403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{C70008DF-363E-4117-96A7-B82D8491140A}"/>
          <p:cNvPicPr/>
          <p:nvPr/>
        </p:nvPicPr>
        <p:blipFill>
          <a:blip r:embed="rId3"/>
          <a:stretch/>
        </p:blipFill>
        <p:spPr>
          <a:xfrm>
            <a:off x="5796000" y="260280"/>
            <a:ext cx="309096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Arial"/>
              </a:rPr>
              <a:t>Печеночный  сосальщ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{409A9DFA-2986-45AA-B22F-6A2AEF60825A}"/>
          <p:cNvPicPr/>
          <p:nvPr/>
        </p:nvPicPr>
        <p:blipFill>
          <a:blip r:embed="rId1"/>
          <a:stretch/>
        </p:blipFill>
        <p:spPr>
          <a:xfrm>
            <a:off x="539640" y="1484280"/>
            <a:ext cx="7920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Эхинокок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овозрелая особь имеет головку с 4 присосками и двойной короной из 40 крючков, шейку и 2-3 членика тел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{C70008DF-363E-4117-96A7-B82D8491140A}"/>
          <p:cNvPicPr/>
          <p:nvPr/>
        </p:nvPicPr>
        <p:blipFill>
          <a:blip r:embed="rId1"/>
          <a:stretch/>
        </p:blipFill>
        <p:spPr>
          <a:xfrm>
            <a:off x="6095880" y="228600"/>
            <a:ext cx="2711520" cy="2819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http://im6-tub.yandex.net/i?id=42850909&amp;tov=6"/>
          <p:cNvPicPr/>
          <p:nvPr/>
        </p:nvPicPr>
        <p:blipFill>
          <a:blip r:embed="rId2"/>
          <a:stretch/>
        </p:blipFill>
        <p:spPr>
          <a:xfrm>
            <a:off x="5029200" y="3352680"/>
            <a:ext cx="2514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ражение человека происходит при контакте с зараженными животными, при сборе ягод и трав, питье воды из загрязненных источ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ишечнике человека личинки внедряются в кровеносные сосуды и разносятся током крови, задерживаются в печени, легких, почки, оседают в костях и моз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м эхинококк начинает  образовывать капсулу с множеством червей, размеры такой капсулы могут достигать размеров футбольного мяча, при этом происходит сдавливание и отмирание тканей хозяин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8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8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ст на возможность заражения гельмин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а – 2 балла, Иногда – 1 балл, Нет – 0 бал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упаетесь Вы в реках, пруд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отребляете воду из непроверенных источников, например, из колодца в дерев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добряете огород навоз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отребляете в пищу домашнее сало с прожилками мя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отребляете в пищу малосольную рыбу из пресноводных водоем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98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98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9154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отребляете свежеприготовленный шашлык из свини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7. Употребляете в пищу  «дикое мясо», например, медвежатин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8. Употребляете малосольную икру собственного приготовл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9. Употребляете овощи прямо с гряд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0. Употребляете фрукты и ягоды прямо с грядки, например, клубни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1. Употребляете упавшие фрукты, например, ябло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2. Храните морковь в песке, взятом во дв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98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98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98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98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3. Не моете руки перед едой с мыл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4. Не обдаете всю зелень кипятком перед приготовлени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5. Не моете куриные яй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6. Не моете бананы, апельсины, мандарины перед ед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7. Гуляете босыми ногами по трав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8. В семье были замечены глистные заболевания, например, острицы у де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9. В семье имеется собака или кош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98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98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0-5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гельминтов практически нет шансов найти Вас в качестве хозяина. Продолжайте вести себя так 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6-12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ансы заражения реальны. Вам надо усилить правила собственной гигиены, пересмотреть некоторые аспекты питания и отдыха с целью повысить степень своей защищенности от проникновения гельми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зитарные болезни являются причиной задержки психического и физического развития детей, снижают трудоспособность взрослого населения. Поражая человека , они снижают сопротивляемость к инфекционным и соматическим заболеваниям, уменьшают эффективность ле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4267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3-25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 имеете абсолютно реальные шансы стать хозяином около 150 видов гельминтов. Вы являетесь для них желанным объектом, потому что не имеете достаточной информации  о способах заражения, либо не придаете ей зна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олее 25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ы- лучший друг гельминтов! Вам необходимо полностью пересмотреть свои взгляды на личную санитарную безопасно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а личной безопас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Мойте руки перед е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а набившая оскомину фраза полна глубокого смыслы. Проследите цепочку: собака – фекалии – яйца токсокар- песочница – созревание(песочница) – песочный кулич – маленький ребенок – ротик- токсокароз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Старайтесь обдавать кипятком зеле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Больной аскаридозом – дача – яйца аскарид на грядке с морковью – аскаридо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Не пейте сырую воду, особенно из открытых водоем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Собака – фекалии – яйца гельминтов – попили водички – эхинококкоз со всеми последствиям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Помните, что хорошая вобла – это сильно просоленная вобла, а хорошая икра только та, которая приготовлена на лицензированном предприяти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Оказавшиеся в малосольной рыбе яйца лентеца будут счастливы оказаться в кишечнике экономного покупател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Не употрейбляйте в пищу непрожаренное мяс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Находясь за границей – не купайтесь в неизвестных водоем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Применяйте репеленты с целью отпугивания комаров и моше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кровососущие насекомые являются переносчиками ряда гельминт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Необходимо думать о других людях. Проведите дегельминтизацию своей собак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5345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иническое применение Метосепта и Витанорма. Учебное пособие подготовлено на базе кафедры инфекционных болезней РМАПО проф. д.м.н. Погорельской Л.В. М., 200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нет – ресурс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w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tisa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асность, которой пренебрегают. Научное Общество Натуральной  Медицины, компания «Оптисалт», М., 200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Метосепт и Витанорм. М.,200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зяева поневоле. Под редакцией Бутаковой О.А., Гуреева А.П., Академия здоровь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ral Clu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 Нижний Новгород, 200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тор Климова Г.А., учитель би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У «Челмужская СОШ», 2008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1143000" y="380880"/>
            <a:ext cx="66294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ерегите себя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 данным ВОЗ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Всемирной организации здравоохранен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более половины населения планеты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страдают паразитарными инфекция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знаки заражения парази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поры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листы, благодаря своей форме и большим размерам, могут механически закрывать некоторые протоки, просветы кишеч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азы и вздутие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яд паразитов проживает в верхней тонкой кишке, где вызванное ими воспаление приводит к вздутию и газ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оли  в суставах и мышцах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аразиты могут поселиться в суставной жидкости и мышцах. Когда это происходит, человек испытывает боли, которые часто считают следствием артри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то такие гельминт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ельминт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аразитические круглые и плоские черв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листные инваз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гельминтозы) – заболевания, вызываемые паразитическими червями (гельминтам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настоящее время известно около    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3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ельминтозов человек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углые гельминты, остр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трица – наиболее распространенный гельминт у детей. Живут в нижней части кишечника. Самки активно выходят из заднего прохода, откладывают яйца (от 5000 до 15 000 в сутки) и погибают. Через 4-6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йца созреваю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падают на пос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ье, ру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падают в рот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images.picsearch.com/is?8Dtpt9y2t678ADviP7gnHSZFL4BLHjKH11a47yPd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3886200"/>
            <a:ext cx="297180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http://images.picsearch.com/is?HsWn9BHtwCV8Hqrx55pwmVaNqoUyXOsVRjaR_v90LbA"/>
          <p:cNvPicPr/>
          <p:nvPr/>
        </p:nvPicPr>
        <p:blipFill>
          <a:blip r:embed="rId1"/>
          <a:stretch/>
        </p:blipFill>
        <p:spPr>
          <a:xfrm>
            <a:off x="228600" y="380880"/>
            <a:ext cx="2881440" cy="3962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{32EF85EE-434F-4DF4-8928-D476A5E16D19}"/>
          <p:cNvPicPr/>
          <p:nvPr/>
        </p:nvPicPr>
        <p:blipFill>
          <a:blip r:embed="rId2"/>
          <a:stretch/>
        </p:blipFill>
        <p:spPr>
          <a:xfrm>
            <a:off x="3886200" y="260280"/>
            <a:ext cx="4114800" cy="289584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5343120" y="380988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скарида челове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267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оксок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5867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хозяин – собаки, но может произойти и заражение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ина гельминта  до 3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ка ежедневно откладывает 200 000 яиц, которые сохраняют жизнеспособность нескольких лет. С пылью, песком, на обуви , через грязные руки яйца попадают в дом человека, происходит зара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http://im2-tub.yandex.net/i?id=4254093&amp;tov=2"/>
          <p:cNvPicPr/>
          <p:nvPr/>
        </p:nvPicPr>
        <p:blipFill>
          <a:blip r:embed="rId1"/>
          <a:stretch/>
        </p:blipFill>
        <p:spPr>
          <a:xfrm>
            <a:off x="6553080" y="838080"/>
            <a:ext cx="2311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иболее часто наблюдается поражение сердца, легких, печени, мышц и головного мозга. Паразит способен довести орган до некроза.  Существует и глазная форма токсокаро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инические проявл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Лихорадка, аллергический бронхит, увеличение печени, кожная сыпь, психические нарушения и судор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NA7 X86</cp:lastModifiedBy>
  <dcterms:modified xsi:type="dcterms:W3CDTF">2012-01-18T16:06:4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