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A33-650E-4D04-8557-698E377B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D2B-98CF-4F5A-B7EE-028E98B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8FF-5CB9-440C-8E22-8D056C80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053-F121-404C-8400-AECC0011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784-0F44-49F0-9E4A-D69CE8D8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D00-ACCD-4CD7-8BAA-2CB46AF3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805-4C1C-494B-9551-379D03F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A0E-CD0C-4853-8059-67E2A6BA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BED-6FCB-4E4F-9862-235BA3A5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2C1-1B79-4609-BA2D-38CC500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244-8F46-41C1-B5B0-158460E4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9F2-5D85-4D70-8079-7D6A760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4B6-317B-44D5-8494-AD810B967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ne.com.ua/content/view/309/75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ерви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килостома - кривого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рослые черви имеют размер 5-13 мм, обитают в кишечнике, где прикрепляются к ворсинкам, засасывая их в ро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численность может достигать от нескольких штук до 2 миллионов. В сутки самка откладывает до 20 000 я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tbn0.google.com/images?q=tbn:NQXJUv9tNwc1PM:http://douan.pp.net.ua/Chinamedic/Toxoc.jpg"/>
          <p:cNvPicPr/>
          <p:nvPr/>
        </p:nvPicPr>
        <p:blipFill>
          <a:blip r:embed="rId1"/>
          <a:stretch/>
        </p:blipFill>
        <p:spPr>
          <a:xfrm>
            <a:off x="380880" y="1295280"/>
            <a:ext cx="2286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ревшие в почве личинки гельминтов  попадают в человека через грязные руки. Мигрируя по организму по кровеносным сосудам, оседают в легких,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астая, попадают в ротовую полость и заглатываются, питаются к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Класс Ленточные че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чи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ино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хинок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://images.picsearch.com/is?gDQCQ4AmYQbL5jd7zqihc7mVExHSL81evPcfPeTx6lQ"/>
          <p:cNvPicPr/>
          <p:nvPr/>
        </p:nvPicPr>
        <p:blipFill>
          <a:blip r:embed="rId1"/>
          <a:stretch/>
        </p:blipFill>
        <p:spPr>
          <a:xfrm rot="16200000">
            <a:off x="1333440" y="2823480"/>
            <a:ext cx="3165480" cy="446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{B16ED97D-0AFA-4D42-8AD8-A129CF1EDC88}"/>
          <p:cNvPicPr/>
          <p:nvPr/>
        </p:nvPicPr>
        <p:blipFill>
          <a:blip r:embed="rId2"/>
          <a:stretch/>
        </p:blipFill>
        <p:spPr>
          <a:xfrm>
            <a:off x="5724360" y="2637000"/>
            <a:ext cx="3225960" cy="40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{C70008DF-363E-4117-96A7-B82D8491140A}"/>
          <p:cNvPicPr/>
          <p:nvPr/>
        </p:nvPicPr>
        <p:blipFill>
          <a:blip r:embed="rId3"/>
          <a:stretch/>
        </p:blipFill>
        <p:spPr>
          <a:xfrm>
            <a:off x="5796000" y="260280"/>
            <a:ext cx="30909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Печеночный 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{409A9DFA-2986-45AA-B22F-6A2AEF60825A}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хиноко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возрелая особь имеет головку с 4 присосками и двойной короной из 40 крючков, шейку и 2-3 членика те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{C70008DF-363E-4117-96A7-B82D8491140A}"/>
          <p:cNvPicPr/>
          <p:nvPr/>
        </p:nvPicPr>
        <p:blipFill>
          <a:blip r:embed="rId1"/>
          <a:stretch/>
        </p:blipFill>
        <p:spPr>
          <a:xfrm>
            <a:off x="6095880" y="228600"/>
            <a:ext cx="271152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ttp://im6-tub.yandex.net/i?id=42850909&amp;tov=6"/>
          <p:cNvPicPr/>
          <p:nvPr/>
        </p:nvPicPr>
        <p:blipFill>
          <a:blip r:embed="rId2"/>
          <a:stretch/>
        </p:blipFill>
        <p:spPr>
          <a:xfrm>
            <a:off x="5029200" y="3352680"/>
            <a:ext cx="2514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жение человека происходит при контакте с зараженными животными, при сборе ягод и трав, питье воды из загрязненных источ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ишечнике человека личинки внедряются в кровеносные сосуды и разносятся током крови, задерживаются в печени, легких, почки, оседают в костях и моз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эхинококк начинает  образовывать капсулу с множеством червей, размеры такой капсулы могут достигать размеров футбольного мяча, при этом происходит сдавливание и отмирание тканей хозяи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 на возможность заражения гельмин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а – 2 балла, Иногда – 1 балл, Нет – 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паетесь Вы в реках, пру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оду из непроверенных источников, например, из колодца в дерев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добряете огород навоз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домашнее сало с прожилками мя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малосольную рыбу из пресноводных водоем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свежеприготовленный шашлык из свин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7. Употребляете в пищу  «дикое мясо», например, медвежа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8. Употребляете малосольную икру собственного пригото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. Употребляете овощи прямо с гря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. Употребляете фрукты и ягоды прямо с грядки, например, клубн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1. Употребляете упавшие фрукты, например, ябл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. Храните морковь в песке, взятом во дв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3. Не моете руки перед едой с мы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4. Не обдаете всю зелень кипятком перед приготовл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5. Не моете куриные яй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6. Не моете бананы, апельсины, мандарины перед е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7. Гуляете босыми ногами по тра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. В семье были замечены глистные заболевания, например, острицы у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9. В семье имеется собака или ко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-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гельминтов практически нет шансов найти Вас в качестве хозяина. Продолжайте вести себя так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-12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нсы заражения реальны. Вам надо усилить правила собственной гигиены, пересмотреть некоторые аспекты питания и отдыха с целью повысить степень своей защищенности от проникновения гельми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зитарные болезни являются причиной задержки психического и физического развития детей, снижают трудоспособность взрослого населения. Поражая человека , они снижают сопротивляемость к инфекционным и соматическим заболеваниям, уменьшают эффективность л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-2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имеете абсолютно реальные шансы стать хозяином около 150 видов гельминтов. Вы являетесь для них желанным объектом, потому что не имеете достаточной информации  о способах заражения, либо не придаете ей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ее 2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- лучший друг гельминтов! Вам необходимо полностью пересмотреть свои взгляды на личную санитарную безопас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лич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Мойте руки перед 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набившая оскомину фраза полна глубокого смыслы. Проследите цепочку: собака – фекалии – яйца токсокар- песочница – созревание(песочница) – песочный кулич – маленький ребенок – ротик- токсокаро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арайтесь обдавать кипятком зел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ольной аскаридозом – дача – яйца аскарид на грядке с морковью – аскаридо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пейте сырую воду, особенно из открытых водоем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обака – фекалии – яйца гельминтов – попили водички – эхинококкоз со всеми последстви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мните, что хорошая вобла – это сильно просоленная вобла, а хорошая икра только та, которая приготовлена на лицензированном предприят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казавшиеся в малосольной рыбе яйца лентеца будут счастливы оказаться в кишечнике экономного покуп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е употрейбляйте в пищу непрожаренное мяс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аходясь за границей – не купайтесь в неизвестных водо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меняйте репеленты с целью отпугивания комаров и мош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ровососущие насекомые являются переносчиками ряда гельмин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Необходимо думать о других людях. Проведите дегельминтизацию своей соба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ическое применение Метосепта и Витанорма. Учебное пособие подготовлено на базе кафедры инфекционных болезней РМАПО проф. д.м.н. Погорельской Л.В. М.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w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is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ость, которой пренебрегают. Научное Общество Натуральной  Медицины, компания «Оптисалт», М.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Метосепт и Витанорм. М.,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зяева поневоле. Под редакцией Бутаковой О.А., Гуреева А.П., Академия здоровь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al Clu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Нижний Новгород, 20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Климова Г.А., учитель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«Челмужская СОШ», 20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143000" y="380880"/>
            <a:ext cx="6629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те себ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данным ВО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Всемирной организации здравоохран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олее половины населения планеты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традают паразитарными инфекци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заражения парази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р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исты, благодаря своей форме и большим размерам, могут механически закрывать некоторые протоки, просветы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азы и вздут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яд паразитов проживает в верхней тонкой кишке, где вызванное ими воспаление приводит к вздутию и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и  в суставах и мышц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аразиты могут поселиться в суставной жидкости и мышцах. Когда это происходит, человек испытывает боли, которые часто считают следствием артр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такие гельмин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льмин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зитические круглые и плоские чер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листные инваз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ельминтозы) – заболевания, вызываемые паразитическими червями (гельминт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около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ельминтозов челове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лые гельминты, ост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рица – наиболее распространенный гельминт у детей. Живут в нижней части кишечника. Самки активно выходят из заднего прохода, откладывают яйца (от 5000 до 15 000 в сутки) и погибают. Через 4-6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йца созрев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на пос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е, ру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в ро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images.picsearch.com/is?8Dtpt9y2t678ADviP7gnHSZFL4BLHjKH11a47yPd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886200"/>
            <a:ext cx="29718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images.picsearch.com/is?HsWn9BHtwCV8Hqrx55pwmVaNqoUyXOsVRjaR_v90LbA"/>
          <p:cNvPicPr/>
          <p:nvPr/>
        </p:nvPicPr>
        <p:blipFill>
          <a:blip r:embed="rId1"/>
          <a:stretch/>
        </p:blipFill>
        <p:spPr>
          <a:xfrm>
            <a:off x="228600" y="380880"/>
            <a:ext cx="288144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{32EF85EE-434F-4DF4-8928-D476A5E16D19}"/>
          <p:cNvPicPr/>
          <p:nvPr/>
        </p:nvPicPr>
        <p:blipFill>
          <a:blip r:embed="rId2"/>
          <a:stretch/>
        </p:blipFill>
        <p:spPr>
          <a:xfrm>
            <a:off x="3886200" y="260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43120" y="38098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карида челове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ксо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хозяин – собаки, но может произойти и зараже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гельминта  до 3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ка ежедневно откладывает 200 000 яиц, которые сохраняют жизнеспособность нескольких лет. С пылью, песком, на обуви , через грязные руки яйца попадают в дом человека, происходит за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im2-tub.yandex.net/i?id=4254093&amp;tov=2"/>
          <p:cNvPicPr/>
          <p:nvPr/>
        </p:nvPicPr>
        <p:blipFill>
          <a:blip r:embed="rId1"/>
          <a:stretch/>
        </p:blipFill>
        <p:spPr>
          <a:xfrm>
            <a:off x="6553080" y="838080"/>
            <a:ext cx="2311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часто наблюдается поражение сердца, легких, печени, мышц и головного мозга. Паразит способен довести орган до некроза.  Существует и глазная форма токсока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инические прояв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Лихорадка, аллергический бронхит, увеличение печени, кожная сыпь, психические нарушения и су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2-01-18T16:06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