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wind.wav" ContentType="audio/x-wav"/>
  <Override PartName="/ppt/media/image5.wmf" ContentType="image/x-wmf"/>
  <Override PartName="/ppt/media/image6.png" ContentType="image/png"/>
  <Override PartName="/ppt/media/image2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53A-F5B4-40EC-99B5-8284236D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364-FBB2-4FB2-AAEB-0BCE5CF4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CA8-61B7-4D9F-ACC6-DD9EF01C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751-44DE-48C6-9966-9FDF3E26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9A2E-55DB-4B58-B92E-28E47A4D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10A8-0DC2-427B-B1B2-725EAC76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8584-8C4C-4744-A700-BA3801CA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B789-2AAA-4459-A3C7-EBE61E44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CC65-F6C6-4A8D-BDC3-43E8AA3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4CE6-AE3E-4998-B0F4-97BE1F44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0E16-DC85-4611-8483-61DD4AF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232-D009-4E51-A85E-0D063E85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5ED8-647A-41BC-B331-591D2E3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065F-11BD-45F6-8746-3E4E864A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BA7B-230E-44E3-A320-30507A1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0656-D8CE-4FA4-B5FB-DDF7E9F7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F321-7B96-4F8E-B925-0533F419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1277-2A1A-40B7-9F39-3119A125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2FDD-AD8B-44C6-9A82-8BE90F55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05CA-73BB-401E-AF60-F9F90297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D4F3-0927-4C4A-AED8-38DCE6E5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81F7-B328-428F-9D7E-08D4157F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D88-7D80-4885-9271-ADBADB84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8207-C54D-4504-A0F6-82D8E9F1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242B-14C6-48A9-B29B-E6ACD885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B33A-3EDB-430C-999B-49C67CC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4EF7-D08B-4953-905B-861B4B61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D10B-B7CF-4FDD-ABE0-1FD7F24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DB29-F3C3-4636-A5CE-73E77ACF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C173-CD6D-4E2B-BD49-1739401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8645-EAD0-4322-A07B-D3B0153E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66EA-4A33-4F00-A1E3-1D2B978A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9EDD-FA05-43FF-84C5-FDEF5551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697-665E-4BF7-B150-FCC0D0E7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05E7-79BD-4032-ADE2-A932D0A9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2141-DAEE-4CBD-ADC4-C87ECDD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E614-54A5-4626-B849-2395DD20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DE43-1ECA-4C05-92A0-BCF85F0E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19FB-A99F-4DC3-B2D3-DCB0B60B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DC644-3C55-417C-A830-1192054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8CB9-9FDA-48E0-A687-BD33E6DC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E609-6985-4EC4-8482-B49B2E8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03FC-0653-4612-BA31-0797966E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BCC-1E72-4AD4-8993-46C39F15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633-8308-4746-B86A-03584643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222-85CE-4586-995C-F1E543E3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2DE-1540-4CF1-B6D1-59918E9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720-3D61-4E32-9187-36F6FC1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146B-B78F-4DC9-942B-60D2AE937D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984A-2FC9-47D0-80E9-11A2BC96FF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6548-6802-489D-93D9-FB7B0538C5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93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23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25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26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27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36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ACF-5BA9-4FAA-8E86-F6532D70608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3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56000" y="1484280"/>
            <a:ext cx="6253200" cy="1944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Теорема Пифагора и ее применение при решении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907640" y="3644640"/>
            <a:ext cx="708372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Урок обобщения и закрепл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4"/>
          <p:cNvSpPr/>
          <p:nvPr/>
        </p:nvSpPr>
        <p:spPr>
          <a:xfrm rot="10800000">
            <a:off x="2124000" y="3141360"/>
            <a:ext cx="4608720" cy="2158920"/>
          </a:xfrm>
          <a:prstGeom prst="pie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3276720" y="3141720"/>
            <a:ext cx="1150920" cy="2158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5580000" y="3141720"/>
            <a:ext cx="0" cy="2158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5580000" y="5084640"/>
            <a:ext cx="144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5724360" y="5084640"/>
            <a:ext cx="0" cy="21600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744560" y="508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2897640" y="2706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508720" y="2708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6787080" y="5010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510160" y="534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4336560" y="5299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АВС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D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– ром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763640" y="2781360"/>
            <a:ext cx="1944720" cy="3240000"/>
          </a:xfrm>
          <a:prstGeom prst="diamond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1763640" y="4437000"/>
            <a:ext cx="194472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700360" y="2781360"/>
            <a:ext cx="71280" cy="32400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1385640" y="421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2771640" y="2565360"/>
            <a:ext cx="2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3760560" y="4290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2700360" y="587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2411280" y="44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76960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857240" y="2928960"/>
            <a:ext cx="3313080" cy="1728720"/>
          </a:xfrm>
          <a:prstGeom prst="rect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1857240" y="2928960"/>
            <a:ext cx="3313080" cy="17287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672920" y="4651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1673640" y="26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273640" y="2633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292720" y="46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403280" y="3141720"/>
            <a:ext cx="4105440" cy="2158920"/>
          </a:xfrm>
          <a:prstGeom prst="parallelogram">
            <a:avLst>
              <a:gd name="adj" fmla="val 47540"/>
            </a:avLst>
          </a:prstGeom>
          <a:solidFill>
            <a:srgbClr val="ffef66"/>
          </a:solidFill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2411280" y="3141720"/>
            <a:ext cx="2089440" cy="21589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312560" y="529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105280" y="2706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489280" y="277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481280" y="522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 flipH="1" flipV="1">
            <a:off x="2050560" y="4005360"/>
            <a:ext cx="2449800" cy="129528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2124000" y="3860640"/>
            <a:ext cx="144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2"/>
          <p:cNvSpPr/>
          <p:nvPr/>
        </p:nvSpPr>
        <p:spPr>
          <a:xfrm flipH="1">
            <a:off x="2195640" y="3933720"/>
            <a:ext cx="72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1744920" y="36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875720" cy="114300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Алгоритм решения задач с применением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5640" y="1523520"/>
            <a:ext cx="7875720" cy="500076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Указать прямоугольный треугольни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Записать для него теорему Пифагора;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= а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i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b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Выразить неизвестную сторону через две друг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Подставив известные значения, вычислить неизвестную сторо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7740720" y="1844640"/>
            <a:ext cx="1079280" cy="1871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81025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451640" y="2708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8226720" y="231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Найти катет прямоугольного треугольника, лежащий против угла 60</a:t>
            </a:r>
            <a:r>
              <a:rPr b="1" lang="ru-RU" sz="3200" spc="-1" strike="noStrike" baseline="30000">
                <a:solidFill>
                  <a:srgbClr val="990000"/>
                </a:solidFill>
                <a:latin typeface="Comic Sans MS"/>
              </a:rPr>
              <a:t>0</a:t>
            </a: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, если гипотенуза равна  </a:t>
            </a:r>
            <a:r>
              <a:rPr b="1" i="1" lang="ru-RU" sz="3200" spc="-1" strike="noStrike">
                <a:solidFill>
                  <a:srgbClr val="99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74396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</a:rPr>
              <a:t>Дано: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▲АВС, </a:t>
            </a:r>
            <a:r>
              <a:rPr b="0" i="1" lang="en-US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С = 90</a:t>
            </a:r>
            <a:r>
              <a:rPr b="0" i="1" lang="ru-RU" sz="2800" spc="-1" strike="noStrike" baseline="30000">
                <a:solidFill>
                  <a:srgbClr val="990000"/>
                </a:solidFill>
                <a:latin typeface="Comic Sans MS"/>
                <a:ea typeface="Arial"/>
              </a:rPr>
              <a:t>0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С = 60</a:t>
            </a:r>
            <a:r>
              <a:rPr b="0" i="1" lang="ru-RU" sz="2800" spc="-1" strike="noStrike" baseline="30000">
                <a:solidFill>
                  <a:srgbClr val="990000"/>
                </a:solidFill>
                <a:latin typeface="Comic Sans MS"/>
                <a:ea typeface="Arial"/>
              </a:rPr>
              <a:t>0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, АВ = 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с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Найти:  А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050920" y="2421000"/>
            <a:ext cx="1584360" cy="280836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6"/>
          <p:cNvSpPr/>
          <p:nvPr/>
        </p:nvSpPr>
        <p:spPr>
          <a:xfrm>
            <a:off x="3265560" y="4941720"/>
            <a:ext cx="154080" cy="28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700360" y="4724280"/>
            <a:ext cx="5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60</a:t>
            </a:r>
            <a:r>
              <a:rPr b="1" lang="ru-RU" sz="20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3929040" y="292896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744560" y="5010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817640" y="2058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637440" y="501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81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На какое расстояние надо отодвинуть от стены дома нижний конец лестницы длиною 17м, чтобы верхний конец её достал до слухового окна, находящегося на высоте 15м от поверхности зем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4" descr="j0185604"/>
          <p:cNvPicPr/>
          <p:nvPr/>
        </p:nvPicPr>
        <p:blipFill>
          <a:blip r:embed="rId1"/>
          <a:stretch/>
        </p:blipFill>
        <p:spPr>
          <a:xfrm>
            <a:off x="1332000" y="2924280"/>
            <a:ext cx="2232000" cy="3241440"/>
          </a:xfrm>
          <a:prstGeom prst="rect">
            <a:avLst/>
          </a:prstGeom>
          <a:ln w="0">
            <a:noFill/>
          </a:ln>
        </p:spPr>
      </p:pic>
      <p:sp>
        <p:nvSpPr>
          <p:cNvPr id="384" name="Line 5"/>
          <p:cNvSpPr/>
          <p:nvPr/>
        </p:nvSpPr>
        <p:spPr>
          <a:xfrm>
            <a:off x="2771640" y="4149720"/>
            <a:ext cx="1729080" cy="129528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472200" y="42181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680400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"/>
          <p:cNvSpPr/>
          <p:nvPr/>
        </p:nvSpPr>
        <p:spPr>
          <a:xfrm>
            <a:off x="788508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1"/>
          <p:cNvSpPr/>
          <p:nvPr/>
        </p:nvSpPr>
        <p:spPr>
          <a:xfrm>
            <a:off x="6804000" y="3429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6804000" y="4005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6804000" y="45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6804000" y="5229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771640" y="4149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195640" y="42908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5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1835280" y="5445000"/>
            <a:ext cx="381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3543480" y="53704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рхность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6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На какое расстояние надо отодвинуть от стены дома нижний конец лестницы длиною 17м, чтобы верхний конец её достал до слухового окна, находящегося на высоте 15м от поверхности зем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2960" y="2286000"/>
            <a:ext cx="7696080" cy="31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Дано: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▲АВ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АВ=17м, АС=15м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Найти: С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124000" y="2924280"/>
            <a:ext cx="2879640" cy="280980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824200" y="400212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3419640" y="530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1744560" y="544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5003640" y="5445000"/>
            <a:ext cx="3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5364000" y="342900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1960560" y="2346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403640" y="4365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5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pokb41668"/>
          <p:cNvPicPr/>
          <p:nvPr/>
        </p:nvPicPr>
        <p:blipFill>
          <a:blip r:embed="rId1"/>
          <a:stretch/>
        </p:blipFill>
        <p:spPr>
          <a:xfrm>
            <a:off x="5796000" y="3933720"/>
            <a:ext cx="3024000" cy="2644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а древних индус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331640" y="1479600"/>
            <a:ext cx="690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д озером тихим,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 полфута размером, высился лотоса цвет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н рос одиноко. И ветер порывом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нес его в сторону. Нет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оле цветка над водой,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шел же рыбак его ранней весной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двух футах от места, где рос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так, предложу я вопрос: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 озера вода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десь глубока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359240" y="5493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755640" y="1484280"/>
            <a:ext cx="3600360" cy="3959280"/>
            <a:chOff x="755640" y="1484280"/>
            <a:chExt cx="3600360" cy="3959280"/>
          </a:xfrm>
        </p:grpSpPr>
        <p:sp>
          <p:nvSpPr>
            <p:cNvPr id="411" name="Line 4"/>
            <p:cNvSpPr/>
            <p:nvPr/>
          </p:nvSpPr>
          <p:spPr>
            <a:xfrm>
              <a:off x="1474920" y="1916280"/>
              <a:ext cx="0" cy="3527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755640" y="1916280"/>
              <a:ext cx="3600360" cy="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 flipV="1">
              <a:off x="1474920" y="1916280"/>
              <a:ext cx="1655640" cy="3519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1053000" y="3159000"/>
              <a:ext cx="38340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2010240" y="1484280"/>
              <a:ext cx="34992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2369160" y="3284640"/>
              <a:ext cx="115596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 + 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523520"/>
            <a:ext cx="7804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овторить теорему Пифагор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рименять теорему Пифагора при решении  простейших задач геометр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Рассмотреть исторические зада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Рассмотреть решение некоторых задач учебного пособ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4140360" y="2924280"/>
            <a:ext cx="478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а берегу реки рос тополь одинок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друг ветра порыв его ствол надлом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Бедный тополь упал. И угол пря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 теченьем реки его ствол составля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помни теперь, что в том месте р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 четыре лишь фута была ши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ерхушка склонилась у края ре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Осталось три фута всего от ствол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Прошу тебя, скоро теперь мне скаж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У тополя как велика высо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5"/>
          <p:cNvGrpSpPr/>
          <p:nvPr/>
        </p:nvGrpSpPr>
        <p:grpSpPr>
          <a:xfrm>
            <a:off x="1258920" y="260280"/>
            <a:ext cx="2760120" cy="3673080"/>
            <a:chOff x="1258920" y="260280"/>
            <a:chExt cx="2760120" cy="3673080"/>
          </a:xfrm>
        </p:grpSpPr>
        <p:pic>
          <p:nvPicPr>
            <p:cNvPr id="419" name="Picture 6" descr=""/>
            <p:cNvPicPr/>
            <p:nvPr/>
          </p:nvPicPr>
          <p:blipFill>
            <a:blip r:embed="rId1">
              <a:lum contrast="54000"/>
            </a:blip>
            <a:srcRect l="5778" t="0" r="11178" b="6921"/>
            <a:stretch/>
          </p:blipFill>
          <p:spPr>
            <a:xfrm>
              <a:off x="1258920" y="260280"/>
              <a:ext cx="2760120" cy="3673080"/>
            </a:xfrm>
            <a:prstGeom prst="rect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420" name="Rectangle 7"/>
            <p:cNvSpPr/>
            <p:nvPr/>
          </p:nvSpPr>
          <p:spPr>
            <a:xfrm>
              <a:off x="2948400" y="3558240"/>
              <a:ext cx="939600" cy="3751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8"/>
          <p:cNvSpPr/>
          <p:nvPr/>
        </p:nvSpPr>
        <p:spPr>
          <a:xfrm>
            <a:off x="4425120" y="333360"/>
            <a:ext cx="4257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Задача индий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математика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XII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ве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Бхаскари: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157280" y="476280"/>
            <a:ext cx="446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ш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дачи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Бхаскари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1476360" y="1413000"/>
            <a:ext cx="0" cy="39607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1476360" y="5373720"/>
            <a:ext cx="29512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1476360" y="3716280"/>
            <a:ext cx="2374920" cy="165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5289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203364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2555640" y="4365720"/>
            <a:ext cx="21564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1258560" y="292428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066760" y="356220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491240" cy="21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Решив задачи,  узнаете, какой стиль  архитектуры использовался в Древнем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Египте при строительстве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Содержимое 4" descr="F:\data\articles\50\5031\503174\img8.jpg"/>
          <p:cNvPicPr/>
          <p:nvPr/>
        </p:nvPicPr>
        <p:blipFill>
          <a:blip r:embed="rId1"/>
          <a:stretch/>
        </p:blipFill>
        <p:spPr>
          <a:xfrm>
            <a:off x="1714680" y="1714680"/>
            <a:ext cx="7000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971640" y="1484280"/>
          <a:ext cx="7073640" cy="1309680"/>
        </p:xfrm>
        <a:graphic>
          <a:graphicData uri="http://schemas.openxmlformats.org/drawingml/2006/table">
            <a:tbl>
              <a:tblPr/>
              <a:tblGrid>
                <a:gridCol w="1247760"/>
                <a:gridCol w="1249200"/>
                <a:gridCol w="830520"/>
                <a:gridCol w="1249200"/>
                <a:gridCol w="1247760"/>
                <a:gridCol w="12492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42920" y="3357720"/>
          <a:ext cx="6842160" cy="1366560"/>
        </p:xfrm>
        <a:graphic>
          <a:graphicData uri="http://schemas.openxmlformats.org/drawingml/2006/table">
            <a:tbl>
              <a:tblPr/>
              <a:tblGrid>
                <a:gridCol w="1247760"/>
                <a:gridCol w="1249560"/>
                <a:gridCol w="598320"/>
                <a:gridCol w="1249560"/>
                <a:gridCol w="1247760"/>
                <a:gridCol w="124920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1158840" y="1504800"/>
            <a:ext cx="7845480" cy="5127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5"/>
          <p:cNvSpPr/>
          <p:nvPr/>
        </p:nvSpPr>
        <p:spPr>
          <a:xfrm>
            <a:off x="1311120" y="42908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Рисунок 17" descr="F:\data\articles\50\5031\503174\img9.jpg"/>
          <p:cNvPicPr/>
          <p:nvPr/>
        </p:nvPicPr>
        <p:blipFill>
          <a:blip r:embed="rId2"/>
          <a:stretch/>
        </p:blipFill>
        <p:spPr>
          <a:xfrm>
            <a:off x="2571840" y="1643040"/>
            <a:ext cx="52149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15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ить п.48 - 5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5» - задача №49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4» - задача №49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3» -задача №484 (а, г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Picture 4" descr="9L5"/>
          <p:cNvPicPr/>
          <p:nvPr/>
        </p:nvPicPr>
        <p:blipFill>
          <a:blip r:embed="rId1"/>
          <a:stretch/>
        </p:blipFill>
        <p:spPr>
          <a:xfrm rot="16200000">
            <a:off x="4721040" y="3722400"/>
            <a:ext cx="8461440" cy="3841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5">
            <a:hlinkClick r:id="rId2" action="ppaction://hlinksldjump"/>
          </p:cNvPr>
          <p:cNvSpPr/>
          <p:nvPr/>
        </p:nvSpPr>
        <p:spPr>
          <a:xfrm>
            <a:off x="0" y="6165720"/>
            <a:ext cx="684360" cy="358920"/>
          </a:xfrm>
          <a:custGeom>
            <a:avLst/>
            <a:gdLst>
              <a:gd name="textAreaLeft" fmla="*/ 23040 w 684360"/>
              <a:gd name="textAreaRight" fmla="*/ 661320 w 684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1166" h="21600">
                <a:moveTo>
                  <a:pt x="0" y="0"/>
                </a:moveTo>
                <a:lnTo>
                  <a:pt x="41166" y="0"/>
                </a:lnTo>
                <a:lnTo>
                  <a:pt x="41166" y="21600"/>
                </a:lnTo>
                <a:lnTo>
                  <a:pt x="0" y="21600"/>
                </a:lnTo>
                <a:close/>
              </a:path>
              <a:path fill="lightenLess" w="41166" h="21600">
                <a:moveTo>
                  <a:pt x="0" y="0"/>
                </a:moveTo>
                <a:lnTo>
                  <a:pt x="41166" y="0"/>
                </a:lnTo>
                <a:lnTo>
                  <a:pt x="39766" y="1400"/>
                </a:lnTo>
                <a:lnTo>
                  <a:pt x="1400" y="1400"/>
                </a:lnTo>
                <a:close/>
              </a:path>
              <a:path fill="darken" w="41166" h="21600">
                <a:moveTo>
                  <a:pt x="41166" y="0"/>
                </a:moveTo>
                <a:lnTo>
                  <a:pt x="41166" y="21600"/>
                </a:lnTo>
                <a:lnTo>
                  <a:pt x="39766" y="20200"/>
                </a:lnTo>
                <a:lnTo>
                  <a:pt x="39766" y="1400"/>
                </a:lnTo>
                <a:close/>
              </a:path>
              <a:path fill="darkenLess" w="41166" h="21600">
                <a:moveTo>
                  <a:pt x="41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66" y="20200"/>
                </a:lnTo>
                <a:close/>
              </a:path>
              <a:path fill="lighten" w="41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66" h="21600">
                <a:moveTo>
                  <a:pt x="13576" y="3794"/>
                </a:moveTo>
                <a:lnTo>
                  <a:pt x="27589" y="10800"/>
                </a:lnTo>
                <a:lnTo>
                  <a:pt x="13576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8" descr="AG00319_"/>
          <p:cNvPicPr/>
          <p:nvPr/>
        </p:nvPicPr>
        <p:blipFill>
          <a:blip r:embed="rId3"/>
          <a:stretch/>
        </p:blipFill>
        <p:spPr>
          <a:xfrm>
            <a:off x="4876920" y="3975120"/>
            <a:ext cx="210636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00ff"/>
          </a:solidFill>
          <a:ln w="9360">
            <a:solidFill>
              <a:srgbClr val="66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1fa7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повторил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узнал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научилс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971640" y="33336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чертежей, сопровождающих теорему Пифагора, учащиеся называли ее так же “ветряной мельницей”, составляли стихи вроде “Пифагоровы штаны на все стороны равны”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4" descr="9L5"/>
          <p:cNvPicPr/>
          <p:nvPr/>
        </p:nvPicPr>
        <p:blipFill>
          <a:blip r:embed="rId1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9L5"/>
          <p:cNvPicPr/>
          <p:nvPr/>
        </p:nvPicPr>
        <p:blipFill>
          <a:blip r:embed="rId2"/>
          <a:stretch/>
        </p:blipFill>
        <p:spPr>
          <a:xfrm rot="16200000">
            <a:off x="4739400" y="2624760"/>
            <a:ext cx="8424720" cy="38412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1"/>
          <p:cNvGrpSpPr/>
          <p:nvPr/>
        </p:nvGrpSpPr>
        <p:grpSpPr>
          <a:xfrm>
            <a:off x="1116000" y="1844640"/>
            <a:ext cx="4038480" cy="3638880"/>
            <a:chOff x="1116000" y="1844640"/>
            <a:chExt cx="4038480" cy="3638880"/>
          </a:xfrm>
        </p:grpSpPr>
        <p:pic>
          <p:nvPicPr>
            <p:cNvPr id="451" name="Picture 8" descr=""/>
            <p:cNvPicPr/>
            <p:nvPr/>
          </p:nvPicPr>
          <p:blipFill>
            <a:blip r:embed="rId3"/>
            <a:stretch/>
          </p:blipFill>
          <p:spPr>
            <a:xfrm>
              <a:off x="1116000" y="1844640"/>
              <a:ext cx="403848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9"/>
            <p:cNvSpPr/>
            <p:nvPr/>
          </p:nvSpPr>
          <p:spPr>
            <a:xfrm>
              <a:off x="1187280" y="5084640"/>
              <a:ext cx="38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Шаржи из учебника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VI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ве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12"/>
          <p:cNvGrpSpPr/>
          <p:nvPr/>
        </p:nvGrpSpPr>
        <p:grpSpPr>
          <a:xfrm>
            <a:off x="5292720" y="1700280"/>
            <a:ext cx="3457440" cy="4575600"/>
            <a:chOff x="5292720" y="1700280"/>
            <a:chExt cx="3457440" cy="4575600"/>
          </a:xfrm>
        </p:grpSpPr>
        <p:pic>
          <p:nvPicPr>
            <p:cNvPr id="454" name="Picture 7" descr=""/>
            <p:cNvPicPr/>
            <p:nvPr/>
          </p:nvPicPr>
          <p:blipFill>
            <a:blip r:embed="rId4"/>
            <a:stretch/>
          </p:blipFill>
          <p:spPr>
            <a:xfrm>
              <a:off x="5292720" y="1700280"/>
              <a:ext cx="32828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10"/>
            <p:cNvSpPr/>
            <p:nvPr/>
          </p:nvSpPr>
          <p:spPr>
            <a:xfrm>
              <a:off x="5292720" y="587700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ченический шарж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IX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ве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AutoShape 13">
            <a:hlinkClick r:id="rId5" action="ppaction://hlinksldjump"/>
          </p:cNvPr>
          <p:cNvSpPr/>
          <p:nvPr/>
        </p:nvSpPr>
        <p:spPr>
          <a:xfrm>
            <a:off x="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1476360" y="380880"/>
            <a:ext cx="6551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еорема Пифагора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cc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8" name="Picture 5" descr="9L5"/>
          <p:cNvPicPr/>
          <p:nvPr/>
        </p:nvPicPr>
        <p:blipFill>
          <a:blip r:embed="rId1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9L5"/>
          <p:cNvPicPr/>
          <p:nvPr/>
        </p:nvPicPr>
        <p:blipFill>
          <a:blip r:embed="rId2"/>
          <a:stretch/>
        </p:blipFill>
        <p:spPr>
          <a:xfrm rot="16200000">
            <a:off x="4181400" y="318276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7"/>
          <p:cNvSpPr/>
          <p:nvPr/>
        </p:nvSpPr>
        <p:spPr>
          <a:xfrm>
            <a:off x="2050920" y="1628640"/>
            <a:ext cx="6480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Ит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Если дан нам треугольни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И притом с прямым уг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То квадрат гипотену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Мы всегда легко найд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Катеты в квадрат возводи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Сумму степеней находим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И таким простым пут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К результату мы прид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9">
            <a:hlinkClick r:id="" action="ppaction://hlinkshowjump?jump=nextslide"/>
          </p:cNvPr>
          <p:cNvSpPr/>
          <p:nvPr/>
        </p:nvSpPr>
        <p:spPr>
          <a:xfrm>
            <a:off x="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http://festival.1september.ru/articles/551077/img4.jpg"/>
          <p:cNvPicPr/>
          <p:nvPr/>
        </p:nvPicPr>
        <p:blipFill>
          <a:blip r:embed="rId1"/>
          <a:stretch/>
        </p:blipFill>
        <p:spPr>
          <a:xfrm>
            <a:off x="928800" y="714240"/>
            <a:ext cx="7313400" cy="55803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4"/>
          <p:cNvSpPr/>
          <p:nvPr/>
        </p:nvSpPr>
        <p:spPr>
          <a:xfrm>
            <a:off x="1857240" y="3714840"/>
            <a:ext cx="3857760" cy="13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шно усвоил теорему  Пифагора, выполнил все задания, стал участником открытого урока и еще раз убедился в связи математики с другими нау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332000" y="333360"/>
            <a:ext cx="7488000" cy="5182920"/>
            <a:chOff x="1332000" y="333360"/>
            <a:chExt cx="7488000" cy="5182920"/>
          </a:xfrm>
        </p:grpSpPr>
        <p:sp>
          <p:nvSpPr>
            <p:cNvPr id="288" name="AutoShape 3"/>
            <p:cNvSpPr/>
            <p:nvPr/>
          </p:nvSpPr>
          <p:spPr>
            <a:xfrm>
              <a:off x="1332000" y="333360"/>
              <a:ext cx="7488000" cy="5182920"/>
            </a:xfrm>
            <a:prstGeom prst="horizontalScroll">
              <a:avLst>
                <a:gd name="adj" fmla="val 12500"/>
              </a:avLst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1967040" y="1136880"/>
              <a:ext cx="68526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«Геометрия владеет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двумя сокровищами: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одно из них –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это теорема Пифагора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5"/>
          <p:cNvGrpSpPr/>
          <p:nvPr/>
        </p:nvGrpSpPr>
        <p:grpSpPr>
          <a:xfrm>
            <a:off x="5148360" y="5084640"/>
            <a:ext cx="3384360" cy="863640"/>
            <a:chOff x="5148360" y="5084640"/>
            <a:chExt cx="3384360" cy="863640"/>
          </a:xfrm>
        </p:grpSpPr>
        <p:sp>
          <p:nvSpPr>
            <p:cNvPr id="291" name="AutoShape 6"/>
            <p:cNvSpPr/>
            <p:nvPr/>
          </p:nvSpPr>
          <p:spPr>
            <a:xfrm>
              <a:off x="5148360" y="5084640"/>
              <a:ext cx="3384360" cy="863640"/>
            </a:xfrm>
            <a:custGeom>
              <a:avLst/>
              <a:gdLst>
                <a:gd name="textAreaLeft" fmla="*/ 529920 w 3384360"/>
                <a:gd name="textAreaRight" fmla="*/ 2854440 w 3384360"/>
                <a:gd name="textAreaTop" fmla="*/ 216000 h 863640"/>
                <a:gd name="textAreaBottom" fmla="*/ 814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621244"/>
                  <a:lnTo>
                    <a:pt x="3384" y="20375"/>
                  </a:lnTo>
                  <a:arcTo wR="21600" hR="20153" stAng="6683712" swAng="-2567424"/>
                  <a:lnTo>
                    <a:pt x="18216" y="17675"/>
                  </a:lnTo>
                  <a:arcTo wR="21600" hR="20153" stAng="4116288" swAng="-62124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095882"/>
                  <a:lnTo>
                    <a:pt x="15516" y="4914"/>
                  </a:lnTo>
                  <a:arcTo wR="21600" hR="20153" stAng="4590926" swAng="1618148"/>
                  <a:lnTo>
                    <a:pt x="6084" y="2214"/>
                  </a:lnTo>
                  <a:arcTo wR="21600" hR="20153" stAng="6209074" swAng="1095882"/>
                  <a:lnTo>
                    <a:pt x="2700" y="9329"/>
                  </a:lnTo>
                  <a:close/>
                </a:path>
                <a:path fill="none" w="21600" h="21600">
                  <a:moveTo>
                    <a:pt x="6084" y="4914"/>
                  </a:moveTo>
                  <a:arcTo wR="21600" hR="20153" stAng="6209074" swAng="474638"/>
                  <a:lnTo>
                    <a:pt x="6084" y="2214"/>
                  </a:lnTo>
                </a:path>
                <a:path fill="none" w="21600" h="21600">
                  <a:moveTo>
                    <a:pt x="15516" y="4914"/>
                  </a:moveTo>
                  <a:arcTo wR="21600" hR="20153" stAng="4590926" swAng="-474638"/>
                  <a:lnTo>
                    <a:pt x="15516" y="2214"/>
                  </a:lnTo>
                </a:path>
                <a:path fill="none" w="21600" h="21600">
                  <a:moveTo>
                    <a:pt x="3384" y="17675"/>
                  </a:moveTo>
                  <a:lnTo>
                    <a:pt x="3384" y="4175"/>
                  </a:lnTo>
                </a:path>
                <a:path fill="none" w="21600" h="21600">
                  <a:moveTo>
                    <a:pt x="18216" y="17675"/>
                  </a:moveTo>
                  <a:lnTo>
                    <a:pt x="18216" y="4175"/>
                  </a:lnTo>
                </a:path>
              </a:pathLst>
            </a:cu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7"/>
            <p:cNvSpPr/>
            <p:nvPr/>
          </p:nvSpPr>
          <p:spPr>
            <a:xfrm>
              <a:off x="5725440" y="537192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00"/>
                  </a:solidFill>
                  <a:latin typeface="Arial"/>
                </a:rPr>
                <a:t>Иоганн Кепл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11040" y="654840"/>
            <a:ext cx="8486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дите стороны ромба, если его диагонали равны 24 см и 18 с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периметр прямоугольника, одна сторона которого равна 9 см, а диагонал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5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Стороны прямоугольника 8 см и 15 см. Найдите его диагона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внобокой трапеции основания равны 8 см и 14 см, боковая сторон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5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ысоту трапе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ысота равнобедренного треугольника равна 20 см, а его основ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30 с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боковую сторону данн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.Сторона равностороннего треугольника равна 18√3см. Найдите биссектрису эт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17160" y="2865960"/>
            <a:ext cx="8925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и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метр равнобедренного треугольника равен 24 дм, боковая сторона меньше основания на 1.5 д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ысоту эт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 окружность, радиус которой равен 17 см, вписан прямоугольник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стороны этого прямоугольника, если отношение их равно 15: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 сторонах прямоугольного треугольника АВС построены квадраты, причём S3+S2=1252 с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S1= 100 с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ериметр треугольника АВС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332000" y="1628640"/>
            <a:ext cx="748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Без преувеличения можно сказать, что его теорема самая известная теорема геометрии, ибо о ней знает подавляющее большинство населения планеты, хотя доказать ее способна лишь очень незначительная его ч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26920" y="400536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258920" y="404640"/>
            <a:ext cx="7489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 чем же причина такой популяр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Теоремы Пифагора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154880" y="206064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Знатоки утверждают, что причин здесь т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781440" y="390672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) красота,</a:t>
            </a:r>
            <a:r>
              <a:rPr b="0" lang="ru-RU" sz="1800" spc="-1" strike="noStrike">
                <a:solidFill>
                  <a:srgbClr val="a30cb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21440" y="297036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а) простот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92360" y="494172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) значимость в практическо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римене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mg5"/>
          <p:cNvPicPr/>
          <p:nvPr/>
        </p:nvPicPr>
        <p:blipFill>
          <a:blip r:embed="rId1"/>
          <a:stretch/>
        </p:blipFill>
        <p:spPr>
          <a:xfrm>
            <a:off x="928800" y="1428840"/>
            <a:ext cx="7397640" cy="129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img6"/>
          <p:cNvPicPr/>
          <p:nvPr/>
        </p:nvPicPr>
        <p:blipFill>
          <a:blip r:embed="rId2"/>
          <a:stretch/>
        </p:blipFill>
        <p:spPr>
          <a:xfrm>
            <a:off x="1214280" y="3357720"/>
            <a:ext cx="6915240" cy="16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 flipV="1" rot="10800000">
            <a:off x="428400" y="1887120"/>
            <a:ext cx="90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нуза больше ка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острых углов прямоугольного треугольника равна 18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ь прямоугольного треугольника с катетам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числяется по формул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ab/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ма Пифагора верна для всех равнобедренных треугольн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ямоугольном треугольнике катет, лежащий напротив угла 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вен половине гипотенуз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квадратов катетов равна квадрату гипотенуз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драт катета равен разности квадратов гипотенузы и второго ка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а треугольника равна сумме двух других сторо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1581840" y="645840"/>
            <a:ext cx="592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ы согласны с утвержден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отив соответствующего номера вопроса поставь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 согласны, то поставь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–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276720" y="260280"/>
            <a:ext cx="5398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Формулировка Пифаг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лощадь квадрата, построенного на гипотенузе прямоугольного треуголь-ника, равна сумме площадей квадратов, построенных на его катетах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-8640" y="2491920"/>
            <a:ext cx="3984120" cy="3744720"/>
            <a:chOff x="-8640" y="2491920"/>
            <a:chExt cx="3984120" cy="3744720"/>
          </a:xfrm>
        </p:grpSpPr>
        <p:sp>
          <p:nvSpPr>
            <p:cNvPr id="306" name="Rectangle 4"/>
            <p:cNvSpPr/>
            <p:nvPr/>
          </p:nvSpPr>
          <p:spPr>
            <a:xfrm>
              <a:off x="970200" y="2492280"/>
              <a:ext cx="2018160" cy="176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 rot="18957600">
              <a:off x="1269720" y="3591360"/>
              <a:ext cx="1419840" cy="131976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 rot="2727000">
              <a:off x="300240" y="4484160"/>
              <a:ext cx="1319400" cy="141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 rot="2727000">
              <a:off x="2258640" y="4529520"/>
              <a:ext cx="1428120" cy="140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>
              <a:off x="0" y="5205600"/>
              <a:ext cx="186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>
              <a:off x="1942200" y="5235120"/>
              <a:ext cx="201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970200" y="2492280"/>
              <a:ext cx="1981800" cy="171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 flipV="1">
              <a:off x="970200" y="2491920"/>
              <a:ext cx="2018160" cy="175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5435640" y="2912760"/>
            <a:ext cx="3457440" cy="15562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с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 </a:t>
            </a: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=а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+</a:t>
            </a:r>
            <a:r>
              <a:rPr b="1" lang="en-US" sz="4800" spc="-1" strike="noStrike">
                <a:solidFill>
                  <a:srgbClr val="990000"/>
                </a:solidFill>
                <a:latin typeface="Tahoma"/>
              </a:rPr>
              <a:t>b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4067280" y="4292640"/>
            <a:ext cx="50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Современная формулировка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В прямоугольном треу-гольнике квадрат гипотенузы равен сумме квадратов кат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3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4"/>
          <p:cNvSpPr/>
          <p:nvPr/>
        </p:nvSpPr>
        <p:spPr>
          <a:xfrm rot="20047200">
            <a:off x="2044800" y="2830680"/>
            <a:ext cx="4489200" cy="2342880"/>
          </a:xfrm>
          <a:prstGeom prst="rtTriangle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2627280" y="5660640"/>
            <a:ext cx="289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2916360" y="56610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635120" y="349092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465640" y="587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6713280" y="3570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8:11:07Z</dcterms:created>
  <dc:creator>Труханова Алёна, Чучуй Л.А.</dc:creator>
  <dc:description/>
  <dc:language>en-US</dc:language>
  <cp:lastModifiedBy>Virus</cp:lastModifiedBy>
  <dcterms:modified xsi:type="dcterms:W3CDTF">2010-12-18T18:10:15Z</dcterms:modified>
  <cp:revision>44</cp:revision>
  <dc:subject/>
  <dc:title>Теорема Пифагора</dc:title>
</cp:coreProperties>
</file>