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1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wind.wav" ContentType="audio/x-wav"/>
  <Override PartName="/ppt/media/image5.wmf" ContentType="image/x-wmf"/>
  <Override PartName="/ppt/media/image6.png" ContentType="image/png"/>
  <Override PartName="/ppt/media/image2.jpeg" ContentType="image/jpeg"/>
  <Override PartName="/ppt/media/image7.png" ContentType="image/png"/>
  <Override PartName="/ppt/media/image9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BAB-A8FC-4430-B1FB-7C6D2151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DC2-0542-4928-98F8-C4CE68D9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6BA-988C-4E94-B1EC-08AB2D77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F8D-8E92-4F89-BF69-0D4844F5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8E71-BCE9-4C9D-8730-29B67C2F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A2C0-517A-489A-ABB4-14EAFE8C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CDF2-DE59-4133-A325-709F2158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ECAF-96E9-4852-B0E3-05A37194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CB83-40F5-4D77-B84F-28DD8204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58C8-AE26-4F0A-BF3A-F26E4A71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EA93-1AF5-4AF4-A5D0-F1D5F576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A56-911E-4174-BA6E-40A9B052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A57D-D585-4073-A3DB-C05347DD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F1F2-314D-43AC-83EC-9B918B40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E416-0840-4C8F-94C1-A405CC82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40E9-872E-47EE-90D0-5CA22AC2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B8A1-1B15-4F6D-BABB-3A2F4EF0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CC41C-F182-4588-8912-726AB5BC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CD53-EB5F-4623-A0B1-97C87C6F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149D-21A5-4A34-B2ED-FCAE011F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2E8F-C5C4-4F77-8A88-A7216928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E500-250D-4D94-893D-45BE0E06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C51-C45C-410B-ABAA-1A3147F4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71CC2-A3DE-43A9-BFA1-7832B373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2B468-850A-481E-978A-6FE3B2ED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BE709-F5F9-4671-B5D4-435F5153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17E49-BD22-4550-B122-6D59B08C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06326-8EF5-4D30-BB48-2C7959DA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D94F1-02B6-4B7E-8C1A-8E9A7250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83DF8-3E2D-49DE-9E12-0D11E658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99D6A-8283-4D20-A480-D0473BBC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93C72-AA44-4D83-8D0F-5CC89BAB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A899E-5A7F-47C7-8B58-89942A94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9D7-CAE6-477E-83B7-E262BCFF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92B1A-FB4E-489E-9D44-FCBBD59E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AD0CB-3ACB-4107-925B-0166B282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54726-DC47-412B-952F-D3F971F1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48C0B-137B-46F5-8C5E-76AB0064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BBBC5-186A-4777-827A-E86C8833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CAD6B-C2BD-4F60-8DD5-E6FCCDFC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9E5C9-9821-4BB0-B53D-BAECC830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3B6C1-54F7-41F5-AAE7-87159EF2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210EB-8821-46F7-B930-353AEF83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003-3BD6-4393-BD06-4A43CB55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9A9-95B0-4A3A-AB83-67662595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ADB-A88D-43E2-B9AA-84D9EE70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DEC-0A16-4459-BC7D-0E375A57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0B4-3C56-4E70-A476-1D5FC9DA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95DB-9E17-423B-A9DE-AB3E3E7DCBD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AB23-DBD9-4FE8-B48D-97CE3CC401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3BAF-D0CB-4E4E-B51A-06DF1CEBE4C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93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223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225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226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227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1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36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0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AE7A-D74E-4C90-B302-D66225ED43E6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3.xm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56000" y="1484280"/>
            <a:ext cx="6253200" cy="1944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Теорема Пифагора и ее применение при решении зада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907640" y="3644640"/>
            <a:ext cx="7083720" cy="17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Урок обобщения и закреплени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ны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00120" y="1523880"/>
            <a:ext cx="7491600" cy="51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Записать теорему Пифагора для треуголь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4"/>
          <p:cNvSpPr/>
          <p:nvPr/>
        </p:nvSpPr>
        <p:spPr>
          <a:xfrm rot="10800000">
            <a:off x="2124000" y="3141360"/>
            <a:ext cx="4608720" cy="2158920"/>
          </a:xfrm>
          <a:prstGeom prst="pie">
            <a:avLst/>
          </a:prstGeom>
          <a:solidFill>
            <a:srgbClr val="ffef66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3276720" y="3141720"/>
            <a:ext cx="1150920" cy="2158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5580000" y="3141720"/>
            <a:ext cx="0" cy="2158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5580000" y="5084640"/>
            <a:ext cx="144360" cy="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"/>
          <p:cNvSpPr/>
          <p:nvPr/>
        </p:nvSpPr>
        <p:spPr>
          <a:xfrm>
            <a:off x="5724360" y="5084640"/>
            <a:ext cx="0" cy="21600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744560" y="508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2897640" y="2706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5508720" y="270828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6787080" y="5010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5510160" y="5346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4336560" y="52992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ны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Записать теорему Пифагора для треуголь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                              </a:t>
            </a: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АВС</a:t>
            </a:r>
            <a:r>
              <a:rPr b="0" lang="en-US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D</a:t>
            </a:r>
            <a:r>
              <a:rPr b="0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– ром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1763640" y="2781360"/>
            <a:ext cx="1944720" cy="3240000"/>
          </a:xfrm>
          <a:prstGeom prst="diamond">
            <a:avLst/>
          </a:prstGeom>
          <a:solidFill>
            <a:srgbClr val="ffef66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1763640" y="4437000"/>
            <a:ext cx="194472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2700360" y="2781360"/>
            <a:ext cx="71280" cy="324000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1385640" y="4218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2771640" y="2565360"/>
            <a:ext cx="2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3760560" y="4290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2700360" y="5877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2411280" y="4437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ны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42960" y="1856880"/>
            <a:ext cx="76960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Записать теорему Пифагора для треуголь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857240" y="2928960"/>
            <a:ext cx="3313080" cy="1728720"/>
          </a:xfrm>
          <a:prstGeom prst="rect">
            <a:avLst/>
          </a:prstGeom>
          <a:solidFill>
            <a:srgbClr val="ffef66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7"/>
          <p:cNvSpPr/>
          <p:nvPr/>
        </p:nvSpPr>
        <p:spPr>
          <a:xfrm>
            <a:off x="1857240" y="2928960"/>
            <a:ext cx="3313080" cy="17287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1672920" y="4651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1673640" y="26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5273640" y="2633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5292720" y="465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ны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Записать теорему Пифагора для треугольник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AutoShape 4"/>
          <p:cNvSpPr/>
          <p:nvPr/>
        </p:nvSpPr>
        <p:spPr>
          <a:xfrm>
            <a:off x="1403280" y="3141720"/>
            <a:ext cx="4105440" cy="2158920"/>
          </a:xfrm>
          <a:prstGeom prst="parallelogram">
            <a:avLst>
              <a:gd name="adj" fmla="val 47540"/>
            </a:avLst>
          </a:prstGeom>
          <a:solidFill>
            <a:srgbClr val="ffef66"/>
          </a:solidFill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5"/>
          <p:cNvSpPr/>
          <p:nvPr/>
        </p:nvSpPr>
        <p:spPr>
          <a:xfrm>
            <a:off x="2411280" y="3141720"/>
            <a:ext cx="2089440" cy="215892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1312560" y="529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2105280" y="2706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5489280" y="2778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4481280" y="5222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 flipH="1" flipV="1">
            <a:off x="2050560" y="4005360"/>
            <a:ext cx="2449800" cy="129528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1"/>
          <p:cNvSpPr/>
          <p:nvPr/>
        </p:nvSpPr>
        <p:spPr>
          <a:xfrm>
            <a:off x="2124000" y="3860640"/>
            <a:ext cx="14436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2"/>
          <p:cNvSpPr/>
          <p:nvPr/>
        </p:nvSpPr>
        <p:spPr>
          <a:xfrm flipH="1">
            <a:off x="2195640" y="3933720"/>
            <a:ext cx="727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1744920" y="3643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875720" cy="1143000"/>
          </a:xfrm>
          <a:prstGeom prst="rect">
            <a:avLst/>
          </a:prstGeom>
          <a:noFill/>
          <a:ln w="57240">
            <a:solidFill>
              <a:srgbClr val="00b2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Алгоритм решения задач с применением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5640" y="1523520"/>
            <a:ext cx="7875720" cy="5000760"/>
          </a:xfrm>
          <a:prstGeom prst="rect">
            <a:avLst/>
          </a:prstGeom>
          <a:noFill/>
          <a:ln w="57240">
            <a:solidFill>
              <a:srgbClr val="00b2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</a:rPr>
              <a:t>Указать прямоугольный треугольник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</a:rPr>
              <a:t>Записать для него теорему Пифагора;  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с</a:t>
            </a:r>
            <a:r>
              <a:rPr b="0" i="1" lang="ru-RU" sz="3200" spc="-1" strike="noStrike" baseline="30000">
                <a:solidFill>
                  <a:srgbClr val="0000ff"/>
                </a:solidFill>
                <a:latin typeface="Comic Sans MS"/>
              </a:rPr>
              <a:t>2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= а</a:t>
            </a:r>
            <a:r>
              <a:rPr b="0" i="1" lang="ru-RU" sz="32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i="1" lang="en-US" sz="3200" spc="-1" strike="noStrike">
                <a:solidFill>
                  <a:srgbClr val="0000ff"/>
                </a:solidFill>
                <a:latin typeface="Comic Sans MS"/>
                <a:ea typeface="Arial"/>
              </a:rPr>
              <a:t>b</a:t>
            </a:r>
            <a:r>
              <a:rPr b="0" i="1" lang="ru-RU" sz="32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</a:rPr>
              <a:t>Выразить неизвестную сторону через две друг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</a:rPr>
              <a:t>Подставив известные значения, вычислить неизвестную сторон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7740720" y="1844640"/>
            <a:ext cx="1079280" cy="187164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8102520" y="36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7451640" y="270828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8226720" y="23176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Найти катет прямоугольного треугольника, лежащий против угла 60</a:t>
            </a:r>
            <a:r>
              <a:rPr b="1" lang="ru-RU" sz="3200" spc="-1" strike="noStrike" baseline="30000">
                <a:solidFill>
                  <a:srgbClr val="990000"/>
                </a:solidFill>
                <a:latin typeface="Comic Sans MS"/>
              </a:rPr>
              <a:t>0</a:t>
            </a: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, если гипотенуза равна  </a:t>
            </a:r>
            <a:r>
              <a:rPr b="1" i="1" lang="ru-RU" sz="3200" spc="-1" strike="noStrike">
                <a:solidFill>
                  <a:srgbClr val="99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743960" cy="42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</a:rPr>
              <a:t>Дано: 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▲АВС, </a:t>
            </a:r>
            <a:r>
              <a:rPr b="0" i="1" lang="en-US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&lt;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С = 90</a:t>
            </a:r>
            <a:r>
              <a:rPr b="0" i="1" lang="ru-RU" sz="2800" spc="-1" strike="noStrike" baseline="30000">
                <a:solidFill>
                  <a:srgbClr val="990000"/>
                </a:solidFill>
                <a:latin typeface="Comic Sans MS"/>
                <a:ea typeface="Arial"/>
              </a:rPr>
              <a:t>0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    </a:t>
            </a:r>
            <a:r>
              <a:rPr b="0" i="1" lang="en-US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&lt;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С = 60</a:t>
            </a:r>
            <a:r>
              <a:rPr b="0" i="1" lang="ru-RU" sz="2800" spc="-1" strike="noStrike" baseline="30000">
                <a:solidFill>
                  <a:srgbClr val="990000"/>
                </a:solidFill>
                <a:latin typeface="Comic Sans MS"/>
                <a:ea typeface="Arial"/>
              </a:rPr>
              <a:t>0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, АВ = </a:t>
            </a:r>
            <a:r>
              <a:rPr b="0" i="1" lang="ru-RU" sz="2800" spc="-1" strike="noStrike">
                <a:solidFill>
                  <a:srgbClr val="990000"/>
                </a:solidFill>
                <a:latin typeface="Times New Roman"/>
                <a:ea typeface="Arial"/>
              </a:rPr>
              <a:t>с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Найти:  А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  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2050920" y="2421000"/>
            <a:ext cx="1584360" cy="280836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6"/>
          <p:cNvSpPr/>
          <p:nvPr/>
        </p:nvSpPr>
        <p:spPr>
          <a:xfrm>
            <a:off x="3265560" y="4941720"/>
            <a:ext cx="154080" cy="28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2700360" y="4724280"/>
            <a:ext cx="5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60</a:t>
            </a:r>
            <a:r>
              <a:rPr b="1" lang="ru-RU" sz="2000" spc="-1" strike="noStrike" baseline="30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3929040" y="292896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1744560" y="5010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1817640" y="2058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3637440" y="501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812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На какое расстояние надо отодвинуть от стены дома нижний конец лестницы длиною 17м, чтобы верхний конец её достал до слухового окна, находящегося на высоте 15м от поверхности зем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3" name="Picture 4" descr="j0185604"/>
          <p:cNvPicPr/>
          <p:nvPr/>
        </p:nvPicPr>
        <p:blipFill>
          <a:blip r:embed="rId1"/>
          <a:stretch/>
        </p:blipFill>
        <p:spPr>
          <a:xfrm>
            <a:off x="1332000" y="2924280"/>
            <a:ext cx="2232000" cy="3241440"/>
          </a:xfrm>
          <a:prstGeom prst="rect">
            <a:avLst/>
          </a:prstGeom>
          <a:ln w="0">
            <a:noFill/>
          </a:ln>
        </p:spPr>
      </p:pic>
      <p:sp>
        <p:nvSpPr>
          <p:cNvPr id="384" name="Line 5"/>
          <p:cNvSpPr/>
          <p:nvPr/>
        </p:nvSpPr>
        <p:spPr>
          <a:xfrm>
            <a:off x="2771640" y="4149720"/>
            <a:ext cx="1729080" cy="129528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3472200" y="421812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17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9"/>
          <p:cNvSpPr/>
          <p:nvPr/>
        </p:nvSpPr>
        <p:spPr>
          <a:xfrm>
            <a:off x="6804000" y="270828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"/>
          <p:cNvSpPr/>
          <p:nvPr/>
        </p:nvSpPr>
        <p:spPr>
          <a:xfrm>
            <a:off x="7885080" y="270828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1"/>
          <p:cNvSpPr/>
          <p:nvPr/>
        </p:nvSpPr>
        <p:spPr>
          <a:xfrm>
            <a:off x="6804000" y="342900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"/>
          <p:cNvSpPr/>
          <p:nvPr/>
        </p:nvSpPr>
        <p:spPr>
          <a:xfrm>
            <a:off x="6804000" y="400536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3"/>
          <p:cNvSpPr/>
          <p:nvPr/>
        </p:nvSpPr>
        <p:spPr>
          <a:xfrm>
            <a:off x="6804000" y="458136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4"/>
          <p:cNvSpPr/>
          <p:nvPr/>
        </p:nvSpPr>
        <p:spPr>
          <a:xfrm>
            <a:off x="6804000" y="522936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2771640" y="4149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2195640" y="429084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5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7"/>
          <p:cNvSpPr/>
          <p:nvPr/>
        </p:nvSpPr>
        <p:spPr>
          <a:xfrm>
            <a:off x="1835280" y="5445000"/>
            <a:ext cx="381636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3543480" y="53704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ерхность зем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6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На какое расстояние надо отодвинуть от стены дома нижний конец лестницы длиною 17м, чтобы верхний конец её достал до слухового окна, находящегося на высоте 15м от поверхности зем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42960" y="2286000"/>
            <a:ext cx="7696080" cy="31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i="1" lang="ru-RU" sz="3200" spc="-1" strike="noStrike">
                <a:solidFill>
                  <a:srgbClr val="990000"/>
                </a:solidFill>
                <a:latin typeface="Comic Sans MS"/>
              </a:rPr>
              <a:t>Дано: </a:t>
            </a: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▲АВ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  </a:t>
            </a: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АВ=17м, АС=15м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       </a:t>
            </a: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Найти: С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124000" y="2924280"/>
            <a:ext cx="2879640" cy="280980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2824200" y="4002120"/>
            <a:ext cx="81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17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3419640" y="5300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1744560" y="5443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5003640" y="5445000"/>
            <a:ext cx="3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5364000" y="342900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1960560" y="2346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1403640" y="436572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15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pokb41668"/>
          <p:cNvPicPr/>
          <p:nvPr/>
        </p:nvPicPr>
        <p:blipFill>
          <a:blip r:embed="rId1"/>
          <a:stretch/>
        </p:blipFill>
        <p:spPr>
          <a:xfrm>
            <a:off x="5796000" y="3933720"/>
            <a:ext cx="3024000" cy="26449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Задача древних индусов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1331640" y="1479600"/>
            <a:ext cx="690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д озером тихим,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 полфута размером, высился лотоса цвет.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н рос одиноко. И ветер порывом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тнес его в сторону. Нет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Боле цветка над водой,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шел же рыбак его ранней весной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 двух футах от места, где рос.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так, предложу я вопрос: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ак озера вода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десь глубока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4359240" y="5493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755640" y="1484280"/>
            <a:ext cx="3600360" cy="3959280"/>
            <a:chOff x="755640" y="1484280"/>
            <a:chExt cx="3600360" cy="3959280"/>
          </a:xfrm>
        </p:grpSpPr>
        <p:sp>
          <p:nvSpPr>
            <p:cNvPr id="411" name="Line 4"/>
            <p:cNvSpPr/>
            <p:nvPr/>
          </p:nvSpPr>
          <p:spPr>
            <a:xfrm>
              <a:off x="1474920" y="1916280"/>
              <a:ext cx="0" cy="3527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>
              <a:off x="755640" y="1916280"/>
              <a:ext cx="3600360" cy="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6"/>
            <p:cNvSpPr/>
            <p:nvPr/>
          </p:nvSpPr>
          <p:spPr>
            <a:xfrm flipV="1">
              <a:off x="1474920" y="1916280"/>
              <a:ext cx="1655640" cy="3519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7"/>
            <p:cNvSpPr/>
            <p:nvPr/>
          </p:nvSpPr>
          <p:spPr>
            <a:xfrm>
              <a:off x="1053000" y="3159000"/>
              <a:ext cx="383400" cy="459720"/>
            </a:xfrm>
            <a:prstGeom prst="rect">
              <a:avLst/>
            </a:pr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"/>
            <p:cNvSpPr/>
            <p:nvPr/>
          </p:nvSpPr>
          <p:spPr>
            <a:xfrm>
              <a:off x="2010240" y="1484280"/>
              <a:ext cx="349920" cy="459720"/>
            </a:xfrm>
            <a:prstGeom prst="rect">
              <a:avLst/>
            </a:pr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9"/>
            <p:cNvSpPr/>
            <p:nvPr/>
          </p:nvSpPr>
          <p:spPr>
            <a:xfrm>
              <a:off x="2369160" y="3284640"/>
              <a:ext cx="1155960" cy="459720"/>
            </a:xfrm>
            <a:prstGeom prst="rect">
              <a:avLst/>
            </a:pr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 + 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6920" y="1523520"/>
            <a:ext cx="7804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Повторить теорему Пифагор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Применять теорему Пифагора при решении  простейших задач геометри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Рассмотреть исторические задач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Рассмотреть решение некоторых задач учебного пособ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>
            <a:off x="4140360" y="2924280"/>
            <a:ext cx="478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На берегу реки рос тополь одинок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друг ветра порыв его ствол надлома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Бедный тополь упал. И угол прям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 теченьем реки его ствол составля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Запомни теперь, что в том месте р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 четыре лишь фута была широ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ерхушка склонилась у края ре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Осталось три фута всего от ствол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Прошу тебя, скоро теперь мне скаж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У тополя как велика высо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5"/>
          <p:cNvGrpSpPr/>
          <p:nvPr/>
        </p:nvGrpSpPr>
        <p:grpSpPr>
          <a:xfrm>
            <a:off x="1258920" y="260280"/>
            <a:ext cx="2760120" cy="3673080"/>
            <a:chOff x="1258920" y="260280"/>
            <a:chExt cx="2760120" cy="3673080"/>
          </a:xfrm>
        </p:grpSpPr>
        <p:pic>
          <p:nvPicPr>
            <p:cNvPr id="419" name="Picture 6" descr=""/>
            <p:cNvPicPr/>
            <p:nvPr/>
          </p:nvPicPr>
          <p:blipFill>
            <a:blip r:embed="rId1">
              <a:lum contrast="54000"/>
            </a:blip>
            <a:srcRect l="5778" t="0" r="11178" b="6921"/>
            <a:stretch/>
          </p:blipFill>
          <p:spPr>
            <a:xfrm>
              <a:off x="1258920" y="260280"/>
              <a:ext cx="2760120" cy="3673080"/>
            </a:xfrm>
            <a:prstGeom prst="rect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  <p:sp>
          <p:nvSpPr>
            <p:cNvPr id="420" name="Rectangle 7"/>
            <p:cNvSpPr/>
            <p:nvPr/>
          </p:nvSpPr>
          <p:spPr>
            <a:xfrm>
              <a:off x="2948400" y="3558240"/>
              <a:ext cx="939600" cy="3751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Text Box 8"/>
          <p:cNvSpPr/>
          <p:nvPr/>
        </p:nvSpPr>
        <p:spPr>
          <a:xfrm>
            <a:off x="4425120" y="333360"/>
            <a:ext cx="42577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Задача индийск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математика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XII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ве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Бхаскари: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4157280" y="476280"/>
            <a:ext cx="446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Решени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задачи </a:t>
            </a: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Бхаскари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3"/>
          <p:cNvSpPr/>
          <p:nvPr/>
        </p:nvSpPr>
        <p:spPr>
          <a:xfrm>
            <a:off x="1476360" y="1413000"/>
            <a:ext cx="0" cy="39607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>
            <a:off x="1476360" y="5373720"/>
            <a:ext cx="29512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5"/>
          <p:cNvSpPr/>
          <p:nvPr/>
        </p:nvSpPr>
        <p:spPr>
          <a:xfrm>
            <a:off x="1476360" y="3716280"/>
            <a:ext cx="2374920" cy="165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152892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2033640" y="532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8"/>
          <p:cNvSpPr/>
          <p:nvPr/>
        </p:nvSpPr>
        <p:spPr>
          <a:xfrm flipH="1">
            <a:off x="2555640" y="4365720"/>
            <a:ext cx="215640" cy="358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9"/>
          <p:cNvSpPr/>
          <p:nvPr/>
        </p:nvSpPr>
        <p:spPr>
          <a:xfrm flipH="1">
            <a:off x="1258560" y="292428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2066760" y="3562200"/>
            <a:ext cx="5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491240" cy="212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Решив задачи,  узнаете, какой стиль  архитектуры использовался в Древнем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Египте при строительстве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2" name="Содержимое 4" descr="F:\data\articles\50\5031\503174\img8.jpg"/>
          <p:cNvPicPr/>
          <p:nvPr/>
        </p:nvPicPr>
        <p:blipFill>
          <a:blip r:embed="rId1"/>
          <a:stretch/>
        </p:blipFill>
        <p:spPr>
          <a:xfrm>
            <a:off x="1714680" y="1714680"/>
            <a:ext cx="70005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971640" y="1484280"/>
          <a:ext cx="7073640" cy="1309680"/>
        </p:xfrm>
        <a:graphic>
          <a:graphicData uri="http://schemas.openxmlformats.org/drawingml/2006/table">
            <a:tbl>
              <a:tblPr/>
              <a:tblGrid>
                <a:gridCol w="1247760"/>
                <a:gridCol w="1249200"/>
                <a:gridCol w="830520"/>
                <a:gridCol w="1249200"/>
                <a:gridCol w="1247760"/>
                <a:gridCol w="12492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1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2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</a:tr>
            </a:tbl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ОТВЕТЫ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042920" y="3357720"/>
          <a:ext cx="6842160" cy="1366560"/>
        </p:xfrm>
        <a:graphic>
          <a:graphicData uri="http://schemas.openxmlformats.org/drawingml/2006/table">
            <a:tbl>
              <a:tblPr/>
              <a:tblGrid>
                <a:gridCol w="1247760"/>
                <a:gridCol w="1249560"/>
                <a:gridCol w="598320"/>
                <a:gridCol w="1249560"/>
                <a:gridCol w="1247760"/>
                <a:gridCol w="1249200"/>
              </a:tblGrid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Собор Парижской Богомате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7" name="Rectangle 3" descr=""/>
          <p:cNvPicPr/>
          <p:nvPr/>
        </p:nvPicPr>
        <p:blipFill>
          <a:blip r:embed="rId1"/>
          <a:stretch/>
        </p:blipFill>
        <p:spPr>
          <a:xfrm>
            <a:off x="1158840" y="1504800"/>
            <a:ext cx="7845480" cy="512784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15"/>
          <p:cNvSpPr/>
          <p:nvPr/>
        </p:nvSpPr>
        <p:spPr>
          <a:xfrm>
            <a:off x="1311120" y="429084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Рисунок 17" descr="F:\data\articles\50\5031\503174\img9.jpg"/>
          <p:cNvPicPr/>
          <p:nvPr/>
        </p:nvPicPr>
        <p:blipFill>
          <a:blip r:embed="rId2"/>
          <a:stretch/>
        </p:blipFill>
        <p:spPr>
          <a:xfrm>
            <a:off x="2571840" y="1643040"/>
            <a:ext cx="521496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537680" cy="15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торить п.48 - 5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5» - задача №49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4» - задача №49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3» -задача №484 (а, г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2" name="Picture 4" descr="9L5"/>
          <p:cNvPicPr/>
          <p:nvPr/>
        </p:nvPicPr>
        <p:blipFill>
          <a:blip r:embed="rId1"/>
          <a:stretch/>
        </p:blipFill>
        <p:spPr>
          <a:xfrm rot="16200000">
            <a:off x="4721040" y="3722400"/>
            <a:ext cx="8461440" cy="38412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5">
            <a:hlinkClick r:id="rId2" action="ppaction://hlinksldjump"/>
          </p:cNvPr>
          <p:cNvSpPr/>
          <p:nvPr/>
        </p:nvSpPr>
        <p:spPr>
          <a:xfrm>
            <a:off x="0" y="6165720"/>
            <a:ext cx="684360" cy="358920"/>
          </a:xfrm>
          <a:custGeom>
            <a:avLst/>
            <a:gdLst>
              <a:gd name="textAreaLeft" fmla="*/ 23040 w 684360"/>
              <a:gd name="textAreaRight" fmla="*/ 661320 w 684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1166" h="21600">
                <a:moveTo>
                  <a:pt x="0" y="0"/>
                </a:moveTo>
                <a:lnTo>
                  <a:pt x="41166" y="0"/>
                </a:lnTo>
                <a:lnTo>
                  <a:pt x="41166" y="21600"/>
                </a:lnTo>
                <a:lnTo>
                  <a:pt x="0" y="21600"/>
                </a:lnTo>
                <a:close/>
              </a:path>
              <a:path fill="lightenLess" w="41166" h="21600">
                <a:moveTo>
                  <a:pt x="0" y="0"/>
                </a:moveTo>
                <a:lnTo>
                  <a:pt x="41166" y="0"/>
                </a:lnTo>
                <a:lnTo>
                  <a:pt x="39766" y="1400"/>
                </a:lnTo>
                <a:lnTo>
                  <a:pt x="1400" y="1400"/>
                </a:lnTo>
                <a:close/>
              </a:path>
              <a:path fill="darken" w="41166" h="21600">
                <a:moveTo>
                  <a:pt x="41166" y="0"/>
                </a:moveTo>
                <a:lnTo>
                  <a:pt x="41166" y="21600"/>
                </a:lnTo>
                <a:lnTo>
                  <a:pt x="39766" y="20200"/>
                </a:lnTo>
                <a:lnTo>
                  <a:pt x="39766" y="1400"/>
                </a:lnTo>
                <a:close/>
              </a:path>
              <a:path fill="darkenLess" w="41166" h="21600">
                <a:moveTo>
                  <a:pt x="41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66" y="20200"/>
                </a:lnTo>
                <a:close/>
              </a:path>
              <a:path fill="lighten" w="41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166" h="21600">
                <a:moveTo>
                  <a:pt x="13576" y="3794"/>
                </a:moveTo>
                <a:lnTo>
                  <a:pt x="27589" y="10800"/>
                </a:lnTo>
                <a:lnTo>
                  <a:pt x="13576" y="17806"/>
                </a:lnTo>
                <a:close/>
              </a:path>
            </a:pathLst>
          </a:custGeom>
          <a:solidFill>
            <a:srgbClr val="7d4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8" descr="AG00319_"/>
          <p:cNvPicPr/>
          <p:nvPr/>
        </p:nvPicPr>
        <p:blipFill>
          <a:blip r:embed="rId3"/>
          <a:stretch/>
        </p:blipFill>
        <p:spPr>
          <a:xfrm>
            <a:off x="4876920" y="3975120"/>
            <a:ext cx="210636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00ff"/>
          </a:solidFill>
          <a:ln w="9360">
            <a:solidFill>
              <a:srgbClr val="6699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1fa7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Сегодня на уроке я повторил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Сегодня на уроке я узнал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Сегодня на уроке я научился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971640" y="333360"/>
            <a:ext cx="79930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чертежей, сопровождающих теорему Пифагора, учащиеся называли ее так же “ветряной мельницей”, составляли стихи вроде “Пифагоровы штаны на все стороны равны”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4" descr="9L5"/>
          <p:cNvPicPr/>
          <p:nvPr/>
        </p:nvPicPr>
        <p:blipFill>
          <a:blip r:embed="rId1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9L5"/>
          <p:cNvPicPr/>
          <p:nvPr/>
        </p:nvPicPr>
        <p:blipFill>
          <a:blip r:embed="rId2"/>
          <a:stretch/>
        </p:blipFill>
        <p:spPr>
          <a:xfrm rot="16200000">
            <a:off x="4739400" y="2624760"/>
            <a:ext cx="8424720" cy="384120"/>
          </a:xfrm>
          <a:prstGeom prst="rect">
            <a:avLst/>
          </a:prstGeom>
          <a:ln w="0">
            <a:noFill/>
          </a:ln>
        </p:spPr>
      </p:pic>
      <p:grpSp>
        <p:nvGrpSpPr>
          <p:cNvPr id="450" name="Group 11"/>
          <p:cNvGrpSpPr/>
          <p:nvPr/>
        </p:nvGrpSpPr>
        <p:grpSpPr>
          <a:xfrm>
            <a:off x="1116000" y="1844640"/>
            <a:ext cx="4038480" cy="3638880"/>
            <a:chOff x="1116000" y="1844640"/>
            <a:chExt cx="4038480" cy="3638880"/>
          </a:xfrm>
        </p:grpSpPr>
        <p:pic>
          <p:nvPicPr>
            <p:cNvPr id="451" name="Picture 8" descr=""/>
            <p:cNvPicPr/>
            <p:nvPr/>
          </p:nvPicPr>
          <p:blipFill>
            <a:blip r:embed="rId3"/>
            <a:stretch/>
          </p:blipFill>
          <p:spPr>
            <a:xfrm>
              <a:off x="1116000" y="1844640"/>
              <a:ext cx="4038480" cy="29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Text Box 9"/>
            <p:cNvSpPr/>
            <p:nvPr/>
          </p:nvSpPr>
          <p:spPr>
            <a:xfrm>
              <a:off x="1187280" y="5084640"/>
              <a:ext cx="38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Шаржи из учебника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VI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ве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12"/>
          <p:cNvGrpSpPr/>
          <p:nvPr/>
        </p:nvGrpSpPr>
        <p:grpSpPr>
          <a:xfrm>
            <a:off x="5292720" y="1700280"/>
            <a:ext cx="3457440" cy="4575600"/>
            <a:chOff x="5292720" y="1700280"/>
            <a:chExt cx="3457440" cy="4575600"/>
          </a:xfrm>
        </p:grpSpPr>
        <p:pic>
          <p:nvPicPr>
            <p:cNvPr id="454" name="Picture 7" descr=""/>
            <p:cNvPicPr/>
            <p:nvPr/>
          </p:nvPicPr>
          <p:blipFill>
            <a:blip r:embed="rId4"/>
            <a:stretch/>
          </p:blipFill>
          <p:spPr>
            <a:xfrm>
              <a:off x="5292720" y="1700280"/>
              <a:ext cx="32828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10"/>
            <p:cNvSpPr/>
            <p:nvPr/>
          </p:nvSpPr>
          <p:spPr>
            <a:xfrm>
              <a:off x="5292720" y="587700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Ученический шарж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IX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ве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AutoShape 13">
            <a:hlinkClick r:id="rId5" action="ppaction://hlinksldjump"/>
          </p:cNvPr>
          <p:cNvSpPr/>
          <p:nvPr/>
        </p:nvSpPr>
        <p:spPr>
          <a:xfrm>
            <a:off x="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7d4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WordArt 4"/>
          <p:cNvSpPr txBox="1"/>
          <p:nvPr/>
        </p:nvSpPr>
        <p:spPr>
          <a:xfrm>
            <a:off x="1476360" y="380880"/>
            <a:ext cx="6551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Теорема Пифагора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cc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8" name="Picture 5" descr="9L5"/>
          <p:cNvPicPr/>
          <p:nvPr/>
        </p:nvPicPr>
        <p:blipFill>
          <a:blip r:embed="rId1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9L5"/>
          <p:cNvPicPr/>
          <p:nvPr/>
        </p:nvPicPr>
        <p:blipFill>
          <a:blip r:embed="rId2"/>
          <a:stretch/>
        </p:blipFill>
        <p:spPr>
          <a:xfrm rot="16200000">
            <a:off x="4181400" y="3182760"/>
            <a:ext cx="9540720" cy="38412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7"/>
          <p:cNvSpPr/>
          <p:nvPr/>
        </p:nvSpPr>
        <p:spPr>
          <a:xfrm>
            <a:off x="2050920" y="1628640"/>
            <a:ext cx="6480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Times New Roman"/>
              </a:rPr>
              <a:t>Ита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Если дан нам треугольни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И притом с прямым угл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То квадрат гипотену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Мы всегда легко найде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Катеты в квадрат возводи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Сумму степеней находим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И таким простым пут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К результату мы прид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9">
            <a:hlinkClick r:id="" action="ppaction://hlinkshowjump?jump=nextslide"/>
          </p:cNvPr>
          <p:cNvSpPr/>
          <p:nvPr/>
        </p:nvSpPr>
        <p:spPr>
          <a:xfrm>
            <a:off x="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7d4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http://festival.1september.ru/articles/551077/img4.jpg"/>
          <p:cNvPicPr/>
          <p:nvPr/>
        </p:nvPicPr>
        <p:blipFill>
          <a:blip r:embed="rId1"/>
          <a:stretch/>
        </p:blipFill>
        <p:spPr>
          <a:xfrm>
            <a:off x="928800" y="714240"/>
            <a:ext cx="7313400" cy="558036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4"/>
          <p:cNvSpPr/>
          <p:nvPr/>
        </p:nvSpPr>
        <p:spPr>
          <a:xfrm>
            <a:off x="1857240" y="3714840"/>
            <a:ext cx="3857760" cy="13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пешно усвоил теорему  Пифагора, выполнил все задания, стал участником открытого урока и еще раз убедился в связи математики с другими нау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332000" y="333360"/>
            <a:ext cx="7488000" cy="5182920"/>
            <a:chOff x="1332000" y="333360"/>
            <a:chExt cx="7488000" cy="5182920"/>
          </a:xfrm>
        </p:grpSpPr>
        <p:sp>
          <p:nvSpPr>
            <p:cNvPr id="288" name="AutoShape 3"/>
            <p:cNvSpPr/>
            <p:nvPr/>
          </p:nvSpPr>
          <p:spPr>
            <a:xfrm>
              <a:off x="1332000" y="333360"/>
              <a:ext cx="7488000" cy="5182920"/>
            </a:xfrm>
            <a:prstGeom prst="horizontalScroll">
              <a:avLst>
                <a:gd name="adj" fmla="val 12500"/>
              </a:avLst>
            </a:pr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4"/>
            <p:cNvSpPr/>
            <p:nvPr/>
          </p:nvSpPr>
          <p:spPr>
            <a:xfrm>
              <a:off x="1967040" y="1136880"/>
              <a:ext cx="685260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990000"/>
                  </a:solidFill>
                  <a:latin typeface="Arial"/>
                </a:rPr>
                <a:t>«Геометрия владеет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990000"/>
                  </a:solidFill>
                  <a:latin typeface="Arial"/>
                </a:rPr>
                <a:t>двумя сокровищами: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990000"/>
                  </a:solidFill>
                  <a:latin typeface="Arial"/>
                </a:rPr>
                <a:t>одно из них –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990000"/>
                  </a:solidFill>
                  <a:latin typeface="Arial"/>
                </a:rPr>
                <a:t>это теорема Пифагора»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5"/>
          <p:cNvGrpSpPr/>
          <p:nvPr/>
        </p:nvGrpSpPr>
        <p:grpSpPr>
          <a:xfrm>
            <a:off x="5148360" y="5084640"/>
            <a:ext cx="3384360" cy="863640"/>
            <a:chOff x="5148360" y="5084640"/>
            <a:chExt cx="3384360" cy="863640"/>
          </a:xfrm>
        </p:grpSpPr>
        <p:sp>
          <p:nvSpPr>
            <p:cNvPr id="291" name="AutoShape 6"/>
            <p:cNvSpPr/>
            <p:nvPr/>
          </p:nvSpPr>
          <p:spPr>
            <a:xfrm>
              <a:off x="5148360" y="5084640"/>
              <a:ext cx="3384360" cy="863640"/>
            </a:xfrm>
            <a:custGeom>
              <a:avLst/>
              <a:gdLst>
                <a:gd name="textAreaLeft" fmla="*/ 529920 w 3384360"/>
                <a:gd name="textAreaRight" fmla="*/ 2854440 w 3384360"/>
                <a:gd name="textAreaTop" fmla="*/ 216000 h 863640"/>
                <a:gd name="textAreaBottom" fmla="*/ 81468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621244"/>
                  <a:lnTo>
                    <a:pt x="3384" y="20375"/>
                  </a:lnTo>
                  <a:arcTo wR="21600" hR="20153" stAng="6683712" swAng="-2567424"/>
                  <a:lnTo>
                    <a:pt x="18216" y="17675"/>
                  </a:lnTo>
                  <a:arcTo wR="21600" hR="20153" stAng="4116288" swAng="-62124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095882"/>
                  <a:lnTo>
                    <a:pt x="15516" y="4914"/>
                  </a:lnTo>
                  <a:arcTo wR="21600" hR="20153" stAng="4590926" swAng="1618148"/>
                  <a:lnTo>
                    <a:pt x="6084" y="2214"/>
                  </a:lnTo>
                  <a:arcTo wR="21600" hR="20153" stAng="6209074" swAng="1095882"/>
                  <a:lnTo>
                    <a:pt x="2700" y="9329"/>
                  </a:lnTo>
                  <a:close/>
                </a:path>
                <a:path fill="none" w="21600" h="21600">
                  <a:moveTo>
                    <a:pt x="6084" y="4914"/>
                  </a:moveTo>
                  <a:arcTo wR="21600" hR="20153" stAng="6209074" swAng="474638"/>
                  <a:lnTo>
                    <a:pt x="6084" y="2214"/>
                  </a:lnTo>
                </a:path>
                <a:path fill="none" w="21600" h="21600">
                  <a:moveTo>
                    <a:pt x="15516" y="4914"/>
                  </a:moveTo>
                  <a:arcTo wR="21600" hR="20153" stAng="4590926" swAng="-474638"/>
                  <a:lnTo>
                    <a:pt x="15516" y="2214"/>
                  </a:lnTo>
                </a:path>
                <a:path fill="none" w="21600" h="21600">
                  <a:moveTo>
                    <a:pt x="3384" y="17675"/>
                  </a:moveTo>
                  <a:lnTo>
                    <a:pt x="3384" y="4175"/>
                  </a:lnTo>
                </a:path>
                <a:path fill="none" w="21600" h="21600">
                  <a:moveTo>
                    <a:pt x="18216" y="17675"/>
                  </a:moveTo>
                  <a:lnTo>
                    <a:pt x="18216" y="4175"/>
                  </a:lnTo>
                </a:path>
              </a:pathLst>
            </a:cu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7"/>
            <p:cNvSpPr/>
            <p:nvPr/>
          </p:nvSpPr>
          <p:spPr>
            <a:xfrm>
              <a:off x="5725440" y="537192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00"/>
                  </a:solidFill>
                  <a:latin typeface="Arial"/>
                </a:rPr>
                <a:t>Иоганн Кепл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11040" y="654840"/>
            <a:ext cx="8486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ый уровен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 Найдите стороны ромба, если его диагонали равны 24 см и 18 с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периметр прямоугольника, одна сторона которого равна 9 см, а диагонал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15 с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Стороны прямоугольника 8 см и 15 см. Найдите его диагонал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торой уровен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внобокой трапеции основания равны 8 см и 14 см, боковая сторон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5 с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ысоту трапец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ысота равнобедренного треугольника равна 20 см, а его основани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30 с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боковую сторону данного треугольни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 .Сторона равностороннего треугольника равна 18√3см. Найдите биссектрису этого треугольни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17160" y="2865960"/>
            <a:ext cx="8925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тий уровен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иметр равнобедренного треугольника равен 24 дм, боковая сторона меньше основания на 1.5 д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ысоту этого треугольни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 окружность, радиус которой равен 17 см, вписан прямоугольник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стороны этого прямоугольника, если отношение их равно 15: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На сторонах прямоугольного треугольника АВС построены квадраты, причём S3+S2=1252 см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 S1= 100 см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периметр треугольника АВС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332000" y="1628640"/>
            <a:ext cx="748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Без преувеличения можно сказать, что его теорема самая известная теорема геометрии, ибо о ней знает подавляющее большинство населения планеты, хотя доказать ее способна лишь очень незначительная его ча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826920" y="4005360"/>
            <a:ext cx="806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1258920" y="404640"/>
            <a:ext cx="7489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В чем же причина такой популяр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Теоремы Пифагора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154880" y="2060640"/>
            <a:ext cx="79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Знатоки утверждают, что причин здесь тр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3781440" y="3906720"/>
            <a:ext cx="28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б) красота,</a:t>
            </a:r>
            <a:r>
              <a:rPr b="0" lang="ru-RU" sz="1800" spc="-1" strike="noStrike">
                <a:solidFill>
                  <a:srgbClr val="a30cb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621440" y="2970360"/>
            <a:ext cx="29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а) простота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692360" y="494172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в) значимость в практическом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применен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img5"/>
          <p:cNvPicPr/>
          <p:nvPr/>
        </p:nvPicPr>
        <p:blipFill>
          <a:blip r:embed="rId1"/>
          <a:stretch/>
        </p:blipFill>
        <p:spPr>
          <a:xfrm>
            <a:off x="928800" y="1428840"/>
            <a:ext cx="7397640" cy="129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img6"/>
          <p:cNvPicPr/>
          <p:nvPr/>
        </p:nvPicPr>
        <p:blipFill>
          <a:blip r:embed="rId2"/>
          <a:stretch/>
        </p:blipFill>
        <p:spPr>
          <a:xfrm>
            <a:off x="1214280" y="3357720"/>
            <a:ext cx="6915240" cy="16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 flipV="1" rot="10800000">
            <a:off x="428400" y="1887120"/>
            <a:ext cx="90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отенуза больше кате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умма острых углов прямоугольного треугольника равна 18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дь прямоугольного треугольника с катетам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числяется по формул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ab/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орема Пифагора верна для всех равнобедренных треугольник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ямоугольном треугольнике катет, лежащий напротив угла 3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равен половине гипотенуз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умма квадратов катетов равна квадрату гипотенуз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драт катета равен разности квадратов гипотенузы и второго кате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рона треугольника равна сумме двух других сторо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1581840" y="645840"/>
            <a:ext cx="592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вы согласны с утверждени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отив соответствующего номера вопроса поставьт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е согласны, то поставьт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–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3276720" y="260280"/>
            <a:ext cx="53989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Формулировка Пифаго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лощадь квадрата, построенного на гипотенузе прямоугольного треуголь-ника, равна сумме площадей квадратов, построенных на его катетах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-8640" y="2491920"/>
            <a:ext cx="3984120" cy="3744720"/>
            <a:chOff x="-8640" y="2491920"/>
            <a:chExt cx="3984120" cy="3744720"/>
          </a:xfrm>
        </p:grpSpPr>
        <p:sp>
          <p:nvSpPr>
            <p:cNvPr id="306" name="Rectangle 4"/>
            <p:cNvSpPr/>
            <p:nvPr/>
          </p:nvSpPr>
          <p:spPr>
            <a:xfrm>
              <a:off x="970200" y="2492280"/>
              <a:ext cx="2018160" cy="176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AutoShape 5"/>
            <p:cNvSpPr/>
            <p:nvPr/>
          </p:nvSpPr>
          <p:spPr>
            <a:xfrm rot="18957600">
              <a:off x="1269720" y="3591360"/>
              <a:ext cx="1419840" cy="1319760"/>
            </a:xfrm>
            <a:prstGeom prst="rtTriangl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 rot="2727000">
              <a:off x="300240" y="4484160"/>
              <a:ext cx="1319400" cy="141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 rot="2727000">
              <a:off x="2258640" y="4529520"/>
              <a:ext cx="1428120" cy="1408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8"/>
            <p:cNvSpPr/>
            <p:nvPr/>
          </p:nvSpPr>
          <p:spPr>
            <a:xfrm>
              <a:off x="0" y="5205600"/>
              <a:ext cx="186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9"/>
            <p:cNvSpPr/>
            <p:nvPr/>
          </p:nvSpPr>
          <p:spPr>
            <a:xfrm>
              <a:off x="1942200" y="5235120"/>
              <a:ext cx="201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0"/>
            <p:cNvSpPr/>
            <p:nvPr/>
          </p:nvSpPr>
          <p:spPr>
            <a:xfrm>
              <a:off x="970200" y="2492280"/>
              <a:ext cx="1981800" cy="171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1"/>
            <p:cNvSpPr/>
            <p:nvPr/>
          </p:nvSpPr>
          <p:spPr>
            <a:xfrm flipV="1">
              <a:off x="970200" y="2491920"/>
              <a:ext cx="2018160" cy="175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Rectangle 12"/>
          <p:cNvSpPr/>
          <p:nvPr/>
        </p:nvSpPr>
        <p:spPr>
          <a:xfrm>
            <a:off x="5435640" y="2912760"/>
            <a:ext cx="3457440" cy="15562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Tahoma"/>
              </a:rPr>
              <a:t>с</a:t>
            </a:r>
            <a:r>
              <a:rPr b="1" lang="ru-RU" sz="4800" spc="-1" strike="noStrike" baseline="30000">
                <a:solidFill>
                  <a:srgbClr val="990000"/>
                </a:solidFill>
                <a:latin typeface="Tahoma"/>
              </a:rPr>
              <a:t>2 </a:t>
            </a:r>
            <a:r>
              <a:rPr b="1" lang="ru-RU" sz="4800" spc="-1" strike="noStrike">
                <a:solidFill>
                  <a:srgbClr val="990000"/>
                </a:solidFill>
                <a:latin typeface="Tahoma"/>
              </a:rPr>
              <a:t>=а</a:t>
            </a:r>
            <a:r>
              <a:rPr b="1" lang="ru-RU" sz="4800" spc="-1" strike="noStrike" baseline="30000">
                <a:solidFill>
                  <a:srgbClr val="990000"/>
                </a:solidFill>
                <a:latin typeface="Tahoma"/>
              </a:rPr>
              <a:t>2</a:t>
            </a:r>
            <a:r>
              <a:rPr b="1" lang="ru-RU" sz="4800" spc="-1" strike="noStrike">
                <a:solidFill>
                  <a:srgbClr val="990000"/>
                </a:solidFill>
                <a:latin typeface="Tahoma"/>
              </a:rPr>
              <a:t>+</a:t>
            </a:r>
            <a:r>
              <a:rPr b="1" lang="en-US" sz="4800" spc="-1" strike="noStrike">
                <a:solidFill>
                  <a:srgbClr val="990000"/>
                </a:solidFill>
                <a:latin typeface="Tahoma"/>
              </a:rPr>
              <a:t>b</a:t>
            </a:r>
            <a:r>
              <a:rPr b="1" lang="ru-RU" sz="4800" spc="-1" strike="noStrike" baseline="30000">
                <a:solidFill>
                  <a:srgbClr val="99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4067280" y="4292640"/>
            <a:ext cx="50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Современная формулировка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В прямоугольном треу-гольнике квадрат гипотенузы равен сумме квадратов кате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3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ны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3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Записать теорему Пифагора для треуголь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AutoShape 4"/>
          <p:cNvSpPr/>
          <p:nvPr/>
        </p:nvSpPr>
        <p:spPr>
          <a:xfrm rot="20047200">
            <a:off x="2044800" y="2830680"/>
            <a:ext cx="4489200" cy="2342880"/>
          </a:xfrm>
          <a:prstGeom prst="rtTriangle">
            <a:avLst/>
          </a:prstGeom>
          <a:solidFill>
            <a:srgbClr val="ffef66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5"/>
          <p:cNvSpPr/>
          <p:nvPr/>
        </p:nvSpPr>
        <p:spPr>
          <a:xfrm flipV="1">
            <a:off x="2627280" y="5660640"/>
            <a:ext cx="2890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6"/>
          <p:cNvSpPr/>
          <p:nvPr/>
        </p:nvSpPr>
        <p:spPr>
          <a:xfrm>
            <a:off x="2916360" y="5661000"/>
            <a:ext cx="14292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1635120" y="3490920"/>
            <a:ext cx="4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2465640" y="5875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6713280" y="3570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08:11:07Z</dcterms:created>
  <dc:creator>Труханова Алёна, Чучуй Л.А.</dc:creator>
  <dc:description/>
  <dc:language>en-US</dc:language>
  <cp:lastModifiedBy>Virus</cp:lastModifiedBy>
  <dcterms:modified xsi:type="dcterms:W3CDTF">2010-12-18T18:10:15Z</dcterms:modified>
  <cp:revision>44</cp:revision>
  <dc:subject/>
  <dc:title>Теорема Пифагора</dc:title>
</cp:coreProperties>
</file>