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F67-EC3B-47B5-B25A-A02E077B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27C-D6D9-4F59-810A-78F1B522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60C-ADD9-4C2D-BF27-18E8AEA8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772-A35B-4E0F-9DAB-724F08AA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1B3-9D4E-4C52-8619-BD46BABA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011-8816-4274-83EA-1CB7C2FB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A6A-B74F-4879-AD84-FB897BFB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8B54-9597-48B0-8D42-2DAAA476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F8B-8EEE-4EB1-A463-2806188A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2A8-8526-429C-90D3-D09260BF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408D-0182-4E11-A2B0-43F8C000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AFA-634B-4D43-911B-0AC5BCAC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F41C-624E-4FC8-9765-6CCC9BD45F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ografija.ru/pictures/m_23388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elax.wild-mistress.ru/wm/relax.nsf/publicall/ADC32D0AA618581EC3257471005BF7DD/$File/3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ozon.ru/multimedia/books_covers/1001506013.jpg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1 из 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72200" y="285840"/>
            <a:ext cx="1714680" cy="2263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Картинка 3 из 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1000080"/>
            <a:ext cx="1714680" cy="218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Картинка 10 из 1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760" y="357120"/>
            <a:ext cx="3690720" cy="6201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марина\Pictures\пушкин.gif"/>
          <p:cNvPicPr/>
          <p:nvPr/>
        </p:nvPicPr>
        <p:blipFill>
          <a:blip r:embed="rId7"/>
          <a:stretch/>
        </p:blipFill>
        <p:spPr>
          <a:xfrm>
            <a:off x="5429160" y="3571920"/>
            <a:ext cx="26622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Monotype Corsiva"/>
              </a:rPr>
              <a:t>Стихотворения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"/>
          <p:cNvPicPr/>
          <p:nvPr/>
        </p:nvPicPr>
        <p:blipFill>
          <a:blip r:embed="rId2"/>
          <a:stretch/>
        </p:blipFill>
        <p:spPr>
          <a:xfrm>
            <a:off x="560520" y="1566720"/>
            <a:ext cx="818172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99760" y="272880"/>
            <a:ext cx="69296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Рифма у Майкова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1360" y="1434600"/>
            <a:ext cx="6429240" cy="35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ет уж лист золот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жную землю в лесу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о топчу я ног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нюю леса крас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холоду щёки горя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 в лесу мне беж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ть, как сучья треща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ногой загребат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99760" y="272880"/>
            <a:ext cx="69296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Рифма у Майкова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71360" y="1434600"/>
            <a:ext cx="6429240" cy="35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ет уж лист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олот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жную землю в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су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ло топчу я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г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шнюю леса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ас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холоду щёки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оря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 в лесу мне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ежа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ышать, как сучья 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реща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ногой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гребат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1714680" y="535788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осьмистиш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Monotype Corsiva"/>
              </a:rPr>
              <a:t>Стихотворения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"/>
          <p:cNvPicPr/>
          <p:nvPr/>
        </p:nvPicPr>
        <p:blipFill>
          <a:blip r:embed="rId2"/>
          <a:stretch/>
        </p:blipFill>
        <p:spPr>
          <a:xfrm>
            <a:off x="560520" y="1590840"/>
            <a:ext cx="8138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71760" y="272880"/>
            <a:ext cx="72151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Рифма у Фета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57200" y="1434600"/>
            <a:ext cx="64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ма! Глянь-ка из окошка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ть, вчера недаром кош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ывала но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язи нет, весь двор одело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ветлело, побелело -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но есть моро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колючий, светло-си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ветвям развешан иней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гляди хоть т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вно кто-то тороват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жей, белой, пухлой ват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брал кус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5500800" y="485784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делите риф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71760" y="272880"/>
            <a:ext cx="72151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Рифма у Фета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57200" y="1434600"/>
            <a:ext cx="64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ма! Глянь-ка из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окошка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ть, вчера недаром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кош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ывала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нос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язи нет, весь двор 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одел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ветлело, 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побелело -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но есть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моро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колючий, светло-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си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ветвям развешан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иней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гляди хоть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ты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но кто-то 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тороват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жей, белой, пухлой 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ват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убрал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кус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071720" y="592920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венадцатисти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1341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000099"/>
                </a:solidFill>
                <a:latin typeface="Calibri"/>
              </a:rPr>
              <a:t>КНИГА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432000" y="404280"/>
            <a:ext cx="9575640" cy="580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36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1.  ПИСАТЕЛЬ........РАССКАЗЫВАЕТ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О ………. </a:t>
            </a:r>
            <a:br>
              <a:rPr sz="3200"/>
            </a:br>
            <a:br>
              <a:rPr sz="11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2.  УДИВИТЕЛЬНЫЕ СОБЫТИЯ ПРОИСХОДЯТ В КНИГЕ ……….</a:t>
            </a:r>
            <a:br>
              <a:rPr sz="3200"/>
            </a:br>
            <a:br>
              <a:rPr sz="11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3.  ЕСЛИ ВЫ ПРОЧТЁТЕ ….......,ВЫ ОБЯЗАТЕЛЬНО ПОЛЮБИТЕ ГЛАВНОГО ГЕРОЯ.</a:t>
            </a:r>
            <a:br>
              <a:rPr sz="3200"/>
            </a:br>
            <a:br>
              <a:rPr sz="11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4.  ТЫ ХОЧЕШЬ УЗНАТЬ О ……….?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ТОГДА ПРОЧИТАЙ ……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3995640" y="33336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Calibri"/>
              </a:rPr>
              <a:t>ТЕС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348000" y="1125360"/>
            <a:ext cx="579600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Calibri"/>
                <a:ea typeface="Arial"/>
              </a:rPr>
              <a:t>АННОТАЦИЯ – ЭТО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У) КРАТКИЙ ПЕРЕСКАЗ СОДЕРЖ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Б) ПОДРОБНОЕ ИЗЛОЖЕНИЕ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  <a:ea typeface="Arial"/>
              </a:rPr>
              <a:t>КАКИЕ СВЕДЕНИЯ МОЖЕТ СОДЕРЖАТЬ АННОТАЦ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Р) СВЕДЕНИЯ ОБ АВТО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Т) ИЛЛЮСТРАЦИИ К ПРОИЗВЕД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А) КРАТКОЕ СОДЕРЖ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Г) ПЕРЕЧЕНЬ ВСЕХ ГЕРОЕВ ПРОИЗ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!) ТЕМА КНИ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ставьте аннотацию книги со стихами, которую прочитал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214200" y="2941560"/>
            <a:ext cx="864396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Аннотация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35235"/>
                </a:solidFill>
                <a:latin typeface="Calibri"/>
                <a:ea typeface="Times New Roman"/>
              </a:rPr>
              <a:t> - </a:t>
            </a:r>
            <a:r>
              <a:rPr b="0" lang="ru-RU" sz="2000" spc="-1" strike="noStrike">
                <a:solidFill>
                  <a:srgbClr val="635235"/>
                </a:solidFill>
                <a:latin typeface="Calibri"/>
                <a:ea typeface="Times New Roman"/>
              </a:rPr>
              <a:t>краткое сообщение о содержании и адресате кни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5235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635235"/>
                </a:solidFill>
                <a:latin typeface="Calibri"/>
                <a:ea typeface="Times New Roman"/>
              </a:rPr>
              <a:t>Показывает отличительные особенности и достоинства издаваемого произведения, помогает читателям сориентироваться в выборе. Аннотация должна привлечь внимание читателя к книге, раскрывая ее основное содержание, особенность именно данного изд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5235"/>
                </a:solidFill>
                <a:latin typeface="Calibri"/>
                <a:ea typeface="Times New Roman"/>
              </a:rPr>
              <a:t>Аннотация даёт ответ на вопросы: о чем? из каких частей? как? для кого? для чег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5235"/>
                </a:solidFill>
                <a:latin typeface="Calibri"/>
                <a:ea typeface="Times New Roman"/>
              </a:rPr>
              <a:t>Аннотация носит пояснительный или рекомендательный характер. Аннотация может быть описательной или рекомендательной</a:t>
            </a:r>
            <a:r>
              <a:rPr b="0" lang="ru-RU" sz="1800" spc="-1" strike="noStrike">
                <a:solidFill>
                  <a:srgbClr val="635235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Monotype Corsiva"/>
              </a:rPr>
              <a:t>Русские поэт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"/>
          <p:cNvPicPr/>
          <p:nvPr/>
        </p:nvPicPr>
        <p:blipFill>
          <a:blip r:embed="rId2"/>
          <a:stretch/>
        </p:blipFill>
        <p:spPr>
          <a:xfrm>
            <a:off x="560520" y="1566720"/>
            <a:ext cx="81626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у выполнила учитель начальных классов МОУ СОШ № 1 р.п. Лысые Горы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зарова А.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680" y="42148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  слайдов № 9, 16, 17, 18, 19 - Учитель начальных класс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аровской средней общеобразовательной школы Оренбургской области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урелёнок Татьяна Александ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Monotype Corsiva"/>
              </a:rPr>
              <a:t>Сказки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"/>
          <p:cNvPicPr/>
          <p:nvPr/>
        </p:nvPicPr>
        <p:blipFill>
          <a:blip r:embed="rId2"/>
          <a:stretch/>
        </p:blipFill>
        <p:spPr>
          <a:xfrm>
            <a:off x="512640" y="1566720"/>
            <a:ext cx="82296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Monotype Corsiva"/>
              </a:rPr>
              <a:t>Стихотворения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"/>
          <p:cNvPicPr/>
          <p:nvPr/>
        </p:nvPicPr>
        <p:blipFill>
          <a:blip r:embed="rId2"/>
          <a:stretch/>
        </p:blipFill>
        <p:spPr>
          <a:xfrm>
            <a:off x="560520" y="1566720"/>
            <a:ext cx="81388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Monotype Corsiva"/>
              </a:rPr>
              <a:t>Стихотворения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"/>
          <p:cNvPicPr/>
          <p:nvPr/>
        </p:nvPicPr>
        <p:blipFill>
          <a:blip r:embed="rId2"/>
          <a:stretch/>
        </p:blipFill>
        <p:spPr>
          <a:xfrm>
            <a:off x="560520" y="1566720"/>
            <a:ext cx="81453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00120" y="272880"/>
            <a:ext cx="74296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Рифма  у  Тютчев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9720" y="1714320"/>
            <a:ext cx="77151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в осени первоначаль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ая, но дивная пора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день стоит как бы хрустальны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учезарны вечера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000160" y="5357880"/>
            <a:ext cx="400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Четверостиш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928800" y="457200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называется строф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5429160" y="51436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делите риф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00120" y="272880"/>
            <a:ext cx="74296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Рифма  у  Тютчев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9720" y="1714320"/>
            <a:ext cx="77151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в осени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началь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ая, но дивная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ра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день стоит как бы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рустальны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учезарны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чер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000160" y="53578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28920" y="142920"/>
            <a:ext cx="35719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Облож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2000160" y="535788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1285920" y="1571760"/>
            <a:ext cx="3643200" cy="442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Равнобедренный треугольник 9"/>
          <p:cNvSpPr/>
          <p:nvPr/>
        </p:nvSpPr>
        <p:spPr>
          <a:xfrm>
            <a:off x="1785960" y="2643120"/>
            <a:ext cx="2786040" cy="18576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1500120" y="171468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ютчев Ф.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1571760" y="5000760"/>
            <a:ext cx="30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ть в осени первонача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5214960" y="1643040"/>
            <a:ext cx="335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ихотворение вызывает удивление, восхищение, радость и грусть одноврем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EE"/>
          <p:cNvPicPr/>
          <p:nvPr/>
        </p:nvPicPr>
        <p:blipFill>
          <a:blip r:embed="rId2"/>
          <a:stretch/>
        </p:blipFill>
        <p:spPr>
          <a:xfrm>
            <a:off x="6877080" y="4508640"/>
            <a:ext cx="112716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987 -0.68241 C -0.07379 -0.68241 0.13506 -0.49445 0.13506 -0.2625 C 0.13506 -0.03125 -0.07379 0.15764 -0.32987 0.15764 C -0.58612 0.15764 -0.7941 -0.03125 -0.7941 -0.2625 C -0.7941 -0.49445 -0.58612 -0.68241 -0.32987 -0.68241 Z">
                                      <p:cBhvr>
                                        <p:cTn id="52" dur="8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987 -0.68241 C -0.08698 -0.68241 0.11111 -0.49421 0.11111 -0.26296 C 0.11111 -0.03125 -0.08698 0.15741 -0.32987 0.15741 C -0.57309 0.15741 -0.77084 -0.03125 -0.77084 -0.26296 C -0.77084 -0.49421 -0.57309 -0.68241 -0.32987 -0.68241 Z">
                                      <p:cBhvr>
                                        <p:cTn id="55" dur="8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986 -0.6824 C -0.08906 -0.6824 0.10729 -0.50115 0.10729 -0.27824 C 0.10729 -0.05578 -0.08906 0.12593 -0.32986 0.12593 C -0.57101 0.12593 -0.76684 -0.05578 -0.76684 -0.27824 C -0.76684 -0.50115 -0.57101 -0.6824 -0.32986 -0.6824 Z">
                                      <p:cBhvr>
                                        <p:cTn id="58" dur="8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4000"/>
                            </p:stCondLst>
                            <p:childTnLst>
                              <p:par>
                                <p:cTn id="60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987 -0.68241 C -0.0849 -0.68241 0.1151 -0.50579 0.1151 -0.28866 C 0.1151 -0.07199 -0.0849 0.10509 -0.32987 0.10509 C -0.57535 0.10509 -0.77483 -0.07199 -0.77483 -0.28866 C -0.77483 -0.50579 -0.57535 -0.68241 -0.32987 -0.68241 Z">
                                      <p:cBhvr>
                                        <p:cTn id="61" dur="8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9:21:06Z</dcterms:created>
  <dc:creator>марина</dc:creator>
  <dc:description/>
  <dc:language>en-US</dc:language>
  <cp:lastModifiedBy>марина</cp:lastModifiedBy>
  <dcterms:modified xsi:type="dcterms:W3CDTF">2010-12-05T11:57:28Z</dcterms:modified>
  <cp:revision>15</cp:revision>
  <dc:subject/>
  <dc:title>Стихи русских поэтов</dc:title>
</cp:coreProperties>
</file>