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9"/>
          </p:nvPr>
        </p:nvSpPr>
        <p:spPr>
          <a:xfrm>
            <a:off x="40226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36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0"/>
          </p:nvPr>
        </p:nvSpPr>
        <p:spPr>
          <a:xfrm>
            <a:off x="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1"/>
          </p:nvPr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9B05CF56-EC23-450C-9BAB-88025139FEB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77FC8E60-B152-4DB4-8C53-58702AEAF3B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C2E368FF-0B0C-4D3D-8C54-BE4D5B497EA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535C075C-1869-4E06-AAC4-85EB818B92E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27119E24-C454-4A35-A223-5BED6B645B8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921197E9-3D52-4856-BA07-D268AAB1156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5F2356BA-6DBC-4411-B754-2D9AC8AD42E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8784F201-DE60-4637-9234-3815969A8E8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C18BF3FC-4F90-4FB7-9A5C-9CD0F6A6555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289280CD-B5F8-40A8-B384-4425417F103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02EDC414-4597-4A4A-8300-06A448A0A76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E9C9BC97-65D5-4D98-84FA-10305FD993A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D4C54D87-7AF8-43FF-B2F2-FDAA0532DDC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57145586-E736-46B9-B2BE-A10D626B5AC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29238BAC-09B7-4B62-8A08-4DE03BC4675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AA53657C-BF92-4B1B-B216-1D531A974A2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F7E9B47C-9B90-493F-A74A-4BE47820637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3DF2DD7E-2C75-49FF-8BFD-749E6BB2793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B0B72715-B3CC-4071-8B36-4F421E5711F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FC8A90F2-B402-4FE1-AD86-42C259E603F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95A11B6C-B360-4B73-8141-80EB2740F9A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337EE4D2-B168-4473-BF8A-1A109998609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52C274A1-89A0-4E1F-8791-A1092234B46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23B57D30-9BEE-446D-98AC-2AC9CB8C62A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B0467436-FA90-4E43-9A37-E60049C85BA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59C4B368-0868-47F6-BBE3-4899A0BD6B7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993759AC-F5D8-4270-8C25-96D2304333B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3039-AE38-4F48-89CC-B46542EA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78584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53E-DBE3-4D18-AC5E-D6F55D76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900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D78D-A624-4701-84C4-C0137CC7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36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900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36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900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6725-47FC-4304-954B-77397D81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9C8C-422A-4992-8BFB-6118D41B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F547-C38A-4803-8FDA-CAB63994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40C2-4B7B-4D4E-A33F-19DB520B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E295-F61E-4280-8668-72979E44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9C9A-F4F6-4257-948A-D8E70474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F433-468B-4054-AD6E-6BA9B89A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DC83-54EA-4A2D-A3E0-CD1D0278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B0A-15DB-4FA4-8A45-E159EB40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900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A225-0F8B-4431-B6BD-42F954B8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D9E4-6F58-4AC6-9C1C-085B031D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78584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695A-4F98-40C4-9943-528B24BF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900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9CEC-A6C7-4B09-9773-323F94BC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836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900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836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900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5E12-8C5C-4AF3-A4D7-42DAEFB3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26CA3-CF9A-460A-88D3-70DE3A4B94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2C8F2-E0B9-48FC-8FC9-FEB3D03A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D9F68-7914-4A84-8405-AE6A5CA3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E09B6-D507-41E9-BD90-15F37036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9D3D3-FED8-4B8A-B4E5-5ECE52DA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287-E41F-48C7-A823-CFA531B7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A8560-D1B4-402F-9DF5-B6F63E4F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82E12-EBD2-4903-82CE-AA8D2470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7900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6B297-F59C-4318-B567-63C253CE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4665B-C0FF-49BB-ADF6-E81EC4F2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78584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C1BBC5-F1BE-41BA-9F71-BD5A6AC1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7900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991CF-2477-4F43-9E44-B5DC7E39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43836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3900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43836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3900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AF79FF-1077-45A2-836D-E087736DDE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834-804B-4DE3-8D8C-3887B627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DC4A-7FE0-4CB7-9ABE-6C6BC2CC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191-E92F-44AD-97DC-7ED73BB3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AE7-F002-47A7-83E1-B577797F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900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3BF-468D-48A3-A89C-C87C8A61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92F5-A035-408E-8624-DEAC0391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7618320" cy="6856560"/>
            <a:chOff x="0" y="0"/>
            <a:chExt cx="7618320" cy="685656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AutoShape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>
                  <a:gd name="textAreaLeft" fmla="*/ 0 w 2741760"/>
                  <a:gd name="textAreaRight" fmla="*/ 2741760 w 2741760"/>
                  <a:gd name="textAreaTop" fmla="*/ 0 h 1165320"/>
                  <a:gd name="textAreaBottom" fmla="*/ 1165680 h 116532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228240" y="1981080"/>
              <a:ext cx="7390080" cy="317520"/>
              <a:chOff x="228240" y="1981080"/>
              <a:chExt cx="7390080" cy="31752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609480" y="1981080"/>
                <a:ext cx="7008840" cy="3160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 flipH="1">
                <a:off x="227880" y="1981080"/>
                <a:ext cx="39204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.04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54D192-94EF-4CF1-BD7E-6E8C69629A4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49" name="Rectangle 2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3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4"/>
          <p:cNvGrpSpPr/>
          <p:nvPr/>
        </p:nvGrpSpPr>
        <p:grpSpPr>
          <a:xfrm>
            <a:off x="3632040" y="4889520"/>
            <a:ext cx="4875480" cy="317520"/>
            <a:chOff x="3632040" y="4889520"/>
            <a:chExt cx="4875480" cy="317520"/>
          </a:xfrm>
        </p:grpSpPr>
        <p:sp>
          <p:nvSpPr>
            <p:cNvPr id="52" name="AutoShape 5"/>
            <p:cNvSpPr/>
            <p:nvPr/>
          </p:nvSpPr>
          <p:spPr>
            <a:xfrm flipH="1">
              <a:off x="3632040" y="4889520"/>
              <a:ext cx="4624560" cy="3157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6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 Light"/>
              </a:rPr>
              <a:t>13.04.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6720"/>
            <a:ext cx="585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DejaVu Sans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DF1784-A272-4340-B73F-82F70DB0CA26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DejaVu Sans Light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1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2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Palatino Linotype"/>
                <a:ea typeface="DejaVu Sans Light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DejaVu Sans Light"/>
              </a:rPr>
              <a:t>13.4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Palatino Linotype"/>
                <a:ea typeface="DejaVu Sans Light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D9A4E6-D547-45F7-8A87-F7FE63A15739}" type="slidenum">
              <a:rPr b="0" lang="ru-RU" sz="2400" spc="-1" strike="noStrike">
                <a:solidFill>
                  <a:srgbClr val="000000"/>
                </a:solidFill>
                <a:latin typeface="Palatino Linotype"/>
                <a:ea typeface="DejaVu Sans Ligh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DejaVu Sans Light"/>
              </a:rPr>
              <a:t>г.Тихвин,  МОУ "Лицей № 8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76320" y="6246720"/>
            <a:ext cx="585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777D33-7BD5-4931-9C00-A34445F0BCA0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DejaVu Sans Light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907920" y="1122480"/>
            <a:ext cx="755820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роектная и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учебно-исследовательская деятельность учащих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684360" y="4076640"/>
            <a:ext cx="785952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295960" y="3213000"/>
            <a:ext cx="22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ПД и УИД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932360" y="422100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движкова Л.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13D5B1-658A-42A4-8156-C3604D6FB5A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ажн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539640" y="2349360"/>
            <a:ext cx="828036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0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вместное планирование деятельности учителем и обучающими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0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меняется роль учителя – из простого транслятора знаний он становится действительным организатором совместной работы с обучающимися, способствуя переходу к реальному сотрудничеству в ходе овладения знан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01A576-98B7-49B6-9B48-F59E227859A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ология форм организации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914400" y="2465280"/>
            <a:ext cx="805032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о видам деятель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ационный (поисковый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следовательск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ворческ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циальны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кладной (практико-ориентированный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гровой (ролевой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C28DF0-7E93-4D12-BC84-9E063F5CEC1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ология форм организации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914400" y="2465280"/>
            <a:ext cx="805032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о содержанию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нопредметны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жпредметный, относящийся к области знаний (нескольким областям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апредметный, относящийся к области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1B9E77-BA07-42DF-ADB2-314C883BA05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ология форм организации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900000" y="2205000"/>
            <a:ext cx="8050320" cy="49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По количеству участников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ндивидуальн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рн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упповой ( до 15 человек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ллективный (класс, школ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униципальн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сероссийск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ждународны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тев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4AEA7A-C185-4142-9344-F91F37C0CC2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ология форм организации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900000" y="2637000"/>
            <a:ext cx="7559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о длитель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ткосрочный (урок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реднесрочны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лгосрочный (многолетни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A44C84-6AB7-420B-80DE-2BF71CB240B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ы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900000" y="2394000"/>
            <a:ext cx="8244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042920" y="2349360"/>
          <a:ext cx="7777080" cy="4032360"/>
        </p:xfrm>
        <a:graphic>
          <a:graphicData uri="http://schemas.openxmlformats.org/drawingml/2006/table">
            <a:tbl>
              <a:tblPr/>
              <a:tblGrid>
                <a:gridCol w="3332160"/>
                <a:gridCol w="4444920"/>
              </a:tblGrid>
              <a:tr h="134640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рганизационно-подготовите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marL="457200" indent="-455760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выбор темы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5760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составление план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5760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формирование групп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280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исков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исследо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обобщение результа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оформление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тогов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подготовка к защит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презентация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рефлек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19FEF5-284E-4779-ACB3-DCE728106D0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ект начинается с постановки основополагающего вопро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826920" y="2349360"/>
            <a:ext cx="7920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Основополагающие вопро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целивают учащихся на более высокий уровень мыш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имулируют воображение учащихся, связывают предмет изучения с собственными идеями и опы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ставляют учащихся исследовать множество вариан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Дата 3"/>
          <p:cNvSpPr/>
          <p:nvPr/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04.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ектная деятельность учащихся 9-ых класс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Раздел «Районы России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Создание эмблемы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герба района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3"/>
          <p:cNvSpPr/>
          <p:nvPr/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04.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ставить образ территории через создание слайд-проек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общить и систематизировать знания о район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казать возможность использования компьютера как инструмент практической и учебной деятельности челове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пособствовать развитию творческого потенциала учащихс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звивать интерес к познанию, осознанному и самостоятельному получению информац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звивать коммуникативные навыки, умение вести дискуссию, приводить аргументы в пользу различных версий, доказывать свою точку зр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меть лаконично и чётко излагать свои мысли, уметь слушать и уважать мнение других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Дата 3"/>
          <p:cNvSpPr/>
          <p:nvPr/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04.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ритерии оценки работ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ктуаль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ответствие содержания сформулированной теме, поставленным целям и задача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ладение предметными знаниями, нормативной базой, современными технология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ткость изложения материала, лаконичность, нагляд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ригинальность раскрытия те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чимость материала для други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F9DF43-83CC-4398-A9F4-B69BB00DB60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то такое «проект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Проект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– это форма организации совместной деятельности учителя и обучающихся, совокупность приёмов и действий в их определённой последовательности, направленной на достижение поставленной цели – решение конкретной задачи, значимой для обучающихся и оформленной в виде некоего конечного продук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E3262F-D0C4-4680-B1FE-7B9251F9F7A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то такое «герб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3780000" y="2362320"/>
            <a:ext cx="4751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900" spc="-1" strike="noStrike">
                <a:solidFill>
                  <a:srgbClr val="003366"/>
                </a:solidFill>
                <a:latin typeface="Monotype Corsiva"/>
              </a:rPr>
              <a:t>Герб (нем. </a:t>
            </a:r>
            <a:r>
              <a:rPr b="0" lang="de-DE" sz="2900" spc="-1" strike="noStrike">
                <a:solidFill>
                  <a:srgbClr val="003366"/>
                </a:solidFill>
                <a:latin typeface="Monotype Corsiva"/>
              </a:rPr>
              <a:t>Erbe</a:t>
            </a:r>
            <a:r>
              <a:rPr b="0" lang="ru-RU" sz="2900" spc="-1" strike="noStrike">
                <a:solidFill>
                  <a:srgbClr val="003366"/>
                </a:solidFill>
                <a:latin typeface="Monotype Corsiva"/>
              </a:rPr>
              <a:t> — наследство) — эмблема, отличительный знак, передаваемый по наследству, на котором изображаются предметы, символизирующие владельца герба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857160" y="2708280"/>
            <a:ext cx="32101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52C5A3-6684-40D2-8888-D1ADE647164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исхождение герб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3781440" y="2506680"/>
            <a:ext cx="4751280" cy="39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Monotype Corsiva"/>
              </a:rPr>
              <a:t>Гербы, в близкой к современной форме, появились в Средние века в западной Европе, в Англии и Франции. Первым гербом считается щит с шестью золотыми львами в лазоревом поле, который, согласно оспариваемой сегодня версии, Жоффруа V Анжуйский получил в 1127 или 1128 году от своего тестя, короля Англии Генриха I по случаю женитьбы на его дочери Матильде, вдове императора Генриха 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900000" y="2862360"/>
            <a:ext cx="2995560" cy="32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DejaVu Sans Light"/>
              </a:rPr>
              <a:t>г.Тихвин,  МОУ "Лицей № 8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76320" y="6246720"/>
            <a:ext cx="585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ADB1E2-9ACC-4395-B2EC-E015A7404C5C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DejaVu Sans Light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6335640" cy="661968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2"/>
          <p:cNvGrpSpPr/>
          <p:nvPr/>
        </p:nvGrpSpPr>
        <p:grpSpPr>
          <a:xfrm>
            <a:off x="1542960" y="109440"/>
            <a:ext cx="5843520" cy="5918400"/>
            <a:chOff x="1542960" y="109440"/>
            <a:chExt cx="5843520" cy="5918400"/>
          </a:xfrm>
        </p:grpSpPr>
        <p:pic>
          <p:nvPicPr>
            <p:cNvPr id="236" name="Picture 3" descr=""/>
            <p:cNvPicPr/>
            <p:nvPr/>
          </p:nvPicPr>
          <p:blipFill>
            <a:blip r:embed="rId2"/>
            <a:stretch/>
          </p:blipFill>
          <p:spPr>
            <a:xfrm>
              <a:off x="1542960" y="109440"/>
              <a:ext cx="5843520" cy="591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4"/>
            <p:cNvSpPr/>
            <p:nvPr/>
          </p:nvSpPr>
          <p:spPr>
            <a:xfrm>
              <a:off x="1542960" y="109440"/>
              <a:ext cx="5843520" cy="59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AutoShape 5"/>
          <p:cNvSpPr/>
          <p:nvPr/>
        </p:nvSpPr>
        <p:spPr>
          <a:xfrm>
            <a:off x="5724360" y="344520"/>
            <a:ext cx="2232360" cy="552960"/>
          </a:xfrm>
          <a:prstGeom prst="leftArrow">
            <a:avLst>
              <a:gd name="adj1" fmla="val 50000"/>
              <a:gd name="adj2" fmla="val 3553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население и площад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304920" y="4203720"/>
            <a:ext cx="1238040" cy="421200"/>
          </a:xfrm>
          <a:prstGeom prst="pi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соста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179280" y="919080"/>
            <a:ext cx="2033640" cy="421200"/>
          </a:xfrm>
          <a:prstGeom prst="pi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геогр. свед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196920" y="2768760"/>
            <a:ext cx="1454040" cy="421200"/>
          </a:xfrm>
          <a:prstGeom prst="pi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с/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6551640" y="1403280"/>
            <a:ext cx="2233440" cy="552960"/>
          </a:xfrm>
          <a:prstGeom prst="leftArrow">
            <a:avLst>
              <a:gd name="adj1" fmla="val 50000"/>
              <a:gd name="adj2" fmla="val 3554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полезные ископа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10"/>
          <p:cNvSpPr/>
          <p:nvPr/>
        </p:nvSpPr>
        <p:spPr>
          <a:xfrm>
            <a:off x="6732720" y="2682720"/>
            <a:ext cx="1726920" cy="552600"/>
          </a:xfrm>
          <a:prstGeom prst="leftArrow">
            <a:avLst>
              <a:gd name="adj1" fmla="val 50000"/>
              <a:gd name="adj2" fmla="val 35519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химическ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11"/>
          <p:cNvSpPr/>
          <p:nvPr/>
        </p:nvSpPr>
        <p:spPr>
          <a:xfrm>
            <a:off x="6907320" y="3789360"/>
            <a:ext cx="1877760" cy="552600"/>
          </a:xfrm>
          <a:prstGeom prst="leftArrow">
            <a:avLst>
              <a:gd name="adj1" fmla="val 50000"/>
              <a:gd name="adj2" fmla="val 35554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металлург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12"/>
          <p:cNvSpPr/>
          <p:nvPr/>
        </p:nvSpPr>
        <p:spPr>
          <a:xfrm>
            <a:off x="6873840" y="5373720"/>
            <a:ext cx="1944720" cy="552240"/>
          </a:xfrm>
          <a:prstGeom prst="leftArrow">
            <a:avLst>
              <a:gd name="adj1" fmla="val 50000"/>
              <a:gd name="adj2" fmla="val 3559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машиностро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13"/>
          <p:cNvSpPr/>
          <p:nvPr/>
        </p:nvSpPr>
        <p:spPr>
          <a:xfrm>
            <a:off x="353880" y="5373720"/>
            <a:ext cx="2202120" cy="421200"/>
          </a:xfrm>
          <a:prstGeom prst="pi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пищев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184320" y="1954080"/>
            <a:ext cx="2808000" cy="421200"/>
          </a:xfrm>
          <a:prstGeom prst="pi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5"/>
          <p:cNvSpPr/>
          <p:nvPr/>
        </p:nvSpPr>
        <p:spPr>
          <a:xfrm>
            <a:off x="371520" y="3449520"/>
            <a:ext cx="2544840" cy="421200"/>
          </a:xfrm>
          <a:prstGeom prst="pi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клима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6"/>
          <p:cNvSpPr/>
          <p:nvPr/>
        </p:nvSpPr>
        <p:spPr>
          <a:xfrm>
            <a:off x="468360" y="6033960"/>
            <a:ext cx="7924680" cy="7797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f0d01"/>
                </a:solidFill>
                <a:latin typeface="Arial"/>
              </a:rPr>
              <a:t>Уральский рай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7236000" y="6237360"/>
            <a:ext cx="1439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FCF20C-FB58-40AA-8D95-4C36517286C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254" name="AutoShape 2"/>
          <p:cNvCxnSpPr/>
          <p:nvPr/>
        </p:nvCxnSpPr>
        <p:spPr>
          <a:xfrm flipH="1" flipV="1">
            <a:off x="3785400" y="1285560"/>
            <a:ext cx="857880" cy="21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55" name="Rectangle 3"/>
          <p:cNvSpPr/>
          <p:nvPr/>
        </p:nvSpPr>
        <p:spPr>
          <a:xfrm>
            <a:off x="5429160" y="857160"/>
            <a:ext cx="3143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Голубой  цвет- </a:t>
            </a: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символизирует красоту,  легкость, величие , славу , честь , вер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6" name="AutoShape 4"/>
          <p:cNvCxnSpPr/>
          <p:nvPr/>
        </p:nvCxnSpPr>
        <p:spPr>
          <a:xfrm flipH="1" flipV="1">
            <a:off x="4357080" y="2642400"/>
            <a:ext cx="572040" cy="25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57" name="Rectangle 5"/>
          <p:cNvSpPr/>
          <p:nvPr/>
        </p:nvSpPr>
        <p:spPr>
          <a:xfrm>
            <a:off x="5500800" y="1928880"/>
            <a:ext cx="31431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Зеленые ветви </a:t>
            </a:r>
            <a:r>
              <a:rPr b="0" lang="ru-RU" sz="1800" spc="-1" strike="noStrike">
                <a:solidFill>
                  <a:srgbClr val="003366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символизируют надежду , изобилию, свободу и радость. А так же означают смешанные лес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AutoShape 6"/>
          <p:cNvCxnSpPr/>
          <p:nvPr/>
        </p:nvCxnSpPr>
        <p:spPr>
          <a:xfrm flipH="1" flipV="1">
            <a:off x="3144240" y="2788560"/>
            <a:ext cx="1215000" cy="5007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59" name="Rectangle 7"/>
          <p:cNvSpPr/>
          <p:nvPr/>
        </p:nvSpPr>
        <p:spPr>
          <a:xfrm>
            <a:off x="5572080" y="3500280"/>
            <a:ext cx="2786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Лось</a:t>
            </a:r>
            <a:r>
              <a:rPr b="0" lang="ru-RU" sz="1800" spc="-1" strike="noStrike">
                <a:solidFill>
                  <a:srgbClr val="003366"/>
                </a:solidFill>
                <a:latin typeface="Calibri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символ силы , вынослив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5572080" y="21420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Солнце</a:t>
            </a: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 - означает восх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1" name="AutoShape 9"/>
          <p:cNvCxnSpPr>
            <a:stCxn id="260" idx="1"/>
          </p:cNvCxnSpPr>
          <p:nvPr/>
        </p:nvCxnSpPr>
        <p:spPr>
          <a:xfrm flipH="1">
            <a:off x="2001240" y="-204840"/>
            <a:ext cx="1786680" cy="7120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262" name="AutoShape 10"/>
          <p:cNvCxnSpPr/>
          <p:nvPr/>
        </p:nvCxnSpPr>
        <p:spPr>
          <a:xfrm flipH="1" flipV="1">
            <a:off x="2071080" y="4928400"/>
            <a:ext cx="1857960" cy="25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63" name="Rectangle 11"/>
          <p:cNvSpPr/>
          <p:nvPr/>
        </p:nvSpPr>
        <p:spPr>
          <a:xfrm>
            <a:off x="5786280" y="464328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Стелла</a:t>
            </a:r>
            <a:r>
              <a:rPr b="0" lang="ru-RU" sz="1800" spc="-1" strike="noStrike">
                <a:solidFill>
                  <a:srgbClr val="003366"/>
                </a:solidFill>
                <a:latin typeface="Calibri"/>
              </a:rPr>
              <a:t> - означает город воинской сла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368360" y="-1652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Тихв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5" name="AutoShape 13"/>
          <p:cNvCxnSpPr/>
          <p:nvPr/>
        </p:nvCxnSpPr>
        <p:spPr>
          <a:xfrm flipH="1" flipV="1">
            <a:off x="-714960" y="715680"/>
            <a:ext cx="3429720" cy="27151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66" name="Rectangle 14"/>
          <p:cNvSpPr/>
          <p:nvPr/>
        </p:nvSpPr>
        <p:spPr>
          <a:xfrm>
            <a:off x="6000840" y="578628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Монастырь</a:t>
            </a:r>
            <a:r>
              <a:rPr b="0" lang="ru-RU" sz="1800" spc="-1" strike="noStrike">
                <a:solidFill>
                  <a:srgbClr val="003366"/>
                </a:solidFill>
                <a:latin typeface="Calibri"/>
              </a:rPr>
              <a:t>-святой г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Нижний колонтитул 4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Номер слайда 5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885F24-8E6B-4C4C-BABA-38590B290B8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Нижний колонтитул 4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Номер слайда 5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FF06C5-0678-42E0-8BDD-05D038C4AB8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Нижний колонтитул 4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Номер слайда 5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11074D-9161-4BB9-B00C-FC98F5DAA38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ижний колонтитул 4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Номер слайда 5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44E601-76F8-4C67-AB42-B651A7BC8C4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-7920" y="-126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Дата 3"/>
          <p:cNvSpPr/>
          <p:nvPr/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04.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4" descr="Герб Восточной Сибири1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ижний колонтитул 4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Номер слайда 5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DCE296-8F52-43C5-95D8-716E9D85247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Line 2"/>
          <p:cNvSpPr/>
          <p:nvPr/>
        </p:nvSpPr>
        <p:spPr>
          <a:xfrm flipV="1">
            <a:off x="4816440" y="2076120"/>
            <a:ext cx="1882800" cy="44748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5689440" y="1717560"/>
            <a:ext cx="3257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казатель особенности ландшаф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4"/>
          <p:cNvSpPr/>
          <p:nvPr/>
        </p:nvSpPr>
        <p:spPr>
          <a:xfrm flipH="1" flipV="1">
            <a:off x="5143680" y="3646080"/>
            <a:ext cx="1746000" cy="2732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6624720" y="3327480"/>
            <a:ext cx="22287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еобладание субтропической зон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 flipH="1" flipV="1">
            <a:off x="4100040" y="4002120"/>
            <a:ext cx="306360" cy="138888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4470480" y="5195880"/>
            <a:ext cx="2543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пециализация района —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гропромышленная отрас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 flipV="1">
            <a:off x="1479600" y="3844440"/>
            <a:ext cx="1341360" cy="1652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184320" y="4087800"/>
            <a:ext cx="1819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главная отрасль — животновод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1EE5B4-9D48-43E7-89CF-0836EF74C91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зультат (продукт)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755640" y="1989000"/>
            <a:ext cx="8388360" cy="48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письменная работ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(эссе, реферат, отчёт о проделанном исследовании и др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художественная творческая работ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представленная в виде прозаического или стихотворного произведения, инсценировки, художественной декламации, исполнения музыкального произведения, компьютерной анимации и др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материальный объект, макет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иное конструкторское издели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отчётные материалы по социальному проекту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которые могут включать как тексты, так и мультимедийные продукты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ижний колонтитул 4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Номер слайда 5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6344AB-0A8D-44A7-8A88-7DE2E065251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E5D3FA-1351-42AC-B490-6A2D0AF495F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чебно-исследовательская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539640" y="2362320"/>
            <a:ext cx="842508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чебно-исследовательская деятельнос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оспитанников –  это разновидность учебной работы, направленной на удовлетворение познавательной потребности обучающихся, связанная с освоением методов познания и выяснения той или иной закономерности развития научных представлений  об окружающем ми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17165D-02D2-4374-88D2-B3C87AE65C5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обенности исследовательской и проект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684360" y="1916280"/>
            <a:ext cx="8459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Цели и задач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определяются как личностными, так и социальными мотивами обучающих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ичностны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повышение компетентности в предметной области, развитие способ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циальны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создание продукта, имеющего значимость для друг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524ABD-52B9-4E36-9ABB-F715AF3DDA5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обенности исследовательской и проект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684360" y="1916280"/>
            <a:ext cx="84596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Общение и сотрудничество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Учащиеся овладевают нормами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заимоотношен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 разными людьми (одноклассники, учителя, родители), умениями переходить от одного вида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ще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 другому приобретают навыки индивидуальной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амостоятельной работ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трудничеств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 коллекти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4F24D7-A312-42CB-B98F-7429D75FCFB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обенности исследовательской и проект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684360" y="1916280"/>
            <a:ext cx="8459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Сочетание различных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видов познавательно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деятель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В этих видах деятельности могут быть востребованы практически любые способности учащихся, реализованы личные пристрастия к тому или иному виду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.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Формирование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УД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универсальных учебных действи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A5FE64-499A-442E-A649-768B3D29CDD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щие характерис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684360" y="1916280"/>
            <a:ext cx="845964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2080">
              <a:spcBef>
                <a:spcPts val="60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актически значимые цели и зада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руктура ПД и УИД включает общие компоненты: целеполагание, формулировка задач, выбор средств и методов, планирование, проведение исследования, оформление результатов, представление результа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мпетентность в выбранной сфере , творческая активность, собранность, целеустремлённость, высокая мотив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60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501727-0517-4353-B887-40CF93FA9B6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774720" y="639720"/>
            <a:ext cx="77421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ецифические черт(различия)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ПД                           УИ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2362320"/>
          <a:ext cx="8128080" cy="3751200"/>
        </p:xfrm>
        <a:graphic>
          <a:graphicData uri="http://schemas.openxmlformats.org/drawingml/2006/table">
            <a:tbl>
              <a:tblPr/>
              <a:tblGrid>
                <a:gridCol w="4065840"/>
                <a:gridCol w="4062240"/>
              </a:tblGrid>
              <a:tr h="375120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еализацию предваряет представление о будущем проекте, планирование процесса создания продукта. Результат проекта должен быть точно соотнесён со всеми характеристиками, сформулированными в его замысл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огика построения УИД включает формулировку проблемы исследования, выдвижение гипотезы и последующую экспериментальную  или модельную проверку выдвинутых предположений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14:32:14Z</dcterms:created>
  <dc:creator>Александр</dc:creator>
  <dc:description/>
  <dc:language>en-US</dc:language>
  <cp:lastModifiedBy>Олег</cp:lastModifiedBy>
  <dcterms:modified xsi:type="dcterms:W3CDTF">2012-05-01T09:51:50Z</dcterms:modified>
  <cp:revision>133</cp:revision>
  <dc:subject/>
  <dc:title>Организация проектной деятельности</dc:title>
</cp:coreProperties>
</file>