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80B393A-07B7-4A5D-8C19-92EBB9DF400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38C1E6E-BF85-4AAA-A763-AE62530EE01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4433EE42-B844-426F-9B18-96B7C32BD9A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F8EA65F-0194-4E8E-80EB-A3A9750EEBB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F400F1D6-17EA-4DA2-870E-7E0D6AA6941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91C3F34-A230-4192-AD7F-3774D253061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86C17B3B-08A4-443B-9567-2E6C2A8D85C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CC73BA9D-4117-44BB-8DD8-EE9A2B844D9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6988D7F-6850-48CB-BA8C-54260BBC823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C925F6FB-83B8-4AAB-AA9A-DC3AF9075B6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36EFF8A-5F7A-4FCE-9215-906A930391E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C63171B0-88D2-46B4-BB77-48385E2718B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34D5E0B-A249-4944-84D8-C36ECBAD656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039123D-38E2-41D6-A8CA-E63F97C1418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630CFF1-9428-4C05-9C6F-F289E0273E7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5C383B2-D2E9-4E04-916B-901E4817991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8376164-8FC9-4CDD-9B70-70673164721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3C68AFC6-B24C-4F61-98E0-19B58EBCDB3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81074FC3-E83B-489C-9E23-1F05A52F10F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2DFA394-4A5E-4605-9F1E-3146E632A16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4586C71-C061-440C-996A-AA2D5071D65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D058C36-398A-4A6E-A0DF-372140197C7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B81B6AE-8A7C-48E9-AD17-594247A384E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2E367A9-D2BD-45D0-BD92-CED7A7AC0B9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9413CBF-20D7-4295-9C5E-8056A453E42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5281B52-68A1-4543-978C-F8BF6978791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E9E22F7-7D1B-4D62-AD65-872BB8762F6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054-712F-4E4B-85AA-2F970493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052-F81B-439B-A0FB-4A96AF8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83B-DE52-41F2-88CA-A902E69B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61A-786A-4AAB-8242-DF915E95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7BE2-4802-4F57-A0FE-48005618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D8E3-8827-481E-957A-3C1D0FAA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704-29CE-495E-A499-C4363571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0ED9-C24A-474A-8034-33F278BD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E26F-810E-45A1-B631-0FCADB46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528-181C-440F-80F5-B07EDA7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4B3-0E97-4BDE-A9E6-0BEC4D3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A04-22B8-4E10-A2EC-76AE071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ADBE-A68B-4C22-953F-7B71650A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AFE-BB2F-4831-9BEB-0832082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27AA-CBB9-4C42-A6E7-34E6BE42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3CB-812E-44CD-8A06-B1359553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2CC-9DA9-4C1F-AC50-16ADDE6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8B216-DF8C-4E63-91FD-36422B976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3D975-C67B-4F6D-B03D-186B91B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60F71-53B7-48F7-9963-46751C3C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6EACD-313F-44D0-84B8-5CFEA97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0020D-3B65-42EC-BBED-527CF770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801-B3D4-4144-B873-7CEF02E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4563B-7947-4781-83C9-267DCFDA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ABB16-AF0A-49AA-B006-A464B6C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F1B85-3FC7-4834-8A04-B6E462D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F979A-98BE-441D-8BA6-8CCCF78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DAA7A-1BBA-42C7-A153-6CE3DD0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4A459-DAF9-4D57-8FBB-D1FD9CA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E0F33-7D97-402C-BD15-FAB747330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711-CB91-4961-BE78-0A919D1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8F5-FC4F-43C4-9957-2C45FC4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EB6-0594-4CE9-92F8-AACE1484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732-0C02-4F8D-A055-887CF2B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4EA-4D0E-4827-8E40-43F606C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AEF-FFF5-4EB4-8DE1-1BB4D2EA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5320"/>
                  <a:gd name="textAreaBottom" fmla="*/ 1165680 h 116532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6F3EC1-688B-4627-A4B8-C7CB7863060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13.0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72E0F8-031B-4955-A679-0025CD50CA9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13.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04587-83FA-49A8-8253-A797C8DBD717}" type="slidenum"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501C13-0A75-49F8-BEC4-BA12C2478165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07920" y="1122480"/>
            <a:ext cx="755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ая и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4360" y="4076640"/>
            <a:ext cx="7859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295960" y="3213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ПД и У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932360" y="42210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вижкова Л.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4CF95E-75E6-4556-B498-3E5FD5994B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ж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39640" y="2349360"/>
            <a:ext cx="8280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вместное планирование деятельности учителем и обучаю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няется роль учителя – из простого транслятора знаний он становится действительным организатором совместной работы с обучающимися, способствуя переходу к реальному сотрудничеству в ходе овладения зн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7A7BB7-BB6C-49A0-AD54-1E25460A63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914400" y="2465280"/>
            <a:ext cx="8050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видам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й (поисков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тель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кладной (практико-ориентирован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овой (ролевой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46FB16-C51B-43DF-984F-2F5177B5385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914400" y="2465280"/>
            <a:ext cx="805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содержани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редмет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предметный, относящийся к области знаний (нескольким областя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предметный, относящийся к области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84929E-4227-473B-8A67-C2446FD38E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900000" y="2205000"/>
            <a:ext cx="8050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о количеству участник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ой ( до 15 челов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лективный (класс, школ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ницип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российск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народн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те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9B79CE-C5F8-4AA8-9DED-BC981381584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00000" y="263700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дли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ткосрочный (уро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есро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лгосрочный (многолет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702328-D339-4B1D-92DD-BB5FF661621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900000" y="2394000"/>
            <a:ext cx="82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42920" y="2349360"/>
          <a:ext cx="7777080" cy="4032360"/>
        </p:xfrm>
        <a:graphic>
          <a:graphicData uri="http://schemas.openxmlformats.org/drawingml/2006/table">
            <a:tbl>
              <a:tblPr/>
              <a:tblGrid>
                <a:gridCol w="3332160"/>
                <a:gridCol w="4444920"/>
              </a:tblGrid>
              <a:tr h="1346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онно-подготовите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ыбор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оставление пл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формирование груп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иск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ис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бобщение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формление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одготовка к защи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резент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65DD13-3510-46B4-B859-7427D177B3B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начинается с постановки основополагающего вопр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26920" y="2349360"/>
            <a:ext cx="7920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новополагающи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целивают учащихся на более высокий уровень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мулируют воображение учащихся, связывают предмет изучения с собственными идеями и опы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авляют учащихся исследовать множество вариа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ная деятельность учащихся 9-ых клас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Раздел «Районы России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оздание эмблемы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герба район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ставить образ территории через создание слайд-проек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общить и систематизировать знания о райо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казать возможность использования компьютера как инструмент практической и учебной деятельности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особствовать развитию творческого потенциала учащих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интерес к познанию, осознанному и самостоятельному получению информ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коммуникативные навыки, умение вести дискуссию, приводить аргументы в пользу различных версий, доказывать свою точку з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меть лаконично и чётко излагать свои мысли, уметь слушать и уважать мнение други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итерии оценки работ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ответствие содержания сформулированной теме, поставленным целям и задач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ладение предметными знаниями, нормативной базой, современными технолог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ткость изложения материала, лаконичность, нагляд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игинальность раскрытия те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чимость материала для друг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E4CFD8-629D-46B1-ABEB-4791473CAC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проект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роект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–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 – решение конкретной задачи, значимой для обучающихся и оформленной в виде некоего конечного проду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02EF4D-F2C2-4B6C-B775-153A8EB8FB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герб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3780000" y="2362320"/>
            <a:ext cx="475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Герб (нем. </a:t>
            </a:r>
            <a:r>
              <a:rPr b="0" lang="de-DE" sz="2900" spc="-1" strike="noStrike">
                <a:solidFill>
                  <a:srgbClr val="003366"/>
                </a:solidFill>
                <a:latin typeface="Monotype Corsiva"/>
              </a:rPr>
              <a:t>Erbe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 — наследство) — эмблема, отличительный знак, передаваемый по наследству, на котором изображаются предметы, символизирующие владельца герба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857160" y="2708280"/>
            <a:ext cx="3210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058E65-F81C-4C14-8F78-FF8882B760B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исхождение гер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781440" y="2506680"/>
            <a:ext cx="47512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Гербы, в близкой к современной форме, появились в Средние века в западной Европе, в Англии и Франции. Первым гербом считается щит с шестью золотыми львами в лазоревом поле, который, согласно оспариваемой сегодня версии, Жоффруа V Анжуйский получил в 1127 или 1128 году от своего тестя, короля Англии Генриха I по случаю женитьбы на его дочери Матильде, вдове императора Генриха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900000" y="2862360"/>
            <a:ext cx="2995560" cy="32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695BBD-A6F4-4B6F-805D-09D63709B14D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335640" cy="6619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"/>
          <p:cNvGrpSpPr/>
          <p:nvPr/>
        </p:nvGrpSpPr>
        <p:grpSpPr>
          <a:xfrm>
            <a:off x="1542960" y="109440"/>
            <a:ext cx="5843520" cy="5918400"/>
            <a:chOff x="1542960" y="109440"/>
            <a:chExt cx="5843520" cy="591840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1542960" y="109440"/>
              <a:ext cx="5843520" cy="59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"/>
            <p:cNvSpPr/>
            <p:nvPr/>
          </p:nvSpPr>
          <p:spPr>
            <a:xfrm>
              <a:off x="1542960" y="109440"/>
              <a:ext cx="584352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AutoShape 5"/>
          <p:cNvSpPr/>
          <p:nvPr/>
        </p:nvSpPr>
        <p:spPr>
          <a:xfrm>
            <a:off x="5724360" y="344520"/>
            <a:ext cx="2232360" cy="552960"/>
          </a:xfrm>
          <a:prstGeom prst="leftArrow">
            <a:avLst>
              <a:gd name="adj1" fmla="val 50000"/>
              <a:gd name="adj2" fmla="val 3553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население и площа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04920" y="4203720"/>
            <a:ext cx="1238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о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79280" y="919080"/>
            <a:ext cx="20336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геогр. све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96920" y="2768760"/>
            <a:ext cx="1454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/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551640" y="1403280"/>
            <a:ext cx="2233440" cy="552960"/>
          </a:xfrm>
          <a:prstGeom prst="leftArrow">
            <a:avLst>
              <a:gd name="adj1" fmla="val 50000"/>
              <a:gd name="adj2" fmla="val 3554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олезные ископа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6732720" y="2682720"/>
            <a:ext cx="1726920" cy="552600"/>
          </a:xfrm>
          <a:prstGeom prst="leftArrow">
            <a:avLst>
              <a:gd name="adj1" fmla="val 50000"/>
              <a:gd name="adj2" fmla="val 35519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химиче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07320" y="3789360"/>
            <a:ext cx="1877760" cy="552600"/>
          </a:xfrm>
          <a:prstGeom prst="leftArrow">
            <a:avLst>
              <a:gd name="adj1" fmla="val 50000"/>
              <a:gd name="adj2" fmla="val 35554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еталлур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6873840" y="5373720"/>
            <a:ext cx="1944720" cy="552240"/>
          </a:xfrm>
          <a:prstGeom prst="leftArrow">
            <a:avLst>
              <a:gd name="adj1" fmla="val 50000"/>
              <a:gd name="adj2" fmla="val 3559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ашиностро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353880" y="5373720"/>
            <a:ext cx="220212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ище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184320" y="1954080"/>
            <a:ext cx="280800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371520" y="3449520"/>
            <a:ext cx="25448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клима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468360" y="6033960"/>
            <a:ext cx="7924680" cy="7797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f0d01"/>
                </a:solidFill>
                <a:latin typeface="Arial"/>
              </a:rPr>
              <a:t>Уральский рай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7236000" y="623736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A36C2E-CFB7-4AD0-BE2D-43CEB71CC99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54" name="AutoShape 2"/>
          <p:cNvCxnSpPr/>
          <p:nvPr/>
        </p:nvCxnSpPr>
        <p:spPr>
          <a:xfrm flipH="1" flipV="1">
            <a:off x="3785400" y="1285560"/>
            <a:ext cx="85788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5" name="Rectangle 3"/>
          <p:cNvSpPr/>
          <p:nvPr/>
        </p:nvSpPr>
        <p:spPr>
          <a:xfrm>
            <a:off x="5429160" y="857160"/>
            <a:ext cx="3143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Голубой  цвет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ет красоту,  легкость, величие , славу , честь , вер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AutoShape 4"/>
          <p:cNvCxnSpPr/>
          <p:nvPr/>
        </p:nvCxnSpPr>
        <p:spPr>
          <a:xfrm flipH="1" flipV="1">
            <a:off x="4357080" y="2642400"/>
            <a:ext cx="57204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7" name="Rectangle 5"/>
          <p:cNvSpPr/>
          <p:nvPr/>
        </p:nvSpPr>
        <p:spPr>
          <a:xfrm>
            <a:off x="5500800" y="1928880"/>
            <a:ext cx="31431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Зеленые ветви 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ют надежду , изобилию, свободу и радость. А так же означают смешанные л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AutoShape 6"/>
          <p:cNvCxnSpPr/>
          <p:nvPr/>
        </p:nvCxnSpPr>
        <p:spPr>
          <a:xfrm flipH="1" flipV="1">
            <a:off x="3144240" y="2788560"/>
            <a:ext cx="1215000" cy="5007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9" name="Rectangle 7"/>
          <p:cNvSpPr/>
          <p:nvPr/>
        </p:nvSpPr>
        <p:spPr>
          <a:xfrm>
            <a:off x="5572080" y="3500280"/>
            <a:ext cx="278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Лос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 силы , вынослив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572080" y="21420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Солнце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 - означает вос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9"/>
          <p:cNvCxnSpPr>
            <a:stCxn id="260" idx="1"/>
          </p:cNvCxnSpPr>
          <p:nvPr/>
        </p:nvCxnSpPr>
        <p:spPr>
          <a:xfrm flipH="1">
            <a:off x="2001240" y="-204840"/>
            <a:ext cx="1786680" cy="712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62" name="AutoShape 10"/>
          <p:cNvCxnSpPr/>
          <p:nvPr/>
        </p:nvCxnSpPr>
        <p:spPr>
          <a:xfrm flipH="1" flipV="1">
            <a:off x="2071080" y="4928400"/>
            <a:ext cx="185796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3" name="Rectangle 11"/>
          <p:cNvSpPr/>
          <p:nvPr/>
        </p:nvSpPr>
        <p:spPr>
          <a:xfrm>
            <a:off x="5786280" y="46432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Стелла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 - означает город воинской с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368360" y="-165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Тихв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AutoShape 13"/>
          <p:cNvCxnSpPr/>
          <p:nvPr/>
        </p:nvCxnSpPr>
        <p:spPr>
          <a:xfrm flipH="1" flipV="1">
            <a:off x="-714960" y="715680"/>
            <a:ext cx="3429720" cy="27151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6" name="Rectangle 14"/>
          <p:cNvSpPr/>
          <p:nvPr/>
        </p:nvSpPr>
        <p:spPr>
          <a:xfrm>
            <a:off x="6000840" y="57862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онастыр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святой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60B0F1-733E-40F2-81B4-EADED983DD9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C1FD21-752A-49C2-980F-E8820E784A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92469-9715-4439-9C52-257141BC9C0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8B25B-71BB-490F-9F94-C92697951B1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-792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Герб Восточной Сибири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C5E461-7586-4DC7-A013-C8D15BD0DD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Line 2"/>
          <p:cNvSpPr/>
          <p:nvPr/>
        </p:nvSpPr>
        <p:spPr>
          <a:xfrm flipV="1">
            <a:off x="4816440" y="2076120"/>
            <a:ext cx="1882800" cy="4474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689440" y="1717560"/>
            <a:ext cx="3257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казатель особенности ландшаф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 flipH="1" flipV="1">
            <a:off x="5143680" y="3646080"/>
            <a:ext cx="1746000" cy="273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24720" y="3327480"/>
            <a:ext cx="2228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обладание субтропической зо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 flipV="1">
            <a:off x="4100040" y="4002120"/>
            <a:ext cx="306360" cy="1388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470480" y="5195880"/>
            <a:ext cx="2543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пециализация района —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гропромышленная отрас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V="1">
            <a:off x="1479600" y="3844440"/>
            <a:ext cx="1341360" cy="165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84320" y="4087800"/>
            <a:ext cx="1819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лавная отрасль — животно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9F1851-1848-4A5B-A788-D0B2C0E642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755640" y="1989000"/>
            <a:ext cx="83883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исьменн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эссе, реферат, отчёт о проделанном исследовании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художественная творческ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материальный объект, мак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иное конструкторское издел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тчётные материалы по социальному проек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е могут включать как тексты, так и мультимедийные продукты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456392-8CBA-4E2A-BC28-352F853D3B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BD2641-38F3-424B-B903-54EE2248AD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чеб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539640" y="2362320"/>
            <a:ext cx="842508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спитанников –  это разновидность учебной работы, направленной на удовлетворение познавательной потребности обучающихся, связанная с освоением методов познания и выяснения той или иной закономерности развития научных представлений  об окружающем ми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103E42-E791-4C08-B2B2-55C794257C7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яются как личностными, так и социальными мотивами обучаю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вышение компетентности в предметной области, развитие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циа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оздание продукта, имеющего значимость для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A3A683-9AA7-4632-8554-5B4DC7657ED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436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бщение и сотрудничеств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Учащиеся овладевают норм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заимоотноше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 разными людьми (одноклассники, учителя, родители), умениями переходить от одного вида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 другому приобретают навыки индивидуально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амостоятельной рабо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труднич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7F1D4D-C2CB-4916-912F-76055EEDEC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очетание различных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идов познаватель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этих видах деятельности могут быть востребованы практически любые способности учащихся, реализованы личные пристрастия к тому или иному виду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ормирование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УД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универсальных учебных действ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85C23A-E7A1-48B8-AA54-92754F5B4D0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ие характерис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84360" y="1916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чески значимые цели 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Д и УИД включает общие компоненты: целеполагание, формулировка задач, выбор средств и методов, планирование, проведение исследования, оформление результатов, представлени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етентность в выбранной сфере , творческая активность, собранность, целеустремлённость, высокая мотив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62BBB2-63F3-4C07-94E3-5AB5DF5AF87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774720" y="639720"/>
            <a:ext cx="77421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ецифические черт(различия)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ПД                           У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362320"/>
          <a:ext cx="8128080" cy="3751200"/>
        </p:xfrm>
        <a:graphic>
          <a:graphicData uri="http://schemas.openxmlformats.org/drawingml/2006/table">
            <a:tbl>
              <a:tblPr/>
              <a:tblGrid>
                <a:gridCol w="4065840"/>
                <a:gridCol w="4062240"/>
              </a:tblGrid>
              <a:tr h="375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ализацию предваряет представление о будущем проекте, планирование процесса создания продукта. Результат проекта должен быть точно соотнесён со всеми характеристиками, сформулированными в его замысл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гика построения УИД включает формулировку проблемы исследования, выдвижение гипотезы и последующую экспериментальную  или модельную проверку выдвинутых предполож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Олег</cp:lastModifiedBy>
  <dcterms:modified xsi:type="dcterms:W3CDTF">2012-05-01T09:51:50Z</dcterms:modified>
  <cp:revision>133</cp:revision>
  <dc:subject/>
  <dc:title>Организация проектной деятельности</dc:title>
</cp:coreProperties>
</file>