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9"/>
          </p:nvPr>
        </p:nvSpPr>
        <p:spPr>
          <a:xfrm>
            <a:off x="40226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0"/>
          </p:nvPr>
        </p:nvSpPr>
        <p:spPr>
          <a:xfrm>
            <a:off x="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1"/>
          </p:nvPr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06EDDC59-9F43-4683-B39E-D0D0B1B6679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391C47E6-E99D-4A1F-BCB5-680A292139D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A15B3BF-1772-4506-8B34-99C9B7FDE86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2456D81-16D8-4AEA-A176-18501A04358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E7F9A451-6F11-4A3C-89DC-BF89C11068C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835145C-0930-4C8C-89A4-5AC7C09642B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F4831231-B551-4209-B1F4-40598DBF98A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AADEDF99-715C-4DAF-89A8-C704CEA4945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0CC0C65E-8DF3-4EDD-9E0B-2797C50CEE7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BA4CA56C-4394-4E32-9D37-028913A506B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11EB0390-BEE7-4D71-9D80-5F3D1085559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1A298516-033A-4BF3-A6DF-BF09D3C7E0B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8EBD0B5D-DFFD-4419-A3E5-34F089CCDEB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650938D0-6617-4F23-AB03-E18D5A078BD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99DB4EA2-1B76-4921-B43F-8D19D4B93AF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0BE1DBD-D56A-4C15-AD44-D8B384D63D0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B0515872-47FC-4015-8B96-64A737A54EC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085A99C0-2445-4E4D-BF4D-E1EB724D534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8C83D954-339E-4183-BB33-A853D6133CE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1D3D8A22-3BCA-499B-AEEE-A798DBFDE8C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EAC8BBBF-A49F-4F8E-BCBC-FB135AD2D90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7F69E93E-7199-4E33-9269-D2B9A881498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545C08B1-5476-4DCB-9CD7-C1C3E05767F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4C27ED3D-9D82-4829-9AEA-D5F4F85AA83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4D410E11-0BA6-4731-A158-660E8ECC429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13BF1173-0382-42B3-82CE-91FA8E2198F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0226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  <a:tab algn="l" pos="10234440"/>
                <a:tab algn="l" pos="10721880"/>
              </a:tabLst>
            </a:pPr>
            <a:fld id="{254A8BA8-8563-4B5A-85A3-3D99C70B156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DejaVu Sans Light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6E4-C363-43BA-8825-CD59F75C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463-7C3C-47AA-8DAC-8FB29F79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1B3-5E7A-4BAE-AC30-43937FAE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A74-8E9E-4BB5-A9D2-C5AFA61A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6C99-5310-46AF-8F66-C9B6E6E2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482E-CF9D-4618-9AEC-E1D5DFB7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2710-0775-4B16-9849-8A8615F5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C28B-951A-46F0-9A1B-7278F6B5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E7A0-8E95-4469-8DFC-84A674A9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E569-8B69-4AC9-A8FE-8523E31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EBEB-53C9-4593-A77D-2A7658D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2F3-270F-4B61-8A0F-A297BB37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9C5E-A44D-4281-8186-9F70748F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F6C2-A201-49C7-BDF9-546E7008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8E74-E47C-4F77-A730-11C7CE7D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7082-9E94-4A26-A01F-91B40403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0F98-0690-42CF-8DC1-A7C1E1CF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38172-A1B5-407C-BC8A-7A074510E5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668CD-96BF-4956-8049-3A3A155B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B43F7-7D17-4787-9ADA-71B0D027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506A1-64DE-4F1D-AA65-78E15775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37A40-CFD1-44D8-854F-7BFA72F8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C14-21CB-4C50-9A02-C4C484FE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7EC8C-1C20-4C6A-AAA6-444E50CB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89CC7-C72B-4FD5-AD0E-B536253F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C3620-ECA1-4453-8FC2-F2CEFD2D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17F0A-D633-41D1-A469-17EAC82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EBB1C-F663-4099-93E8-D4801495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B0D74-05D3-405A-80BA-329BAE1D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3836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39000" y="236196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3836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39000" y="4785840"/>
            <a:ext cx="24764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E1E38-180B-421C-B6F9-0ADF9A920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8AB-B52C-482B-9C40-F6DB0601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971-9A80-4697-A00F-77CE007F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750960"/>
            <a:ext cx="77788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9F9-357D-40C8-A779-1EA996F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2EA-6EA7-4647-9253-B0D5DB76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78584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45D-1EDF-49D5-9AA3-6AC7386F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1960"/>
            <a:ext cx="375336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785840"/>
            <a:ext cx="769140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C31-A0F6-496B-8D12-0FA252A1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5320"/>
                  <a:gd name="textAreaBottom" fmla="*/ 1165680 h 116532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3.04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90ADE6-96A2-4277-8F02-73A9B698BA1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13.04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58C86C-8933-47D4-8BBF-170F5B2F1DA9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1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786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13.4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081B4F-60A6-4AD3-A43A-F492896FC164}" type="slidenum">
              <a:rPr b="0" lang="ru-RU" sz="2400" spc="-1" strike="noStrike">
                <a:solidFill>
                  <a:srgbClr val="000000"/>
                </a:solidFill>
                <a:latin typeface="Palatino Linotype"/>
                <a:ea typeface="DejaVu Sans Ligh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DejaVu Sans Light"/>
              </a:rPr>
              <a:t>г.Тихвин,  МОУ "Лицей № 8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7632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AF50CB-CD2F-46F5-942C-66E4D73158D3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07920" y="1122480"/>
            <a:ext cx="755820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ектная и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 уча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4360" y="4076640"/>
            <a:ext cx="785952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295960" y="321300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ПД и УИД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932360" y="42210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движкова Л.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D2A205-4BAF-47DA-B95C-9E4068370C6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аж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539640" y="2349360"/>
            <a:ext cx="828036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вместное планирование деятельности учителем и обучаю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0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меняется роль учителя – из простого транслятора знаний он становится действительным организатором совместной работы с обучающимися, способствуя переходу к реальному сотрудничеству в ходе овладения зн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5D7923-8CD5-4989-811F-1638F44886C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914400" y="2465280"/>
            <a:ext cx="80503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видам 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й (поисков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следователь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аль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кладной (практико-ориентированны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овой (ролевой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1C6034-E1F6-4AC0-82AE-419D916897D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914400" y="2465280"/>
            <a:ext cx="80503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содержани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нопредмет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жпредметный, относящийся к области знаний (нескольким областям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апредметный, относящийся к области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B0274C-44C0-4091-B6AF-67B93CCE62B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900000" y="2205000"/>
            <a:ext cx="8050320" cy="49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о количеству участнико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дивиду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р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пповой ( до 15 челове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ллективный (класс, школ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униципаль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российск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ждународны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тев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BDB97C-1056-48A7-A63A-C0C72C37B6C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ология форм организации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900000" y="2637000"/>
            <a:ext cx="7559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дли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ткосрочный (урок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есрочн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лгосрочный (многолетни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E3579D-1A4B-401C-9664-E5F480D157C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ы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900000" y="2394000"/>
            <a:ext cx="824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42920" y="2349360"/>
          <a:ext cx="7777080" cy="4032360"/>
        </p:xfrm>
        <a:graphic>
          <a:graphicData uri="http://schemas.openxmlformats.org/drawingml/2006/table">
            <a:tbl>
              <a:tblPr/>
              <a:tblGrid>
                <a:gridCol w="3332160"/>
                <a:gridCol w="4444920"/>
              </a:tblGrid>
              <a:tr h="13464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ганизационно-подготовите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выбор темы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составление пла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 indent="-455760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1371600"/>
                          <a:tab algn="l" pos="2286000"/>
                          <a:tab algn="l" pos="3200400"/>
                          <a:tab algn="l" pos="4114800"/>
                          <a:tab algn="l" pos="5029200"/>
                          <a:tab algn="l" pos="5943600"/>
                          <a:tab algn="l" pos="6858000"/>
                          <a:tab algn="l" pos="7772400"/>
                          <a:tab algn="l" pos="8686800"/>
                          <a:tab algn="l" pos="9601200"/>
                          <a:tab algn="l" pos="1051560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формирование груп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28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иск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исслед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бобщение результа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оформление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тоговы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одготовка к защи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презентация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 рефлек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5C857B-9502-469E-AF08-618BF6D922B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 начинается с постановки основополагающего вопр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26920" y="2349360"/>
            <a:ext cx="7920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сновополагающие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целивают учащихся на более высокий уровень мыш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тимулируют воображение учащихся, связывают предмет изучения с собственными идеями и опы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ставляют учащихся исследовать множество вариан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ектная деятельность учащихся 9-ых класс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Раздел «Районы России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Создание эмблемы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герба района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проек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ставить образ территории через создание слайд-проек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общить и систематизировать знания о район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казать возможность использования компьютера как инструмент практической и учебной деятельности челове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пособствовать развитию творческого потенциала учащихс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вивать интерес к познанию, осознанному и самостоятельному получению информ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звивать коммуникативные навыки, умение вести дискуссию, приводить аргументы в пользу различных версий, доказывать свою точку зр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меть лаконично и чётко излагать свои мысли, уметь слушать и уважать мнение други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ритерии оценки работ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76914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ответствие содержания сформулированной теме, поставленным целям и задач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ладение предметными знаниями, нормативной базой, современными технология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ткость изложения материала, лаконичность, нагляд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игинальность раскрытия те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чимость материала для друг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F13F9B-5C4E-49A8-B18A-1C7DC6F1FA8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«проект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003366"/>
                </a:solidFill>
                <a:latin typeface="Arial"/>
              </a:rPr>
              <a:t>Проект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– это форма организации совместной деятельности учителя и обучающихся, совокупность приёмов и действий в их определённой последовательности, направленной на достижение поставленной цели – решение конкретной задачи, значимой для обучающихся и оформленной в виде некоего конечного продук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FE6A1B-C83C-49B3-B783-6CE420F4DAB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«герб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3780000" y="2362320"/>
            <a:ext cx="4751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900" spc="-1" strike="noStrike">
                <a:solidFill>
                  <a:srgbClr val="003366"/>
                </a:solidFill>
                <a:latin typeface="Monotype Corsiva"/>
              </a:rPr>
              <a:t>Герб (нем. </a:t>
            </a:r>
            <a:r>
              <a:rPr b="0" lang="de-DE" sz="2900" spc="-1" strike="noStrike">
                <a:solidFill>
                  <a:srgbClr val="003366"/>
                </a:solidFill>
                <a:latin typeface="Monotype Corsiva"/>
              </a:rPr>
              <a:t>Erbe</a:t>
            </a:r>
            <a:r>
              <a:rPr b="0" lang="ru-RU" sz="2900" spc="-1" strike="noStrike">
                <a:solidFill>
                  <a:srgbClr val="003366"/>
                </a:solidFill>
                <a:latin typeface="Monotype Corsiva"/>
              </a:rPr>
              <a:t> — наследство) — эмблема, отличительный знак, передаваемый по наследству, на котором изображаются предметы, символизирующие владельца герба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857160" y="2708280"/>
            <a:ext cx="32101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2DFF3A-B9A5-4139-A122-E32EFBCB0E3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исхождение гер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3781440" y="2506680"/>
            <a:ext cx="47512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Monotype Corsiva"/>
              </a:rPr>
              <a:t>Гербы, в близкой к современной форме, появились в Средние века в западной Европе, в Англии и Франции. Первым гербом считается щит с шестью золотыми львами в лазоревом поле, который, согласно оспариваемой сегодня версии, Жоффруа V Анжуйский получил в 1127 или 1128 году от своего тестя, короля Англии Генриха I по случаю женитьбы на его дочери Матильде, вдове императора Генриха 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900000" y="2862360"/>
            <a:ext cx="2995560" cy="32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DejaVu Sans Light"/>
              </a:rPr>
              <a:t>г.Тихвин,  МОУ "Лицей № 8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632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E6214A-A8EF-4E68-ACA5-2B5D018EB781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DejaVu Sans Light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335640" cy="66196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2"/>
          <p:cNvGrpSpPr/>
          <p:nvPr/>
        </p:nvGrpSpPr>
        <p:grpSpPr>
          <a:xfrm>
            <a:off x="1542960" y="109440"/>
            <a:ext cx="5843520" cy="5918400"/>
            <a:chOff x="1542960" y="109440"/>
            <a:chExt cx="5843520" cy="5918400"/>
          </a:xfrm>
        </p:grpSpPr>
        <p:pic>
          <p:nvPicPr>
            <p:cNvPr id="236" name="Picture 3" descr=""/>
            <p:cNvPicPr/>
            <p:nvPr/>
          </p:nvPicPr>
          <p:blipFill>
            <a:blip r:embed="rId2"/>
            <a:stretch/>
          </p:blipFill>
          <p:spPr>
            <a:xfrm>
              <a:off x="1542960" y="109440"/>
              <a:ext cx="5843520" cy="591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4"/>
            <p:cNvSpPr/>
            <p:nvPr/>
          </p:nvSpPr>
          <p:spPr>
            <a:xfrm>
              <a:off x="1542960" y="109440"/>
              <a:ext cx="5843520" cy="59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AutoShape 5"/>
          <p:cNvSpPr/>
          <p:nvPr/>
        </p:nvSpPr>
        <p:spPr>
          <a:xfrm>
            <a:off x="5724360" y="344520"/>
            <a:ext cx="2232360" cy="552960"/>
          </a:xfrm>
          <a:prstGeom prst="leftArrow">
            <a:avLst>
              <a:gd name="adj1" fmla="val 50000"/>
              <a:gd name="adj2" fmla="val 3553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население и площад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304920" y="4203720"/>
            <a:ext cx="12380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сост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179280" y="919080"/>
            <a:ext cx="20336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геогр. све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196920" y="2768760"/>
            <a:ext cx="14540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с/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6551640" y="1403280"/>
            <a:ext cx="2233440" cy="552960"/>
          </a:xfrm>
          <a:prstGeom prst="leftArrow">
            <a:avLst>
              <a:gd name="adj1" fmla="val 50000"/>
              <a:gd name="adj2" fmla="val 3554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полезные ископа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>
            <a:off x="6732720" y="2682720"/>
            <a:ext cx="1726920" cy="552600"/>
          </a:xfrm>
          <a:prstGeom prst="leftArrow">
            <a:avLst>
              <a:gd name="adj1" fmla="val 50000"/>
              <a:gd name="adj2" fmla="val 35519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химиче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>
            <a:off x="6907320" y="3789360"/>
            <a:ext cx="1877760" cy="552600"/>
          </a:xfrm>
          <a:prstGeom prst="leftArrow">
            <a:avLst>
              <a:gd name="adj1" fmla="val 50000"/>
              <a:gd name="adj2" fmla="val 35554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металлур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6873840" y="5373720"/>
            <a:ext cx="1944720" cy="552240"/>
          </a:xfrm>
          <a:prstGeom prst="leftArrow">
            <a:avLst>
              <a:gd name="adj1" fmla="val 50000"/>
              <a:gd name="adj2" fmla="val 3559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машиностро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3"/>
          <p:cNvSpPr/>
          <p:nvPr/>
        </p:nvSpPr>
        <p:spPr>
          <a:xfrm>
            <a:off x="353880" y="5373720"/>
            <a:ext cx="220212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пище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184320" y="1954080"/>
            <a:ext cx="280800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5"/>
          <p:cNvSpPr/>
          <p:nvPr/>
        </p:nvSpPr>
        <p:spPr>
          <a:xfrm>
            <a:off x="371520" y="3449520"/>
            <a:ext cx="2544840" cy="421200"/>
          </a:xfrm>
          <a:prstGeom prst="pi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alatino Linotype"/>
              </a:rPr>
              <a:t>клима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6"/>
          <p:cNvSpPr/>
          <p:nvPr/>
        </p:nvSpPr>
        <p:spPr>
          <a:xfrm>
            <a:off x="468360" y="6033960"/>
            <a:ext cx="7924680" cy="7797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f0d01"/>
                </a:solidFill>
                <a:latin typeface="Arial"/>
              </a:rPr>
              <a:t>Уральский рай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7236000" y="623736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9B2228-322E-42FE-9875-AF32E9D49E4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54" name="AutoShape 2"/>
          <p:cNvCxnSpPr/>
          <p:nvPr/>
        </p:nvCxnSpPr>
        <p:spPr>
          <a:xfrm flipH="1" flipV="1">
            <a:off x="3785400" y="1285560"/>
            <a:ext cx="857880" cy="21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55" name="Rectangle 3"/>
          <p:cNvSpPr/>
          <p:nvPr/>
        </p:nvSpPr>
        <p:spPr>
          <a:xfrm>
            <a:off x="5429160" y="857160"/>
            <a:ext cx="3143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Голубой  цвет- 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символизирует красоту,  легкость, величие , славу , честь , вер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AutoShape 4"/>
          <p:cNvCxnSpPr/>
          <p:nvPr/>
        </p:nvCxnSpPr>
        <p:spPr>
          <a:xfrm flipH="1" flipV="1">
            <a:off x="4357080" y="2642400"/>
            <a:ext cx="572040" cy="2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57" name="Rectangle 5"/>
          <p:cNvSpPr/>
          <p:nvPr/>
        </p:nvSpPr>
        <p:spPr>
          <a:xfrm>
            <a:off x="5500800" y="1928880"/>
            <a:ext cx="31431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Зеленые ветви 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символизируют надежду , изобилию, свободу и радость. А так же означают смешанные ле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AutoShape 6"/>
          <p:cNvCxnSpPr/>
          <p:nvPr/>
        </p:nvCxnSpPr>
        <p:spPr>
          <a:xfrm flipH="1" flipV="1">
            <a:off x="3144240" y="2788560"/>
            <a:ext cx="1215000" cy="50076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59" name="Rectangle 7"/>
          <p:cNvSpPr/>
          <p:nvPr/>
        </p:nvSpPr>
        <p:spPr>
          <a:xfrm>
            <a:off x="5572080" y="3500280"/>
            <a:ext cx="2786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Лось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символ силы , вынослив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5572080" y="21420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Солнце</a:t>
            </a:r>
            <a:r>
              <a:rPr b="0" lang="ru-RU" sz="1600" spc="-1" strike="noStrike">
                <a:solidFill>
                  <a:srgbClr val="003366"/>
                </a:solidFill>
                <a:latin typeface="Calibri"/>
              </a:rPr>
              <a:t> - означает вос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AutoShape 9"/>
          <p:cNvCxnSpPr>
            <a:stCxn id="260" idx="1"/>
          </p:cNvCxnSpPr>
          <p:nvPr/>
        </p:nvCxnSpPr>
        <p:spPr>
          <a:xfrm flipH="1">
            <a:off x="2001240" y="-204840"/>
            <a:ext cx="1786680" cy="712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62" name="AutoShape 10"/>
          <p:cNvCxnSpPr/>
          <p:nvPr/>
        </p:nvCxnSpPr>
        <p:spPr>
          <a:xfrm flipH="1" flipV="1">
            <a:off x="2071080" y="4928400"/>
            <a:ext cx="1857960" cy="25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63" name="Rectangle 11"/>
          <p:cNvSpPr/>
          <p:nvPr/>
        </p:nvSpPr>
        <p:spPr>
          <a:xfrm>
            <a:off x="5786280" y="46432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Стелла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 - означает город воинской сла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368360" y="-165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Тихв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AutoShape 13"/>
          <p:cNvCxnSpPr/>
          <p:nvPr/>
        </p:nvCxnSpPr>
        <p:spPr>
          <a:xfrm flipH="1" flipV="1">
            <a:off x="-714960" y="715680"/>
            <a:ext cx="3429720" cy="271512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266" name="Rectangle 14"/>
          <p:cNvSpPr/>
          <p:nvPr/>
        </p:nvSpPr>
        <p:spPr>
          <a:xfrm>
            <a:off x="6000840" y="57862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Монастырь</a:t>
            </a:r>
            <a:r>
              <a:rPr b="0" lang="ru-RU" sz="1800" spc="-1" strike="noStrike">
                <a:solidFill>
                  <a:srgbClr val="003366"/>
                </a:solidFill>
                <a:latin typeface="Calibri"/>
              </a:rPr>
              <a:t>-святой 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FC5F23-1C4B-4509-8291-DAA672F886D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532C00-A720-4288-81C0-EEB76A485F2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CC0E9D-42FA-4D60-856B-AE0EA841B8F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B9020E-65C0-49EF-9693-E538D8F83A7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-792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Дата 3"/>
          <p:cNvSpPr/>
          <p:nvPr/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04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Герб Восточной Сибири1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FC2540-39C7-4333-B697-80C2C63FBA2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Line 2"/>
          <p:cNvSpPr/>
          <p:nvPr/>
        </p:nvSpPr>
        <p:spPr>
          <a:xfrm flipV="1">
            <a:off x="4816440" y="2076120"/>
            <a:ext cx="1882800" cy="4474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689440" y="1717560"/>
            <a:ext cx="3257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казатель особенности ландшаф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"/>
          <p:cNvSpPr/>
          <p:nvPr/>
        </p:nvSpPr>
        <p:spPr>
          <a:xfrm flipH="1" flipV="1">
            <a:off x="5143680" y="3646080"/>
            <a:ext cx="1746000" cy="273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6624720" y="3327480"/>
            <a:ext cx="2228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еобладание субтропической зо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 flipV="1">
            <a:off x="4100040" y="4002120"/>
            <a:ext cx="306360" cy="13888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4470480" y="5195880"/>
            <a:ext cx="2543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специализация района —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агропромышленная отрас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V="1">
            <a:off x="1479600" y="3844440"/>
            <a:ext cx="1341360" cy="1652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84320" y="4087800"/>
            <a:ext cx="1819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главная отрасль — животно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A4D506-C647-467C-8244-4E5D2405B55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846000" y="566640"/>
            <a:ext cx="77425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ультат (продукт) проект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755640" y="1989000"/>
            <a:ext cx="8388360" cy="48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исьменн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эссе, реферат, отчёт о проделанном исследовании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художественная творческая работ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представленная в виде прозаического или стихотворного произведения, инсценировки, художественной декламации, исполнения музыкального произведения, компьютерной анимации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материальный объект, мак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иное конструкторское издел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тчётные материалы по социальному проект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е могут включать как тексты, так и мультимедийные продукты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ижний колонтитул 4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Номер слайда 5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2A54B8-EF5C-4704-B7E4-5A6E76AAD5B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251664-5401-42B4-81B7-9DB2761E4D5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чебно-исследователь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539640" y="2362320"/>
            <a:ext cx="842508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чебно-исследовательская деятельно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оспитанников –  это разновидность учебной работы, направленной на удовлетворение познавательной потребности обучающихся, связанная с освоением методов познания и выяснения той или иной закономерности развития научных представлений  об окружающем ми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A89E49-5033-423F-B314-2CD6553E0F0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Цели и задач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пределяются как личностными, так и социальными мотивами обучающих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вышение компетентности в предметной области, развитие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циаль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создание продукта, имеющего значимость для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52D95A-87EA-43D0-A922-A28D8FD5EBB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684360" y="1916280"/>
            <a:ext cx="8459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Общение и сотрудничеств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Учащиеся овладевают нормам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заимоотношен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 разными людьми (одноклассники, учителя, родители), умениями переходить от одного вида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 другому приобретают навыки индивидуальной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амостоятельной рабо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труднич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коллект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630D8D-4783-4C20-932A-0CBED4E2FC8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собенности исследовательской и проект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684360" y="1916280"/>
            <a:ext cx="8459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Сочетание различных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идов познавательно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деятель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В этих видах деятельности могут быть востребованы практически любые способности учащихся, реализованы личные пристрастия к тому или иному виду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Формирование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УД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универсальных учебных действ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89B212-E27C-4BC4-8337-F743B4742AE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щие характерис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684360" y="1916280"/>
            <a:ext cx="845964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ктически значимые цели и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ПД и УИД включает общие компоненты: целеполагание, формулировка задач, выбор средств и методов, планирование, проведение исследования, оформление результатов, представление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buClr>
                <a:srgbClr val="003366"/>
              </a:buClr>
              <a:buFont typeface="Arial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петентность в выбранной сфере , творческая активность, собранность, целеустремлённость, высокая мотив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2"/>
          <p:cNvSpPr/>
          <p:nvPr/>
        </p:nvSpPr>
        <p:spPr>
          <a:xfrm>
            <a:off x="579132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ихвин,  МОУ "Лицей № 8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8424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42A811-6ACB-4040-991B-2B62E898660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774720" y="639720"/>
            <a:ext cx="77421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ецифические черт(различия)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ПД                           УИ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2362320"/>
          <a:ext cx="8128080" cy="3751200"/>
        </p:xfrm>
        <a:graphic>
          <a:graphicData uri="http://schemas.openxmlformats.org/drawingml/2006/table">
            <a:tbl>
              <a:tblPr/>
              <a:tblGrid>
                <a:gridCol w="4065840"/>
                <a:gridCol w="4062240"/>
              </a:tblGrid>
              <a:tr h="375120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ализацию предваряет представление о будущем проекте, планирование процесса создания продукта. Результат проекта должен быть точно соотнесён со всеми характеристиками, сформулированными в его замысл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огика построения УИД включает формулировку проблемы исследования, выдвижение гипотезы и последующую экспериментальную  или модельную проверку выдвинутых предположен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14:32:14Z</dcterms:created>
  <dc:creator>Александр</dc:creator>
  <dc:description/>
  <dc:language>en-US</dc:language>
  <cp:lastModifiedBy>Олег</cp:lastModifiedBy>
  <dcterms:modified xsi:type="dcterms:W3CDTF">2012-05-01T09:51:50Z</dcterms:modified>
  <cp:revision>133</cp:revision>
  <dc:subject/>
  <dc:title>Организация проектной деятельности</dc:title>
</cp:coreProperties>
</file>