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824-C819-4A1F-BCBB-3D2DF0C6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EE6-66C1-4539-B6EE-2BFB399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A90-5DE2-4509-BA00-12903FEF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E06-9DB9-41B0-B970-193BC3ED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9320-DB7C-4B83-B8AC-14323B2C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86D8-ECE5-4C87-B0BD-7EB250C2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AAE0-8F93-4CE4-9AC7-8E13EAD7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AC1A-3C7D-4B9F-A9E5-110A19C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6994-2E93-421D-8B7E-625CCCFC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F5CE-85B8-42EF-B03C-961D2BF6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C16B-B66A-4EAD-8721-D2F4DE2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2C7-0E01-49B9-8930-5935BEA2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E050-2523-4F0A-84BB-5DAC2D8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D8C5-1D1F-4E85-B9CC-24F87C7F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9972-8CD5-4828-8D79-E18EE56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F3C5-06AB-465D-8E5A-2519662E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CBFC-43EF-4AA4-BF51-0ADDC23C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02B-47E9-4B23-92B7-BD06F1D4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0B6-6B9E-45C1-91C4-0F630C86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30E-D34F-472E-8592-F3A5BFF2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9DF-EEA0-4910-B911-568E0E34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BF1-83FE-4A82-B9F5-23687D5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0A6-1A2F-4958-8715-EF4CBEFE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78D-31E0-4509-9052-FAA34D44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B912-A071-4F90-B030-795C78E80A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209-767A-4048-A15A-636ADFD99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2.jpeg"/><Relationship Id="rId3" Type="http://schemas.openxmlformats.org/officeDocument/2006/relationships/image" Target="../media/image26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5761080" cy="3676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4000" y="115920"/>
            <a:ext cx="85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5b5b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ркие краски города Усть - Илимска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5b5b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692000" y="4868640"/>
            <a:ext cx="68403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Усть-Илимск на далекой сибирской ре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Усть-Илимск от огней городских вдалеке.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Я по карте слежу за маршрутом твоим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a4"/>
                </a:solidFill>
                <a:latin typeface="Times New Roman"/>
              </a:rPr>
              <a:t>Это странное слово ищу – Усть-Илим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 rot="726600">
            <a:off x="5113080" y="3514320"/>
            <a:ext cx="3598920" cy="287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 rot="20181600">
            <a:off x="766440" y="2682360"/>
            <a:ext cx="2433600" cy="3664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 rot="962400">
            <a:off x="2484000" y="549000"/>
            <a:ext cx="3162240" cy="2435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156360" y="1268280"/>
            <a:ext cx="216072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strips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41c"/>
            </a:gs>
            <a:gs pos="50000">
              <a:srgbClr val="ffff99"/>
            </a:gs>
            <a:gs pos="100000">
              <a:srgbClr val="ee94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280" y="256536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За летом наступает прекрасная и полная красок осень. Осень - время сборов урожая. Птицы улетают в тёплые к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Осень в Усть-Илимске"/>
          <p:cNvPicPr/>
          <p:nvPr/>
        </p:nvPicPr>
        <p:blipFill>
          <a:blip r:embed="rId1"/>
          <a:stretch/>
        </p:blipFill>
        <p:spPr>
          <a:xfrm rot="512400">
            <a:off x="323640" y="4365360"/>
            <a:ext cx="3025800" cy="2157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652200">
            <a:off x="221760" y="290160"/>
            <a:ext cx="3036960" cy="2025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0809200">
            <a:off x="6032160" y="306360"/>
            <a:ext cx="2889360" cy="200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492360" y="3860640"/>
            <a:ext cx="1932120" cy="287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0962800">
            <a:off x="5579640" y="4220640"/>
            <a:ext cx="3321000" cy="2225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419640" y="1125360"/>
            <a:ext cx="244764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ень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circl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66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Под ликом солнца"/>
          <p:cNvPicPr/>
          <p:nvPr/>
        </p:nvPicPr>
        <p:blipFill>
          <a:blip r:embed="rId1"/>
          <a:stretch/>
        </p:blipFill>
        <p:spPr>
          <a:xfrm rot="788400">
            <a:off x="468360" y="2421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ноябрьское пылание "/>
          <p:cNvPicPr/>
          <p:nvPr/>
        </p:nvPicPr>
        <p:blipFill>
          <a:blip r:embed="rId2"/>
          <a:stretch/>
        </p:blipFill>
        <p:spPr>
          <a:xfrm rot="986400">
            <a:off x="2195640" y="414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Природа края"/>
          <p:cNvPicPr/>
          <p:nvPr/>
        </p:nvPicPr>
        <p:blipFill>
          <a:blip r:embed="rId3"/>
          <a:stretch/>
        </p:blipFill>
        <p:spPr>
          <a:xfrm rot="721200">
            <a:off x="5292360" y="1197000"/>
            <a:ext cx="3240000" cy="235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 rot="758400">
            <a:off x="5292360" y="3789000"/>
            <a:ext cx="3168720" cy="214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 rot="734400">
            <a:off x="1835280" y="333000"/>
            <a:ext cx="3097080" cy="2062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5940360" y="260280"/>
            <a:ext cx="24480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ень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20000">
    <p:cover dir="r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Зим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има В нашем городе наступает постепенно. Деревья покрывает сне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ё вокруг станови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елоснежны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отные и пти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отовятся к суровой зи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1341360"/>
            <a:ext cx="83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a4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Зима в нашем городе длинная и наступ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постепенно. На деревьях – красивый и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Всё вокруг становится  белоснежны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a4"/>
                </a:solidFill>
                <a:latin typeface="Times New Roman"/>
              </a:rPr>
              <a:t>Животные и птицы готовятся к суровой зи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71640" y="189000"/>
            <a:ext cx="280836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a4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12600">
                <a:solidFill>
                  <a:srgbClr val="0000a4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Проспект Мира"/>
          <p:cNvPicPr/>
          <p:nvPr/>
        </p:nvPicPr>
        <p:blipFill>
          <a:blip r:embed="rId1"/>
          <a:stretch/>
        </p:blipFill>
        <p:spPr>
          <a:xfrm>
            <a:off x="250920" y="4971960"/>
            <a:ext cx="2665440" cy="1749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Новогодние празднования"/>
          <p:cNvPicPr/>
          <p:nvPr/>
        </p:nvPicPr>
        <p:blipFill>
          <a:blip r:embed="rId2"/>
          <a:stretch/>
        </p:blipFill>
        <p:spPr>
          <a:xfrm>
            <a:off x="3419640" y="333360"/>
            <a:ext cx="2303280" cy="1562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348000" y="2708280"/>
            <a:ext cx="251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a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9360">
                <a:solidFill>
                  <a:srgbClr val="0000a4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516720" y="5037120"/>
            <a:ext cx="2448000" cy="164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516720" y="260280"/>
            <a:ext cx="2401920" cy="163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376360" cy="1704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 rot="604800">
            <a:off x="6804000" y="2276640"/>
            <a:ext cx="1479600" cy="230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 rot="20890800">
            <a:off x="971280" y="2420640"/>
            <a:ext cx="1471680" cy="2193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3492360" y="5013360"/>
            <a:ext cx="2448000" cy="1643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_82da_c36d872b_L" descr=""/>
          <p:cNvPicPr/>
          <p:nvPr/>
        </p:nvPicPr>
        <p:blipFill>
          <a:blip r:embed="rId2"/>
          <a:stretch/>
        </p:blipFill>
        <p:spPr>
          <a:xfrm rot="20131800">
            <a:off x="323640" y="1125000"/>
            <a:ext cx="2700360" cy="1802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1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736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rot="19976400">
            <a:off x="5940360" y="1196640"/>
            <a:ext cx="2843280" cy="1866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20062200">
            <a:off x="3203640" y="549000"/>
            <a:ext cx="2557440" cy="1717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 rot="20440200">
            <a:off x="250920" y="3933360"/>
            <a:ext cx="2663640" cy="186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76720" y="2852640"/>
            <a:ext cx="2519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a4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има</a:t>
            </a:r>
            <a:endParaRPr b="1" lang="en-US" sz="4000" spc="1" strike="noStrike">
              <a:ln w="9360">
                <a:solidFill>
                  <a:srgbClr val="0000a4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 rot="20347200">
            <a:off x="3564000" y="458100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приложение к ноябрьскому морю :)"/>
          <p:cNvPicPr/>
          <p:nvPr/>
        </p:nvPicPr>
        <p:blipFill>
          <a:blip r:embed="rId7"/>
          <a:stretch/>
        </p:blipFill>
        <p:spPr>
          <a:xfrm rot="20196000">
            <a:off x="6227280" y="3499920"/>
            <a:ext cx="2521080" cy="2036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09b"/>
            </a:gs>
            <a:gs pos="50000">
              <a:srgbClr val="ffffcc"/>
            </a:gs>
            <a:gs pos="100000">
              <a:srgbClr val="90f0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2923920"/>
            <a:ext cx="83739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За зимой следует весна. Весной всё начинает оживать. Солнце греет сильней. Снег тает и начинается капель. Птицы поют.  По дорогам и тропинкам бегут ручьи. К концу весны распускаются почки на деревь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11280" y="4653000"/>
            <a:ext cx="38894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793200">
            <a:off x="5651280" y="475920"/>
            <a:ext cx="3170160" cy="217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 rot="20660400">
            <a:off x="250920" y="691920"/>
            <a:ext cx="3024000" cy="200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03640" y="189000"/>
            <a:ext cx="244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cc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cc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1960560" cy="295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rot="507000">
            <a:off x="324000" y="4149360"/>
            <a:ext cx="3168360" cy="224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 rot="20813400">
            <a:off x="5508360" y="4149720"/>
            <a:ext cx="3301920" cy="2108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276720" y="404640"/>
            <a:ext cx="2590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21504"/>
                  </a:solidFill>
                  <a:miter/>
                </a:ln>
                <a:solidFill>
                  <a:srgbClr val="5b5b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9360">
                <a:solidFill>
                  <a:srgbClr val="f21504"/>
                </a:solidFill>
                <a:miter/>
              </a:ln>
              <a:solidFill>
                <a:srgbClr val="5b5b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850800">
            <a:off x="417600" y="693360"/>
            <a:ext cx="2448000" cy="165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 rot="20844000">
            <a:off x="6156000" y="620640"/>
            <a:ext cx="2585880" cy="1717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720000">
            <a:off x="178920" y="69228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987640" y="2565360"/>
            <a:ext cx="295272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735600">
            <a:off x="250560" y="4365720"/>
            <a:ext cx="3097080" cy="2058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20838000">
            <a:off x="5651280" y="620640"/>
            <a:ext cx="3240000" cy="224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 rot="20769000">
            <a:off x="5811480" y="4289400"/>
            <a:ext cx="3132000" cy="2016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132000" y="260280"/>
            <a:ext cx="2590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cc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cc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1680" y="2491920"/>
            <a:ext cx="85406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bff"/>
                </a:solidFill>
                <a:latin typeface="Arial"/>
              </a:rPr>
              <a:t>Следующее время года – лето. В это время года весь город зеленеет. Птицы  прилетают в город после холодных времён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Вид на город"/>
          <p:cNvPicPr/>
          <p:nvPr/>
        </p:nvPicPr>
        <p:blipFill>
          <a:blip r:embed="rId2"/>
          <a:stretch/>
        </p:blipFill>
        <p:spPr>
          <a:xfrm rot="254400">
            <a:off x="6227640" y="333000"/>
            <a:ext cx="2592360" cy="1927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2585880" cy="1717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 rot="21366600">
            <a:off x="250920" y="328320"/>
            <a:ext cx="2806560" cy="176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635280" y="549360"/>
            <a:ext cx="1873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0f09b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90f09b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 rot="21103800">
            <a:off x="250920" y="4797000"/>
            <a:ext cx="2736720" cy="18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ГЭС"/>
          <p:cNvPicPr/>
          <p:nvPr/>
        </p:nvPicPr>
        <p:blipFill>
          <a:blip r:embed="rId6"/>
          <a:stretch/>
        </p:blipFill>
        <p:spPr>
          <a:xfrm rot="464400">
            <a:off x="6084360" y="4652640"/>
            <a:ext cx="2951280" cy="1930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over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d2ce"/>
            </a:gs>
            <a:gs pos="50000">
              <a:srgbClr val="ccffff"/>
            </a:gs>
            <a:gs pos="100000">
              <a:srgbClr val="3ad2c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 rot="850800">
            <a:off x="3203640" y="2060280"/>
            <a:ext cx="2843280" cy="2146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 rot="623400">
            <a:off x="394920" y="4076280"/>
            <a:ext cx="3214800" cy="23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Самолет за ДК"/>
          <p:cNvPicPr/>
          <p:nvPr/>
        </p:nvPicPr>
        <p:blipFill>
          <a:blip r:embed="rId3"/>
          <a:stretch/>
        </p:blipFill>
        <p:spPr>
          <a:xfrm rot="823200">
            <a:off x="5651640" y="4581000"/>
            <a:ext cx="3047760" cy="1873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 rot="766800">
            <a:off x="468360" y="404280"/>
            <a:ext cx="2206440" cy="3313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 rot="1125000">
            <a:off x="5795640" y="620640"/>
            <a:ext cx="3002040" cy="2032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419640" y="404640"/>
            <a:ext cx="2160360" cy="8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cc"/>
                  </a:solidFill>
                  <a:miter/>
                </a:ln>
                <a:solidFill>
                  <a:srgbClr val="0099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то</a:t>
            </a:r>
            <a:endParaRPr b="1" lang="en-US" sz="1800" spc="1" strike="noStrike">
              <a:ln w="9360">
                <a:solidFill>
                  <a:srgbClr val="0099cc"/>
                </a:solidFill>
                <a:miter/>
              </a:ln>
              <a:solidFill>
                <a:srgbClr val="0099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 advTm="8000"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0:46:37Z</dcterms:created>
  <dc:creator>Admin</dc:creator>
  <dc:description/>
  <dc:language>en-US</dc:language>
  <cp:lastModifiedBy>Admin</cp:lastModifiedBy>
  <dcterms:modified xsi:type="dcterms:W3CDTF">2010-01-25T15:58:53Z</dcterms:modified>
  <cp:revision>17</cp:revision>
  <dc:subject/>
  <dc:title>Слайд 1</dc:title>
</cp:coreProperties>
</file>