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52B-6E3D-44F2-91CD-FE57F96C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135-DC8D-4BE3-9CD4-46AA52DC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311-2ED7-45A1-8987-8AAAC0E3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D4F-6F9F-43ED-B98A-0EEB03E1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166B-5A69-43A4-867D-6E19C307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A21-B10E-4D4F-8315-4648A2B2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B34E-AFA2-4C93-B986-A8D7395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B3F5-D42B-455C-9DDB-D310EE2C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765E-D7A2-4881-9E7C-98159C31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6CC-D417-4212-9421-E6257CD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C0A-8C2C-44FC-8B5F-89A1866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533-3DA0-4783-8306-429C5A6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5C20-3D68-48E5-9EAF-EDB787C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8AF-F2BD-45C8-A57F-19EA4ED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4CF6-E8B2-4EF6-8684-A303397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F59-F860-41A6-97B4-74FF639C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DA18-7819-45A8-8FB3-B9DBED5D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8CC-712A-46CF-A7B1-0EA7D3C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927-3C46-4F82-BD05-9172B2CB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DD5-E93F-4357-B787-CDA5180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A30-387C-420B-BBBC-D0C948CC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A4F-2ACE-426D-9F61-5746068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487-20CB-4A41-8DA3-B529195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212-723E-4698-856C-691EB0C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7BDA-18D1-4929-BE01-526523E8DB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B53-6E0A-465A-B3D9-B81C92B5B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jpeg"/><Relationship Id="rId3" Type="http://schemas.openxmlformats.org/officeDocument/2006/relationships/image" Target="../media/image26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761080" cy="3676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4000" y="11592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5b5b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ркие краски города Усть - Илимска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5b5b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692000" y="4868640"/>
            <a:ext cx="68403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Усть-Илимск на далекой сибирской ре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Усть-Илимск от огней городских вдалеке.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Я по карте слежу за маршрутом твоим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Это странное слово ищу – Усть-Или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726600">
            <a:off x="5113080" y="3514320"/>
            <a:ext cx="3598920" cy="287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181600">
            <a:off x="766440" y="2682360"/>
            <a:ext cx="2433600" cy="3664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962400">
            <a:off x="2484000" y="549000"/>
            <a:ext cx="3162240" cy="2435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156360" y="1268280"/>
            <a:ext cx="2160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strips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41c"/>
            </a:gs>
            <a:gs pos="50000">
              <a:srgbClr val="ffff99"/>
            </a:gs>
            <a:gs pos="100000">
              <a:srgbClr val="ee9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280" y="256536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За летом наступает прекрасная и полная красок осень. Осень - время сборов урожая. Птицы улетают в тёплые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Осень в Усть-Илимске"/>
          <p:cNvPicPr/>
          <p:nvPr/>
        </p:nvPicPr>
        <p:blipFill>
          <a:blip r:embed="rId1"/>
          <a:stretch/>
        </p:blipFill>
        <p:spPr>
          <a:xfrm rot="512400">
            <a:off x="323640" y="4365360"/>
            <a:ext cx="302580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652200">
            <a:off x="221760" y="290160"/>
            <a:ext cx="3036960" cy="2025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0809200">
            <a:off x="6032160" y="306360"/>
            <a:ext cx="2889360" cy="20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492360" y="3860640"/>
            <a:ext cx="1932120" cy="287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0962800">
            <a:off x="5579640" y="4220640"/>
            <a:ext cx="3321000" cy="2225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419640" y="1125360"/>
            <a:ext cx="244764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ень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circl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66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Под ликом солнца"/>
          <p:cNvPicPr/>
          <p:nvPr/>
        </p:nvPicPr>
        <p:blipFill>
          <a:blip r:embed="rId1"/>
          <a:stretch/>
        </p:blipFill>
        <p:spPr>
          <a:xfrm rot="788400">
            <a:off x="46836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ноябрьское пылание "/>
          <p:cNvPicPr/>
          <p:nvPr/>
        </p:nvPicPr>
        <p:blipFill>
          <a:blip r:embed="rId2"/>
          <a:stretch/>
        </p:blipFill>
        <p:spPr>
          <a:xfrm rot="986400">
            <a:off x="2195640" y="414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Природа края"/>
          <p:cNvPicPr/>
          <p:nvPr/>
        </p:nvPicPr>
        <p:blipFill>
          <a:blip r:embed="rId3"/>
          <a:stretch/>
        </p:blipFill>
        <p:spPr>
          <a:xfrm rot="721200">
            <a:off x="5292360" y="1197000"/>
            <a:ext cx="324000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 rot="758400">
            <a:off x="5292360" y="3789000"/>
            <a:ext cx="3168720" cy="214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 rot="734400">
            <a:off x="1835280" y="333000"/>
            <a:ext cx="3097080" cy="20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5940360" y="260280"/>
            <a:ext cx="24480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ень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20000">
    <p:cover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им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ма В нашем городе наступает постепенно. Деревья покрывает с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ё вокруг станови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оснежны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отные и пт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товятся к суровой з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134136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a4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Зима в нашем городе длинная и наступ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постепенно. На деревьях – красивый и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Всё вокруг становится  белосне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Животные и птицы готовятся к суровой зи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71640" y="189000"/>
            <a:ext cx="280836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a4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12600">
                <a:solidFill>
                  <a:srgbClr val="0000a4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Проспект Мира"/>
          <p:cNvPicPr/>
          <p:nvPr/>
        </p:nvPicPr>
        <p:blipFill>
          <a:blip r:embed="rId1"/>
          <a:stretch/>
        </p:blipFill>
        <p:spPr>
          <a:xfrm>
            <a:off x="250920" y="4971960"/>
            <a:ext cx="2665440" cy="1749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Новогодние празднования"/>
          <p:cNvPicPr/>
          <p:nvPr/>
        </p:nvPicPr>
        <p:blipFill>
          <a:blip r:embed="rId2"/>
          <a:stretch/>
        </p:blipFill>
        <p:spPr>
          <a:xfrm>
            <a:off x="3419640" y="333360"/>
            <a:ext cx="2303280" cy="1562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348000" y="2708280"/>
            <a:ext cx="251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a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9360">
                <a:solidFill>
                  <a:srgbClr val="0000a4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516720" y="5037120"/>
            <a:ext cx="2448000" cy="164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516720" y="260280"/>
            <a:ext cx="2401920" cy="163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376360" cy="1704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 rot="604800">
            <a:off x="6804000" y="2276640"/>
            <a:ext cx="1479600" cy="23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890800">
            <a:off x="971280" y="2420640"/>
            <a:ext cx="1471680" cy="219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492360" y="5013360"/>
            <a:ext cx="2448000" cy="1643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_82da_c36d872b_L" descr=""/>
          <p:cNvPicPr/>
          <p:nvPr/>
        </p:nvPicPr>
        <p:blipFill>
          <a:blip r:embed="rId2"/>
          <a:stretch/>
        </p:blipFill>
        <p:spPr>
          <a:xfrm rot="20131800">
            <a:off x="323640" y="1125000"/>
            <a:ext cx="2700360" cy="1802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36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19976400">
            <a:off x="5940360" y="1196640"/>
            <a:ext cx="2843280" cy="1866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062200">
            <a:off x="3203640" y="549000"/>
            <a:ext cx="2557440" cy="171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rot="20440200">
            <a:off x="250920" y="3933360"/>
            <a:ext cx="2663640" cy="186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76720" y="2852640"/>
            <a:ext cx="251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a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9360">
                <a:solidFill>
                  <a:srgbClr val="0000a4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 rot="20347200">
            <a:off x="3564000" y="458100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приложение к ноябрьскому морю :)"/>
          <p:cNvPicPr/>
          <p:nvPr/>
        </p:nvPicPr>
        <p:blipFill>
          <a:blip r:embed="rId7"/>
          <a:stretch/>
        </p:blipFill>
        <p:spPr>
          <a:xfrm rot="20196000">
            <a:off x="6227280" y="3499920"/>
            <a:ext cx="2521080" cy="2036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09b"/>
            </a:gs>
            <a:gs pos="50000">
              <a:srgbClr val="ffffcc"/>
            </a:gs>
            <a:gs pos="100000">
              <a:srgbClr val="90f0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2923920"/>
            <a:ext cx="83739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За зимой следует весна. Весной всё начинает оживать. Солнце греет сильней. Снег тает и начинается капель. Птицы поют.  По дорогам и тропинкам бегут ручьи. К концу весны распускаются почки на деревь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4653000"/>
            <a:ext cx="38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793200">
            <a:off x="5651280" y="475920"/>
            <a:ext cx="3170160" cy="217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20660400">
            <a:off x="250920" y="691920"/>
            <a:ext cx="3024000" cy="200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03640" y="189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1960560" cy="295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507000">
            <a:off x="324000" y="4149360"/>
            <a:ext cx="3168360" cy="224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20813400">
            <a:off x="5508360" y="4149720"/>
            <a:ext cx="3301920" cy="210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276720" y="404640"/>
            <a:ext cx="259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21504"/>
                  </a:solidFill>
                  <a:miter/>
                </a:ln>
                <a:solidFill>
                  <a:srgbClr val="5b5b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9360">
                <a:solidFill>
                  <a:srgbClr val="f21504"/>
                </a:solidFill>
                <a:miter/>
              </a:ln>
              <a:solidFill>
                <a:srgbClr val="5b5b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850800">
            <a:off x="417600" y="6933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20844000">
            <a:off x="6156000" y="620640"/>
            <a:ext cx="2585880" cy="171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720000">
            <a:off x="178920" y="69228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2565360"/>
            <a:ext cx="295272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735600">
            <a:off x="250560" y="4365720"/>
            <a:ext cx="3097080" cy="205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20838000">
            <a:off x="5651280" y="620640"/>
            <a:ext cx="3240000" cy="224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 rot="20769000">
            <a:off x="5811480" y="4289400"/>
            <a:ext cx="3132000" cy="2016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132000" y="260280"/>
            <a:ext cx="2590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2491920"/>
            <a:ext cx="8540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ff"/>
                </a:solidFill>
                <a:latin typeface="Arial"/>
              </a:rPr>
              <a:t>Следующее время года – лето. В это время года весь город зеленеет. Птицы  прилетают в город после холодных времён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Вид на город"/>
          <p:cNvPicPr/>
          <p:nvPr/>
        </p:nvPicPr>
        <p:blipFill>
          <a:blip r:embed="rId2"/>
          <a:stretch/>
        </p:blipFill>
        <p:spPr>
          <a:xfrm rot="254400">
            <a:off x="6227640" y="333000"/>
            <a:ext cx="2592360" cy="192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585880" cy="171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21366600">
            <a:off x="250920" y="328320"/>
            <a:ext cx="2806560" cy="176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635280" y="549360"/>
            <a:ext cx="1873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0f09b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90f09b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 rot="21103800">
            <a:off x="250920" y="4797000"/>
            <a:ext cx="2736720" cy="18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ГЭС"/>
          <p:cNvPicPr/>
          <p:nvPr/>
        </p:nvPicPr>
        <p:blipFill>
          <a:blip r:embed="rId6"/>
          <a:stretch/>
        </p:blipFill>
        <p:spPr>
          <a:xfrm rot="464400">
            <a:off x="6084360" y="4652640"/>
            <a:ext cx="2951280" cy="1930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d2ce"/>
            </a:gs>
            <a:gs pos="50000">
              <a:srgbClr val="ccffff"/>
            </a:gs>
            <a:gs pos="100000">
              <a:srgbClr val="3ad2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850800">
            <a:off x="3203640" y="2060280"/>
            <a:ext cx="2843280" cy="2146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 rot="623400">
            <a:off x="394920" y="4076280"/>
            <a:ext cx="3214800" cy="23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Самолет за ДК"/>
          <p:cNvPicPr/>
          <p:nvPr/>
        </p:nvPicPr>
        <p:blipFill>
          <a:blip r:embed="rId3"/>
          <a:stretch/>
        </p:blipFill>
        <p:spPr>
          <a:xfrm rot="823200">
            <a:off x="5651640" y="4581000"/>
            <a:ext cx="3047760" cy="1873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 rot="766800">
            <a:off x="468360" y="404280"/>
            <a:ext cx="2206440" cy="331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 rot="1125000">
            <a:off x="5795640" y="620640"/>
            <a:ext cx="3002040" cy="2032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419640" y="404640"/>
            <a:ext cx="216036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0099cc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46:37Z</dcterms:created>
  <dc:creator>Admin</dc:creator>
  <dc:description/>
  <dc:language>en-US</dc:language>
  <cp:lastModifiedBy>Admin</cp:lastModifiedBy>
  <dcterms:modified xsi:type="dcterms:W3CDTF">2010-01-25T15:58:53Z</dcterms:modified>
  <cp:revision>17</cp:revision>
  <dc:subject/>
  <dc:title>Слайд 1</dc:title>
</cp:coreProperties>
</file>