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EA7-13AB-4DE5-9140-67AD62AA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71C-1B7A-4A55-A334-60E4E4FA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461-D0DF-4EDC-9342-F44B4AB6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E17-6D0C-409F-9414-380FCFCB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B4CD-F827-4608-888C-C2B0D0B3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6B68-FB61-40F2-9ACB-0CE77757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929C-E736-4BC6-A04F-12588497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B411-E3B3-49FD-8D52-ED35730C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9612-377B-4746-AD62-8FAB83D2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EFF9-65CC-4B67-8037-9770F389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9D8A-6E33-47FD-BCD5-E52954D3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EA3-3A6A-4E52-A0B5-1AFFBDF8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7A7A-95FB-435A-8355-E0165649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DEF5-475F-4CD3-AA45-A82A9974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0598-59FD-45E3-9896-413A0E35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4CC8-B228-480D-BDD5-5C9F72E4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878A-AEF5-4344-A8E4-73692CF4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5C9-5083-43CB-83EA-BA3CDB30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CEF-6FF0-4315-A6B0-1C340CAA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CB6-CD00-4BA6-BD66-87041A7E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C89-CC62-428F-A441-AAABCFE0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6E3-526C-4BBD-A5FD-84BFB5E5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220-C6C8-497C-903B-CBBEBC9B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352-EC09-4BB3-B2F6-BB255B46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59AC-C196-4121-BD88-7E70B0E6E1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5466-14B5-4C91-B397-6F9D6588B2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2.jpeg"/><Relationship Id="rId3" Type="http://schemas.openxmlformats.org/officeDocument/2006/relationships/image" Target="../media/image26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5761080" cy="3676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24000" y="11592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5b5b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ркие краски города Усть - Илимска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5b5b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692000" y="4868640"/>
            <a:ext cx="684036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4"/>
                </a:solidFill>
                <a:latin typeface="Times New Roman"/>
              </a:rPr>
              <a:t>Усть-Илимск на далекой сибирской ре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4"/>
                </a:solidFill>
                <a:latin typeface="Times New Roman"/>
              </a:rPr>
              <a:t>Усть-Илимск от огней городских вдалеке.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4"/>
                </a:solidFill>
                <a:latin typeface="Times New Roman"/>
              </a:rPr>
              <a:t>Я по карте слежу за маршрутом твоим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4"/>
                </a:solidFill>
                <a:latin typeface="Times New Roman"/>
              </a:rPr>
              <a:t>Это странное слово ищу – Усть-Или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99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726600">
            <a:off x="5113080" y="3514320"/>
            <a:ext cx="3598920" cy="287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0181600">
            <a:off x="766440" y="2682360"/>
            <a:ext cx="2433600" cy="3664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962400">
            <a:off x="2484000" y="549000"/>
            <a:ext cx="3162240" cy="2435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6156360" y="1268280"/>
            <a:ext cx="216072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то</a:t>
            </a:r>
            <a:endParaRPr b="1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strips dir="r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41c"/>
            </a:gs>
            <a:gs pos="50000">
              <a:srgbClr val="ffff99"/>
            </a:gs>
            <a:gs pos="100000">
              <a:srgbClr val="ee94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280" y="2565360"/>
            <a:ext cx="8302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За летом наступает прекрасная и полная красок осень. Осень - время сборов урожая. Птицы улетают в тёплые к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Осень в Усть-Илимске"/>
          <p:cNvPicPr/>
          <p:nvPr/>
        </p:nvPicPr>
        <p:blipFill>
          <a:blip r:embed="rId1"/>
          <a:stretch/>
        </p:blipFill>
        <p:spPr>
          <a:xfrm rot="512400">
            <a:off x="323640" y="4365360"/>
            <a:ext cx="3025800" cy="2157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652200">
            <a:off x="221760" y="290160"/>
            <a:ext cx="3036960" cy="2025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0809200">
            <a:off x="6032160" y="306360"/>
            <a:ext cx="2889360" cy="200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492360" y="3860640"/>
            <a:ext cx="1932120" cy="2872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0962800">
            <a:off x="5579640" y="4220640"/>
            <a:ext cx="3321000" cy="2225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419640" y="1125360"/>
            <a:ext cx="2447640" cy="8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ень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circl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66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Под ликом солнца"/>
          <p:cNvPicPr/>
          <p:nvPr/>
        </p:nvPicPr>
        <p:blipFill>
          <a:blip r:embed="rId1"/>
          <a:stretch/>
        </p:blipFill>
        <p:spPr>
          <a:xfrm rot="788400">
            <a:off x="468360" y="2421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ноябрьское пылание "/>
          <p:cNvPicPr/>
          <p:nvPr/>
        </p:nvPicPr>
        <p:blipFill>
          <a:blip r:embed="rId2"/>
          <a:stretch/>
        </p:blipFill>
        <p:spPr>
          <a:xfrm rot="986400">
            <a:off x="2195640" y="4149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Природа края"/>
          <p:cNvPicPr/>
          <p:nvPr/>
        </p:nvPicPr>
        <p:blipFill>
          <a:blip r:embed="rId3"/>
          <a:stretch/>
        </p:blipFill>
        <p:spPr>
          <a:xfrm rot="721200">
            <a:off x="5292360" y="1197000"/>
            <a:ext cx="3240000" cy="2357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 rot="758400">
            <a:off x="5292360" y="3789000"/>
            <a:ext cx="3168720" cy="2141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 rot="734400">
            <a:off x="1835280" y="333000"/>
            <a:ext cx="3097080" cy="2062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5940360" y="260280"/>
            <a:ext cx="24480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ень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20000">
    <p:cover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Зим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има В нашем городе наступает постепенно. Деревья покрывает сне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ё вокруг станови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оснежны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вотные и пт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товятся к суровой зи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1341360"/>
            <a:ext cx="83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a4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Зима в нашем городе длинная и наступ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постепенно. На деревьях – красивый и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Всё вокруг становится  белоснежны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Животные и птицы готовятся к суровой зи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771640" y="189000"/>
            <a:ext cx="2808360" cy="79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a4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Зима</a:t>
            </a:r>
            <a:endParaRPr b="1" lang="en-US" sz="4000" spc="1" strike="noStrike">
              <a:ln w="12600">
                <a:solidFill>
                  <a:srgbClr val="0000a4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Проспект Мира"/>
          <p:cNvPicPr/>
          <p:nvPr/>
        </p:nvPicPr>
        <p:blipFill>
          <a:blip r:embed="rId1"/>
          <a:stretch/>
        </p:blipFill>
        <p:spPr>
          <a:xfrm>
            <a:off x="250920" y="4971960"/>
            <a:ext cx="2665440" cy="1749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Новогодние празднования"/>
          <p:cNvPicPr/>
          <p:nvPr/>
        </p:nvPicPr>
        <p:blipFill>
          <a:blip r:embed="rId2"/>
          <a:stretch/>
        </p:blipFill>
        <p:spPr>
          <a:xfrm>
            <a:off x="3419640" y="333360"/>
            <a:ext cx="2303280" cy="1562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348000" y="2708280"/>
            <a:ext cx="251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a4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има</a:t>
            </a:r>
            <a:endParaRPr b="1" lang="en-US" sz="4000" spc="1" strike="noStrike">
              <a:ln w="9360">
                <a:solidFill>
                  <a:srgbClr val="0000a4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516720" y="5037120"/>
            <a:ext cx="2448000" cy="164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516720" y="260280"/>
            <a:ext cx="2401920" cy="163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376360" cy="1704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 rot="604800">
            <a:off x="6804000" y="2276640"/>
            <a:ext cx="1479600" cy="230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 rot="20890800">
            <a:off x="971280" y="2420640"/>
            <a:ext cx="1471680" cy="2193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3492360" y="5013360"/>
            <a:ext cx="2448000" cy="1643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0_82da_c36d872b_L" descr=""/>
          <p:cNvPicPr/>
          <p:nvPr/>
        </p:nvPicPr>
        <p:blipFill>
          <a:blip r:embed="rId2"/>
          <a:stretch/>
        </p:blipFill>
        <p:spPr>
          <a:xfrm rot="20131800">
            <a:off x="323640" y="1125000"/>
            <a:ext cx="2700360" cy="1802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21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36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19976400">
            <a:off x="5940360" y="1196640"/>
            <a:ext cx="2843280" cy="1866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20062200">
            <a:off x="3203640" y="549000"/>
            <a:ext cx="2557440" cy="171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 rot="20440200">
            <a:off x="250920" y="3933360"/>
            <a:ext cx="2663640" cy="186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276720" y="2852640"/>
            <a:ext cx="251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a4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има</a:t>
            </a:r>
            <a:endParaRPr b="1" lang="en-US" sz="4000" spc="1" strike="noStrike">
              <a:ln w="9360">
                <a:solidFill>
                  <a:srgbClr val="0000a4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 rot="20347200">
            <a:off x="3564000" y="4581000"/>
            <a:ext cx="2520720" cy="188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приложение к ноябрьскому морю :)"/>
          <p:cNvPicPr/>
          <p:nvPr/>
        </p:nvPicPr>
        <p:blipFill>
          <a:blip r:embed="rId7"/>
          <a:stretch/>
        </p:blipFill>
        <p:spPr>
          <a:xfrm rot="20196000">
            <a:off x="6227280" y="3499920"/>
            <a:ext cx="2521080" cy="2036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09b"/>
            </a:gs>
            <a:gs pos="50000">
              <a:srgbClr val="ffffcc"/>
            </a:gs>
            <a:gs pos="100000">
              <a:srgbClr val="90f0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2923920"/>
            <a:ext cx="83739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За зимой следует весна. Весной всё начинает оживать. Солнце греет сильней. Снег тает и начинается капель. Птицы поют.  По дорогам и тропинкам бегут ручьи. К концу весны распускаются почки на деревь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4653000"/>
            <a:ext cx="3889440" cy="208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793200">
            <a:off x="5651280" y="475920"/>
            <a:ext cx="3170160" cy="217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20660400">
            <a:off x="250920" y="691920"/>
            <a:ext cx="3024000" cy="200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03640" y="189000"/>
            <a:ext cx="244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cc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В е с н а</a:t>
            </a:r>
            <a:endParaRPr b="1" lang="en-US" sz="1800" spc="1" strike="noStrike">
              <a:ln w="12600">
                <a:solidFill>
                  <a:srgbClr val="006600"/>
                </a:solidFill>
                <a:miter/>
              </a:ln>
              <a:solidFill>
                <a:srgbClr val="00cc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1960560" cy="295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507000">
            <a:off x="324000" y="4149360"/>
            <a:ext cx="3168360" cy="2243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 rot="20813400">
            <a:off x="5508360" y="4149720"/>
            <a:ext cx="3301920" cy="2108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276720" y="404640"/>
            <a:ext cx="2590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21504"/>
                  </a:solidFill>
                  <a:miter/>
                </a:ln>
                <a:solidFill>
                  <a:srgbClr val="5b5b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Е С Н А</a:t>
            </a:r>
            <a:endParaRPr b="1" lang="en-US" sz="1800" spc="1" strike="noStrike">
              <a:ln w="9360">
                <a:solidFill>
                  <a:srgbClr val="f21504"/>
                </a:solidFill>
                <a:miter/>
              </a:ln>
              <a:solidFill>
                <a:srgbClr val="5b5b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 rot="850800">
            <a:off x="417600" y="693360"/>
            <a:ext cx="2448000" cy="165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 rot="20844000">
            <a:off x="6156000" y="620640"/>
            <a:ext cx="2585880" cy="1717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rot="720000">
            <a:off x="178920" y="69228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87640" y="2565360"/>
            <a:ext cx="2952720" cy="210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 rot="735600">
            <a:off x="250560" y="4365720"/>
            <a:ext cx="3097080" cy="205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 rot="20838000">
            <a:off x="5651280" y="620640"/>
            <a:ext cx="3240000" cy="224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 rot="20769000">
            <a:off x="5811480" y="4289400"/>
            <a:ext cx="3132000" cy="2016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132000" y="260280"/>
            <a:ext cx="2590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cc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Е С Н 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cc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wheel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1680" y="2491920"/>
            <a:ext cx="8540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bff"/>
                </a:solidFill>
                <a:latin typeface="Arial"/>
              </a:rPr>
              <a:t>Следующее время года – лето. В это время года весь город зеленеет. Птицы  прилетают в город после холодных времён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Вид на город"/>
          <p:cNvPicPr/>
          <p:nvPr/>
        </p:nvPicPr>
        <p:blipFill>
          <a:blip r:embed="rId2"/>
          <a:stretch/>
        </p:blipFill>
        <p:spPr>
          <a:xfrm rot="254400">
            <a:off x="6227640" y="333000"/>
            <a:ext cx="2592360" cy="1927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2585880" cy="171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 rot="21366600">
            <a:off x="250920" y="328320"/>
            <a:ext cx="2806560" cy="1763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635280" y="549360"/>
            <a:ext cx="1873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0f09b"/>
                  </a:solidFill>
                  <a:miter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то</a:t>
            </a:r>
            <a:endParaRPr b="1" lang="en-US" sz="1800" spc="1" strike="noStrike">
              <a:ln w="9360">
                <a:solidFill>
                  <a:srgbClr val="90f09b"/>
                </a:solidFill>
                <a:miter/>
              </a:ln>
              <a:solidFill>
                <a:srgbClr val="0099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 rot="21103800">
            <a:off x="250920" y="4797000"/>
            <a:ext cx="2736720" cy="189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ГЭС"/>
          <p:cNvPicPr/>
          <p:nvPr/>
        </p:nvPicPr>
        <p:blipFill>
          <a:blip r:embed="rId6"/>
          <a:stretch/>
        </p:blipFill>
        <p:spPr>
          <a:xfrm rot="464400">
            <a:off x="6084360" y="4652640"/>
            <a:ext cx="2951280" cy="19303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d2ce"/>
            </a:gs>
            <a:gs pos="50000">
              <a:srgbClr val="ccffff"/>
            </a:gs>
            <a:gs pos="100000">
              <a:srgbClr val="3ad2c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 rot="850800">
            <a:off x="3203640" y="2060280"/>
            <a:ext cx="2843280" cy="2146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 rot="623400">
            <a:off x="394920" y="4076280"/>
            <a:ext cx="3214800" cy="231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Самолет за ДК"/>
          <p:cNvPicPr/>
          <p:nvPr/>
        </p:nvPicPr>
        <p:blipFill>
          <a:blip r:embed="rId3"/>
          <a:stretch/>
        </p:blipFill>
        <p:spPr>
          <a:xfrm rot="823200">
            <a:off x="5651640" y="4581000"/>
            <a:ext cx="3047760" cy="1873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 rot="766800">
            <a:off x="468360" y="404280"/>
            <a:ext cx="2206440" cy="3313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 rot="1125000">
            <a:off x="5795640" y="620640"/>
            <a:ext cx="3002040" cy="2032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419640" y="404640"/>
            <a:ext cx="2160360" cy="8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cc"/>
                  </a:solidFill>
                  <a:miter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то</a:t>
            </a:r>
            <a:endParaRPr b="1" lang="en-US" sz="1800" spc="1" strike="noStrike">
              <a:ln w="9360">
                <a:solidFill>
                  <a:srgbClr val="0099cc"/>
                </a:solidFill>
                <a:miter/>
              </a:ln>
              <a:solidFill>
                <a:srgbClr val="0099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0:46:37Z</dcterms:created>
  <dc:creator>Admin</dc:creator>
  <dc:description/>
  <dc:language>en-US</dc:language>
  <cp:lastModifiedBy>Admin</cp:lastModifiedBy>
  <dcterms:modified xsi:type="dcterms:W3CDTF">2010-01-25T15:58:53Z</dcterms:modified>
  <cp:revision>17</cp:revision>
  <dc:subject/>
  <dc:title>Слайд 1</dc:title>
</cp:coreProperties>
</file>