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05A-5806-4B4F-BE0F-D2263379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B20-2F76-4B95-98BC-0C3317D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DB6-7A42-47D5-AF50-B7D32CE2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664-1127-4295-B602-1F906836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2395-5D8E-4D34-A93F-7FDAEE27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DF13-C81C-4720-A208-5579F62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FC5D-03ED-4F24-86E1-79EBD0C7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513-91A1-4546-9A83-4120EADD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ADE1-C373-4317-9DB6-0D986D7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F507-DB06-4A20-AE72-8957619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D56D-494A-4347-AAB5-A655827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783-342B-473E-9F23-66341E68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0FC3-05FD-42F6-ADCF-2D4D89F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7111-6948-4C56-AF76-F20C2F8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6B32-8548-4978-A33F-266A3F5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A8D-A42D-4439-9453-972A31D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F4C-F50C-4E92-BF16-C52C5CFC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A3A-14FB-4604-B442-50E4773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796-2928-4B11-9338-327392E5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472-F4D4-460E-8FCF-E47D9CFB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90B-2B87-4660-9C38-8241EA9C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5B8-BA7A-4BC0-A2EF-38CF373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307-7464-49AF-8999-BE82F29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753-3742-403A-AEAE-07D3938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9C6-4FA7-475F-A27D-947F9337011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A032-A81F-4070-81D9-66033F8AEA9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рганизация внеклассной    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работы по физике в школе 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ФИЗИЧЕСКИЕ ИГР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исок литерату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рмака Т.К. Планшетки для игр по физике в 7 классе//Физика в школе- 2000 -№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С.Данюшенков. Дидактические игры на уроках//Физика в школе -1989 №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В.Хуторский. Деловые игры в обучении физике//Физика в школе -1988 №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боту выполнили студентки 542 группы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имановская Надеж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сличенко Ир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Деловые игры в обучении  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              физике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егодняшний день необходимо коренное изменение роли учащихся в обучении. Нынешнему школьнику недостаточно лишь поглощение «готовой»учебной информации, выполнение строго регламентированных заданий уч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УЖЕН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стоятельный поиск средств и способов решения задач,связанных с реальными ситуациями в жизни, в будущей профессиональ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е познание реальной действи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ение деятельностного подхода в обуч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Одним из таких активных        </a:t>
            </a:r>
            <a:br>
              <a:rPr sz="3600"/>
            </a:b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методов является </a:t>
            </a: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деловая игра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дает следующие возмож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аксимально приближает обучение к реальным жизненным услов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еспечивает широкую самостоятельность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становку соревнования на уро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пособствует развитию инициативы уче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0574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развивает коммуникативные навыки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- искореняет такие негативные явления, присущие традиционному обучению, как списывание, обман, боязнь плохих отметок и др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ДЕЛОВЫЕ ИГРЫ МОГУТ БЫТЬ    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  ОРГАНИЗОВАНЫ В ВИДЕ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И И ЗАЩИТЫ УЧАЩИМИСЯ ПРОЕКТОВ НА ФИЗИКО-ТЕХНИЧЕСКИ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ОВОГО РЕШЕНИЯ ЗАД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УПЛЕНИЯ УЧАЩИХСЯ В РОЛИ УЧ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ТИВНОЕ РЕШЕНИЕ ПРОБЛЕМЫ ЗА «КРУГЛЫМ СТОЛ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ИГАДНОГО ВЫПОЛНЕНИЯ ЛАБОРАТОРНОЙ РАБОТЫ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Дидактическая игра позволяет закрепить и повторить учебный материал, поднять интерес учащихся к учению. Игру можно использовать и при фронтальном опросе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.К.Крупская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отмечала, что « игра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есть потребность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детского организма,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игра для детей – это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учеба, труд и серьезная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форма воспитания»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2T16:54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