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352-94B4-40E1-96F5-66CD92BD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E20-FFD6-47D2-BF25-12D59193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0B7-2F05-473B-B774-2541A46F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DDE-96DF-41F7-8217-9EB1AB82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D799-289E-4D4B-B1F0-7E4D752D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1707-754A-4897-8A9F-1CDAD20B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A7EB-9978-4A72-A101-111FE882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C2B4-75BF-4E12-895A-A37AA0A5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C2F3-79EA-4706-915A-E040383F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7034-8DB8-4F27-AB1F-4A26E2D6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8F68-FC47-48ED-A91A-973B5DE1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C92-8BBC-478B-BF7D-7E440CF4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9164-7EEB-4F66-866F-0B7001B8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E96C-25B3-4A78-97EE-DAC911B3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58A1-AD61-4B87-98E2-F5BF0727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3B49-2556-4144-A7D9-97835E92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60DE-AC73-40D4-A5F2-A23F1868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CDF-DAC3-4699-A7F1-B38C279A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FB2-E7EA-47E1-9A59-35D088E4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69C-511C-4F36-B7C1-D189252E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FD7-53B0-4FF9-BB31-9E4CD8E3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4ED-09C9-437E-AB39-DDD9F144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C32-18D1-4D79-B75B-E3973BDD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124-708E-4B53-9B8B-79ABBAC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88F8-90BC-4438-92F8-FB21D8F4890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B99A-DA41-4D74-971B-D6E948662AE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Организация внеклассной    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работы по физике в школе 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ФИЗИЧЕСКИЕ ИГР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писок литерату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рмака Т.К. Планшетки для игр по физике в 7 классе//Физика в школе- 2000 -№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С.Данюшенков. Дидактические игры на уроках//Физика в школе -1989 №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В.Хуторский. Деловые игры в обучении физике//Физика в школе -1988 №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боту выполнили студентки 542 группы 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Шимановская Надеж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сличенко Ир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Деловые игры в обучении  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               физике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егодняшний день необходимо коренное изменение роли учащихся в обучении. Нынешнему школьнику недостаточно лишь поглощение «готовой»учебной информации, выполнение строго регламентированных заданий уч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УЖЕН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стоятельный поиск средств и способов решения задач,связанных с реальными ситуациями в жизни, в будущей профессиональ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е познание реальной действи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уществление деятельностного подхода в обуч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aeaea"/>
                </a:solidFill>
                <a:latin typeface="Tahoma"/>
              </a:rPr>
              <a:t>Одним из таких активных        </a:t>
            </a:r>
            <a:br>
              <a:rPr sz="3600"/>
            </a:br>
            <a:r>
              <a:rPr b="0" i="1" lang="ru-RU" sz="3600" spc="-1" strike="noStrike">
                <a:solidFill>
                  <a:srgbClr val="eaeaea"/>
                </a:solidFill>
                <a:latin typeface="Tahoma"/>
              </a:rPr>
              <a:t>методов является </a:t>
            </a:r>
            <a:r>
              <a:rPr b="1" i="1" lang="ru-RU" sz="3600" spc="-1" strike="noStrike">
                <a:solidFill>
                  <a:srgbClr val="eaeaea"/>
                </a:solidFill>
                <a:latin typeface="Tahoma"/>
              </a:rPr>
              <a:t>деловая игра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а дает следующие возмож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аксимально приближает обучение к реальным жизненным услов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беспечивает широкую самостоятельность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бстановку соревнования на уро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пособствует развитию инициативы уче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0574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развивает коммуникативные навыки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- искореняет такие негативные явления, присущие традиционному обучению, как списывание, обман, боязнь плохих отметок и др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ДЕЛОВЫЕ ИГРЫ МОГУТ БЫТЬ    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   ОРГАНИЗОВАНЫ В ВИДЕ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КИ И ЗАЩИТЫ УЧАЩИМИСЯ ПРОЕКТОВ НА ФИЗИКО-ТЕХНИЧЕСКИЕ 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ОВОГО РЕШЕНИЯ ЗАДА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УПЛЕНИЯ УЧАЩИХСЯ В РОЛИ УЧ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ТИВНОЕ РЕШЕНИЕ ПРОБЛЕМЫ ЗА «КРУГЛЫМ СТОЛ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ИГАДНОГО ВЫПОЛНЕНИЯ ЛАБОРАТОРНОЙ РАБОТЫ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Дидактическая игра позволяет закрепить и повторить учебный материал, поднять интерес учащихся к учению. Игру можно использовать и при фронтальном опросе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.К.Крупская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отмечала, что « игра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есть потребность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детского организма,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игра для детей – это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учеба, труд и серьезная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форма воспитания»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2T16:54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