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6C5-085F-432B-938D-CE90892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4AB-EF5C-4B62-B802-E3C54BF7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85E-FA6B-445F-A853-19ECD651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D07-FBE0-454B-B671-CB70EB26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AE74-99AF-4417-9B6C-F4F26B0A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A58E-8508-4059-89A1-4B996D1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AB0-56AC-4FD7-831A-E623145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C96-A532-462D-9EC5-25DA5EC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E3ED-8324-438C-9A5F-20175C7B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9835-D0F2-4A78-9B22-9D04714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0E1-13D4-4E92-82CC-1DC8768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688-21A2-462F-9B53-4C113F91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41F-8354-4C89-8925-795D568B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AEC0-C7CC-44B6-8AE4-1B3EA20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638D-3678-4AAB-B8FB-95776F12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95A8-B842-49D4-A1AA-62E81DD6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9A83-E34D-4DCE-9064-91C3760D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503-7DA3-43E0-A22F-00EAFB24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050-EA89-4A25-B8A5-DBE10AC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287-61E9-4552-904F-B9D566A8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938-23AE-4CD8-8424-4789A6A5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1AA-433A-4A7C-9BF2-936CED1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4CC-BC44-4BE3-95F8-4E0554FB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044-8569-42FF-ACBA-A10007C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5369-50DD-4914-8EE6-7C04F61B785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68E4-47F2-4930-A175-B6E6A793B75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Организация внеклассной     </a:t>
            </a: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работы по физике в школе 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ФИЗИЧЕСКИЕ ИГР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писок литерату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урмака Т.К. Планшетки для игр по физике в 7 классе//Физика в школе- 2000 -№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С.Данюшенков. Дидактические игры на уроках//Физика в школе -1989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В.Хуторский. Деловые игры в обучении физике//Физика в школе -1988 №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аботу выполнили студентки 542 группы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Шимановская Надеж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сличенко Ир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в обучении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            физике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егодняшний день необходимо коренное изменение роли учащихся в обучении. Нынешнему школьнику недостаточно лишь поглощение «готовой»учебной информации, выполнение строго регламентированных заданий учи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УЖЕН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стоятельный поиск средств и способов решения задач,связанных с реальными ситуациями в жизни, в будущей профессиональ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е познание реальной действи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уществление деятельностного подхода в обуче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Одним из таких активных        </a:t>
            </a:r>
            <a:br>
              <a:rPr sz="3600"/>
            </a:b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методов является </a:t>
            </a:r>
            <a:r>
              <a:rPr b="1" i="1" lang="ru-RU" sz="3600" spc="-1" strike="noStrike">
                <a:solidFill>
                  <a:srgbClr val="eaeaea"/>
                </a:solidFill>
                <a:latin typeface="Tahoma"/>
              </a:rPr>
              <a:t>деловая игра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а дает следующие возмож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аксимально приближает обучение к реальным жизненным услови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еспечивает широкую самостоятельность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становку соревнования на уро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пособствует развитию инициативы уче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3915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aeaea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развивает коммуникативные навыки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Tahoma"/>
              </a:rPr>
              <a:t>- искореняет такие негативные явления, присущие традиционному обучению, как списывание, обман, боязнь плохих отметок и др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ДЕЛОВЫЕ ИГРЫ МОГУТ БЫТЬ    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  ОРГАНИЗОВАНЫ В ВИДЕ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КИ И ЗАЩИТЫ УЧАЩИМИСЯ ПРОЕКТОВ НА ФИЗИКО-ТЕХНИЧЕСКИ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ОВОГО РЕШЕНИЯ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УПЛЕНИЯ УЧАЩИХСЯ В РОЛИ УЧИ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ТИВНОЕ РЕШЕНИЕ ПРОБЛЕМЫ ЗА «КРУГЛЫМ СТОЛОМ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РИГАДНОГО ВЫПОЛНЕНИЯ ЛАБОРАТОРНОЙ РАБОТЫ И Д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Дидактическая игра позволяет закрепить и повторить учебный материал, поднять интерес учащихся к учению. Игру можно использовать и при фронтальном опросе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.К.Крупск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отмечала, что « игра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есть потребность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детского организма,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игра для детей – это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учеба, труд и серьезная   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форма воспитания»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12T16:54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