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31DA-82E6-4D50-A57E-B07144B8E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0ED8-B04B-4355-8933-A58DAEDFB3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0649-A2A2-4818-9842-55DD0923C2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обсерватории оснащены оптическими телескопами, представляющие собой очень большие, сложные и обычно автоматизированные инстру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99BF-1701-49A5-9BEB-519E1A4F47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телескопа = фокусное расстояние объекти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кусное расстояние окуля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5610-CDF9-4DFF-BBED-E9FACFD1D2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телескопов производят не только визуальные и фотографические наблюдения, но и фотоэлектрические и спектральные наблю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EAA8-F08C-4B65-8A64-ACC6831C78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само название отнюдь не служит доказательством зарождения и развития астрономии только в Древней Гр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0ACB-482C-41C5-B30B-B5C81F294A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параграф 1, вопросы 1 – 6 (устно), 6,7 (письменн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CAD-74F3-4FC5-BC3E-3F8B0B5D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4A0-44B1-4C6F-8644-C3C5A1DF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565-54C0-4BC4-B4B8-078BC391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B7B-576D-4EA5-A031-28BD599F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140C9-5349-46A1-8612-852D6E32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D3BA5-35FE-4DC9-B71A-01E0D02E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48E84-3D1A-4556-991C-ACA2DFA5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59E0C-4E58-49B1-80B5-12CB51D9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01CB8-EEA6-4CC1-BD0B-BA239D56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61544-A57B-46DF-B43B-80460439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1D2B6-74B2-4E2A-B40E-CD03A7C0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464-152A-489D-8B75-CBBB7CA1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9E7F4-CFA9-471A-A9FD-2F8B9A29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0321A-0F78-4C5F-9542-33A5DBB6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8CD55-3648-4184-98F5-E10D7B2B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70C24-0AAB-46A0-B84D-AF0A6E07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065F4-54BD-4475-9BB3-873CC768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468-A9D4-488B-B603-135FF8AB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C85-24BF-4833-B82E-EBB1A470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CA1-77EB-444E-A75C-9FDA05CA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B20-D89C-483F-BC84-3E48D9CB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E4E-9F53-4F0D-84F9-26126D96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21B-B6FB-4968-93AD-C336EEA2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5C9-6597-48D2-AFBA-2BD5246C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92A4-2378-4AE6-A79A-8AFDE907CA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EF55-1405-4D54-9461-FC0A4E36E8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08000" y="333360"/>
            <a:ext cx="1079280" cy="503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рок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042920" y="1197000"/>
            <a:ext cx="7344000" cy="503280"/>
          </a:xfrm>
          <a:prstGeom prst="rect">
            <a:avLst/>
          </a:prstGeom>
          <a:solidFill>
            <a:srgbClr val="3399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мет астроно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900000" y="2565360"/>
            <a:ext cx="7417080" cy="2016000"/>
          </a:xfrm>
          <a:prstGeom prst="rect">
            <a:avLst/>
          </a:prstGeom>
          <a:solidFill>
            <a:srgbClr val="3399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Краткое знакомство с предметом астроном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Особенности астрономических наблюд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5"/>
          <p:cNvSpPr/>
          <p:nvPr/>
        </p:nvSpPr>
        <p:spPr>
          <a:xfrm flipV="1">
            <a:off x="611280" y="1915920"/>
            <a:ext cx="4824360" cy="41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 flipV="1">
            <a:off x="611280" y="2707920"/>
            <a:ext cx="2305080" cy="33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5219640" y="170028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2627280" y="2565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19"/>
          <p:cNvSpPr/>
          <p:nvPr/>
        </p:nvSpPr>
        <p:spPr>
          <a:xfrm>
            <a:off x="8459640" y="4869000"/>
            <a:ext cx="144720" cy="142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0"/>
          <p:cNvSpPr/>
          <p:nvPr/>
        </p:nvSpPr>
        <p:spPr>
          <a:xfrm flipV="1">
            <a:off x="684360" y="6021360"/>
            <a:ext cx="813564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21"/>
          <p:cNvSpPr/>
          <p:nvPr/>
        </p:nvSpPr>
        <p:spPr>
          <a:xfrm rot="5400000">
            <a:off x="2230920" y="4545720"/>
            <a:ext cx="2016360" cy="79200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22"/>
          <p:cNvSpPr/>
          <p:nvPr/>
        </p:nvSpPr>
        <p:spPr>
          <a:xfrm rot="5400000">
            <a:off x="1043280" y="4869720"/>
            <a:ext cx="1368720" cy="79200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144360" y="1341360"/>
            <a:ext cx="399600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та светила над горизонт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Больше 0 градус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меньше 90 граду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 rot="1741800">
            <a:off x="7308720" y="3573000"/>
            <a:ext cx="468360" cy="5256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5"/>
          <p:cNvSpPr/>
          <p:nvPr/>
        </p:nvSpPr>
        <p:spPr>
          <a:xfrm rot="12772200">
            <a:off x="7056000" y="4004640"/>
            <a:ext cx="468360" cy="52524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6"/>
          <p:cNvSpPr/>
          <p:nvPr/>
        </p:nvSpPr>
        <p:spPr>
          <a:xfrm>
            <a:off x="6300720" y="4724280"/>
            <a:ext cx="237492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7"/>
          <p:cNvSpPr/>
          <p:nvPr/>
        </p:nvSpPr>
        <p:spPr>
          <a:xfrm flipV="1">
            <a:off x="7524720" y="4005360"/>
            <a:ext cx="1079640" cy="1224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30"/>
          <p:cNvSpPr/>
          <p:nvPr/>
        </p:nvSpPr>
        <p:spPr>
          <a:xfrm>
            <a:off x="8317080" y="3789360"/>
            <a:ext cx="502920" cy="360360"/>
          </a:xfrm>
          <a:custGeom>
            <a:avLst/>
            <a:gdLst>
              <a:gd name="textAreaLeft" fmla="*/ 207360 w 502920"/>
              <a:gd name="textAreaRight" fmla="*/ 295560 w 50292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 flipH="1">
            <a:off x="7020000" y="5229360"/>
            <a:ext cx="50472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32"/>
          <p:cNvSpPr/>
          <p:nvPr/>
        </p:nvSpPr>
        <p:spPr>
          <a:xfrm>
            <a:off x="6372360" y="5516640"/>
            <a:ext cx="504720" cy="360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Ю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3"/>
          <p:cNvSpPr/>
          <p:nvPr/>
        </p:nvSpPr>
        <p:spPr>
          <a:xfrm>
            <a:off x="8532720" y="4076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6"/>
          <p:cNvSpPr/>
          <p:nvPr/>
        </p:nvSpPr>
        <p:spPr>
          <a:xfrm>
            <a:off x="6877080" y="5516640"/>
            <a:ext cx="14436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7"/>
          <p:cNvSpPr/>
          <p:nvPr/>
        </p:nvSpPr>
        <p:spPr>
          <a:xfrm flipV="1">
            <a:off x="7524720" y="4941360"/>
            <a:ext cx="100800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val 38"/>
          <p:cNvSpPr/>
          <p:nvPr/>
        </p:nvSpPr>
        <p:spPr>
          <a:xfrm>
            <a:off x="7451640" y="5157720"/>
            <a:ext cx="14472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val 39"/>
          <p:cNvSpPr/>
          <p:nvPr/>
        </p:nvSpPr>
        <p:spPr>
          <a:xfrm>
            <a:off x="539640" y="5950080"/>
            <a:ext cx="14472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40"/>
          <p:cNvSpPr/>
          <p:nvPr/>
        </p:nvSpPr>
        <p:spPr>
          <a:xfrm>
            <a:off x="5076720" y="6165720"/>
            <a:ext cx="3996000" cy="54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зиму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Больше 0 градус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меньше 360 граду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Особенности астрономических наблюдений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Rectangle 43"/>
          <p:cNvSpPr/>
          <p:nvPr/>
        </p:nvSpPr>
        <p:spPr>
          <a:xfrm>
            <a:off x="5292720" y="760320"/>
            <a:ext cx="3635280" cy="3650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. Большие расстояния до звез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44"/>
          <p:cNvSpPr/>
          <p:nvPr/>
        </p:nvSpPr>
        <p:spPr>
          <a:xfrm>
            <a:off x="4500720" y="4437000"/>
            <a:ext cx="86328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1 =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2 =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250920" y="709560"/>
            <a:ext cx="87138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блюдения проводятся с помощью астрономических обсерватор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ая обсерватория была создана в 4000 г. до н. э. в местечке Стоунхендж (Англия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известные обсерватории РФ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ая астрономическая обсерватория Российской Академии наук – Пулковская (в Санкт – Петербург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альная астрофизическая обсерватория (на Северном Кавказ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енный астрономический институт им. П.К. Штернберга (в Москв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9"/>
          <p:cNvSpPr/>
          <p:nvPr/>
        </p:nvSpPr>
        <p:spPr>
          <a:xfrm>
            <a:off x="179280" y="189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ескоп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– оптический прибор, увеличивающий угол зрения, под которым видны небесные тела и позволяющий собирать во много раз больше света, приходящего от светила, чем глаз наблюдател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ествует несколько типов оптических телескоп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50920" y="1700280"/>
            <a:ext cx="8386560" cy="446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11"/>
          <p:cNvSpPr/>
          <p:nvPr/>
        </p:nvSpPr>
        <p:spPr>
          <a:xfrm>
            <a:off x="2916360" y="2565360"/>
            <a:ext cx="287280" cy="2519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2"/>
          <p:cNvSpPr/>
          <p:nvPr/>
        </p:nvSpPr>
        <p:spPr>
          <a:xfrm>
            <a:off x="6443640" y="2852640"/>
            <a:ext cx="144360" cy="1871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>
            <a:off x="1763640" y="386064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4356000" y="3789360"/>
            <a:ext cx="14472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 flipV="1">
            <a:off x="755640" y="2276280"/>
            <a:ext cx="5761080" cy="2665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9"/>
          <p:cNvSpPr/>
          <p:nvPr/>
        </p:nvSpPr>
        <p:spPr>
          <a:xfrm flipV="1">
            <a:off x="826920" y="4220640"/>
            <a:ext cx="22323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 flipV="1">
            <a:off x="3059280" y="1773000"/>
            <a:ext cx="3457440" cy="2447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6"/>
          <p:cNvSpPr/>
          <p:nvPr/>
        </p:nvSpPr>
        <p:spPr>
          <a:xfrm flipH="1">
            <a:off x="7091280" y="378936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27"/>
          <p:cNvSpPr/>
          <p:nvPr/>
        </p:nvSpPr>
        <p:spPr>
          <a:xfrm flipH="1">
            <a:off x="5867280" y="378936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V="1">
            <a:off x="4859280" y="3213000"/>
            <a:ext cx="2521080" cy="1152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29"/>
          <p:cNvSpPr/>
          <p:nvPr/>
        </p:nvSpPr>
        <p:spPr>
          <a:xfrm>
            <a:off x="7164360" y="3284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30"/>
          <p:cNvSpPr/>
          <p:nvPr/>
        </p:nvSpPr>
        <p:spPr>
          <a:xfrm>
            <a:off x="6516720" y="1844640"/>
            <a:ext cx="1293840" cy="3024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31"/>
          <p:cNvSpPr/>
          <p:nvPr/>
        </p:nvSpPr>
        <p:spPr>
          <a:xfrm>
            <a:off x="6516720" y="2276640"/>
            <a:ext cx="1727280" cy="2881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32"/>
          <p:cNvSpPr/>
          <p:nvPr/>
        </p:nvSpPr>
        <p:spPr>
          <a:xfrm>
            <a:off x="324000" y="5013360"/>
            <a:ext cx="358560" cy="358920"/>
          </a:xfrm>
          <a:custGeom>
            <a:avLst/>
            <a:gdLst>
              <a:gd name="textAreaLeft" fmla="*/ 52560 w 358560"/>
              <a:gd name="textAreaRight" fmla="*/ 306000 w 358560"/>
              <a:gd name="textAreaTop" fmla="*/ 52560 h 358920"/>
              <a:gd name="textAreaBottom" fmla="*/ 3063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" y="12116"/>
                </a:lnTo>
                <a:lnTo>
                  <a:pt x="368" y="13595"/>
                </a:lnTo>
                <a:lnTo>
                  <a:pt x="786" y="14846"/>
                </a:lnTo>
                <a:lnTo>
                  <a:pt x="1447" y="16200"/>
                </a:lnTo>
                <a:lnTo>
                  <a:pt x="2175" y="17300"/>
                </a:lnTo>
                <a:lnTo>
                  <a:pt x="3163" y="18437"/>
                </a:lnTo>
                <a:lnTo>
                  <a:pt x="4151" y="19311"/>
                </a:lnTo>
                <a:lnTo>
                  <a:pt x="5400" y="20153"/>
                </a:lnTo>
                <a:lnTo>
                  <a:pt x="6580" y="20741"/>
                </a:lnTo>
                <a:lnTo>
                  <a:pt x="8005" y="21232"/>
                </a:lnTo>
                <a:lnTo>
                  <a:pt x="9297" y="21495"/>
                </a:lnTo>
                <a:lnTo>
                  <a:pt x="10800" y="21600"/>
                </a:lnTo>
                <a:lnTo>
                  <a:pt x="12116" y="21519"/>
                </a:lnTo>
                <a:lnTo>
                  <a:pt x="13595" y="21232"/>
                </a:lnTo>
                <a:lnTo>
                  <a:pt x="14846" y="20814"/>
                </a:lnTo>
                <a:lnTo>
                  <a:pt x="16200" y="20153"/>
                </a:lnTo>
                <a:lnTo>
                  <a:pt x="17300" y="19425"/>
                </a:lnTo>
                <a:lnTo>
                  <a:pt x="18437" y="18437"/>
                </a:lnTo>
                <a:lnTo>
                  <a:pt x="19311" y="17449"/>
                </a:lnTo>
                <a:lnTo>
                  <a:pt x="20153" y="16200"/>
                </a:lnTo>
                <a:lnTo>
                  <a:pt x="20741" y="15020"/>
                </a:lnTo>
                <a:lnTo>
                  <a:pt x="21232" y="13595"/>
                </a:lnTo>
                <a:lnTo>
                  <a:pt x="21495" y="12303"/>
                </a:lnTo>
                <a:lnTo>
                  <a:pt x="21600" y="10800"/>
                </a:lnTo>
                <a:lnTo>
                  <a:pt x="21519" y="9484"/>
                </a:lnTo>
                <a:lnTo>
                  <a:pt x="21232" y="8005"/>
                </a:lnTo>
                <a:lnTo>
                  <a:pt x="20814" y="6754"/>
                </a:lnTo>
                <a:lnTo>
                  <a:pt x="20153" y="5400"/>
                </a:lnTo>
                <a:lnTo>
                  <a:pt x="19425" y="4300"/>
                </a:lnTo>
                <a:lnTo>
                  <a:pt x="18437" y="3163"/>
                </a:lnTo>
                <a:lnTo>
                  <a:pt x="17449" y="2289"/>
                </a:lnTo>
                <a:lnTo>
                  <a:pt x="16200" y="1447"/>
                </a:lnTo>
                <a:lnTo>
                  <a:pt x="15020" y="859"/>
                </a:lnTo>
                <a:lnTo>
                  <a:pt x="13595" y="368"/>
                </a:lnTo>
                <a:lnTo>
                  <a:pt x="12303" y="105"/>
                </a:lnTo>
                <a:lnTo>
                  <a:pt x="10800" y="0"/>
                </a:lnTo>
                <a:lnTo>
                  <a:pt x="9484" y="81"/>
                </a:lnTo>
                <a:lnTo>
                  <a:pt x="8005" y="368"/>
                </a:lnTo>
                <a:lnTo>
                  <a:pt x="6754" y="786"/>
                </a:lnTo>
                <a:lnTo>
                  <a:pt x="5400" y="1447"/>
                </a:lnTo>
                <a:lnTo>
                  <a:pt x="4300" y="2175"/>
                </a:lnTo>
                <a:lnTo>
                  <a:pt x="3163" y="3163"/>
                </a:lnTo>
                <a:lnTo>
                  <a:pt x="2289" y="4151"/>
                </a:lnTo>
                <a:lnTo>
                  <a:pt x="1447" y="5400"/>
                </a:lnTo>
                <a:lnTo>
                  <a:pt x="859" y="6580"/>
                </a:lnTo>
                <a:lnTo>
                  <a:pt x="368" y="8005"/>
                </a:lnTo>
                <a:lnTo>
                  <a:pt x="105" y="929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33"/>
          <p:cNvSpPr/>
          <p:nvPr/>
        </p:nvSpPr>
        <p:spPr>
          <a:xfrm flipH="1">
            <a:off x="7092360" y="3213000"/>
            <a:ext cx="144360" cy="144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35"/>
          <p:cNvSpPr/>
          <p:nvPr/>
        </p:nvSpPr>
        <p:spPr>
          <a:xfrm>
            <a:off x="4427640" y="2997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36"/>
          <p:cNvSpPr/>
          <p:nvPr/>
        </p:nvSpPr>
        <p:spPr>
          <a:xfrm flipH="1">
            <a:off x="4356000" y="3141720"/>
            <a:ext cx="14472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37"/>
          <p:cNvSpPr/>
          <p:nvPr/>
        </p:nvSpPr>
        <p:spPr>
          <a:xfrm flipV="1">
            <a:off x="6443640" y="213336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39"/>
          <p:cNvSpPr/>
          <p:nvPr/>
        </p:nvSpPr>
        <p:spPr>
          <a:xfrm>
            <a:off x="651672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0"/>
          <p:cNvSpPr/>
          <p:nvPr/>
        </p:nvSpPr>
        <p:spPr>
          <a:xfrm>
            <a:off x="5942160" y="4076640"/>
            <a:ext cx="14256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F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41"/>
          <p:cNvSpPr/>
          <p:nvPr/>
        </p:nvSpPr>
        <p:spPr>
          <a:xfrm>
            <a:off x="6948360" y="4076640"/>
            <a:ext cx="7164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F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2"/>
          <p:cNvSpPr/>
          <p:nvPr/>
        </p:nvSpPr>
        <p:spPr>
          <a:xfrm>
            <a:off x="4140360" y="4076640"/>
            <a:ext cx="21744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ff"/>
                </a:solidFill>
                <a:latin typeface="Arial"/>
              </a:rPr>
              <a:t>F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43"/>
          <p:cNvSpPr/>
          <p:nvPr/>
        </p:nvSpPr>
        <p:spPr>
          <a:xfrm>
            <a:off x="1763640" y="3789360"/>
            <a:ext cx="14436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4"/>
          <p:cNvSpPr/>
          <p:nvPr/>
        </p:nvSpPr>
        <p:spPr>
          <a:xfrm>
            <a:off x="2627280" y="5157720"/>
            <a:ext cx="8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99ff"/>
                </a:solidFill>
                <a:latin typeface="Arial"/>
              </a:rPr>
              <a:t>Объектив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46"/>
          <p:cNvSpPr/>
          <p:nvPr/>
        </p:nvSpPr>
        <p:spPr>
          <a:xfrm>
            <a:off x="6084720" y="4797360"/>
            <a:ext cx="8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c0000"/>
                </a:solidFill>
                <a:latin typeface="Arial"/>
              </a:rPr>
              <a:t>Окуляр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47"/>
          <p:cNvSpPr/>
          <p:nvPr/>
        </p:nvSpPr>
        <p:spPr>
          <a:xfrm>
            <a:off x="2987640" y="378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48"/>
          <p:cNvSpPr/>
          <p:nvPr/>
        </p:nvSpPr>
        <p:spPr>
          <a:xfrm flipV="1">
            <a:off x="5651640" y="3068280"/>
            <a:ext cx="1800000" cy="14382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1835280" y="4076640"/>
            <a:ext cx="21744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ff"/>
                </a:solidFill>
                <a:latin typeface="Arial"/>
              </a:rPr>
              <a:t>F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3"/>
          <p:cNvSpPr/>
          <p:nvPr/>
        </p:nvSpPr>
        <p:spPr>
          <a:xfrm>
            <a:off x="7381080" y="3357720"/>
            <a:ext cx="104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c0000"/>
                </a:solidFill>
                <a:latin typeface="Arial"/>
              </a:rPr>
              <a:t>Изображение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54"/>
          <p:cNvSpPr/>
          <p:nvPr/>
        </p:nvSpPr>
        <p:spPr>
          <a:xfrm>
            <a:off x="466560" y="1797120"/>
            <a:ext cx="476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ескоп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рефрактор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– главная часть – линза или система линз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56"/>
          <p:cNvSpPr/>
          <p:nvPr/>
        </p:nvSpPr>
        <p:spPr>
          <a:xfrm>
            <a:off x="324000" y="5530680"/>
            <a:ext cx="821340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величение телескоп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Г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= фокусное расстояние объектива (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F1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фокусное расстояние окуляр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(F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 = 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1 / OF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79280" y="333360"/>
            <a:ext cx="4392720" cy="324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755640" y="836640"/>
            <a:ext cx="324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1979640" y="2133720"/>
            <a:ext cx="201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3995640" y="83664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 rot="10800000">
            <a:off x="3276360" y="907920"/>
            <a:ext cx="647640" cy="1152720"/>
          </a:xfrm>
          <a:prstGeom prst="flowChartOnlineStorag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2"/>
          <p:cNvSpPr/>
          <p:nvPr/>
        </p:nvSpPr>
        <p:spPr>
          <a:xfrm flipV="1">
            <a:off x="1332000" y="1339920"/>
            <a:ext cx="50472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3"/>
          <p:cNvSpPr/>
          <p:nvPr/>
        </p:nvSpPr>
        <p:spPr>
          <a:xfrm flipV="1">
            <a:off x="1403280" y="1410840"/>
            <a:ext cx="503280" cy="28908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>
            <a:off x="900000" y="1052640"/>
            <a:ext cx="24480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 flipH="1">
            <a:off x="1692000" y="1052640"/>
            <a:ext cx="1584360" cy="504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 flipH="1">
            <a:off x="1547640" y="1557360"/>
            <a:ext cx="216000" cy="863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900000" y="1989000"/>
            <a:ext cx="244800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8"/>
          <p:cNvSpPr/>
          <p:nvPr/>
        </p:nvSpPr>
        <p:spPr>
          <a:xfrm flipH="1" flipV="1">
            <a:off x="1476000" y="1700280"/>
            <a:ext cx="1871640" cy="287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1547640" y="1773360"/>
            <a:ext cx="287640" cy="647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1332000" y="2421000"/>
            <a:ext cx="647640" cy="71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>
            <a:off x="1835280" y="2492280"/>
            <a:ext cx="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>
            <a:off x="1547640" y="2492280"/>
            <a:ext cx="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24"/>
          <p:cNvSpPr/>
          <p:nvPr/>
        </p:nvSpPr>
        <p:spPr>
          <a:xfrm>
            <a:off x="1979640" y="213372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25"/>
          <p:cNvSpPr/>
          <p:nvPr/>
        </p:nvSpPr>
        <p:spPr>
          <a:xfrm>
            <a:off x="1332000" y="213372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26"/>
          <p:cNvSpPr/>
          <p:nvPr/>
        </p:nvSpPr>
        <p:spPr>
          <a:xfrm flipH="1">
            <a:off x="755280" y="213372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3708360" y="-1611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55"/>
          <p:cNvSpPr/>
          <p:nvPr/>
        </p:nvSpPr>
        <p:spPr>
          <a:xfrm>
            <a:off x="3924360" y="2565360"/>
            <a:ext cx="4608360" cy="338292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74"/>
          <p:cNvSpPr/>
          <p:nvPr/>
        </p:nvSpPr>
        <p:spPr>
          <a:xfrm>
            <a:off x="3924360" y="357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75"/>
          <p:cNvSpPr/>
          <p:nvPr/>
        </p:nvSpPr>
        <p:spPr>
          <a:xfrm>
            <a:off x="5148360" y="3716280"/>
            <a:ext cx="25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76"/>
          <p:cNvSpPr/>
          <p:nvPr/>
        </p:nvSpPr>
        <p:spPr>
          <a:xfrm>
            <a:off x="5219640" y="5084640"/>
            <a:ext cx="25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77"/>
          <p:cNvSpPr/>
          <p:nvPr/>
        </p:nvSpPr>
        <p:spPr>
          <a:xfrm rot="10800000">
            <a:off x="5074920" y="3789360"/>
            <a:ext cx="360360" cy="1224000"/>
          </a:xfrm>
          <a:prstGeom prst="flowChartOnlineStora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78"/>
          <p:cNvSpPr/>
          <p:nvPr/>
        </p:nvSpPr>
        <p:spPr>
          <a:xfrm>
            <a:off x="5508720" y="4221000"/>
            <a:ext cx="0" cy="43200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79"/>
          <p:cNvSpPr/>
          <p:nvPr/>
        </p:nvSpPr>
        <p:spPr>
          <a:xfrm rot="10800000">
            <a:off x="7164000" y="3789360"/>
            <a:ext cx="647640" cy="1224000"/>
          </a:xfrm>
          <a:prstGeom prst="flowChartOnlineStorag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80"/>
          <p:cNvSpPr/>
          <p:nvPr/>
        </p:nvSpPr>
        <p:spPr>
          <a:xfrm>
            <a:off x="7236000" y="4292640"/>
            <a:ext cx="57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81"/>
          <p:cNvSpPr/>
          <p:nvPr/>
        </p:nvSpPr>
        <p:spPr>
          <a:xfrm rot="5243400">
            <a:off x="7498080" y="4331520"/>
            <a:ext cx="91440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82"/>
          <p:cNvSpPr/>
          <p:nvPr/>
        </p:nvSpPr>
        <p:spPr>
          <a:xfrm>
            <a:off x="781200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83"/>
          <p:cNvSpPr/>
          <p:nvPr/>
        </p:nvSpPr>
        <p:spPr>
          <a:xfrm>
            <a:off x="7740720" y="371628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84"/>
          <p:cNvSpPr/>
          <p:nvPr/>
        </p:nvSpPr>
        <p:spPr>
          <a:xfrm>
            <a:off x="7812000" y="486900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85"/>
          <p:cNvSpPr/>
          <p:nvPr/>
        </p:nvSpPr>
        <p:spPr>
          <a:xfrm>
            <a:off x="7812000" y="4869000"/>
            <a:ext cx="289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86"/>
          <p:cNvSpPr/>
          <p:nvPr/>
        </p:nvSpPr>
        <p:spPr>
          <a:xfrm>
            <a:off x="7740720" y="3932280"/>
            <a:ext cx="288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87"/>
          <p:cNvSpPr/>
          <p:nvPr/>
        </p:nvSpPr>
        <p:spPr>
          <a:xfrm>
            <a:off x="4067280" y="4005360"/>
            <a:ext cx="31687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88"/>
          <p:cNvSpPr/>
          <p:nvPr/>
        </p:nvSpPr>
        <p:spPr>
          <a:xfrm flipH="1">
            <a:off x="5508720" y="4005360"/>
            <a:ext cx="1727280" cy="287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89"/>
          <p:cNvSpPr/>
          <p:nvPr/>
        </p:nvSpPr>
        <p:spPr>
          <a:xfrm>
            <a:off x="5580000" y="4292640"/>
            <a:ext cx="2376720" cy="216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90"/>
          <p:cNvSpPr/>
          <p:nvPr/>
        </p:nvSpPr>
        <p:spPr>
          <a:xfrm>
            <a:off x="4140360" y="4940280"/>
            <a:ext cx="3095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91"/>
          <p:cNvSpPr/>
          <p:nvPr/>
        </p:nvSpPr>
        <p:spPr>
          <a:xfrm flipH="1" flipV="1">
            <a:off x="5508360" y="4581000"/>
            <a:ext cx="1655640" cy="358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92"/>
          <p:cNvSpPr/>
          <p:nvPr/>
        </p:nvSpPr>
        <p:spPr>
          <a:xfrm flipV="1">
            <a:off x="5580000" y="4365360"/>
            <a:ext cx="2303640" cy="215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93"/>
          <p:cNvSpPr/>
          <p:nvPr/>
        </p:nvSpPr>
        <p:spPr>
          <a:xfrm>
            <a:off x="7883640" y="4365720"/>
            <a:ext cx="36036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94"/>
          <p:cNvSpPr/>
          <p:nvPr/>
        </p:nvSpPr>
        <p:spPr>
          <a:xfrm>
            <a:off x="7956720" y="4508640"/>
            <a:ext cx="287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96"/>
          <p:cNvSpPr/>
          <p:nvPr/>
        </p:nvSpPr>
        <p:spPr>
          <a:xfrm>
            <a:off x="324000" y="5661000"/>
            <a:ext cx="71294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ескоп – зеркально – линзовый – комбинация зеркал (телескоп Максутов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97"/>
          <p:cNvSpPr/>
          <p:nvPr/>
        </p:nvSpPr>
        <p:spPr>
          <a:xfrm>
            <a:off x="2700360" y="189000"/>
            <a:ext cx="547200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ескоп – рефлектор – главная часть – вогнутое зеркало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"/>
          <p:cNvSpPr/>
          <p:nvPr/>
        </p:nvSpPr>
        <p:spPr>
          <a:xfrm>
            <a:off x="179280" y="404640"/>
            <a:ext cx="878544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лескопы, приспособленные для фотографирования называются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строграф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 помощью телескопов производят не только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изуальные и фотографически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аблюдения, но и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фотоэлектрические и спектральные наблюд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имущества фотографических наблюдени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ументальность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ментальность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норамность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тегральность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тальность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ектральные наблюдения (спектральный анализ) позволяет получать сведения о температуре, химическом составе, магнитных полях небесных тел, а также об их движен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диотелескопы предназначены для исследования небесных тел в радиодиапозон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1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179280" y="228600"/>
            <a:ext cx="885672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лескопы бывают самыми разными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птические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общего астрофизического назначения, коронографы, телескопы для наблюдения ИСЗ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адиотелескоп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инфракрасны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нейтринны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ентгеновск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всем своем многообразии, все телескопы, принимающие электромагнитное излучение, решают две основных задачи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т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аксимально резкое изображение и, при визуальных наблюдениях, увеличить угловые расстояния между объектами (звездами, галактиками и т. п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рат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ак можно больше энергии излучения, увеличить освещенность изображения объек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108000" y="189000"/>
            <a:ext cx="604836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вый телескоп был построен в 1609 году итальянским астрономом Галилео Галилее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лескоп имел скромные размеры (длина трубы 1245 мм, диаметр объектива 53 мм, окуляр 25 диоптрий), несовершенную оптическую схему и 30-кратное увеличение. Он позволил сделать целую серию замечательных открытий (фазы Венеры, горы на Луне, спутники Юпитера, пятна на Солнце, звезды в Млечном Пут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чень плохое качество изображения в первых телескопах заставило оптиков искать пути решения этой проблемы. Оказалось, что увеличение фокусного расстояния объектива значительно улучшает качество изображ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381400" cy="3638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02" name="Rectangle 6"/>
          <p:cNvSpPr/>
          <p:nvPr/>
        </p:nvSpPr>
        <p:spPr>
          <a:xfrm>
            <a:off x="-4456800" y="3189240"/>
            <a:ext cx="426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Телескопы Галилея (Музей истории науки, Флоренция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ва телескопа укреплены на музейной подставке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 центре виньетки разбитый объектив от первого телескопа Галиле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588000" y="3898800"/>
            <a:ext cx="237672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лескопы Галиле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узей истории науки, Флоренция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ва телескопа укреплены на музейной подставке, В центре виньетки разбитый объектив от первого телескопа Галиле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95280" y="816120"/>
            <a:ext cx="3809880" cy="33336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900000" y="4508640"/>
            <a:ext cx="784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лескоп Гевелия имел длину 50 м и подвешивался системой канатов на столб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лескоп Озу имел длину 98 метров. При этом он не имел трубы, объектив располагался на столбе на расстоянии почти 100 метров от окуляра, который наблюдатель держал в руках (так называемый воздушный телескоп). Наблюдать с таким телескопом было очень неудобно. Озу не сделал ни одного открыт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829800" y="3333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ескоп Геве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5435640" y="1052640"/>
            <a:ext cx="3529080" cy="2770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663 году Грегори создал новую схему телескопа-рефлекто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регори первым предложил использовать в телескоп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место линзы зеркал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ая аберрация линзовых объективов – хроматическая – полность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сутствует в зеркальном телескоп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3078360" cy="410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09" name="Rectangle 6"/>
          <p:cNvSpPr/>
          <p:nvPr/>
        </p:nvSpPr>
        <p:spPr>
          <a:xfrm>
            <a:off x="395280" y="4797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й телескоп-рефлектор был построен Исааком Ньютоном в 1668 году. Схема, по которой он был построен, получила название «схема Ньютона». Длина телескопа составляла 15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4211640" y="1844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505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5186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12" name="Rectangle 5"/>
          <p:cNvSpPr/>
          <p:nvPr/>
        </p:nvSpPr>
        <p:spPr>
          <a:xfrm>
            <a:off x="179280" y="5589720"/>
            <a:ext cx="8713800" cy="8240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1672 году Кассегрен предложил схему двухзеркальной системы, вскоре ставшую наиболее популярной. Первое зеркало было параболическим, второе имело форму выпуклого гиперболоида и располагалось перед фокусом перво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79280" y="1052640"/>
            <a:ext cx="8229600" cy="30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Слово астрономия происходит 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от двух греческих слов: </a:t>
            </a:r>
            <a:br>
              <a:rPr sz="3200"/>
            </a:b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а с т р о н</a:t>
            </a: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 – звезда, </a:t>
            </a:r>
            <a:br>
              <a:rPr sz="4400"/>
            </a:b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н о м о с</a:t>
            </a: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 – закон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333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ктическая потребность изучения звездного неба привела к зарождению начатков науки, получившей впоследствии в Древней Греции около 4 в до н.э. название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астрономия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79280" y="4265640"/>
            <a:ext cx="878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 само название отнюдь не служит доказательством зарождения и развития астрономии только в Древней Греции. Астрономия возникла и самостоятельно развивалась буквально у всех народов, но степень ее развития, естественно, находилась в прямой зависимости от уровня производительных сил и культуры наро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5113440" cy="3833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3851280" y="3138480"/>
            <a:ext cx="5148360" cy="3603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15" name="Rectangle 8"/>
          <p:cNvSpPr/>
          <p:nvPr/>
        </p:nvSpPr>
        <p:spPr>
          <a:xfrm>
            <a:off x="5651640" y="692280"/>
            <a:ext cx="3240000" cy="1465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й большой в мире зеркальный телескоп 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ка имеет диаметр 10 м и находится на Гавайских остров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250920" y="4175280"/>
            <a:ext cx="2160360" cy="2284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ин из крупнейших современных телескопов – рефлектор БТА находится в Росси на Северном Кавказе (диаметр зеркала 6 м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4427640" y="1197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1"/>
          <p:cNvSpPr/>
          <p:nvPr/>
        </p:nvSpPr>
        <p:spPr>
          <a:xfrm flipH="1">
            <a:off x="2699640" y="5030640"/>
            <a:ext cx="1655640" cy="486000"/>
          </a:xfrm>
          <a:prstGeom prst="leftArrow">
            <a:avLst>
              <a:gd name="adj1" fmla="val 50000"/>
              <a:gd name="adj2" fmla="val 851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250920" y="5877000"/>
            <a:ext cx="8713800" cy="82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Самый большой рефрактор в мире, который находится в Йеркской обсерватории в США, имеет линзу диаметром в 1 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Линза с большим диаметром была бы слишком тяжела и сложна в изготовле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3419640" y="189000"/>
            <a:ext cx="5486400" cy="38098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22" name="Rectangle 6"/>
          <p:cNvSpPr/>
          <p:nvPr/>
        </p:nvSpPr>
        <p:spPr>
          <a:xfrm>
            <a:off x="108000" y="333360"/>
            <a:ext cx="2879640" cy="2284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963 году начал работать 300-метровый радиотелескоп со сферической антенной в Аресибо на острове Пуэрто-Рико, установленный в огромном естественном котловане, в гора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6076800" y="4365720"/>
            <a:ext cx="3067200" cy="2040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976 году на Северном Кавказе в России начал работ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00-метровый радиотелескоп РАТАН-600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ловое разрешение радиотелескопа на волне 3 см составляет 10"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2"/>
          <a:stretch/>
        </p:blipFill>
        <p:spPr>
          <a:xfrm>
            <a:off x="108000" y="2997360"/>
            <a:ext cx="5472000" cy="38098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25" name="AutoShape 10"/>
          <p:cNvSpPr/>
          <p:nvPr/>
        </p:nvSpPr>
        <p:spPr>
          <a:xfrm>
            <a:off x="3132000" y="1197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2"/>
          <p:cNvSpPr/>
          <p:nvPr/>
        </p:nvSpPr>
        <p:spPr>
          <a:xfrm flipH="1">
            <a:off x="5003640" y="5464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888120" y="2492280"/>
            <a:ext cx="70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омашнее задание: параграф 1, вопросы 1 – 5 (устно), 6,7 (письменно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val 5"/>
          <p:cNvSpPr/>
          <p:nvPr/>
        </p:nvSpPr>
        <p:spPr>
          <a:xfrm>
            <a:off x="179280" y="836640"/>
            <a:ext cx="8640720" cy="4586400"/>
          </a:xfrm>
          <a:prstGeom prst="ellipse">
            <a:avLst/>
          </a:prstGeom>
          <a:solidFill>
            <a:srgbClr val="3399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строномия – это нау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торая изучает движение, строе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заимную связ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ование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небесных тел и их сист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9036000" cy="5905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108000" y="6043680"/>
            <a:ext cx="9036000" cy="81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416"/>
                </a:solidFill>
                <a:latin typeface="Arial"/>
              </a:rPr>
              <a:t>Древо астрономических зна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0"/>
          <p:cNvSpPr/>
          <p:nvPr/>
        </p:nvSpPr>
        <p:spPr>
          <a:xfrm>
            <a:off x="250920" y="3068640"/>
            <a:ext cx="2089080" cy="914400"/>
          </a:xfrm>
          <a:prstGeom prst="ellipse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строном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3059280" y="1989000"/>
            <a:ext cx="3960720" cy="43200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строме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3059280" y="2708280"/>
            <a:ext cx="3960720" cy="43164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бесная меха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3060720" y="3429000"/>
            <a:ext cx="3959280" cy="43164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строфиз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059280" y="4149720"/>
            <a:ext cx="3960720" cy="43164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мого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059280" y="4869000"/>
            <a:ext cx="3960720" cy="43164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м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1835280" y="2276280"/>
            <a:ext cx="108108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 flipV="1">
            <a:off x="2195640" y="2924280"/>
            <a:ext cx="792000" cy="28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2484360" y="3573360"/>
            <a:ext cx="43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2268360" y="3860640"/>
            <a:ext cx="648000" cy="50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1908000" y="4076640"/>
            <a:ext cx="1008360" cy="93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21"/>
          <p:cNvSpPr/>
          <p:nvPr/>
        </p:nvSpPr>
        <p:spPr>
          <a:xfrm>
            <a:off x="7653240" y="5013360"/>
            <a:ext cx="1490760" cy="9144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Астр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22"/>
          <p:cNvSpPr/>
          <p:nvPr/>
        </p:nvSpPr>
        <p:spPr>
          <a:xfrm>
            <a:off x="7380360" y="5734080"/>
            <a:ext cx="1490760" cy="9144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ф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50920" y="262080"/>
            <a:ext cx="8497800" cy="50292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Астрометрия – это раздел астрономии, изучающий видимое движение небесных т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8000" y="981000"/>
            <a:ext cx="8964720" cy="50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Небесная механика – это раздел астрономии, изучающий действительное движение небесных т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50920" y="1701720"/>
            <a:ext cx="8497800" cy="50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Астрофизика – это раздел астрономии, изучающий природу небесных т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50920" y="2421000"/>
            <a:ext cx="8497800" cy="50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Космогония – это раздел астрономии, изучающий происхождение небесных т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50920" y="3141720"/>
            <a:ext cx="8497800" cy="50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Космология – это раздел астрономии, изучающий эволюцию (развитие) небесных т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468360" y="836640"/>
            <a:ext cx="8280360" cy="3651120"/>
          </a:xfrm>
          <a:prstGeom prst="rect">
            <a:avLst/>
          </a:prstGeom>
          <a:solidFill>
            <a:srgbClr val="3399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блюдения – основной источник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нформац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небесных телах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цессах и явлениях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исходящих во Вселенн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57200" y="228600"/>
            <a:ext cx="8229600" cy="608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сти астрономических наблюд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796000" y="760320"/>
            <a:ext cx="3024000" cy="3650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. Пассив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j0149481"/>
          <p:cNvPicPr/>
          <p:nvPr/>
        </p:nvPicPr>
        <p:blipFill>
          <a:blip r:embed="rId1"/>
          <a:stretch/>
        </p:blipFill>
        <p:spPr>
          <a:xfrm>
            <a:off x="250920" y="4678200"/>
            <a:ext cx="2144520" cy="217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j0195812"/>
          <p:cNvPicPr/>
          <p:nvPr/>
        </p:nvPicPr>
        <p:blipFill>
          <a:blip r:embed="rId2"/>
          <a:stretch/>
        </p:blipFill>
        <p:spPr>
          <a:xfrm>
            <a:off x="1979640" y="5033880"/>
            <a:ext cx="1773360" cy="18241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9"/>
          <p:cNvSpPr/>
          <p:nvPr/>
        </p:nvSpPr>
        <p:spPr>
          <a:xfrm>
            <a:off x="1979640" y="126828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2411280" y="1773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4716360" y="1341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3276720" y="4005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7667640" y="242100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4427640" y="2997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8459640" y="2565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5580000" y="263700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8640720" y="5805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8"/>
          <p:cNvSpPr/>
          <p:nvPr/>
        </p:nvSpPr>
        <p:spPr>
          <a:xfrm>
            <a:off x="4788000" y="364500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9"/>
          <p:cNvSpPr/>
          <p:nvPr/>
        </p:nvSpPr>
        <p:spPr>
          <a:xfrm>
            <a:off x="7380360" y="573264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7956720" y="42210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1619280" y="6453360"/>
            <a:ext cx="1655640" cy="40464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23"/>
          <p:cNvSpPr/>
          <p:nvPr/>
        </p:nvSpPr>
        <p:spPr>
          <a:xfrm>
            <a:off x="5796000" y="321300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6"/>
          <p:cNvSpPr/>
          <p:nvPr/>
        </p:nvSpPr>
        <p:spPr>
          <a:xfrm>
            <a:off x="5003640" y="5300640"/>
            <a:ext cx="3780000" cy="35892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бесные тела и их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31"/>
          <p:cNvSpPr/>
          <p:nvPr/>
        </p:nvSpPr>
        <p:spPr>
          <a:xfrm>
            <a:off x="4500720" y="6114960"/>
            <a:ext cx="647640" cy="6271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2"/>
          <p:cNvSpPr/>
          <p:nvPr/>
        </p:nvSpPr>
        <p:spPr>
          <a:xfrm>
            <a:off x="4643280" y="6381720"/>
            <a:ext cx="36036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3"/>
          <p:cNvSpPr/>
          <p:nvPr/>
        </p:nvSpPr>
        <p:spPr>
          <a:xfrm rot="21372600">
            <a:off x="3422520" y="6524640"/>
            <a:ext cx="1079640" cy="289080"/>
          </a:xfrm>
          <a:prstGeom prst="rightArrow">
            <a:avLst>
              <a:gd name="adj1" fmla="val 50000"/>
              <a:gd name="adj2" fmla="val 93369"/>
            </a:avLst>
          </a:pr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4"/>
          <p:cNvSpPr/>
          <p:nvPr/>
        </p:nvSpPr>
        <p:spPr>
          <a:xfrm rot="20266200">
            <a:off x="5160960" y="5924160"/>
            <a:ext cx="1479600" cy="289080"/>
          </a:xfrm>
          <a:prstGeom prst="rightArrow">
            <a:avLst>
              <a:gd name="adj1" fmla="val 50000"/>
              <a:gd name="adj2" fmla="val 127958"/>
            </a:avLst>
          </a:pr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5"/>
          <p:cNvSpPr/>
          <p:nvPr/>
        </p:nvSpPr>
        <p:spPr>
          <a:xfrm>
            <a:off x="6443640" y="2349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7"/>
          <p:cNvSpPr/>
          <p:nvPr/>
        </p:nvSpPr>
        <p:spPr>
          <a:xfrm>
            <a:off x="6516720" y="429264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сти астрономических наблюдений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 rot="1890600">
            <a:off x="3419640" y="1950840"/>
            <a:ext cx="1873080" cy="3744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5146560" y="2133720"/>
            <a:ext cx="289080" cy="28728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 flipH="1">
            <a:off x="4932360" y="1628640"/>
            <a:ext cx="79200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5796000" y="1989000"/>
            <a:ext cx="1008000" cy="43200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4 ча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 flipH="1">
            <a:off x="3924360" y="1557360"/>
            <a:ext cx="1008000" cy="43196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3132000" y="1197000"/>
            <a:ext cx="1584360" cy="792000"/>
          </a:xfrm>
          <a:prstGeom prst="rect">
            <a:avLst/>
          </a:prstGeom>
          <a:solidFill>
            <a:srgbClr val="3399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 =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 млн. л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50 к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20"/>
          <p:cNvSpPr/>
          <p:nvPr/>
        </p:nvSpPr>
        <p:spPr>
          <a:xfrm>
            <a:off x="1187280" y="3213000"/>
            <a:ext cx="2017800" cy="503280"/>
          </a:xfrm>
          <a:prstGeom prst="leftArrow">
            <a:avLst>
              <a:gd name="adj1" fmla="val 50000"/>
              <a:gd name="adj2" fmla="val 10023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 км/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108000" y="3068640"/>
            <a:ext cx="914400" cy="115236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р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еркуле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Апек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24"/>
          <p:cNvSpPr/>
          <p:nvPr/>
        </p:nvSpPr>
        <p:spPr>
          <a:xfrm rot="1349400">
            <a:off x="5148000" y="3532320"/>
            <a:ext cx="215640" cy="976320"/>
          </a:xfrm>
          <a:prstGeom prst="downArrow">
            <a:avLst>
              <a:gd name="adj1" fmla="val 50000"/>
              <a:gd name="adj2" fmla="val 113189"/>
            </a:avLst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5580000" y="3789360"/>
            <a:ext cx="1152720" cy="43164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0 к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26"/>
          <p:cNvSpPr/>
          <p:nvPr/>
        </p:nvSpPr>
        <p:spPr>
          <a:xfrm>
            <a:off x="3490920" y="4653000"/>
            <a:ext cx="576360" cy="554040"/>
          </a:xfrm>
          <a:custGeom>
            <a:avLst/>
            <a:gdLst>
              <a:gd name="textAreaLeft" fmla="*/ 131400 w 576360"/>
              <a:gd name="textAreaRight" fmla="*/ 444960 w 576360"/>
              <a:gd name="textAreaTop" fmla="*/ 126360 h 554040"/>
              <a:gd name="textAreaBottom" fmla="*/ 4276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8"/>
          <p:cNvSpPr/>
          <p:nvPr/>
        </p:nvSpPr>
        <p:spPr>
          <a:xfrm>
            <a:off x="5796000" y="760320"/>
            <a:ext cx="3024000" cy="3650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. Движение Зем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7:13:14Z</dcterms:created>
  <dc:creator>ШКОЛА</dc:creator>
  <dc:description/>
  <dc:language>en-US</dc:language>
  <cp:lastModifiedBy>Директор</cp:lastModifiedBy>
  <dcterms:modified xsi:type="dcterms:W3CDTF">2009-04-11T19:04:58Z</dcterms:modified>
  <cp:revision>10</cp:revision>
  <dc:subject/>
  <dc:title>Слайд 1</dc:title>
</cp:coreProperties>
</file>