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77F-1696-4D07-ADF4-00F8538C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7C16-DF51-4881-986C-BD9C581924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F3E-3DF2-4302-8826-CF9F572C1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обсерватории оснащены оптическими телескопами, представляющие собой очень большие, сложные и обычно автоматизированные инстр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06F-4EAC-471B-96C1-385860616F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 = фокусное расстояние объекти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8FA2-EF83-4ECC-B0F0-6FA508600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елескопов производят не только визуальные и фотографические наблюдения, но и фотоэлектрические и спектральные наблю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F81-E1E8-4296-8271-FDBC305D5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6646-B401-48B5-8F5D-9A465A9DD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параграф 1, вопросы 1 – 6 (устно), 6,7 (письменн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221-C584-42F1-8E3D-E759265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470-ED1B-4937-91FB-B386D3C0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53C-49D3-4AFF-9614-9AD87442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919-7D83-4D42-A6AD-8DA5C216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9E0C0-732F-4F4C-B19A-428B9DD1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E8999-AE15-4C3C-8C6A-E3E2A4A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9F7F2-F80E-482F-810A-F52E627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B5B02-4623-4DCC-B52C-414F3AB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778E4-9DEE-4174-9071-CCAAE7E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BD82-D0F8-4169-9420-09EDFE2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4449-04E6-423D-8E12-6E8C071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A4E-7271-42B4-BFA4-384BF63B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FD6DC-F47C-465D-955C-0E038F9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78CDE-A350-4761-8F5B-F28C5AB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85C0-AD4F-4696-9FBF-3F13E38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B897-7671-4E5A-A58B-220CC2B3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8A82E-31BE-439E-9F6D-DA5B1EC7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B89-B5F8-47E6-A0D4-861998F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273-4AE3-4C37-B7D9-02BECED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F3C-D58F-4151-BED4-6C501EB2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880-59AA-4B02-B132-43FF2724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896-4738-4B46-B463-154F362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634-78B6-47ED-BDC6-E33D2C6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380-F056-4C1E-AD94-CD356AE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64DC-7B7C-4BE5-BC88-20D72A3082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6995-48F6-434A-9386-30E553B43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8000" y="333360"/>
            <a:ext cx="107928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42920" y="1197000"/>
            <a:ext cx="7344000" cy="50328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 астроно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00000" y="2565360"/>
            <a:ext cx="7417080" cy="201600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раткое знакомство с предметом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собенности астрономических наблю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 flipV="1">
            <a:off x="611280" y="1915920"/>
            <a:ext cx="4824360" cy="41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611280" y="2707920"/>
            <a:ext cx="230508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219640" y="1700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62728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8459640" y="4869000"/>
            <a:ext cx="144720" cy="142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 flipV="1">
            <a:off x="684360" y="6021360"/>
            <a:ext cx="81356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5400000">
            <a:off x="2230920" y="4545720"/>
            <a:ext cx="201636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2"/>
          <p:cNvSpPr/>
          <p:nvPr/>
        </p:nvSpPr>
        <p:spPr>
          <a:xfrm rot="5400000">
            <a:off x="1043280" y="4869720"/>
            <a:ext cx="136872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44360" y="1341360"/>
            <a:ext cx="39960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а светила над горизон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еньше 90 град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 rot="1741800">
            <a:off x="7308720" y="3573000"/>
            <a:ext cx="468360" cy="5256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 rot="12772200">
            <a:off x="7056000" y="4004640"/>
            <a:ext cx="468360" cy="5252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>
            <a:off x="6300720" y="4724280"/>
            <a:ext cx="237492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 flipV="1">
            <a:off x="7524720" y="4005360"/>
            <a:ext cx="1079640" cy="1224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30"/>
          <p:cNvSpPr/>
          <p:nvPr/>
        </p:nvSpPr>
        <p:spPr>
          <a:xfrm>
            <a:off x="8317080" y="3789360"/>
            <a:ext cx="502920" cy="360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 flipH="1">
            <a:off x="7020000" y="522936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6372360" y="5516640"/>
            <a:ext cx="50472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8532720" y="40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6877080" y="551664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 flipV="1">
            <a:off x="7524720" y="4941360"/>
            <a:ext cx="1008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7451640" y="515772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539640" y="59500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5076720" y="6165720"/>
            <a:ext cx="399600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м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меньше 360 граду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Особенности астрономических наблюдений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Rectangle 43"/>
          <p:cNvSpPr/>
          <p:nvPr/>
        </p:nvSpPr>
        <p:spPr>
          <a:xfrm>
            <a:off x="5292720" y="760320"/>
            <a:ext cx="363528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Большие расстояния до звез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4500720" y="4437000"/>
            <a:ext cx="86328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1 =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2 =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50920" y="709560"/>
            <a:ext cx="8713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людения проводятся с помощью астрономических обсерватор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ая обсерватория была создана в 4000 г. до н. э. в местечке Стоунхендж (Англ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известные обсерватории РФ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астрономическая обсерватория Российской Академии наук – Пулковская (в Санкт – Петербург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ьная астрофизическая обсерватория (на Северном Кавказ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ый астрономический институт им. П.К. Штернберга (в Москв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179280" y="189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– оптический прибор, увеличивающий угол зрения, под которым видны небесные тела и позволяющий собирать во много раз больше света, приходящего от светила, чем глаз наблюдател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ествует несколько типов оптических телеско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0920" y="1700280"/>
            <a:ext cx="8386560" cy="446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2916360" y="2565360"/>
            <a:ext cx="287280" cy="2519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6443640" y="2852640"/>
            <a:ext cx="144360" cy="18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763640" y="386064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356000" y="378936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755640" y="2276280"/>
            <a:ext cx="5761080" cy="266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 flipV="1">
            <a:off x="826920" y="4220640"/>
            <a:ext cx="22323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 flipV="1">
            <a:off x="3059280" y="1773000"/>
            <a:ext cx="3457440" cy="24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6"/>
          <p:cNvSpPr/>
          <p:nvPr/>
        </p:nvSpPr>
        <p:spPr>
          <a:xfrm flipH="1">
            <a:off x="7091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7"/>
          <p:cNvSpPr/>
          <p:nvPr/>
        </p:nvSpPr>
        <p:spPr>
          <a:xfrm flipH="1">
            <a:off x="5867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4859280" y="3213000"/>
            <a:ext cx="2521080" cy="1152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716436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6516720" y="1844640"/>
            <a:ext cx="1293840" cy="302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>
            <a:off x="6516720" y="2276640"/>
            <a:ext cx="1727280" cy="28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324000" y="5013360"/>
            <a:ext cx="358560" cy="358920"/>
          </a:xfrm>
          <a:custGeom>
            <a:avLst/>
            <a:gdLst>
              <a:gd name="textAreaLeft" fmla="*/ 52560 w 358560"/>
              <a:gd name="textAreaRight" fmla="*/ 306000 w 358560"/>
              <a:gd name="textAreaTop" fmla="*/ 52560 h 358920"/>
              <a:gd name="textAreaBottom" fmla="*/ 3063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 flipH="1">
            <a:off x="7092360" y="3213000"/>
            <a:ext cx="144360" cy="144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5"/>
          <p:cNvSpPr/>
          <p:nvPr/>
        </p:nvSpPr>
        <p:spPr>
          <a:xfrm>
            <a:off x="4427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36"/>
          <p:cNvSpPr/>
          <p:nvPr/>
        </p:nvSpPr>
        <p:spPr>
          <a:xfrm flipH="1">
            <a:off x="4356000" y="314172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 flipV="1">
            <a:off x="6443640" y="213336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651672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5942160" y="4076640"/>
            <a:ext cx="1425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6948360" y="4076640"/>
            <a:ext cx="716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414036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43"/>
          <p:cNvSpPr/>
          <p:nvPr/>
        </p:nvSpPr>
        <p:spPr>
          <a:xfrm>
            <a:off x="1763640" y="378936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2627280" y="515772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99ff"/>
                </a:solidFill>
                <a:latin typeface="Arial"/>
              </a:rPr>
              <a:t>Объектив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6"/>
          <p:cNvSpPr/>
          <p:nvPr/>
        </p:nvSpPr>
        <p:spPr>
          <a:xfrm>
            <a:off x="6084720" y="479736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Окуляр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47"/>
          <p:cNvSpPr/>
          <p:nvPr/>
        </p:nvSpPr>
        <p:spPr>
          <a:xfrm>
            <a:off x="2987640" y="378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8"/>
          <p:cNvSpPr/>
          <p:nvPr/>
        </p:nvSpPr>
        <p:spPr>
          <a:xfrm flipV="1">
            <a:off x="5651640" y="3068280"/>
            <a:ext cx="1800000" cy="1438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183528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3"/>
          <p:cNvSpPr/>
          <p:nvPr/>
        </p:nvSpPr>
        <p:spPr>
          <a:xfrm>
            <a:off x="7381080" y="335772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Изображение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4"/>
          <p:cNvSpPr/>
          <p:nvPr/>
        </p:nvSpPr>
        <p:spPr>
          <a:xfrm>
            <a:off x="466560" y="1797120"/>
            <a:ext cx="47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скоп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ефрактор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главная часть – линза или система линз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6"/>
          <p:cNvSpPr/>
          <p:nvPr/>
        </p:nvSpPr>
        <p:spPr>
          <a:xfrm>
            <a:off x="324000" y="5530680"/>
            <a:ext cx="82134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= фокусное расстояние объектива (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1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F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 = 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1 / OF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79280" y="333360"/>
            <a:ext cx="4392720" cy="32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755640" y="836640"/>
            <a:ext cx="324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1979640" y="2133720"/>
            <a:ext cx="201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995640" y="83664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 rot="10800000">
            <a:off x="3276360" y="907920"/>
            <a:ext cx="647640" cy="115272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V="1">
            <a:off x="1332000" y="1339920"/>
            <a:ext cx="50472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V="1">
            <a:off x="1403280" y="1410840"/>
            <a:ext cx="503280" cy="2890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900000" y="1052640"/>
            <a:ext cx="2448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1692000" y="1052640"/>
            <a:ext cx="1584360" cy="504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H="1">
            <a:off x="1547640" y="1557360"/>
            <a:ext cx="21600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900000" y="1989000"/>
            <a:ext cx="24480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 flipV="1">
            <a:off x="1476000" y="1700280"/>
            <a:ext cx="1871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547640" y="1773360"/>
            <a:ext cx="287640" cy="6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1332000" y="2421000"/>
            <a:ext cx="647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35280" y="2492280"/>
            <a:ext cx="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1547640" y="2492280"/>
            <a:ext cx="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1979640" y="213372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1332000" y="21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>
            <a:off x="755280" y="2133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3708360" y="-161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55"/>
          <p:cNvSpPr/>
          <p:nvPr/>
        </p:nvSpPr>
        <p:spPr>
          <a:xfrm>
            <a:off x="3924360" y="2565360"/>
            <a:ext cx="4608360" cy="338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74"/>
          <p:cNvSpPr/>
          <p:nvPr/>
        </p:nvSpPr>
        <p:spPr>
          <a:xfrm>
            <a:off x="392436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75"/>
          <p:cNvSpPr/>
          <p:nvPr/>
        </p:nvSpPr>
        <p:spPr>
          <a:xfrm>
            <a:off x="5148360" y="371628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76"/>
          <p:cNvSpPr/>
          <p:nvPr/>
        </p:nvSpPr>
        <p:spPr>
          <a:xfrm>
            <a:off x="5219640" y="508464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77"/>
          <p:cNvSpPr/>
          <p:nvPr/>
        </p:nvSpPr>
        <p:spPr>
          <a:xfrm rot="10800000">
            <a:off x="5074920" y="3789360"/>
            <a:ext cx="360360" cy="1224000"/>
          </a:xfrm>
          <a:prstGeom prst="flowChartOnlineStora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78"/>
          <p:cNvSpPr/>
          <p:nvPr/>
        </p:nvSpPr>
        <p:spPr>
          <a:xfrm>
            <a:off x="5508720" y="4221000"/>
            <a:ext cx="0" cy="4320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79"/>
          <p:cNvSpPr/>
          <p:nvPr/>
        </p:nvSpPr>
        <p:spPr>
          <a:xfrm rot="10800000">
            <a:off x="7164000" y="3789360"/>
            <a:ext cx="647640" cy="122400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0"/>
          <p:cNvSpPr/>
          <p:nvPr/>
        </p:nvSpPr>
        <p:spPr>
          <a:xfrm>
            <a:off x="7236000" y="4292640"/>
            <a:ext cx="57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81"/>
          <p:cNvSpPr/>
          <p:nvPr/>
        </p:nvSpPr>
        <p:spPr>
          <a:xfrm rot="5243400">
            <a:off x="7498080" y="4331520"/>
            <a:ext cx="91440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2"/>
          <p:cNvSpPr/>
          <p:nvPr/>
        </p:nvSpPr>
        <p:spPr>
          <a:xfrm>
            <a:off x="781200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3"/>
          <p:cNvSpPr/>
          <p:nvPr/>
        </p:nvSpPr>
        <p:spPr>
          <a:xfrm>
            <a:off x="7740720" y="371628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7812000" y="486900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85"/>
          <p:cNvSpPr/>
          <p:nvPr/>
        </p:nvSpPr>
        <p:spPr>
          <a:xfrm>
            <a:off x="7812000" y="4869000"/>
            <a:ext cx="28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86"/>
          <p:cNvSpPr/>
          <p:nvPr/>
        </p:nvSpPr>
        <p:spPr>
          <a:xfrm>
            <a:off x="7740720" y="3932280"/>
            <a:ext cx="28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87"/>
          <p:cNvSpPr/>
          <p:nvPr/>
        </p:nvSpPr>
        <p:spPr>
          <a:xfrm>
            <a:off x="4067280" y="4005360"/>
            <a:ext cx="316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88"/>
          <p:cNvSpPr/>
          <p:nvPr/>
        </p:nvSpPr>
        <p:spPr>
          <a:xfrm flipH="1">
            <a:off x="5508720" y="4005360"/>
            <a:ext cx="172728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9"/>
          <p:cNvSpPr/>
          <p:nvPr/>
        </p:nvSpPr>
        <p:spPr>
          <a:xfrm>
            <a:off x="5580000" y="4292640"/>
            <a:ext cx="237672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0"/>
          <p:cNvSpPr/>
          <p:nvPr/>
        </p:nvSpPr>
        <p:spPr>
          <a:xfrm>
            <a:off x="4140360" y="494028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91"/>
          <p:cNvSpPr/>
          <p:nvPr/>
        </p:nvSpPr>
        <p:spPr>
          <a:xfrm flipH="1" flipV="1">
            <a:off x="5508360" y="4581000"/>
            <a:ext cx="1655640" cy="358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92"/>
          <p:cNvSpPr/>
          <p:nvPr/>
        </p:nvSpPr>
        <p:spPr>
          <a:xfrm flipV="1">
            <a:off x="5580000" y="4365360"/>
            <a:ext cx="2303640" cy="21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3"/>
          <p:cNvSpPr/>
          <p:nvPr/>
        </p:nvSpPr>
        <p:spPr>
          <a:xfrm>
            <a:off x="7883640" y="4365720"/>
            <a:ext cx="36036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94"/>
          <p:cNvSpPr/>
          <p:nvPr/>
        </p:nvSpPr>
        <p:spPr>
          <a:xfrm>
            <a:off x="7956720" y="4508640"/>
            <a:ext cx="287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96"/>
          <p:cNvSpPr/>
          <p:nvPr/>
        </p:nvSpPr>
        <p:spPr>
          <a:xfrm>
            <a:off x="324000" y="5661000"/>
            <a:ext cx="71294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зеркально – линзовый – комбинация зеркал (телескоп Максутов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7"/>
          <p:cNvSpPr/>
          <p:nvPr/>
        </p:nvSpPr>
        <p:spPr>
          <a:xfrm>
            <a:off x="2700360" y="189000"/>
            <a:ext cx="5472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рефлектор – главная часть – вогнутое зеркал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79280" y="404640"/>
            <a:ext cx="878544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лескопы, приспособленные для фотографирования называются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строграф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помощью телескопов производят не только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изуальные и фотографическ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аблюдения, но и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тоэлектрические и спектральные наблю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имущества фотографических наблюд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у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норам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тегральность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ктральные наблюдения (спектральный анализ) позволяет получать сведения о температуре, химическом составе, магнитных полях небесных тел, а также об их движ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диотелескопы предназначены для исследования небесных тел в радиодиапозо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79280" y="228600"/>
            <a:ext cx="88567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скопы бывают самыми разными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птическ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общего астрофизического назначения, коронографы, телескопы для наблюдения ИСЗ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диотелескоп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инфракрас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ейтрин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ентгеновск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сем своем многообразии, все телескопы, принимающие электромагнитное излучение, решают две основных задач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ксимально резкое изображение и, при визуальных наблюдениях, увеличить угловые расстояния между объектами (звездами, галактиками и т. п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р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ак можно больше энергии излучения, увеличить освещенность изображения объ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108000" y="189000"/>
            <a:ext cx="604836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ый телескоп был построен в 1609 году итальянским астрономом Галилео Галиле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имел скромные размеры (длина трубы 1245 мм, диаметр объектива 53 мм, окуляр 25 диоптрий), несовершенную оптическую схему и 30-кратное увеличение. Он позволил сделать целую серию замечательных открытий (фазы Венеры, горы на Луне, спутники Юпитера, пятна на Солнце, звезды в Млечном Пут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чень плохое качество изображения в первых телескопах заставило оптиков искать пути решения этой проблемы. Оказалось, что увеличение фокусного расстояния объектива значительно улучшает качество изобра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81400" cy="363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2" name="Rectangle 6"/>
          <p:cNvSpPr/>
          <p:nvPr/>
        </p:nvSpPr>
        <p:spPr>
          <a:xfrm>
            <a:off x="-4456800" y="3189240"/>
            <a:ext cx="426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лескопы Галилея (Музей истории науки, Флоренция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центре виньетки разбитый объектив от первого телескопа Галиле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588000" y="3898800"/>
            <a:ext cx="237672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ы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узей истории науки, Флоренция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В центре виньетки разбитый объектив от первого телескопа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95280" y="81612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900000" y="4508640"/>
            <a:ext cx="784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Гевелия имел длину 50 м и подвешивался системой канатов на столб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Озу имел длину 98 метров. При этом он не имел трубы, объектив располагался на столбе на расстоянии почти 100 метров от окуляра, который наблюдатель держал в руках (так называемый воздушный телескоп). Наблюдать с таким телескопом было очень неудобно. Озу не сделал ни одного откры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829800" y="3333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 Гев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5435640" y="1052640"/>
            <a:ext cx="3529080" cy="2770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663 году Грегори создал новую схему телескопа-рефлекто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егори первым предложил использовать в телескоп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место линзы зеркал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ая аберрация линзовых объективов – хроматическая – полност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сутствует в зеркальном телескоп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307836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9" name="Rectangle 6"/>
          <p:cNvSpPr/>
          <p:nvPr/>
        </p:nvSpPr>
        <p:spPr>
          <a:xfrm>
            <a:off x="395280" y="4797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телескоп-рефлектор был построен Исааком Ньютоном в 1668 году. Схема, по которой он был построен, получила название «схема Ньютона». Длина телескопа составляла 15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4211640" y="184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186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2" name="Rectangle 5"/>
          <p:cNvSpPr/>
          <p:nvPr/>
        </p:nvSpPr>
        <p:spPr>
          <a:xfrm>
            <a:off x="179280" y="5589720"/>
            <a:ext cx="8713800" cy="824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1672 году Кассегрен предложил схему двухзеркальной системы, вскоре ставшую наиболее популярной. Первое зеркало было параболическим, второе имело форму выпуклого гиперболоида и располагалось перед фокусом перв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9280" y="1052640"/>
            <a:ext cx="8229600" cy="30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лово астрономия происходит 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двух греческих слов: </a:t>
            </a:r>
            <a:br>
              <a:rPr sz="32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а с т р о н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везда, </a:t>
            </a: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н о м о с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ако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ая потребность изучения звездного неба привела к зарождению начатков науки, получившей впоследствии в Древней Греции около 4 в до н.э. назван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строноми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79280" y="426564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 Астрономия возникла и самостоятельно развивалась буквально у всех народов, но степень ее развития, естественно, находилась в прямой зависимости от уровня производительных сил и культуры нар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5113440" cy="3833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3851280" y="3138480"/>
            <a:ext cx="5148360" cy="3603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5" name="Rectangle 8"/>
          <p:cNvSpPr/>
          <p:nvPr/>
        </p:nvSpPr>
        <p:spPr>
          <a:xfrm>
            <a:off x="5651640" y="692280"/>
            <a:ext cx="3240000" cy="1465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большой в мире зеркальный телескоп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ка имеет диаметр 10 м и находится на Гавайских остр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250920" y="4175280"/>
            <a:ext cx="216036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ин из крупнейших современных телескопов – рефлектор БТА находится в Росси на Северном Кавказе (диаметр зеркала 6 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4427640" y="119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1"/>
          <p:cNvSpPr/>
          <p:nvPr/>
        </p:nvSpPr>
        <p:spPr>
          <a:xfrm flipH="1">
            <a:off x="2699640" y="5030640"/>
            <a:ext cx="1655640" cy="486000"/>
          </a:xfrm>
          <a:prstGeom prst="leftArrow">
            <a:avLst>
              <a:gd name="adj1" fmla="val 50000"/>
              <a:gd name="adj2" fmla="val 851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250920" y="5877000"/>
            <a:ext cx="8713800" cy="8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Самый большой рефрактор в мире, который находится в Йеркской обсерватории в США, имеет линзу диаметром в 1 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Линза с большим диаметром была бы слишком тяжела и сложна в изготовл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864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2" name="Rectangle 6"/>
          <p:cNvSpPr/>
          <p:nvPr/>
        </p:nvSpPr>
        <p:spPr>
          <a:xfrm>
            <a:off x="108000" y="333360"/>
            <a:ext cx="287964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63 году начал работать 300-метровый радиотелескоп со сферической антенной в Аресибо на острове Пуэрто-Рико, установленный в огромном естественном котловане, в гор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6076800" y="4365720"/>
            <a:ext cx="3067200" cy="2040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76 году на Северном Кавказе в России начал работ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00-метровый радиотелескоп РАТАН-600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ое разрешение радиотелескопа на волне 3 см составляет 10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4720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5" name="AutoShape 10"/>
          <p:cNvSpPr/>
          <p:nvPr/>
        </p:nvSpPr>
        <p:spPr>
          <a:xfrm>
            <a:off x="3132000" y="119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 flipH="1">
            <a:off x="5003640" y="546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888120" y="2492280"/>
            <a:ext cx="70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машнее задание: параграф 1, вопросы 1 – 5 (устно), 6,7 (письмен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5"/>
          <p:cNvSpPr/>
          <p:nvPr/>
        </p:nvSpPr>
        <p:spPr>
          <a:xfrm>
            <a:off x="179280" y="836640"/>
            <a:ext cx="8640720" cy="4586400"/>
          </a:xfrm>
          <a:prstGeom prst="ellipse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трономия – это 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изучает движение, стро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заимную свя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и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небесных тел и и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036000" cy="5905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08000" y="6043680"/>
            <a:ext cx="9036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416"/>
                </a:solidFill>
                <a:latin typeface="Arial"/>
              </a:rPr>
              <a:t>Древо астрономических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0"/>
          <p:cNvSpPr/>
          <p:nvPr/>
        </p:nvSpPr>
        <p:spPr>
          <a:xfrm>
            <a:off x="250920" y="3068640"/>
            <a:ext cx="2089080" cy="91440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строно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59280" y="1989000"/>
            <a:ext cx="3960720" cy="43200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059280" y="270828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бесная мех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060720" y="3429000"/>
            <a:ext cx="395928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физ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59280" y="414972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г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059280" y="486900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1835280" y="2276280"/>
            <a:ext cx="108108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2195640" y="2924280"/>
            <a:ext cx="79200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484360" y="357336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2268360" y="3860640"/>
            <a:ext cx="648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908000" y="4076640"/>
            <a:ext cx="100836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7653240" y="5013360"/>
            <a:ext cx="1490760" cy="9144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стр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7380360" y="5734080"/>
            <a:ext cx="1490760" cy="9144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ф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50920" y="262080"/>
            <a:ext cx="8497800" cy="50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метрия – это раздел астрономии, изучающий видим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8000" y="981000"/>
            <a:ext cx="896472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Небесная механика – это раздел астрономии, изучающий действительн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50920" y="170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физика – это раздел астрономии, изучающий природу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50920" y="242100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гония – это раздел астрономии, изучающий происхожд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50920" y="314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логия – это раздел астрономии, изучающий эволюцию (развитие)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836640"/>
            <a:ext cx="8280360" cy="365112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ения – основной источ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небесных тела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цессах и явления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дящих во Вселенн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2860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Пасс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49481"/>
          <p:cNvPicPr/>
          <p:nvPr/>
        </p:nvPicPr>
        <p:blipFill>
          <a:blip r:embed="rId1"/>
          <a:stretch/>
        </p:blipFill>
        <p:spPr>
          <a:xfrm>
            <a:off x="250920" y="4678200"/>
            <a:ext cx="214452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j0195812"/>
          <p:cNvPicPr/>
          <p:nvPr/>
        </p:nvPicPr>
        <p:blipFill>
          <a:blip r:embed="rId2"/>
          <a:stretch/>
        </p:blipFill>
        <p:spPr>
          <a:xfrm>
            <a:off x="1979640" y="5033880"/>
            <a:ext cx="1773360" cy="1824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>
            <a:off x="1979640" y="1268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11280" y="1773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716360" y="1341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276720" y="40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667640" y="2421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4427640" y="2997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845964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5580000" y="2637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8640720" y="58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4788000" y="3645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7380360" y="573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7956720" y="4221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1619280" y="6453360"/>
            <a:ext cx="1655640" cy="404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5796000" y="3213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5003640" y="5300640"/>
            <a:ext cx="3780000" cy="3589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бесные тела и их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31"/>
          <p:cNvSpPr/>
          <p:nvPr/>
        </p:nvSpPr>
        <p:spPr>
          <a:xfrm>
            <a:off x="4500720" y="6114960"/>
            <a:ext cx="647640" cy="6271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4643280" y="6381720"/>
            <a:ext cx="3603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3"/>
          <p:cNvSpPr/>
          <p:nvPr/>
        </p:nvSpPr>
        <p:spPr>
          <a:xfrm rot="21372600">
            <a:off x="3422520" y="6524640"/>
            <a:ext cx="1079640" cy="289080"/>
          </a:xfrm>
          <a:prstGeom prst="rightArrow">
            <a:avLst>
              <a:gd name="adj1" fmla="val 50000"/>
              <a:gd name="adj2" fmla="val 93369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4"/>
          <p:cNvSpPr/>
          <p:nvPr/>
        </p:nvSpPr>
        <p:spPr>
          <a:xfrm rot="20266200">
            <a:off x="5160960" y="5924160"/>
            <a:ext cx="1479600" cy="289080"/>
          </a:xfrm>
          <a:prstGeom prst="rightArrow">
            <a:avLst>
              <a:gd name="adj1" fmla="val 50000"/>
              <a:gd name="adj2" fmla="val 127958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6443640" y="2349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7"/>
          <p:cNvSpPr/>
          <p:nvPr/>
        </p:nvSpPr>
        <p:spPr>
          <a:xfrm>
            <a:off x="6516720" y="429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 rot="1890600">
            <a:off x="3419640" y="1950840"/>
            <a:ext cx="18730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5146560" y="2133720"/>
            <a:ext cx="289080" cy="28728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4932360" y="1628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796000" y="1989000"/>
            <a:ext cx="1008000" cy="43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4 ча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3924360" y="1557360"/>
            <a:ext cx="1008000" cy="4319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3132000" y="1197000"/>
            <a:ext cx="1584360" cy="79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 =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 млн.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5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1187280" y="3213000"/>
            <a:ext cx="2017800" cy="503280"/>
          </a:xfrm>
          <a:prstGeom prst="leftArrow">
            <a:avLst>
              <a:gd name="adj1" fmla="val 50000"/>
              <a:gd name="adj2" fmla="val 1002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 км/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08000" y="3068640"/>
            <a:ext cx="914400" cy="1152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кул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Апек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rot="1349400">
            <a:off x="5148000" y="3532320"/>
            <a:ext cx="215640" cy="976320"/>
          </a:xfrm>
          <a:prstGeom prst="downArrow">
            <a:avLst>
              <a:gd name="adj1" fmla="val 50000"/>
              <a:gd name="adj2" fmla="val 113189"/>
            </a:avLst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580000" y="3789360"/>
            <a:ext cx="1152720" cy="431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3490920" y="465300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Движение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13:14Z</dcterms:created>
  <dc:creator>ШКОЛА</dc:creator>
  <dc:description/>
  <dc:language>en-US</dc:language>
  <cp:lastModifiedBy>Директор</cp:lastModifiedBy>
  <dcterms:modified xsi:type="dcterms:W3CDTF">2009-04-11T19:04:58Z</dcterms:modified>
  <cp:revision>10</cp:revision>
  <dc:subject/>
  <dc:title>Слайд 1</dc:title>
</cp:coreProperties>
</file>