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05E-9630-4447-A63C-AC2360CB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ED7-87B6-419F-9D48-7B8A415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41C-B4FE-40A0-BA7F-F1059EA2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7A2-E396-45C6-9BBD-46F25C43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6EB-5954-489D-B706-A43F73E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1DC-A442-4819-AEA9-381E07E7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4BE-E0F7-428E-B9CE-BA85325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6D2-2D4C-44FC-B9DB-06B649CB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95E-09C8-43EA-BDBD-5B2808E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02C-816D-4E88-B147-02EE188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BEE-6604-4559-BAC2-60CC67B8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3E9-BBF5-4F56-A2E2-77764C8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361-56FF-4260-BB37-23438312B6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B9F-67A0-4463-A0F6-22892A0D6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key-RS copy - 1.gif"/>
          <p:cNvPicPr/>
          <p:nvPr/>
        </p:nvPicPr>
        <p:blipFill>
          <a:blip r:embed="rId2"/>
          <a:stretch/>
        </p:blipFill>
        <p:spPr>
          <a:xfrm>
            <a:off x="914400" y="3909960"/>
            <a:ext cx="1243080" cy="268776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</p:pic>
      <p:sp>
        <p:nvSpPr>
          <p:cNvPr id="42" name="TextBox 4"/>
          <p:cNvSpPr/>
          <p:nvPr/>
        </p:nvSpPr>
        <p:spPr>
          <a:xfrm>
            <a:off x="395280" y="1773360"/>
            <a:ext cx="8353440" cy="192276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ДАТЕЛЬ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РУССКОЕ СЛОВО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2195640" y="4143240"/>
            <a:ext cx="6624360" cy="180072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Bookman Old Style"/>
              </a:rPr>
              <a:t>Нача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46c0a"/>
                </a:solidFill>
                <a:latin typeface="Bookman Old Style"/>
              </a:rPr>
              <a:t>1- 4 клас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с 63.jpg"/>
          <p:cNvPicPr/>
          <p:nvPr/>
        </p:nvPicPr>
        <p:blipFill>
          <a:blip r:embed="rId1"/>
          <a:stretch/>
        </p:blipFill>
        <p:spPr>
          <a:xfrm>
            <a:off x="6343560" y="2500200"/>
            <a:ext cx="280044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3" name="Рисунок 8" descr="с 10.jpg"/>
          <p:cNvPicPr/>
          <p:nvPr/>
        </p:nvPicPr>
        <p:blipFill>
          <a:blip r:embed="rId2"/>
          <a:stretch/>
        </p:blipFill>
        <p:spPr>
          <a:xfrm>
            <a:off x="357120" y="2500200"/>
            <a:ext cx="275580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Рисунок 9" descr="с 54.jpg"/>
          <p:cNvPicPr/>
          <p:nvPr/>
        </p:nvPicPr>
        <p:blipFill>
          <a:blip r:embed="rId3"/>
          <a:stretch/>
        </p:blipFill>
        <p:spPr>
          <a:xfrm>
            <a:off x="3286080" y="2500200"/>
            <a:ext cx="280044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6"/>
          <p:cNvSpPr/>
          <p:nvPr/>
        </p:nvSpPr>
        <p:spPr>
          <a:xfrm>
            <a:off x="1746000" y="135720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А.Н. Сахаров, К.А. Кочег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под общей редакцией А.Н. Сах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одзаголовок 2" descr=""/>
          <p:cNvPicPr/>
          <p:nvPr/>
        </p:nvPicPr>
        <p:blipFill>
          <a:blip r:embed="rId4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с 74.jpg"/>
          <p:cNvPicPr/>
          <p:nvPr/>
        </p:nvPicPr>
        <p:blipFill>
          <a:blip r:embed="rId1"/>
          <a:stretch/>
        </p:blipFill>
        <p:spPr>
          <a:xfrm>
            <a:off x="75564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Рисунок 8" descr="с 88.jpg"/>
          <p:cNvPicPr/>
          <p:nvPr/>
        </p:nvPicPr>
        <p:blipFill>
          <a:blip r:embed="rId2"/>
          <a:stretch/>
        </p:blipFill>
        <p:spPr>
          <a:xfrm>
            <a:off x="458640" y="3027240"/>
            <a:ext cx="260064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9" name="Рисунок 9" descr="с 90.jpg"/>
          <p:cNvPicPr/>
          <p:nvPr/>
        </p:nvPicPr>
        <p:blipFill>
          <a:blip r:embed="rId3"/>
          <a:stretch/>
        </p:blipFill>
        <p:spPr>
          <a:xfrm>
            <a:off x="356400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Рисунок 10" descr="с 95.jpg"/>
          <p:cNvPicPr/>
          <p:nvPr/>
        </p:nvPicPr>
        <p:blipFill>
          <a:blip r:embed="rId4"/>
          <a:stretch/>
        </p:blipFill>
        <p:spPr>
          <a:xfrm>
            <a:off x="3267000" y="302724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1" name="Рисунок 11" descr="с 108.jpg"/>
          <p:cNvPicPr/>
          <p:nvPr/>
        </p:nvPicPr>
        <p:blipFill>
          <a:blip r:embed="rId5"/>
          <a:stretch/>
        </p:blipFill>
        <p:spPr>
          <a:xfrm>
            <a:off x="637236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2" name="Рисунок 12" descr="с 116.jpg"/>
          <p:cNvPicPr/>
          <p:nvPr/>
        </p:nvPicPr>
        <p:blipFill>
          <a:blip r:embed="rId6"/>
          <a:stretch/>
        </p:blipFill>
        <p:spPr>
          <a:xfrm>
            <a:off x="6075360" y="302724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Rectangle 6"/>
          <p:cNvSpPr/>
          <p:nvPr/>
        </p:nvSpPr>
        <p:spPr>
          <a:xfrm>
            <a:off x="1245960" y="121428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А.Н. Сахаров, К.А. Кочег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под общей редакцией А.Н. Сах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одзаголовок 2" descr=""/>
          <p:cNvPicPr/>
          <p:nvPr/>
        </p:nvPicPr>
        <p:blipFill>
          <a:blip r:embed="rId7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4" descr="Religiya-53.jpg"/>
          <p:cNvPicPr/>
          <p:nvPr/>
        </p:nvPicPr>
        <p:blipFill>
          <a:blip r:embed="rId1"/>
          <a:stretch/>
        </p:blipFill>
        <p:spPr>
          <a:xfrm>
            <a:off x="3348000" y="2104920"/>
            <a:ext cx="5586480" cy="38163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6" name="Rectangle 4" descr=""/>
          <p:cNvPicPr/>
          <p:nvPr/>
        </p:nvPicPr>
        <p:blipFill>
          <a:blip r:embed="rId2"/>
          <a:stretch/>
        </p:blipFill>
        <p:spPr>
          <a:xfrm>
            <a:off x="2041560" y="-165240"/>
            <a:ext cx="7242120" cy="11718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4006800" y="3348000"/>
            <a:ext cx="287280" cy="28728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7"/>
          <p:cNvSpPr/>
          <p:nvPr/>
        </p:nvSpPr>
        <p:spPr>
          <a:xfrm flipH="1">
            <a:off x="3131640" y="3594240"/>
            <a:ext cx="917640" cy="1085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Блок-схема: документ 8"/>
          <p:cNvSpPr/>
          <p:nvPr/>
        </p:nvSpPr>
        <p:spPr>
          <a:xfrm>
            <a:off x="468360" y="4248000"/>
            <a:ext cx="2663640" cy="863640"/>
          </a:xfrm>
          <a:prstGeom prst="flowChartDocument">
            <a:avLst/>
          </a:prstGeom>
          <a:solidFill>
            <a:srgbClr val="daeec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Calibri"/>
              </a:rPr>
              <a:t>Регулятивное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9"/>
          <p:cNvSpPr/>
          <p:nvPr/>
        </p:nvSpPr>
        <p:spPr>
          <a:xfrm>
            <a:off x="3959280" y="2205000"/>
            <a:ext cx="360360" cy="719280"/>
          </a:xfrm>
          <a:prstGeom prst="ellipse">
            <a:avLst/>
          </a:prstGeom>
          <a:noFill/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H="1">
            <a:off x="3132000" y="2565360"/>
            <a:ext cx="827280" cy="819360"/>
          </a:xfrm>
          <a:prstGeom prst="line">
            <a:avLst/>
          </a:prstGeom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документ 11"/>
          <p:cNvSpPr/>
          <p:nvPr/>
        </p:nvSpPr>
        <p:spPr>
          <a:xfrm>
            <a:off x="468360" y="2952720"/>
            <a:ext cx="2663640" cy="863640"/>
          </a:xfrm>
          <a:prstGeom prst="flowChartDocument">
            <a:avLst/>
          </a:prstGeom>
          <a:solidFill>
            <a:srgbClr val="ffefab"/>
          </a:solidFill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1"/>
                </a:solidFill>
                <a:latin typeface="Calibri"/>
              </a:rPr>
              <a:t>Познавательное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одзаголовок 2" descr=""/>
          <p:cNvPicPr/>
          <p:nvPr/>
        </p:nvPicPr>
        <p:blipFill>
          <a:blip r:embed="rId3"/>
          <a:stretch/>
        </p:blipFill>
        <p:spPr>
          <a:xfrm>
            <a:off x="414360" y="1066680"/>
            <a:ext cx="8736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42960" y="16426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правлен на изучение основных категорий эти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бро и з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ужба и порядоч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стность и искрен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сть и достоинств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верие и доверчив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радание и милосерд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ужеств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пение и терпим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авда, истина и лож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внодушие и жесто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многое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" descr=""/>
          <p:cNvPicPr/>
          <p:nvPr/>
        </p:nvPicPr>
        <p:blipFill>
          <a:blip r:embed="rId2"/>
          <a:stretch/>
        </p:blipFill>
        <p:spPr>
          <a:xfrm>
            <a:off x="-6480" y="981000"/>
            <a:ext cx="4907160" cy="725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5643720" y="2286000"/>
            <a:ext cx="3039840" cy="42418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2920" y="2071800"/>
            <a:ext cx="364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ополнительный матери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ллюстрирует основные идеи учебного текс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и и были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рагменты                   из детской литератур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эти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" descr=""/>
          <p:cNvPicPr/>
          <p:nvPr/>
        </p:nvPicPr>
        <p:blipFill>
          <a:blip r:embed="rId2"/>
          <a:stretch/>
        </p:blipFill>
        <p:spPr>
          <a:xfrm>
            <a:off x="-6480" y="981000"/>
            <a:ext cx="4907160" cy="72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3"/>
          <a:stretch/>
        </p:blipFill>
        <p:spPr>
          <a:xfrm>
            <a:off x="5214960" y="1000080"/>
            <a:ext cx="3929040" cy="35672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3500280" y="1785960"/>
            <a:ext cx="3571920" cy="50720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3708360" y="2492280"/>
            <a:ext cx="1714680" cy="1143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51280" y="27813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</a:rPr>
              <a:t>ФГ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665964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659640" y="98100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СОДЕРЖАНИ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341964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92360" y="10526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АЯ ЦЕЛЬ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25092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079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250920" y="249228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263700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ТЕХНОЛОГ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6659640" y="242100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588000" y="249228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ЦЕЛЕПОЛОГАНИЕ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И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верх 15"/>
          <p:cNvSpPr/>
          <p:nvPr/>
        </p:nvSpPr>
        <p:spPr>
          <a:xfrm>
            <a:off x="4356000" y="1916280"/>
            <a:ext cx="357120" cy="57600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верх 16"/>
          <p:cNvSpPr/>
          <p:nvPr/>
        </p:nvSpPr>
        <p:spPr>
          <a:xfrm rot="3600000">
            <a:off x="5765400" y="1422360"/>
            <a:ext cx="357120" cy="163368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верх 17"/>
          <p:cNvSpPr/>
          <p:nvPr/>
        </p:nvSpPr>
        <p:spPr>
          <a:xfrm rot="5400000">
            <a:off x="5858280" y="2500920"/>
            <a:ext cx="372960" cy="12193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верх 18"/>
          <p:cNvSpPr/>
          <p:nvPr/>
        </p:nvSpPr>
        <p:spPr>
          <a:xfrm rot="16200000">
            <a:off x="2871720" y="2463840"/>
            <a:ext cx="357120" cy="127800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верх 20"/>
          <p:cNvSpPr/>
          <p:nvPr/>
        </p:nvSpPr>
        <p:spPr>
          <a:xfrm rot="18000000">
            <a:off x="2926080" y="1475280"/>
            <a:ext cx="357480" cy="1663560"/>
          </a:xfrm>
          <a:prstGeom prst="up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одзаголовок 2" descr=""/>
          <p:cNvPicPr/>
          <p:nvPr/>
        </p:nvPicPr>
        <p:blipFill>
          <a:blip r:embed="rId1"/>
          <a:stretch/>
        </p:blipFill>
        <p:spPr>
          <a:xfrm>
            <a:off x="3260880" y="-109440"/>
            <a:ext cx="5889600" cy="88416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>
            <a:off x="46836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334800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30072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900000" y="3860640"/>
            <a:ext cx="7740720" cy="43200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13920"/>
            <a:ext cx="8447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alibri"/>
              </a:rPr>
              <a:t>СТРУКТУРНЫЕ КОМПОНЕНТЫ УМ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каждой предметной ли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АЯ ПРО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АЯ ТЕТРАДЬ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ГЛЯДНЫЕ ПОСОБ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ТОДИЧЕСКОЕ ПОСОБИЕ ДЛЯ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НИГА ДЛЯ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УЛЬТИМЕДИЙНЫЙ Д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одзаголовок 2" descr=""/>
          <p:cNvPicPr/>
          <p:nvPr/>
        </p:nvPicPr>
        <p:blipFill>
          <a:blip r:embed="rId1"/>
          <a:stretch/>
        </p:blipFill>
        <p:spPr>
          <a:xfrm>
            <a:off x="2944800" y="-42840"/>
            <a:ext cx="620568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Svetlana\Рабочий стол\НШ\Prog_kursa_Matemat_09082011.jpg"/>
          <p:cNvPicPr/>
          <p:nvPr/>
        </p:nvPicPr>
        <p:blipFill>
          <a:blip r:embed="rId2"/>
          <a:stretch/>
        </p:blipFill>
        <p:spPr>
          <a:xfrm>
            <a:off x="6143760" y="1928880"/>
            <a:ext cx="1357200" cy="1977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Picture 16" descr="C:\Documents and Settings\Svetlana\Рабочий стол\НШ\Rab_prog_Relig_Etik_20062011.jpg"/>
          <p:cNvPicPr/>
          <p:nvPr/>
        </p:nvPicPr>
        <p:blipFill>
          <a:blip r:embed="rId3"/>
          <a:stretch/>
        </p:blipFill>
        <p:spPr>
          <a:xfrm>
            <a:off x="7643880" y="1928880"/>
            <a:ext cx="1500120" cy="1977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Picture 5" descr="C:\Documents and Settings\Svetlana\Рабочий стол\НШ\Rab_tetr_lit_chten 1kl_4082011.jpg"/>
          <p:cNvPicPr/>
          <p:nvPr/>
        </p:nvPicPr>
        <p:blipFill>
          <a:blip r:embed="rId4"/>
          <a:stretch/>
        </p:blipFill>
        <p:spPr>
          <a:xfrm>
            <a:off x="7072200" y="4000680"/>
            <a:ext cx="129564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Picture 10" descr="C:\Documents and Settings\Svetlana\Рабочий стол\НШ\eng_rt_2.jpg"/>
          <p:cNvPicPr/>
          <p:nvPr/>
        </p:nvPicPr>
        <p:blipFill>
          <a:blip r:embed="rId5"/>
          <a:stretch/>
        </p:blipFill>
        <p:spPr>
          <a:xfrm>
            <a:off x="7572240" y="4714920"/>
            <a:ext cx="12956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12" descr="C:\Documents and Settings\Svetlana\Рабочий стол\НШ\disk-eng-3.gif"/>
          <p:cNvPicPr/>
          <p:nvPr/>
        </p:nvPicPr>
        <p:blipFill>
          <a:blip r:embed="rId6"/>
          <a:stretch/>
        </p:blipFill>
        <p:spPr>
          <a:xfrm rot="20448000">
            <a:off x="5219280" y="5601960"/>
            <a:ext cx="1092240" cy="1092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Picture 13" descr="C:\Documents and Settings\Svetlana\Рабочий стол\НШ\disk-eng-4.gif"/>
          <p:cNvPicPr/>
          <p:nvPr/>
        </p:nvPicPr>
        <p:blipFill>
          <a:blip r:embed="rId7"/>
          <a:stretch/>
        </p:blipFill>
        <p:spPr>
          <a:xfrm rot="1261800">
            <a:off x="6011640" y="5602320"/>
            <a:ext cx="1118880" cy="1119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Picture 11" descr="C:\Documents and Settings\Svetlana\Рабочий стол\НШ\disk-eng-2.gif"/>
          <p:cNvPicPr/>
          <p:nvPr/>
        </p:nvPicPr>
        <p:blipFill>
          <a:blip r:embed="rId8"/>
          <a:stretch/>
        </p:blipFill>
        <p:spPr>
          <a:xfrm>
            <a:off x="5651640" y="5437080"/>
            <a:ext cx="1160280" cy="1160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Picture 9" descr="C:\Documents and Settings\Svetlana\Рабочий стол\НШ\Prog_kursa_Okr_mir_22062011.jpg"/>
          <p:cNvPicPr/>
          <p:nvPr/>
        </p:nvPicPr>
        <p:blipFill>
          <a:blip r:embed="rId9"/>
          <a:stretch/>
        </p:blipFill>
        <p:spPr>
          <a:xfrm>
            <a:off x="5000760" y="2571840"/>
            <a:ext cx="135720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108000" y="1125360"/>
            <a:ext cx="4824360" cy="82548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А.Н. Сахаров, К.А. Кочег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под ред. А.Н. Саха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1768320"/>
            <a:ext cx="504036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Подзаголовок 2" descr=""/>
          <p:cNvPicPr/>
          <p:nvPr/>
        </p:nvPicPr>
        <p:blipFill>
          <a:blip r:embed="rId2"/>
          <a:stretch/>
        </p:blipFill>
        <p:spPr>
          <a:xfrm>
            <a:off x="3560760" y="3968640"/>
            <a:ext cx="2243160" cy="682560"/>
          </a:xfrm>
          <a:prstGeom prst="rect">
            <a:avLst/>
          </a:prstGeom>
          <a:ln w="0">
            <a:noFill/>
          </a:ln>
        </p:spPr>
      </p:pic>
      <p:pic>
        <p:nvPicPr>
          <p:cNvPr id="79" name="Подзаголовок 2" descr=""/>
          <p:cNvPicPr/>
          <p:nvPr/>
        </p:nvPicPr>
        <p:blipFill>
          <a:blip r:embed="rId3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2520720" cy="347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505240" cy="3495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Подзаголовок 2" descr=""/>
          <p:cNvPicPr/>
          <p:nvPr/>
        </p:nvPicPr>
        <p:blipFill>
          <a:blip r:embed="rId6"/>
          <a:stretch/>
        </p:blipFill>
        <p:spPr>
          <a:xfrm>
            <a:off x="3780000" y="5986440"/>
            <a:ext cx="5327640" cy="682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5"/>
          <p:cNvSpPr/>
          <p:nvPr/>
        </p:nvSpPr>
        <p:spPr>
          <a:xfrm>
            <a:off x="5148360" y="5445000"/>
            <a:ext cx="3166920" cy="45972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М.Т. Студени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1" descr=""/>
          <p:cNvPicPr/>
          <p:nvPr/>
        </p:nvPicPr>
        <p:blipFill>
          <a:blip r:embed="rId1"/>
          <a:stretch/>
        </p:blipFill>
        <p:spPr>
          <a:xfrm>
            <a:off x="268200" y="1133640"/>
            <a:ext cx="8551800" cy="193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5480" y="2785680"/>
            <a:ext cx="8367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уховно-нравственного развития и воспитания обучающихся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тановления их гражданской идентичности, как основы развития гражданского 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хранения и развит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культурного разнообразия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языкового наследия многонационального народа Российской Федерации, овладен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уховными ценностями и культурой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многонационального народа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240760" cy="1457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7120" y="3214440"/>
            <a:ext cx="806472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статирует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что христианство, ислам, буддизм, иудаизм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авляют «неотъемлемую часть исторического наследия народов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знает «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особую роль православия в истории России,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становлении и развитии ее духовности и культу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1" descr=""/>
          <p:cNvPicPr/>
          <p:nvPr/>
        </p:nvPicPr>
        <p:blipFill>
          <a:blip r:embed="rId1"/>
          <a:stretch/>
        </p:blipFill>
        <p:spPr>
          <a:xfrm>
            <a:off x="-6480" y="1414440"/>
            <a:ext cx="924264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отовность к нравственному самосовершенствованию, духовному саморазвити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накомство с основными нормами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светс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и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религиозной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рали, понимание их значения                       в выстраивании конструктивных отношений в семье и обще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нимание значен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нравственности, веры и религии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жизни человека и об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214200" y="2500200"/>
            <a:ext cx="806616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сположение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порядке, соответствую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ли и месту той или иной рели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истории и культуре народо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мплексное осв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ческих, культур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 нравственных аспектов истории рели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щеобразовательный, светский характер к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510480" y="1928880"/>
            <a:ext cx="266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libri"/>
              </a:rPr>
              <a:t>Концепция к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376360" cy="32781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Подзаголовок 2" descr=""/>
          <p:cNvPicPr/>
          <p:nvPr/>
        </p:nvPicPr>
        <p:blipFill>
          <a:blip r:embed="rId2"/>
          <a:stretch/>
        </p:blipFill>
        <p:spPr>
          <a:xfrm>
            <a:off x="268200" y="993600"/>
            <a:ext cx="8882280" cy="944640"/>
          </a:xfrm>
          <a:prstGeom prst="rect">
            <a:avLst/>
          </a:prstGeom>
          <a:ln w="0">
            <a:noFill/>
          </a:ln>
        </p:spPr>
      </p:pic>
      <p:pic>
        <p:nvPicPr>
          <p:cNvPr id="97" name="Подзаголовок 2" descr=""/>
          <p:cNvPicPr/>
          <p:nvPr/>
        </p:nvPicPr>
        <p:blipFill>
          <a:blip r:embed="rId3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28760" y="2571840"/>
            <a:ext cx="835344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ать учащимся самые общие представления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 возникновении и развитии традиционных религий России,               об их обычаях и традиц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формировать у обучающихся нравственный идеал каждой              из традиционных религий России, показать общность для всех религий представлений о добре и з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казать особую роль православия в истории России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становлении и развитии ее духовности и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спитать у обучающихся уважение к религиозным традициям русского и других коренных народо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654840" y="2071800"/>
            <a:ext cx="21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libri"/>
              </a:rPr>
              <a:t>Задачи кур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01" name="Подзаголовок 2" descr=""/>
          <p:cNvPicPr/>
          <p:nvPr/>
        </p:nvPicPr>
        <p:blipFill>
          <a:blip r:embed="rId2"/>
          <a:stretch/>
        </p:blipFill>
        <p:spPr>
          <a:xfrm>
            <a:off x="268200" y="1133640"/>
            <a:ext cx="8882280" cy="94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55Z</dcterms:created>
  <dc:creator>RS</dc:creator>
  <dc:description/>
  <dc:language>en-US</dc:language>
  <cp:lastModifiedBy>g.pilyasova</cp:lastModifiedBy>
  <dcterms:modified xsi:type="dcterms:W3CDTF">2011-11-07T05:43:46Z</dcterms:modified>
  <cp:revision>439</cp:revision>
  <dc:subject/>
  <dc:title>Слайд 1</dc:title>
</cp:coreProperties>
</file>